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C934-5824-45CE-8BC3-7A3694DA77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 a  1hr 15 mins lecture, the following slides were omit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P multicast implementation of basic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P multicast implementation of reliable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plementation of FIFO multicast over basic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IS algorithm for totally ordered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one of these topics could have been included in the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rect in an asynchronous nsystem - no timing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fficient - each message is sent |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|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ggybacked values in a message allow recipients to learn about messages they have not yet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error in book Figure in 1st i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rict range of a multicast by setting the time to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sons for doing this are: 1) for efficiency 2) to prevent sending to another group  elsewhere with the same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rdering is also FIFO because the sender’s messages arrive in order at seque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not cau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a sequencer may become bottlen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a sequencer is a critical point of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can improve this by storing message at</a:t>
            </a:r>
            <a:r>
              <a:rPr b="0" i="1" lang="en-GB" sz="1800" spc="-1" strike="noStrike">
                <a:solidFill>
                  <a:srgbClr val="009999"/>
                </a:solidFill>
                <a:latin typeface="Arial"/>
              </a:rPr>
              <a:t> f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+ 1 nodes before delivering, so as  to tolerate up to </a:t>
            </a:r>
            <a:r>
              <a:rPr b="0" i="1" lang="en-GB" sz="18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fail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embers inform it as to the latest sequence number they have seen (piggyback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If a member stops multicasting, the sequencer will not know what they have received. To solve this problem, members send 'heartbeat messages'  containing sequnc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-multicasts a message to members of th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ing processes propose numbers and return them to the sen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er uses proposed numbers to generate agreed numb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 has delivered from pj Vi[j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j has delivered Vj[k] need to wait until Vi[k]=&gt;Vj[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CO-deliver to self immediately after B-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means delivery to all local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discuss reliability of 1-1 channels in a min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bitrary failures - e.g. sending false messages such as untrue a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cess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an belong to more than one group - but to simplify often restrict it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es, IP multicast does support both open and closed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k implosions - multicaster is sent acks by members and so many arrive that it may drop somne of them, so it retransmits and gets yet more a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B29-54A6-4F51-8F17-C677DE9E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17F-1C56-48C3-87C8-0E5F3B34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877-A34B-4910-B289-4FCE7EE5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E28-45A5-4B96-9FBC-94FDAF43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1E82-6A34-4F8A-BE86-46F0AA77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7BC5-B1DD-49D1-9DE3-90599BD0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58CB-FC3B-43FF-9538-F0EB6FB6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4145-0701-414F-B5F2-5229BAE8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9351-D514-491F-A069-0BCDDC62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14B1-B0CD-4088-A614-37E0BDEB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B68A-40A5-4939-BCFC-1C96FE05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079-ACA1-49B9-BE35-402B55D6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DF73-66DA-4E21-A57F-56941100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16B5-44BC-4691-9F3D-AD9B5658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478C-CF73-48FF-8F96-8B50F913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14BE-E4C1-4E24-B81D-FDA4FB05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C760-FD97-472E-B9A4-187B45BB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D3F-8065-4E45-88C6-F5DA7AAA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33B-41E7-4ED9-B0CA-523F7A1D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27C-62D6-4186-B388-518A1DEE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A13-9E6B-4912-A7AD-92777D3D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959-F468-44D7-936E-89F412B9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A4B-0F2D-4F1C-A8A4-31E5A616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0A4-FCD8-4F61-A39B-7F0F502B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28B7-F63C-49D1-9F7B-C91B6C5A652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8196-26E7-4D75-B525-44481D2064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10960" y="68544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D641-2229-49A8-BD97-6B6B325B3B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2833560"/>
            <a:ext cx="201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yright © George Coulouris, Jean Dollimore, Tim Kindberg 2001 email: 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thors@cdk2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aterial is made available for private study and for direct use by individual teac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may not be included in any product or employed in any service without the written permission of the auth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4600" y="51912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0217"/>
                </a:solidFill>
                <a:latin typeface="Times New Roman"/>
              </a:rPr>
              <a:t>Viewing: These slides must be viewed in slide show m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9800" y="1352520"/>
            <a:ext cx="1130400" cy="143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8280" y="304920"/>
            <a:ext cx="1592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ing material based on Distributed Systems: Concepts and Design, Edition 3, Addison-Wesley 200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10960" y="68544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istributed Systems Course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Coordination and Agreement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6880" y="2529000"/>
            <a:ext cx="693432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1.4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    Multicast communication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this chapter covers other types of coordination and agreement such as mutual exclusion, elections and consensus. We will study only multicast.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10000"/>
              </a:lnSpc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But we will study the two-phase commit protocol for transactions in Chapter 12, which is an example of consensus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We also omit the discussion of failure detectors which is relevant to replication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liable multicast algorithm over basic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326960"/>
            <a:ext cx="8859600" cy="4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processes can belong to several closed group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5240" y="2286000"/>
            <a:ext cx="7605720" cy="4176720"/>
            <a:chOff x="1065240" y="2286000"/>
            <a:chExt cx="7605720" cy="417672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065240" y="2286000"/>
              <a:ext cx="760572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92560" y="247824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890520" y="3427560"/>
            <a:ext cx="5400720" cy="2276280"/>
            <a:chOff x="3890520" y="3427560"/>
            <a:chExt cx="5400720" cy="2276280"/>
          </a:xfrm>
        </p:grpSpPr>
        <p:sp>
          <p:nvSpPr>
            <p:cNvPr id="144" name=""/>
            <p:cNvSpPr/>
            <p:nvPr/>
          </p:nvSpPr>
          <p:spPr>
            <a:xfrm>
              <a:off x="5104080" y="4416480"/>
              <a:ext cx="418716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mitives R-multicast and R-deli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90520" y="3427560"/>
              <a:ext cx="1754280" cy="987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911400" y="4797360"/>
              <a:ext cx="1833480" cy="906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494080" y="1351080"/>
            <a:ext cx="6732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-multicast a message, a process  B-multicasts it to processes in the group including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11000" y="2828880"/>
            <a:ext cx="6841080" cy="1206720"/>
            <a:chOff x="2511000" y="2828880"/>
            <a:chExt cx="6841080" cy="1206720"/>
          </a:xfrm>
        </p:grpSpPr>
        <p:sp>
          <p:nvSpPr>
            <p:cNvPr id="149" name=""/>
            <p:cNvSpPr/>
            <p:nvPr/>
          </p:nvSpPr>
          <p:spPr>
            <a:xfrm>
              <a:off x="2619360" y="2828880"/>
              <a:ext cx="6732720" cy="703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en a messag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 B-delivere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the recipi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-multicast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t to the group, the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-deliver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t. Duplicates are detecte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511000" y="3584520"/>
              <a:ext cx="1101960" cy="451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57200" y="493560"/>
            <a:ext cx="7807320" cy="398880"/>
          </a:xfrm>
          <a:prstGeom prst="rect">
            <a:avLst/>
          </a:prstGeom>
          <a:solidFill>
            <a:srgbClr val="a1c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ity - a correct process will B-deliver to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880" y="480960"/>
            <a:ext cx="7926480" cy="703800"/>
          </a:xfrm>
          <a:prstGeom prst="rect">
            <a:avLst/>
          </a:prstGeom>
          <a:solidFill>
            <a:srgbClr val="a1c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ity - because the reliable 1-1 channels used f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-multica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guarantee integr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1040" y="185760"/>
            <a:ext cx="8836200" cy="1008720"/>
          </a:xfrm>
          <a:prstGeom prst="rect">
            <a:avLst/>
          </a:prstGeom>
          <a:solidFill>
            <a:srgbClr val="a1c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- every correct proce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-multica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message to the others. I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oes no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-deliv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this is because it didn’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-deli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because no others did ei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57560" y="6156360"/>
            <a:ext cx="716256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can you say about the  performance of this algorith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01840" y="6157800"/>
            <a:ext cx="711684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is algorithm correct in an asynchronous syst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6600" y="5851440"/>
            <a:ext cx="7116840" cy="1008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able multicast can be implemented efficiently over IP multicast  by holding back messages until every member can receive them. We skip th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liable multicast over IP multicast (page 440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4360" y="1171440"/>
            <a:ext cx="8639280" cy="33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is protocol assumes groups are closed.  It use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piggybacked acknowledgement message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negative acknowledgements when messages are misse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Proces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maintain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a message sequence number for each group it belongs to and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sequence number of latest message received from proces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For proces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R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message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to group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piggyback 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 and +ve acks for messages received in the form &lt;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P multicasts the message  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increments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S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by 1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960" y="4567320"/>
            <a:ext cx="861408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process on receipt by of a message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with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from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f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=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+1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-deliver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message and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ncrement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b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≤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discard the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&gt;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+ 1 or if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&lt;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(for enclosed ack &lt;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then it has missed messages and requests them with negative acknowledg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puts new message in hold-back queue for later 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0640" y="2413080"/>
            <a:ext cx="832320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iggybacked values in a message allow recipients to learn about messages they have not yet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hold-back queue for arriving multicast messag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hold back queue is not necessary for reliability as in the implementation using IP muilticast, but it simplifies the protocol, allowing sequence numbers to represent sets of messages. Hold-back queues are also used for ordering protocols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44520" y="3198960"/>
            <a:ext cx="5813280" cy="3303360"/>
            <a:chOff x="344520" y="3198960"/>
            <a:chExt cx="5813280" cy="330336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1324080" y="3198960"/>
              <a:ext cx="4833720" cy="33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44520" y="512460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liability properties of reliable multicast over IP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Integri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duplicate messages detected and rejected.</a:t>
            </a:r>
            <a:br>
              <a:rPr sz="2400"/>
            </a:b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P multicast uses checksums to reject corrupt message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Validi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due to IP multicast in which sender delivers to itself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greemen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processes can detect missing messages. They must keep copies of messages they have delivered so that they can re-transmit them to other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discarding of copies of messages that are no longer needed :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when piggybacked acknowledgements arrive, note which processes have received messages. When all processes in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have the message, discard it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problem of a process that stops sending - use ‘heartbeat’ messages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is protocol has been implemented in a practical way in Psynch and Trans (refs. on p442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1.4.3 Ordered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basic multicast algorithm delivers messages to processes in an arbitrary order. A variety of orderings may be implemented: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FIFO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a correct process issue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and then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), then every correct process that deliver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will delive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befor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Causal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), where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s the happened-before relation between messages in group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then any correct process that deliver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will delive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befor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otal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a correct process delivers messag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before it deliver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then any other correct process that deliver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 will delive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befor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rdering is expensive in delivery latency and bandwidth consumptio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tal, FIFO and causal ordering of multicast messag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9040" y="4786200"/>
            <a:ext cx="3056040" cy="1163880"/>
          </a:xfrm>
          <a:prstGeom prst="rect">
            <a:avLst/>
          </a:prstGeom>
          <a:solidFill>
            <a:srgbClr val="ffb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se definitions do not imply reliability, but we can defin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tomic multica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- reliable and totally order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809880" y="1347840"/>
            <a:ext cx="5302440" cy="5056560"/>
            <a:chOff x="3809880" y="1347840"/>
            <a:chExt cx="5302440" cy="505656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3809880" y="1347840"/>
              <a:ext cx="5302440" cy="50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454440" y="600552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07960" y="1378080"/>
            <a:ext cx="3032280" cy="1621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ce the consistent ordering of totally order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are opposite to real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der can be arbit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need not be FIFO or cau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0800" y="3090960"/>
            <a:ext cx="2827440" cy="614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e FIFO-relat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8480" y="3879720"/>
            <a:ext cx="2737080" cy="891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causally relat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14840" y="2647800"/>
            <a:ext cx="5315040" cy="1067400"/>
          </a:xfrm>
          <a:prstGeom prst="rect">
            <a:avLst/>
          </a:prstGeom>
          <a:solidFill>
            <a:srgbClr val="ff70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ed multicast delivery is expensive in bandwidth and latency. Therefore the less expensive orderings (e.g. FIFO or causal) are chosen for applications for which they are sui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play from a bulletin board program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25760" y="313524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56040" y="313524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27280" y="542592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25760" y="542592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56040" y="542592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42280" y="542592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360" y="1344240"/>
            <a:ext cx="8859600" cy="15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Users run bulletin board applications which multicast messag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ne multicast group per topic (e.g.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s.interesting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Require reliable multicast - so that all members receive messag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rdering: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43160" y="3309840"/>
            <a:ext cx="6815160" cy="3127320"/>
            <a:chOff x="2243160" y="3309840"/>
            <a:chExt cx="6815160" cy="3127320"/>
          </a:xfrm>
        </p:grpSpPr>
        <p:grpSp>
          <p:nvGrpSpPr>
            <p:cNvPr id="194" name=""/>
            <p:cNvGrpSpPr/>
            <p:nvPr/>
          </p:nvGrpSpPr>
          <p:grpSpPr>
            <a:xfrm>
              <a:off x="2243160" y="3309840"/>
              <a:ext cx="6815160" cy="3127320"/>
              <a:chOff x="2243160" y="3309840"/>
              <a:chExt cx="6815160" cy="3127320"/>
            </a:xfrm>
          </p:grpSpPr>
          <p:sp>
            <p:nvSpPr>
              <p:cNvPr id="195" name=""/>
              <p:cNvSpPr/>
              <p:nvPr/>
            </p:nvSpPr>
            <p:spPr>
              <a:xfrm>
                <a:off x="4335120" y="34196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ulletin board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15280" y="3398760"/>
                <a:ext cx="1191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500" spc="-1" strike="noStrike">
                    <a:solidFill>
                      <a:srgbClr val="000000"/>
                    </a:solidFill>
                    <a:latin typeface="New York"/>
                  </a:rPr>
                  <a:t> </a:t>
                </a:r>
                <a:r>
                  <a:rPr b="0" i="1" lang="en-GB" sz="1500" spc="-1" strike="noStrike">
                    <a:solidFill>
                      <a:srgbClr val="000000"/>
                    </a:solidFill>
                    <a:latin typeface="New York"/>
                  </a:rPr>
                  <a:t>os.interesting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243160" y="3309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263680" y="3309840"/>
                <a:ext cx="65754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858160" y="3309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43160" y="3328920"/>
                <a:ext cx="1440" cy="3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858160" y="3328920"/>
                <a:ext cx="1800" cy="3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309760" y="3865680"/>
                <a:ext cx="37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t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05720" y="3855960"/>
                <a:ext cx="43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Fr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36000" y="3855960"/>
                <a:ext cx="610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ubje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43160" y="3668760"/>
                <a:ext cx="1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63680" y="3668760"/>
                <a:ext cx="757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060720" y="3668760"/>
                <a:ext cx="22906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71920" y="3668760"/>
                <a:ext cx="1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92800" y="3668760"/>
                <a:ext cx="34462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858160" y="3668760"/>
                <a:ext cx="1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43160" y="3687840"/>
                <a:ext cx="144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41640" y="3687840"/>
                <a:ext cx="144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71920" y="3687840"/>
                <a:ext cx="180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858160" y="3687840"/>
                <a:ext cx="180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07600" y="431496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069720" y="4314960"/>
                <a:ext cx="796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.Hanl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401080" y="4314960"/>
                <a:ext cx="46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a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38840" y="431496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898960" y="431496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43160" y="4125960"/>
                <a:ext cx="1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63680" y="4125960"/>
                <a:ext cx="757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41640" y="4125960"/>
                <a:ext cx="1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060720" y="4125960"/>
                <a:ext cx="22906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71920" y="4125960"/>
                <a:ext cx="1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92800" y="4125960"/>
                <a:ext cx="34462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58160" y="4125960"/>
                <a:ext cx="1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43160" y="4146480"/>
                <a:ext cx="144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41640" y="4146480"/>
                <a:ext cx="1908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371920" y="4146480"/>
                <a:ext cx="2088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858160" y="4146480"/>
                <a:ext cx="180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307600" y="469260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69720" y="4692600"/>
                <a:ext cx="752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.Josep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02880" y="4692600"/>
                <a:ext cx="1082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Microkerne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43160" y="4524480"/>
                <a:ext cx="144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041640" y="4524480"/>
                <a:ext cx="1908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71920" y="4524480"/>
                <a:ext cx="2088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858160" y="4524480"/>
                <a:ext cx="180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07600" y="507204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69720" y="5072040"/>
                <a:ext cx="796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.Hanl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403240" y="5072040"/>
                <a:ext cx="1415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Re: Microkerne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43160" y="4903920"/>
                <a:ext cx="144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41640" y="4903920"/>
                <a:ext cx="19080" cy="37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71920" y="4903920"/>
                <a:ext cx="20880" cy="37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858160" y="4903920"/>
                <a:ext cx="180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07600" y="545004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71160" y="5450040"/>
                <a:ext cx="1064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.L’Heureu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02880" y="5450040"/>
                <a:ext cx="1459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PC perform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43160" y="5281560"/>
                <a:ext cx="144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41640" y="5281560"/>
                <a:ext cx="1908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71920" y="5281560"/>
                <a:ext cx="2088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858160" y="5281560"/>
                <a:ext cx="180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07600" y="582948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71880" y="5829480"/>
                <a:ext cx="828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.Walk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01440" y="5829480"/>
                <a:ext cx="794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: Ma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243160" y="5661000"/>
                <a:ext cx="1440" cy="35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41640" y="5661000"/>
                <a:ext cx="1908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71920" y="5661000"/>
                <a:ext cx="2088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58160" y="5661000"/>
                <a:ext cx="1800" cy="35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272680" y="6181560"/>
                <a:ext cx="29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43160" y="6039000"/>
                <a:ext cx="144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243160" y="64166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63680" y="6416640"/>
                <a:ext cx="7574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1640" y="6039000"/>
                <a:ext cx="19080" cy="37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1640" y="6416640"/>
                <a:ext cx="14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60720" y="6416640"/>
                <a:ext cx="22906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71920" y="6039000"/>
                <a:ext cx="20880" cy="37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371920" y="6416640"/>
                <a:ext cx="18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92800" y="6416640"/>
                <a:ext cx="34462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858160" y="6039000"/>
                <a:ext cx="180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858160" y="6416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878680" y="6416640"/>
                <a:ext cx="179640" cy="20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7053120" y="584532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0" y="3205080"/>
            <a:ext cx="2278080" cy="1313640"/>
            <a:chOff x="0" y="3205080"/>
            <a:chExt cx="2278080" cy="1313640"/>
          </a:xfrm>
        </p:grpSpPr>
        <p:sp>
          <p:nvSpPr>
            <p:cNvPr id="274" name=""/>
            <p:cNvSpPr/>
            <p:nvPr/>
          </p:nvSpPr>
          <p:spPr>
            <a:xfrm>
              <a:off x="0" y="3205080"/>
              <a:ext cx="1752480" cy="1313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total (makes the numbers the same at all sit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92360" y="3951360"/>
              <a:ext cx="585720" cy="482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751120" y="4493880"/>
            <a:ext cx="3027600" cy="2115360"/>
            <a:chOff x="2751120" y="4493880"/>
            <a:chExt cx="3027600" cy="2115360"/>
          </a:xfrm>
        </p:grpSpPr>
        <p:sp>
          <p:nvSpPr>
            <p:cNvPr id="277" name=""/>
            <p:cNvSpPr/>
            <p:nvPr/>
          </p:nvSpPr>
          <p:spPr>
            <a:xfrm>
              <a:off x="2751120" y="6210360"/>
              <a:ext cx="302760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FIFO (gives sender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4092480" y="4493880"/>
              <a:ext cx="1168560" cy="1733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071600" y="5179680"/>
              <a:ext cx="523800" cy="1089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532200" y="3765600"/>
            <a:ext cx="3208320" cy="1414440"/>
            <a:chOff x="6532200" y="3765600"/>
            <a:chExt cx="3208320" cy="1414440"/>
          </a:xfrm>
        </p:grpSpPr>
        <p:sp>
          <p:nvSpPr>
            <p:cNvPr id="281" name=""/>
            <p:cNvSpPr/>
            <p:nvPr/>
          </p:nvSpPr>
          <p:spPr>
            <a:xfrm>
              <a:off x="7056000" y="3765600"/>
              <a:ext cx="2684520" cy="1008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causal (makes replies come after original messag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532200" y="4616280"/>
              <a:ext cx="543960" cy="181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855840" y="4716360"/>
              <a:ext cx="644400" cy="463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mplementation of FIFO ordering over basic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360" y="138564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We discuss FIFO ordered multicast with operations </a:t>
            </a:r>
            <a:br>
              <a:rPr sz="2400"/>
            </a:b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O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O-deliver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for non-overlapping groups. It can be implemented on top of any basic multicast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ach process p hold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a count of messages sent by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and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the sequence number of the latest message 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that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delivered from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Fo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O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 message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it piggyback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on the message, 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multicast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t and increment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by 1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On receipt of a message from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with sequence numbe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checks whether 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+ 1. If so, it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O-deliver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t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f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&gt;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+ 1 then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 places message in hold-back queue until intervening messages have been delivered. (note that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does eventually deliver messages unless the sender crashe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mplementation of totally ordered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e general approach is to attach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totally ordered identifiers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to multicast message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each receiving process makes ordering decisions based on the identifiers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milar to the FIFO algorithm, but processes keep group specific sequence numb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operations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TO-multicast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TO-deliver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we present two approaches to implementing total ordered multicast over basic multicast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using a sequencer (only for non-overlapping groups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e processes in a group collectively agree on a sequence number for each messag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774720" y="1359000"/>
            <a:ext cx="5678640" cy="5146920"/>
            <a:chOff x="774720" y="1359000"/>
            <a:chExt cx="5678640" cy="5146920"/>
          </a:xfrm>
        </p:grpSpPr>
        <p:grpSp>
          <p:nvGrpSpPr>
            <p:cNvPr id="292" name=""/>
            <p:cNvGrpSpPr/>
            <p:nvPr/>
          </p:nvGrpSpPr>
          <p:grpSpPr>
            <a:xfrm>
              <a:off x="774720" y="1359000"/>
              <a:ext cx="5678640" cy="5146920"/>
              <a:chOff x="774720" y="1359000"/>
              <a:chExt cx="5678640" cy="5146920"/>
            </a:xfrm>
          </p:grpSpPr>
          <p:pic>
            <p:nvPicPr>
              <p:cNvPr id="29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74720" y="1359000"/>
                <a:ext cx="5678640" cy="50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2849400" y="6107040"/>
                <a:ext cx="1610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Figure 11.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1170000" y="2297160"/>
              <a:ext cx="966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00160" y="4041720"/>
              <a:ext cx="966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tal ordering using a sequencer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446640" y="1386000"/>
            <a:ext cx="6139800" cy="850680"/>
            <a:chOff x="3446640" y="1386000"/>
            <a:chExt cx="6139800" cy="850680"/>
          </a:xfrm>
        </p:grpSpPr>
        <p:sp>
          <p:nvSpPr>
            <p:cNvPr id="299" name=""/>
            <p:cNvSpPr/>
            <p:nvPr/>
          </p:nvSpPr>
          <p:spPr>
            <a:xfrm>
              <a:off x="3446640" y="1386000"/>
              <a:ext cx="6139800" cy="580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 process wishing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O-multicas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attaches a unique id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id(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 and sends it to the sequencer and the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777920" y="1935000"/>
              <a:ext cx="2440440" cy="301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431880" y="5098680"/>
            <a:ext cx="6412320" cy="991440"/>
            <a:chOff x="3431880" y="5098680"/>
            <a:chExt cx="6412320" cy="991440"/>
          </a:xfrm>
        </p:grpSpPr>
        <p:sp>
          <p:nvSpPr>
            <p:cNvPr id="302" name=""/>
            <p:cNvSpPr/>
            <p:nvPr/>
          </p:nvSpPr>
          <p:spPr>
            <a:xfrm>
              <a:off x="4324320" y="5122800"/>
              <a:ext cx="5519880" cy="967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  keeps sequence number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for group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When it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B-delivers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the message it multicasts an ‘order’ message to members of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and increments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3431880" y="5098680"/>
              <a:ext cx="865080" cy="361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394160" y="2276640"/>
            <a:ext cx="5016600" cy="657000"/>
            <a:chOff x="4394160" y="2276640"/>
            <a:chExt cx="5016600" cy="657000"/>
          </a:xfrm>
        </p:grpSpPr>
        <p:sp>
          <p:nvSpPr>
            <p:cNvPr id="305" name=""/>
            <p:cNvSpPr/>
            <p:nvPr/>
          </p:nvSpPr>
          <p:spPr>
            <a:xfrm>
              <a:off x="6253200" y="2276640"/>
              <a:ext cx="3157560" cy="657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ther processes: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-deliv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&lt;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,i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t &lt;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,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&gt; in hold-back que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4394160" y="2600280"/>
              <a:ext cx="1774800" cy="262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613480" y="3447720"/>
            <a:ext cx="3849480" cy="1468080"/>
            <a:chOff x="5613480" y="3447720"/>
            <a:chExt cx="3849480" cy="1468080"/>
          </a:xfrm>
        </p:grpSpPr>
        <p:sp>
          <p:nvSpPr>
            <p:cNvPr id="308" name=""/>
            <p:cNvSpPr/>
            <p:nvPr/>
          </p:nvSpPr>
          <p:spPr>
            <a:xfrm>
              <a:off x="5613480" y="3705120"/>
              <a:ext cx="3849480" cy="1210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B-deliver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order message, get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and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 i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from order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wait till &lt;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m,i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&gt; in queue and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= r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O-deliver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and set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6129000" y="3447720"/>
              <a:ext cx="1630440" cy="282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vision of IP multicast (section 4.5.1 page15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P multicast – an implementation of group communicatio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built on top of IP (note IP packets are addressed to computers)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llows the sender to transmit a single IP packet to a set of computers that form a multicast group (a class D internet address with first 4 bits 1110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Dynamic membership of groups. Can send to a group  with or without joining it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o multicast, send a UDP datagram with a multicast addres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o join, make a socket join a group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(s.joinGrou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rou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- Fig 4.17) enabling it to receive messages to the group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Multicast router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Local messages use local multicast capability. Routers make it efficient by choosing other routers on the way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Failure model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mission failures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some but not all members may receive a message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e.g. a recipient may drop message, or a multicast router may fail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P packets may not arrive in sender order, group members can  receive messages in different ord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4560" y="484200"/>
            <a:ext cx="80596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an you restrict a multicast to the local area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4680" y="595440"/>
            <a:ext cx="791676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 two reasons for restricting the scope of a multicast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cussion of sequencer protocol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7920" y="1406160"/>
            <a:ext cx="885996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nce sequence numbers are defined by a sequencer, we have total ordering.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ike B-multicast, if the sender does not crash, all members receive the messag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200" y="4408560"/>
            <a:ext cx="84582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Kaashoek’s protocol uses hardware-based multic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sender transmits one message to sequencer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sequencer multicasts the sequence number and th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but IP multicast is not as reliable as B-multicast so the sequencer stores messages in its history buffer for retransmission on requ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members notice messages are missing by inspecting sequence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0080" y="3192480"/>
            <a:ext cx="6940800" cy="1068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3300"/>
                </a:solidFill>
                <a:latin typeface="Arial"/>
              </a:rPr>
              <a:t>What are the potential problems with using a single sequencer?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6372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8720" y="536400"/>
            <a:ext cx="904284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an the sequencer do about its history buffer becoming fu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000" y="614520"/>
            <a:ext cx="90565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Members piggyback on their messages the latest sequence number they have s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5200" y="581040"/>
            <a:ext cx="91425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happens when some member stops multicas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5200" y="555480"/>
            <a:ext cx="90568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Members that do not multicast send heartbeat messages (with a sequenc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ISIS algorithm for total ordering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4000" y="1366920"/>
            <a:ext cx="8859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s protocol is for open or closed groups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395440" y="1184040"/>
            <a:ext cx="7042680" cy="6665400"/>
            <a:chOff x="2395440" y="1184040"/>
            <a:chExt cx="7042680" cy="6665400"/>
          </a:xfrm>
        </p:grpSpPr>
        <p:grpSp>
          <p:nvGrpSpPr>
            <p:cNvPr id="324" name=""/>
            <p:cNvGrpSpPr/>
            <p:nvPr/>
          </p:nvGrpSpPr>
          <p:grpSpPr>
            <a:xfrm>
              <a:off x="2395440" y="1184040"/>
              <a:ext cx="7003080" cy="6665400"/>
              <a:chOff x="2395440" y="1184040"/>
              <a:chExt cx="7003080" cy="6665400"/>
            </a:xfrm>
          </p:grpSpPr>
          <p:sp>
            <p:nvSpPr>
              <p:cNvPr id="325" name=""/>
              <p:cNvSpPr/>
              <p:nvPr/>
            </p:nvSpPr>
            <p:spPr>
              <a:xfrm>
                <a:off x="5757840" y="3751200"/>
                <a:ext cx="620640" cy="647640"/>
              </a:xfrm>
              <a:prstGeom prst="ellipse">
                <a:avLst/>
              </a:prstGeom>
              <a:solidFill>
                <a:srgbClr val="ffdc99"/>
              </a:solidFill>
              <a:ln w="4284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029440" y="2719800"/>
                <a:ext cx="650160" cy="61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2" y="11628"/>
                    </a:moveTo>
                    <a:arcTo wR="10800" hR="10800" stAng="10536107" swAng="23716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2" y="11628"/>
                    </a:moveTo>
                    <a:arcTo wR="10800" hR="10800" stAng="10536107" swAng="2371669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54480" y="2895480"/>
                <a:ext cx="3215160" cy="241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6"/>
                    </a:moveTo>
                    <a:arcTo wR="10800" hR="10800" stAng="-10795487" swAng="63486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6"/>
                    </a:moveTo>
                    <a:arcTo wR="10800" hR="10800" stAng="-10795487" swAng="6348687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53040" y="3663000"/>
                <a:ext cx="618840" cy="61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74" y="3859"/>
                    </a:moveTo>
                    <a:arcTo wR="10800" hR="10800" stAng="-2399649" swAng="23996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74" y="3859"/>
                    </a:moveTo>
                    <a:arcTo wR="10800" hR="10800" stAng="-2399649" swAng="2399649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265600" y="3278520"/>
                <a:ext cx="619560" cy="65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24133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2413352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35280" y="3130560"/>
                <a:ext cx="3095640" cy="115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78" y="14116"/>
                    </a:moveTo>
                    <a:arcTo wR="10800" hR="10800" stAng="1072705" swAng="65557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78" y="14116"/>
                    </a:moveTo>
                    <a:arcTo wR="10800" hR="10800" stAng="1072705" swAng="6555716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35280" y="2039760"/>
                <a:ext cx="619200" cy="649440"/>
              </a:xfrm>
              <a:prstGeom prst="ellipse">
                <a:avLst/>
              </a:prstGeom>
              <a:solidFill>
                <a:srgbClr val="ffdc99"/>
              </a:solidFill>
              <a:ln w="4284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29040" y="2040480"/>
                <a:ext cx="621720" cy="65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24" y="7976"/>
                    </a:moveTo>
                    <a:arcTo wR="10800" hR="10800" stAng="-909614" swAng="24040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24" y="7976"/>
                    </a:moveTo>
                    <a:arcTo wR="10800" hR="10800" stAng="-909614" swAng="2404048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395440" y="2363400"/>
                <a:ext cx="3688920" cy="345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290" y="103"/>
                    </a:moveTo>
                    <a:arcTo wR="10800" hR="10800" stAng="-4924215" swAng="4924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290" y="103"/>
                    </a:moveTo>
                    <a:arcTo wR="10800" hR="10800" stAng="-4924215" swAng="4924215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34200" y="2334960"/>
                <a:ext cx="621000" cy="61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200" y="20153"/>
                    </a:moveTo>
                    <a:arcTo wR="10800" hR="10800" stAng="3599920" swAng="23852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200" y="20153"/>
                    </a:moveTo>
                    <a:arcTo wR="10800" hR="10800" stAng="3599920" swAng="2385224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60360" y="1184040"/>
                <a:ext cx="4245840" cy="292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2" y="21600"/>
                    </a:moveTo>
                    <a:arcTo wR="10800" hR="10800" stAng="5402570" swAng="47964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2" y="21600"/>
                    </a:moveTo>
                    <a:arcTo wR="10800" hR="10800" stAng="5402570" swAng="4796452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63360" y="3485880"/>
                <a:ext cx="648360" cy="648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0" y="7249"/>
                    </a:moveTo>
                    <a:arcTo wR="10800" hR="10800" stAng="-9648403" swAng="23868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0" y="7249"/>
                    </a:moveTo>
                    <a:arcTo wR="10800" hR="10800" stAng="-9648403" swAng="2386863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58920" y="2363760"/>
                <a:ext cx="1563840" cy="12398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70000" y="2276280"/>
                <a:ext cx="147600" cy="147600"/>
              </a:xfrm>
              <a:prstGeom prst="ellipse">
                <a:avLst/>
              </a:prstGeom>
              <a:solidFill>
                <a:srgbClr val="ffffff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076640" y="5903640"/>
                <a:ext cx="649080" cy="649440"/>
              </a:xfrm>
              <a:prstGeom prst="ellipse">
                <a:avLst/>
              </a:prstGeom>
              <a:solidFill>
                <a:srgbClr val="ffdc99"/>
              </a:solidFill>
              <a:ln w="4284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2760" y="4076280"/>
                <a:ext cx="619200" cy="64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452" y="21068"/>
                    </a:moveTo>
                    <a:arcTo wR="10800" hR="10800" stAng="6483440" swAng="24127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452" y="21068"/>
                    </a:moveTo>
                    <a:arcTo wR="10800" hR="10800" stAng="6483440" swAng="2412701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72200" y="5933880"/>
                <a:ext cx="650160" cy="648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148" y="5392"/>
                    </a:moveTo>
                    <a:arcTo wR="10800" hR="10800" stAng="-1803110" swAng="24030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148" y="5392"/>
                    </a:moveTo>
                    <a:arcTo wR="10800" hR="10800" stAng="-1803110" swAng="2403054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281400" y="1891440"/>
                <a:ext cx="2831400" cy="436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48063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4806389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019400" y="5638680"/>
                <a:ext cx="646920" cy="65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07" y="367"/>
                    </a:moveTo>
                    <a:arcTo wR="10800" hR="10800" stAng="-6299126" swAng="237973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07" y="367"/>
                    </a:moveTo>
                    <a:arcTo wR="10800" hR="10800" stAng="-6299126" swAng="2379738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44840" y="4074840"/>
                <a:ext cx="3418920" cy="37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1" y="9482"/>
                    </a:moveTo>
                    <a:arcTo wR="10800" hR="10800" stAng="-10379538" swAng="49763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1" y="9482"/>
                    </a:moveTo>
                    <a:arcTo wR="10800" hR="10800" stAng="-10379538" swAng="4976345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994360" y="4016160"/>
                <a:ext cx="147600" cy="147600"/>
              </a:xfrm>
              <a:prstGeom prst="ellipse">
                <a:avLst/>
              </a:prstGeom>
              <a:solidFill>
                <a:srgbClr val="ffffff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40120" y="31716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141960" y="4222440"/>
                <a:ext cx="649080" cy="79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929040" y="6227640"/>
                <a:ext cx="353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25720" y="3130200"/>
                <a:ext cx="147600" cy="26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25720" y="3130200"/>
                <a:ext cx="177840" cy="295560"/>
              </a:xfrm>
              <a:prstGeom prst="rect">
                <a:avLst/>
              </a:prstGeom>
              <a:noFill/>
              <a:ln w="42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238280" y="35575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03600" y="45907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09880" y="31446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991040" y="50036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44920" y="2836800"/>
                <a:ext cx="8892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44920" y="2836800"/>
                <a:ext cx="119160" cy="176040"/>
              </a:xfrm>
              <a:prstGeom prst="rect">
                <a:avLst/>
              </a:prstGeom>
              <a:noFill/>
              <a:ln w="42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72080" y="2589120"/>
                <a:ext cx="11804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 Message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470800">
                <a:off x="6571440" y="3285720"/>
                <a:ext cx="1635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2 Proposed Se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38640" y="3898800"/>
                <a:ext cx="354240" cy="29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38640" y="3898800"/>
                <a:ext cx="382680" cy="323640"/>
              </a:xfrm>
              <a:prstGeom prst="rect">
                <a:avLst/>
              </a:prstGeom>
              <a:noFill/>
              <a:ln w="42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161880" y="22888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18840" y="23986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574800" y="61545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31760" y="626256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863760" y="50623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021080" y="517032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133920" y="31446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291240" y="325260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938640" y="4133520"/>
                <a:ext cx="23508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938640" y="4133520"/>
                <a:ext cx="265320" cy="119160"/>
              </a:xfrm>
              <a:prstGeom prst="rect">
                <a:avLst/>
              </a:prstGeom>
              <a:noFill/>
              <a:ln w="42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294400" y="2923920"/>
                <a:ext cx="619200" cy="649440"/>
              </a:xfrm>
              <a:prstGeom prst="ellipse">
                <a:avLst/>
              </a:prstGeom>
              <a:solidFill>
                <a:srgbClr val="ffdc99"/>
              </a:solidFill>
              <a:ln w="4284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4430520" y="4606920"/>
                <a:ext cx="1209600" cy="159192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313160" y="6140160"/>
                <a:ext cx="176040" cy="176400"/>
              </a:xfrm>
              <a:prstGeom prst="ellipse">
                <a:avLst/>
              </a:prstGeom>
              <a:solidFill>
                <a:srgbClr val="ffffff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6612840" y="3219120"/>
                <a:ext cx="1917720" cy="6494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530920" y="3160440"/>
                <a:ext cx="147600" cy="177840"/>
              </a:xfrm>
              <a:prstGeom prst="ellipse">
                <a:avLst/>
              </a:prstGeom>
              <a:solidFill>
                <a:srgbClr val="ffffff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767440" y="3219120"/>
                <a:ext cx="324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964920" y="4325760"/>
                <a:ext cx="1474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3 Agreed Seq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526000" y="54162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32240" y="282096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827840" y="596592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41200" y="2846520"/>
            <a:ext cx="330696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the proces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1  B-multicas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 message to members of th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4360" y="5095800"/>
            <a:ext cx="3668760" cy="824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he sender uses the proposed numbers to generate an  agreed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8200" y="3807000"/>
            <a:ext cx="377676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the  receiving processes propose numbers and return them to the 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SIS total ordering - agreement of sequence number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ach process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keep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largest agreed sequence number it has seen and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s own largest proposed sequence number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Proces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multicast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&lt;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&gt;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where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s a unique identifier fo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ach proces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replies to the sende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with a proposal for the message’s agreed sequence number of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:= Max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, P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) + 1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ssigns the proposed sequence number to the message and places it in its hold-back queu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3.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collects all the proposed sequence numbers and selects the largest as the next agreed sequence number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t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multicast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&lt;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&gt;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. Recipients set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:= Max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) , attach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to the message and re-order hold-back queue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cussion of ordering in ISIS protocol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old-back queu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ordered with the message with the smallest sequence number at the front of the queu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when the agreed number is added to a message, the queue is re-ordered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when the message at the front has an agreed id, it is transferred to the delivery queu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even if agreed, those not at the front of the queue are not transferre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very process agrees on the same order and delivers messages in that order, therefore we have total ordering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atency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3 messages are sent in sequence, therefore it has a higher latency than sequencer metho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s ordering may not be causal or FIFO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47880" y="1406520"/>
            <a:ext cx="48578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of total ordering on page 4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ausally ordered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We present an algorithm of Birman 1991 for causally ordered multicast in non-overlapping, closed groups. It uses the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happened before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 relation (on multicast messages only)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at is, ordering imposed by one-to-one messages is not taken into account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It uses vector timestamps - that count the number of multicast messages from each process that happened before the next message to be multicas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ausal ordering using vector timestamp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93760" y="1798560"/>
            <a:ext cx="7799400" cy="4728240"/>
            <a:chOff x="293760" y="1798560"/>
            <a:chExt cx="7799400" cy="4728240"/>
          </a:xfrm>
        </p:grpSpPr>
        <p:grpSp>
          <p:nvGrpSpPr>
            <p:cNvPr id="397" name=""/>
            <p:cNvGrpSpPr/>
            <p:nvPr/>
          </p:nvGrpSpPr>
          <p:grpSpPr>
            <a:xfrm>
              <a:off x="293760" y="1798560"/>
              <a:ext cx="7799400" cy="4728240"/>
              <a:chOff x="293760" y="1798560"/>
              <a:chExt cx="7799400" cy="4728240"/>
            </a:xfrm>
          </p:grpSpPr>
          <p:pic>
            <p:nvPicPr>
              <p:cNvPr id="39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3760" y="1798560"/>
                <a:ext cx="7799400" cy="428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3552840" y="5823000"/>
                <a:ext cx="1609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Figure 11.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826920" y="3405240"/>
              <a:ext cx="1349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6360" y="5634000"/>
              <a:ext cx="1349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52520" y="1116000"/>
            <a:ext cx="2901600" cy="1484280"/>
            <a:chOff x="452520" y="1116000"/>
            <a:chExt cx="2901600" cy="1484280"/>
          </a:xfrm>
        </p:grpSpPr>
        <p:sp>
          <p:nvSpPr>
            <p:cNvPr id="403" name=""/>
            <p:cNvSpPr/>
            <p:nvPr/>
          </p:nvSpPr>
          <p:spPr>
            <a:xfrm>
              <a:off x="452520" y="1116000"/>
              <a:ext cx="290160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process has its own vector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20360" y="1673280"/>
              <a:ext cx="222480" cy="927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709800" y="1287360"/>
            <a:ext cx="5921640" cy="2017800"/>
            <a:chOff x="3709800" y="1287360"/>
            <a:chExt cx="5921640" cy="2017800"/>
          </a:xfrm>
        </p:grpSpPr>
        <p:sp>
          <p:nvSpPr>
            <p:cNvPr id="406" name=""/>
            <p:cNvSpPr/>
            <p:nvPr/>
          </p:nvSpPr>
          <p:spPr>
            <a:xfrm>
              <a:off x="4178160" y="1287360"/>
              <a:ext cx="5453280" cy="1008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CO-multicast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, a process adds 1 to its entry in the vector timestamp and </a:t>
              </a:r>
              <a:br>
                <a:rPr sz="2000"/>
              </a:b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B-multicasts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and the vector timest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3709800" y="2216160"/>
              <a:ext cx="523800" cy="1089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106440" y="2535120"/>
            <a:ext cx="6462720" cy="1919520"/>
            <a:chOff x="3106440" y="2535120"/>
            <a:chExt cx="6462720" cy="1919520"/>
          </a:xfrm>
        </p:grpSpPr>
        <p:sp>
          <p:nvSpPr>
            <p:cNvPr id="409" name=""/>
            <p:cNvSpPr/>
            <p:nvPr/>
          </p:nvSpPr>
          <p:spPr>
            <a:xfrm>
              <a:off x="4252680" y="2535120"/>
              <a:ext cx="5316480" cy="1008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en a proces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-deliver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it places it in a hold-back queue until messages earlier in the causal ordering have been delivered: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106440" y="3506760"/>
              <a:ext cx="1128600" cy="947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770280" y="3755880"/>
            <a:ext cx="5886360" cy="1524240"/>
            <a:chOff x="3770280" y="3755880"/>
            <a:chExt cx="5886360" cy="1524240"/>
          </a:xfrm>
        </p:grpSpPr>
        <p:sp>
          <p:nvSpPr>
            <p:cNvPr id="412" name=""/>
            <p:cNvSpPr/>
            <p:nvPr/>
          </p:nvSpPr>
          <p:spPr>
            <a:xfrm>
              <a:off x="3770280" y="3755880"/>
              <a:ext cx="5886360" cy="1137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) earlier messages from same sender have been deliver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) any messages that the sender had delivered when it sent the multicast message  have been delive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660800" y="4836960"/>
              <a:ext cx="825480" cy="443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90560" y="5764320"/>
            <a:ext cx="6066360" cy="721800"/>
            <a:chOff x="3490560" y="5764320"/>
            <a:chExt cx="6066360" cy="721800"/>
          </a:xfrm>
        </p:grpSpPr>
        <p:sp>
          <p:nvSpPr>
            <p:cNvPr id="415" name=""/>
            <p:cNvSpPr/>
            <p:nvPr/>
          </p:nvSpPr>
          <p:spPr>
            <a:xfrm>
              <a:off x="5648400" y="5843520"/>
              <a:ext cx="39085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n it CO-delivers the message and updates its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3490560" y="5764320"/>
              <a:ext cx="2217960" cy="342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0" y="6114960"/>
            <a:ext cx="56037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a process can immediatel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-deli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tself its own messages (not sh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14000" y="1387080"/>
            <a:ext cx="885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after delivering a message from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800" spc="-1" strike="noStrike" baseline="-25000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, process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 updates its vector timestamp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by adding 1 to th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 element of its timestamp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compare the vector clock rule where </a:t>
            </a:r>
            <a:br>
              <a:rPr sz="2800"/>
            </a:b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] := max(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GB" sz="2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],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]) for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=1, 2, ...N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n this algorithm we know that only th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 element will increas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for an outline of the proof see page 449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if we use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R-multicast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 instead of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B-multicast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 then the protocol is reliable as well as causally ordered.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If we combine it with the sequencer algorithm we get total and causal ordering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ments on multicast protocol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we need to have protocols for overlapping groups because applications do need to subscribe to several groups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definitions of ‘global FIFO ordering’ etc on page 450 and some references to papers on them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multicast in synchronous and asynchronous systems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ll of our algorithms do work in both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reliable and totally ordered multicast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an be implemented in a synchronous system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ut is impossible in an asynchronous system (reasons discussed in consensus section - paper by Fischer et al.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Multicast communication can specify requirements for reliability and ordering, in terms of integrity, validity and agreement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B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correct process will eventually deliver a message provided the multicaster does not crash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reliable 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n which the correct processes agree on the set of messages to be delivered;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we showed two  implementations: over B-multicast and IP multicast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delivery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FIFO, total  and causal delivery ordering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FIFO ordering by means of senders’ sequence numb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otal ordering by means of a sequencer or  by agreement of sequence numbers between processes in a group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causal ordering by means of vector timestamp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 hold-back queue is a useful component in implementing multicast protocol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troduction to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Multicast communication requires coordination and agreement. The aim is for members of a group to receive copies of messages sent to the group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Many different delivery guarantees are possible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e.g. agree on the set of messages received or on delivery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A process can multicast by the use of a single operation instead of a send to each member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For example in IP multicast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aSocket.send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aMessage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single operation allows for: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efficiency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.e. send once on each link, using hardware multicast when available, e.g. multicast from a computer in London to two in Beijing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elivery guarantee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e.g. can’t make a guarantee if multicast is implemented as multiple sends and the sender fails. Can also do ordering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8320" y="484200"/>
            <a:ext cx="7932960" cy="42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Many projects - Amoeba, Isis, Transis, Horus (refs p43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7680" y="498600"/>
            <a:ext cx="825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What is meant by[the term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road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ystem model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775720" cy="5095800"/>
          </a:xfrm>
          <a:prstGeom prst="rect">
            <a:avLst/>
          </a:prstGeom>
          <a:solidFill>
            <a:srgbClr val="94e1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e system consists of a collection of processes which can communicate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reliably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over 1-1 channel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Processes fail only by crashing (no arbitrary failure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Processes are members of groups - which are the destinations of multicast message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n general proces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can belong to more than one group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Operations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) sends message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to all members of process group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deliver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) is called to get a multicast message delivered. It is different from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as it may be delayed to allow for ordering or reliability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Multicast message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carries the id of the sending proces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sender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 and the id of the destination group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group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We assume there is no falsification of the origin and destination of message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pen and closed group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losed groups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only members can send to group, a member delivers to itself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ey are useful for coordination of groups of cooperating serv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ey are useful for notification of events to groups of interested processe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20800" y="3597120"/>
            <a:ext cx="6728040" cy="2754360"/>
            <a:chOff x="1720800" y="3597120"/>
            <a:chExt cx="6728040" cy="27543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720800" y="3597120"/>
              <a:ext cx="600552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980400" y="580860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1240" y="500040"/>
            <a:ext cx="71589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IP multicast support open and closed grou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liability of one-to-one communication(Ch.2 page 57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3446280"/>
          </a:xfrm>
          <a:prstGeom prst="rect">
            <a:avLst/>
          </a:prstGeom>
          <a:solidFill>
            <a:srgbClr val="91c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term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reliable 1-1 communicatio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is defined in terms of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validity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integrity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as follows: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alidity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ny message in the outgoing message buffer is eventually delivered to the incoming message buffer;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integrity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e message received is identical to one sent, and no messages are delivered twice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8040" y="272880"/>
            <a:ext cx="912492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ow do we achieve valid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0920" y="5718240"/>
            <a:ext cx="5955120" cy="907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integr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by 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use checksums, reject duplicates (e.g. due to retries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If allowing for malicious users, use security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99880"/>
            <a:ext cx="890244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ow do we achieve integr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3080" y="5099040"/>
            <a:ext cx="51642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validity -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by use of acknowledgements and re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1.4.1 Basic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2520" y="1424160"/>
            <a:ext cx="8859600" cy="36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correct process will eventually deliver the message provided the </a:t>
            </a:r>
            <a:r>
              <a:rPr b="1" lang="en-GB" sz="2400" spc="-1" strike="noStrike">
                <a:solidFill>
                  <a:srgbClr val="663300"/>
                </a:solidFill>
                <a:latin typeface="Arial"/>
              </a:rPr>
              <a:t>multicaster does not crash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note that IP multicast does not give this guarante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 primitives are calle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deliver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straightforward but ineffective method of implementation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use a reliable  1-1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en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(i.e. with integrity and validity as above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B-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):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for each proces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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en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n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eceive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)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at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B-deliver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at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Problem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the number of processes is large, the protocol will suffer from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ack-implosion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3160" y="460440"/>
            <a:ext cx="368604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ack-implos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3320" y="5070600"/>
            <a:ext cx="814716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actical implementation of Basic Multicast may be achieved over IP multicast (on next slide, but no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mplementation of basic multicast over IP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Each process 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 maintain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a sequence number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 for each group it belongs to an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, the sequence number of the latest message it has delivered from process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q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For process 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 to 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B-multicast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 a message 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 to group 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it piggybacks 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S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p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on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the message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m,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using IP multicast to send it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the piggybacked sequence numbers allow recipients to learn about messages they have not receive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On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 receive 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m, S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) at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 p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if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S = 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+1 B-deliver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and increment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q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by 1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S &lt; 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+1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reject the message because it has been delivered befor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S &gt; 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+1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note that a message is missing, request missing message from sender. (will use a hold-back queue to be discussed later on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If the sender crashes, then a message may be delivered to some members of the group but not other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1.4.2 Reliable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336320"/>
            <a:ext cx="885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 protocol is correct even if the multicaster crashe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t satisfies criteria fo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validity, integri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greement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t provides operation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R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R-deliver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Integri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a correct process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deliver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t most once. </a:t>
            </a:r>
            <a:br>
              <a:rPr sz="2400"/>
            </a:b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ls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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rou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was supplied to a  multicast operation by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ender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Validi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if a correct process multicast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it will eventually delive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greemen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if a correct process deliver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then all correct processes in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rou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 will eventually delive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560" y="5194440"/>
            <a:ext cx="47556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ntegrity as for 1-1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840" y="5710320"/>
            <a:ext cx="77853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validity -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simplify by choosing sender as the on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3720" y="6215040"/>
            <a:ext cx="89085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greement -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ll or nothing - atomicity, even if multicaster cr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1-12-30T17:15:13Z</dcterms:modified>
  <cp:revision>231</cp:revision>
  <dc:subject/>
  <dc:title>Figure 15.1 A distributed multimedia system</dc:title>
</cp:coreProperties>
</file>