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753-C852-4951-B565-57EF2BA0B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vision lecture took 1 hour 15 minutes to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uniqueness is formed from first 3 fil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brings in the text at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 structure (type used in arguments in the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Java RMI it would have been defined as a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ORBA may be used by non object-oriented languages e.g. C that don’t hav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ace PersonList specifies methods available for 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in and out on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attribute - really like another method, can get the value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them of request-reply protocol - single request message and reply message. Maybe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transmit requests until we get a reply - at leas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replies for re-transmission - at-most-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imation - First just shows the figure 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bring in descriptions of communication and remote reference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ext on RMI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proxy, skeleton and 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5E1-62EF-4B41-943B-8AFEAE7C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B37-7D66-4E4F-851F-71F5555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008-66A6-471B-B89B-0C3B2DF4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8E5-4F32-4D8F-A70F-19E7BAC1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830E-F129-4727-B7E4-F09C9A52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2CEE-F132-4FA7-8478-FB151A97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B25-BE4D-4C95-865B-17A2975F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FC4-995E-4D61-89AF-C64CF26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BDF6-DFA2-42F7-854F-CEE552E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DAA9-B96A-4592-8C0D-945D4A5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4E6F-1718-4EAE-B10A-6172A138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D13-C892-4379-8473-104C731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CCB4-29CF-4475-86E7-CF4D9E9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3E73-4F95-4715-BB70-99B9229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0FE-4023-4E9B-9CB2-E44B57B3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132-D80A-409E-9F5E-59D0EE41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DB60-0CC0-4435-B12A-E66E99C3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FCE-936D-4A94-B0BC-E9A93063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E7C-3A37-4A0F-8A77-21AAC76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7CB-9706-42B2-8D35-F150D96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CBE-5E76-4C03-80D7-5AE00C6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6D2-8006-456A-A74B-8AE5238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B6B-84AD-4874-B756-DF351E06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1BE-0092-47B2-8E06-2822752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8F40-7BE9-4370-99EE-F5A49F6BD76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FC8-5C84-4374-9799-ED90B811F2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0C9-735D-4A53-9F81-A0EF3AB00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opics in distributed object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27200" y="2744640"/>
            <a:ext cx="722016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Ideas needed to understand CORBA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Revise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.4 heterogeneity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4.3 external data representation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4 distributed objects &amp; RMI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5 Java RMI case study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92280" y="1476360"/>
            <a:ext cx="8393040" cy="1074600"/>
            <a:chOff x="692280" y="1476360"/>
            <a:chExt cx="8393040" cy="1074600"/>
          </a:xfrm>
        </p:grpSpPr>
        <p:sp>
          <p:nvSpPr>
            <p:cNvPr id="318" name=""/>
            <p:cNvSpPr/>
            <p:nvPr/>
          </p:nvSpPr>
          <p:spPr>
            <a:xfrm>
              <a:off x="692280" y="1851120"/>
              <a:ext cx="83930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8068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42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326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1996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880" y="205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51680" y="205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55560" y="205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47480" y="205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9920" y="193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9920" y="217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716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7388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144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658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8600" y="2778120"/>
            <a:ext cx="8616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must be unique in the distributed system and over time. It should not be reused after the object is deleted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irst two fields locate the object unless migration or re-activation  in a new process can happ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ourth field identifies the object within the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s interface tells the receiver what methods it has (e.g. class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ethod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is created by a remote reference module when a reference is passed as argument or result to another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stored in the corresponding prox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passed in request messages to identify the remote object whose method is to be invok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1268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ared whiteboard example (p 19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 the RMI and CORBA case studies, we use a shared whiteboard as an examp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is is a distributed program that allows a group of users to share a common view of a drawing surface containing graphical objects, each of which has been drawn by one of the users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The server maintains the current state of a drawing and it provides operations for clients to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dd a shape, retrieve a shape or retrieve all the shapes,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trieve its version number  or the version number of a shap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7560" y="2584440"/>
            <a:ext cx="856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Lis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251000"/>
            <a:ext cx="885996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ote the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terface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808000"/>
                </a:solidFill>
                <a:latin typeface="Arial"/>
              </a:rPr>
              <a:t>argumen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aphicalObjec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class that impl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rializabl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9720" y="25574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2320" y="1620720"/>
            <a:ext cx="853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78720" y="2033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7840" y="1500120"/>
            <a:ext cx="9452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75920" y="116640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27800" y="177480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gur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63000" y="1415880"/>
            <a:ext cx="8538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1640" y="1873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2360" y="1285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eterogeneity is an important challenge to designers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istributed systems must be constructed from a variety of different networks, operating systems, computer hardware and programming language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Internet communication protocols mask the difference in networks</a:t>
            </a:r>
            <a:br>
              <a:rPr sz="1600"/>
            </a:b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and middleware can deal with the other differences.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ternal data representation and marshall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RBA marshals data for use by recipients that have prior knowledge of the types of its components. It uses an IDL specification of the data type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Java serializes data to include information about the types of its contents, allowing the recipient to reconstruct it.  It uses reflection to do thi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MI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object has a (global) remote object reference and a remote interface that specifies which of its operations can be invoked remotel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local method invocations provide exactly-once semantics; the best RMI can guarantee is at-most-onc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iddleware components (proxies, skeletons and dispatchers) hide details of marshalling, message passing and object location from programmer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pplies to all of the following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ternet protocols mask the differences between networ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hardwar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data types such as integers can be 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perating system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the API to IP differs from one OS to anoth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gramming langu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ata structures (arrays, records) can be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mplementations by different developer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y need agreed standards so as to be able to interwork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iddleware provides a programming abstraction and masks the heterogeneity of networks etc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iddleware programming mode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stributed objects and remote object invocation is the model explained in Chapter 5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llustrated by Java RM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RBA is in Chapter 17. We will study it shortly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provides remote object invocation between a client program written in one language and a server program written in another langua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ur book uses Java CORBA to illustrate the use of CORB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other language commonly used in CORBA is C++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ther programming model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event notif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SQL ac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istributed transaction process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rnal data represent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was presented in Chapter 4. It masks the differences due to different computer hardwar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RBA CD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ly defined in CORBA 2.0 in 1998, before that, each implementation of CORBA had an external data representation, but they could not generally work with one another. That is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heterogeneity of hardware was masked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ut not the heterogeneity due to different programmers (until CORBA 2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RBA CDR represents simple and constructed data types (sequence, string, array, struct, enum and uni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ote that it does not deal with object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requires a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DL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pecification of data to be seriali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Java object serialis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presents both objects and primitive data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use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reflecti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serialise and deserialise objects– it does not need an IDL specification of the objec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9040" y="125244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add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get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4511160"/>
            <a:ext cx="885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Remote interface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ecifies the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ethod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an object available for remote invocat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interface definition language (or IDL) is used to specify remote interfaces. E.g. the above in CORBA IDL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Java RMI would have a class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ers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but CORBA has 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truc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13600" y="14288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54280" y="3720960"/>
            <a:ext cx="3976920" cy="851400"/>
            <a:chOff x="4454280" y="3720960"/>
            <a:chExt cx="3976920" cy="851400"/>
          </a:xfrm>
        </p:grpSpPr>
        <p:sp>
          <p:nvSpPr>
            <p:cNvPr id="111" name=""/>
            <p:cNvSpPr/>
            <p:nvPr/>
          </p:nvSpPr>
          <p:spPr>
            <a:xfrm>
              <a:off x="4842000" y="4173480"/>
              <a:ext cx="35892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meters are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454280" y="37497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876640" y="37209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22640" y="2048040"/>
            <a:ext cx="3115440" cy="766440"/>
            <a:chOff x="4022640" y="2048040"/>
            <a:chExt cx="3115440" cy="766440"/>
          </a:xfrm>
        </p:grpSpPr>
        <p:sp>
          <p:nvSpPr>
            <p:cNvPr id="115" name=""/>
            <p:cNvSpPr/>
            <p:nvPr/>
          </p:nvSpPr>
          <p:spPr>
            <a:xfrm>
              <a:off x="5117760" y="2048040"/>
              <a:ext cx="20203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22640" y="2347920"/>
              <a:ext cx="1128960" cy="466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50080" y="2705040"/>
            <a:ext cx="3956040" cy="806400"/>
            <a:chOff x="5950080" y="2705040"/>
            <a:chExt cx="3956040" cy="806400"/>
          </a:xfrm>
        </p:grpSpPr>
        <p:sp>
          <p:nvSpPr>
            <p:cNvPr id="118" name=""/>
            <p:cNvSpPr/>
            <p:nvPr/>
          </p:nvSpPr>
          <p:spPr>
            <a:xfrm>
              <a:off x="6764400" y="2705040"/>
              <a:ext cx="3141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 defines methods for R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950080" y="3225960"/>
              <a:ext cx="785520" cy="28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043320" y="2935440"/>
              <a:ext cx="663480" cy="102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7360" y="1491840"/>
            <a:ext cx="2476440" cy="737280"/>
            <a:chOff x="117360" y="1491840"/>
            <a:chExt cx="2476440" cy="737280"/>
          </a:xfrm>
        </p:grpSpPr>
        <p:sp>
          <p:nvSpPr>
            <p:cNvPr id="122" name=""/>
            <p:cNvSpPr/>
            <p:nvPr/>
          </p:nvSpPr>
          <p:spPr>
            <a:xfrm>
              <a:off x="117360" y="1830240"/>
              <a:ext cx="24764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RBA has a str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128600" y="1491840"/>
              <a:ext cx="706680" cy="322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object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1480" y="1706400"/>
            <a:ext cx="8769240" cy="1884240"/>
            <a:chOff x="501480" y="1706400"/>
            <a:chExt cx="8769240" cy="1884240"/>
          </a:xfrm>
        </p:grpSpPr>
        <p:sp>
          <p:nvSpPr>
            <p:cNvPr id="127" name=""/>
            <p:cNvSpPr/>
            <p:nvPr/>
          </p:nvSpPr>
          <p:spPr>
            <a:xfrm>
              <a:off x="5752800" y="19573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78360" y="19573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78360" y="19573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2800" y="21333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440" y="17064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6280" y="18064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80" y="17064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040" y="20332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288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916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3160" y="2044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37240" y="20332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8520" y="25970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5840" y="2420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360" y="19587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0960" y="223524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1160" y="28224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2400" y="2522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3360" y="310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5360" y="2824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4320" y="2722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3960" y="1968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46240" y="3149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7760" y="217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64280" y="2622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1720" y="23842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31720" y="2384280"/>
              <a:ext cx="22536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31720" y="23842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3172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95520" y="24858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000" y="25351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7120" y="23605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7120" y="23605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7120" y="23605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7120" y="25113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7520" y="20826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3160" y="2133360"/>
              <a:ext cx="954360" cy="42732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3560" y="19825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120" y="19825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29120" y="19825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03560" y="21333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8600" y="25113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3480" y="2225520"/>
              <a:ext cx="735120" cy="3096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9440" y="24098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9440" y="2409840"/>
              <a:ext cx="2253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9440" y="24098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944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6720" y="2887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59240" y="26366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79760" y="29383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5320" y="29383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5320" y="29383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79760" y="311292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4160" y="277812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2080" y="2771640"/>
              <a:ext cx="1508400" cy="42696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6520" y="27622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16520" y="27622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16520" y="27622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6520" y="29383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3906360"/>
            <a:ext cx="885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each process contains objects, some of which can receive remote invocations, others only local invocation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ose that can receive remote invocations are called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bjects need to know 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 referen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of an object in another process in order to invoke its methods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do they get i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interfa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specifies which methods can be invoked remotely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9760" y="13082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ocal invocations are executed exactly on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emote invocations cannot achieve thi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 Request-reply protocol can apply fault-tolerance measur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8160" y="3083040"/>
            <a:ext cx="8615880" cy="3209400"/>
            <a:chOff x="578160" y="3083040"/>
            <a:chExt cx="8615880" cy="3209400"/>
          </a:xfrm>
        </p:grpSpPr>
        <p:grpSp>
          <p:nvGrpSpPr>
            <p:cNvPr id="206" name=""/>
            <p:cNvGrpSpPr/>
            <p:nvPr/>
          </p:nvGrpSpPr>
          <p:grpSpPr>
            <a:xfrm>
              <a:off x="595440" y="3083040"/>
              <a:ext cx="8598600" cy="3209400"/>
              <a:chOff x="595440" y="3083040"/>
              <a:chExt cx="8598600" cy="3209400"/>
            </a:xfrm>
          </p:grpSpPr>
          <p:sp>
            <p:nvSpPr>
              <p:cNvPr id="207" name=""/>
              <p:cNvSpPr/>
              <p:nvPr/>
            </p:nvSpPr>
            <p:spPr>
              <a:xfrm>
                <a:off x="595440" y="3884400"/>
                <a:ext cx="68187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5440" y="473688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80280" y="3295440"/>
                <a:ext cx="2605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ult tolerance meas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64400" y="3195720"/>
                <a:ext cx="1155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oca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65840" y="3444840"/>
                <a:ext cx="1005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mantic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44720" y="4147920"/>
                <a:ext cx="1995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qu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3760" y="4398840"/>
                <a:ext cx="86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s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4160" y="4147920"/>
                <a:ext cx="106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uplica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92360" y="4398840"/>
                <a:ext cx="819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te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06960" y="4147920"/>
                <a:ext cx="229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9360" y="4398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r 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32480" y="484956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32840" y="53514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3284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52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55120" y="535140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512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24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22440" y="5351400"/>
                <a:ext cx="223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23520" y="5877000"/>
                <a:ext cx="1704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82040" y="5877000"/>
                <a:ext cx="1360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mo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64760" y="5351400"/>
                <a:ext cx="1358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lea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34760" y="4849560"/>
                <a:ext cx="694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yb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5440" y="308304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440" y="6291360"/>
                <a:ext cx="859860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78160" y="325908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5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4800" y="529128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6720" y="579132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: failure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an suffer from crash failures when the server containing the remote object fail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no reply, the client does not know if method was executed or no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if the invocation or result message is lo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lient gets a result (and the method was executed at least once) or an exception (no result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bitrary failures. If the invocation message is retransmitted, the remote object may execute the method more than once, possibly causing wrong values to be stored or returned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idempoten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perations are used,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arbitrary failures will not occu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the client gets a result (and the method was executed exactly once) or an exception (instead of a result, in which case, the method was executed once or not at all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architecture of remote method invoc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7960" y="1569960"/>
            <a:ext cx="8085600" cy="3090960"/>
            <a:chOff x="957960" y="1569960"/>
            <a:chExt cx="8085600" cy="3090960"/>
          </a:xfrm>
        </p:grpSpPr>
        <p:sp>
          <p:nvSpPr>
            <p:cNvPr id="241" name=""/>
            <p:cNvSpPr/>
            <p:nvPr/>
          </p:nvSpPr>
          <p:spPr>
            <a:xfrm>
              <a:off x="958680" y="1569960"/>
              <a:ext cx="291744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2600" y="1569960"/>
              <a:ext cx="435096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89240" y="1768320"/>
              <a:ext cx="3906720" cy="22003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09440" y="1793880"/>
              <a:ext cx="2817360" cy="2174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4840" y="229536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800" y="23209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8240" y="220500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26520" y="24476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7600" y="229536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fo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9680" y="2460600"/>
              <a:ext cx="396720" cy="939600"/>
            </a:xfrm>
            <a:custGeom>
              <a:avLst/>
              <a:gdLst>
                <a:gd name="textAreaLeft" fmla="*/ 55800 w 396720"/>
                <a:gd name="textAreaRight" fmla="*/ 340920 w 3967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131">
                  <a:moveTo>
                    <a:pt x="10411" y="0"/>
                  </a:moveTo>
                  <a:arcTo wR="10411" hR="10411" stAng="16200000" swAng="-5400000"/>
                  <a:lnTo>
                    <a:pt x="0" y="40720"/>
                  </a:lnTo>
                  <a:arcTo wR="10411" hR="10411" stAng="10800000" swAng="-5400000"/>
                  <a:lnTo>
                    <a:pt x="11189" y="51131"/>
                  </a:lnTo>
                  <a:arcTo wR="10411" hR="10411" stAng="5400000" swAng="-5400000"/>
                  <a:lnTo>
                    <a:pt x="21600" y="10411"/>
                  </a:lnTo>
                  <a:arcTo wR="10411" hR="10411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84520" y="2460600"/>
              <a:ext cx="394920" cy="939600"/>
            </a:xfrm>
            <a:custGeom>
              <a:avLst/>
              <a:gdLst>
                <a:gd name="textAreaLeft" fmla="*/ 55800 w 394920"/>
                <a:gd name="textAreaRight" fmla="*/ 339120 w 3949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364">
                  <a:moveTo>
                    <a:pt x="10453" y="0"/>
                  </a:moveTo>
                  <a:arcTo wR="10453" hR="10453" stAng="16200000" swAng="-5400000"/>
                  <a:lnTo>
                    <a:pt x="0" y="40911"/>
                  </a:lnTo>
                  <a:arcTo wR="10453" hR="10453" stAng="10800000" swAng="-5400000"/>
                  <a:lnTo>
                    <a:pt x="11147" y="51364"/>
                  </a:lnTo>
                  <a:arcTo wR="10453" hR="10453" stAng="5400000" swAng="-5400000"/>
                  <a:lnTo>
                    <a:pt x="21600" y="10453"/>
                  </a:lnTo>
                  <a:arcTo wR="10453" hR="10453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5560" y="3375000"/>
              <a:ext cx="9630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560" y="32382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0556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2880" y="41288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62400" y="2658960"/>
              <a:ext cx="172800" cy="9828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31"/>
                  </a:moveTo>
                  <a:lnTo>
                    <a:pt x="0" y="0"/>
                  </a:lnTo>
                  <a:lnTo>
                    <a:pt x="109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357360" y="2708280"/>
              <a:ext cx="1779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1200" y="3078000"/>
              <a:ext cx="198000" cy="100080"/>
            </a:xfrm>
            <a:custGeom>
              <a:avLst/>
              <a:gdLst/>
              <a:ahLst/>
              <a:rect l="l" t="t" r="r" b="b"/>
              <a:pathLst>
                <a:path w="125" h="63">
                  <a:moveTo>
                    <a:pt x="125" y="32"/>
                  </a:moveTo>
                  <a:lnTo>
                    <a:pt x="125" y="63"/>
                  </a:lnTo>
                  <a:lnTo>
                    <a:pt x="0" y="32"/>
                  </a:lnTo>
                  <a:lnTo>
                    <a:pt x="125" y="0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79560" y="3128760"/>
              <a:ext cx="1779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2800" y="405432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148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328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100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7960" y="4351320"/>
              <a:ext cx="15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erence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459040" y="3399840"/>
              <a:ext cx="1234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357360" y="3399840"/>
              <a:ext cx="10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76160" y="3720960"/>
              <a:ext cx="247320" cy="37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298920" y="3573000"/>
              <a:ext cx="544320" cy="444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5640" y="42764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480" y="267480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B’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7480" y="2189160"/>
              <a:ext cx="1334880" cy="865080"/>
            </a:xfrm>
            <a:prstGeom prst="roundRect">
              <a:avLst>
                <a:gd name="adj" fmla="val 4926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77520" y="242712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01400" y="209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82240" y="195264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97360" y="19033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8080" y="1879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29120" y="3201840"/>
              <a:ext cx="9648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28480" y="2535120"/>
              <a:ext cx="345960" cy="51912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00">
                  <a:moveTo>
                    <a:pt x="6539" y="0"/>
                  </a:moveTo>
                  <a:arcTo wR="6539" hR="6539" stAng="16200000" swAng="-5400000"/>
                  <a:lnTo>
                    <a:pt x="0" y="25861"/>
                  </a:lnTo>
                  <a:arcTo wR="6539" hR="6539" stAng="10800000" swAng="-5400000"/>
                  <a:lnTo>
                    <a:pt x="15061" y="32400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4040" y="2558880"/>
              <a:ext cx="32040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4040" y="2558880"/>
              <a:ext cx="345600" cy="24768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8480" y="2806560"/>
              <a:ext cx="345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4680" y="2584440"/>
              <a:ext cx="320040" cy="493560"/>
            </a:xfrm>
            <a:custGeom>
              <a:avLst/>
              <a:gdLst>
                <a:gd name="textAreaLeft" fmla="*/ 30600 w 320040"/>
                <a:gd name="textAreaRight" fmla="*/ 289440 w 32004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3298">
                  <a:moveTo>
                    <a:pt x="7057" y="0"/>
                  </a:moveTo>
                  <a:arcTo wR="7057" hR="7057" stAng="16200000" swAng="-5400000"/>
                  <a:lnTo>
                    <a:pt x="0" y="26241"/>
                  </a:lnTo>
                  <a:arcTo wR="7057" hR="7057" stAng="10800000" swAng="-5400000"/>
                  <a:lnTo>
                    <a:pt x="14543" y="33298"/>
                  </a:lnTo>
                  <a:arcTo wR="7057" hR="7057" stAng="5400000" swAng="-5400000"/>
                  <a:lnTo>
                    <a:pt x="21600" y="7057"/>
                  </a:lnTo>
                  <a:arcTo wR="7057" hR="705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4680" y="2584440"/>
              <a:ext cx="3200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4468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2832120"/>
              <a:ext cx="320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34240" y="2584440"/>
              <a:ext cx="345600" cy="49356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0838">
                  <a:moveTo>
                    <a:pt x="6539" y="0"/>
                  </a:moveTo>
                  <a:arcTo wR="6539" hR="6539" stAng="16200000" swAng="-5400000"/>
                  <a:lnTo>
                    <a:pt x="0" y="24299"/>
                  </a:lnTo>
                  <a:arcTo wR="6539" hR="6539" stAng="10800000" swAng="-5400000"/>
                  <a:lnTo>
                    <a:pt x="15061" y="30838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8000" y="2584440"/>
              <a:ext cx="32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5800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34240" y="2832120"/>
              <a:ext cx="345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49360" y="12081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9800" y="4859280"/>
            <a:ext cx="33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MI software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- between application level objects an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munication and remote referenc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240" y="2765520"/>
            <a:ext cx="6160680" cy="2904120"/>
            <a:chOff x="219240" y="2765520"/>
            <a:chExt cx="6160680" cy="2904120"/>
          </a:xfrm>
        </p:grpSpPr>
        <p:sp>
          <p:nvSpPr>
            <p:cNvPr id="299" name=""/>
            <p:cNvSpPr/>
            <p:nvPr/>
          </p:nvSpPr>
          <p:spPr>
            <a:xfrm>
              <a:off x="219240" y="4752720"/>
              <a:ext cx="616068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makes RMI transparent to client. Class implements remote interface. Marshals requests and unmarshals results. Forwards reques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480" y="2765520"/>
              <a:ext cx="919080" cy="195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2080" y="2757600"/>
            <a:ext cx="6161040" cy="3839760"/>
            <a:chOff x="262080" y="2757600"/>
            <a:chExt cx="6161040" cy="3839760"/>
          </a:xfrm>
        </p:grpSpPr>
        <p:sp>
          <p:nvSpPr>
            <p:cNvPr id="302" name=""/>
            <p:cNvSpPr/>
            <p:nvPr/>
          </p:nvSpPr>
          <p:spPr>
            <a:xfrm>
              <a:off x="262080" y="5954760"/>
              <a:ext cx="6161040" cy="64260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gets request from communication module and invokes method in skeleton (using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ethodI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in message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52840" y="275760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3200" y="2395440"/>
            <a:ext cx="6161040" cy="4114080"/>
            <a:chOff x="403200" y="2395440"/>
            <a:chExt cx="6161040" cy="4114080"/>
          </a:xfrm>
        </p:grpSpPr>
        <p:sp>
          <p:nvSpPr>
            <p:cNvPr id="305" name=""/>
            <p:cNvSpPr/>
            <p:nvPr/>
          </p:nvSpPr>
          <p:spPr>
            <a:xfrm>
              <a:off x="403200" y="5592600"/>
              <a:ext cx="616104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implements methods in remote interface. Unmarshals requests and marshals results. Invokes method in remot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93960" y="239544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06680" y="3205080"/>
            <a:ext cx="2727360" cy="2295360"/>
            <a:chOff x="3406680" y="3205080"/>
            <a:chExt cx="2727360" cy="2295360"/>
          </a:xfrm>
        </p:grpSpPr>
        <p:sp>
          <p:nvSpPr>
            <p:cNvPr id="309" name=""/>
            <p:cNvSpPr/>
            <p:nvPr/>
          </p:nvSpPr>
          <p:spPr>
            <a:xfrm>
              <a:off x="3699000" y="4857840"/>
              <a:ext cx="243504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ries out Request-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06680" y="3205080"/>
              <a:ext cx="1476360" cy="167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43200" y="3206880"/>
              <a:ext cx="157320" cy="171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8520" y="3313080"/>
            <a:ext cx="5925600" cy="3191760"/>
            <a:chOff x="398520" y="3313080"/>
            <a:chExt cx="5925600" cy="3191760"/>
          </a:xfrm>
        </p:grpSpPr>
        <p:sp>
          <p:nvSpPr>
            <p:cNvPr id="313" name=""/>
            <p:cNvSpPr/>
            <p:nvPr/>
          </p:nvSpPr>
          <p:spPr>
            <a:xfrm>
              <a:off x="398520" y="5587920"/>
              <a:ext cx="4595760" cy="91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lates between local and remote object references and creates remote object references. Uses remote objec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66840" y="3600360"/>
              <a:ext cx="685800" cy="195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576320" y="3313080"/>
              <a:ext cx="17478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4:30Z</dcterms:modified>
  <cp:revision>120</cp:revision>
  <dc:subject/>
  <dc:title>Figure 15.1 A distributed multimedia system</dc:title>
</cp:coreProperties>
</file>