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D72E-F1B0-4854-A664-C7CAB280C3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ook 1 hr 15 minutes to present, but the slides on NTP were omitted. NTP would require another 15 minutes or 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nternal synchronization discuss min is the time to transmit a message when nothing else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is the upper bound .The internet is an asynchronous system because there is no upper bound on message transmission de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lgorithm is probabilistic. Works if round trip times are shor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tes the points relaibility, primary and secondary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cal times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previous 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cal times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current 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ipient notes the time of receipt ( we have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-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 symmetric mode there can be a non-negligible delay between 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om the above: o-oi  = (t’-t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fore |o-oi| = |t’-t|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|t’-t| &lt;= |t’+t| = di therefore |o-oi| &lt;=di/2.    i.e. o-oi&lt;=dii/2 or o&lt;oi+di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so -o+oi&lt;= di/2 i.e. oi-di/2 &lt;=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explains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igure 10.5 a -&gt; b (at p1) c-&gt;d at p2 and b-&gt;c because of m1 also d-&gt; f because of m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vents are related by -&gt; (happened before) consider a and e. (different processes and no chain of messages to relate th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ed before relation - relation of causal ord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B1, HB2 and HB3 (page 397) are formal statements of the three points on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cuss LC1 and LC2 for Figure 10.6 (same as 10.5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itially clocks all set to 0. (a -&gt; 1) b-&gt;2 etc. For m1, 2 is piggybacked and c gets max(1,2)  + 1. Same for 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e -&gt; e’ implies L(e) &lt; L(e’). Converse not true. E.g. events b and 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b || e) con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points animated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ctor clocks overcome the shortcoming of Lamport logical clocks (L(e) &lt; L(e’) does not imply e happened before e’) e.g. events e an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ctor timestamps are used to timestamp local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lied in schemes  for replication of data e.g. Gossip (p 572), Coda (p585) and causal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ules VC1-VC4 are for updating vector c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through figure 10.7.  At p1 a(1,0,0) b (2,0,0) send (2,0,0) on 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 p2 on receipt of m1 get max((0,0,0), (2,0,0) = (2,0,0) add 1 -&gt; (2,1,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aning of =, &lt;=, max etc for vector timestam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e-&gt; e’ implies V(e) &lt; V(e’). The converse is also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c || e parallel) because neither V(c) &lt;= V(e) nor V(e) &lt;= V(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FS client caching no need for synchronisation between client and server cl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validation, check whether client clock has increased by 3 seconds, then compare two timestamps from the s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clocks to increase monotonically and at a reasonably accurate rate (if very fast checks will occur too often, if slow, not often en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e requires monotonic clock values (increases  in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make uses files served by NFS, the client and server clocks need to be synchroni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 any program that uses local and server files and compres their timestamps would require loose synchronosation between client and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ck resolution - the period between updates of the value of the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atteries -&gt; large drif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 does not work inside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they will answer the Y2k problem is an arbitrary failure (it makes 1 Jan 2000 be 1 Jan 19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ADC-A295-48F0-9C90-D6EC56F9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A4D-5D53-4071-8E84-DF8F696F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3DB-465F-434C-A709-76198876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105-48E6-48DB-A648-E4093A43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8E26-E3D0-4DA4-A4EB-FBFF68D1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3664-4763-4106-B0EC-45618478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0E34-E0C7-48CE-810B-F2103779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C1F2-575A-48E1-A9DB-B14FF0DE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57BB-2CE4-4871-AB28-370F779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E539-C078-4F3B-B2EF-4A6A5240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BD82-6788-4157-8A7B-270D36B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C88-52FE-4863-BB4F-ECB57D9F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E815-61D5-48AB-A7E4-07E35FB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0399-2912-4A9F-BAF3-E023DD6E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0FC5-42AB-46AE-B837-CECB6925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C65F-17BF-45D9-9D0C-1B34254B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2162-1C0A-4F1A-9B45-FA3EEE2A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B15-AF38-40AE-A938-5B3D80A2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785-B622-47A5-9981-707C31CA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A48-6ED6-4621-9C5E-7DE63B07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91C-9D29-4C58-B1EB-A256673C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28B-FBAE-4164-A3B6-F40137C4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49D-E272-424D-B03A-460A6E8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721-E16D-42A9-8506-0B9CA8D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3E1-C90D-408A-A75E-5E53E9B5B68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83D8-76CF-4690-93E1-85AF65C6C1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88800" y="68544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8392-013F-4142-91F8-3F4021E586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0" y="68544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ime and clock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46280" y="2994120"/>
            <a:ext cx="6934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1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2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Clocks, events and process states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3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Synchronizing physical clocks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4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Logical time and logical clocks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(Omitting sections on global states)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.3.1 Synchronization in a synchronous system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368360"/>
            <a:ext cx="8859600" cy="3076560"/>
          </a:xfrm>
          <a:prstGeom prst="rect">
            <a:avLst/>
          </a:prstGeom>
          <a:solidFill>
            <a:srgbClr val="ad9e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 synchronous distributed system is one in which the following bounds are defined (ch. 2 p. 50)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time to execute each step of a process has known lower and upper bound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ach message transmitted over a channel is received within a known bounded tim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ach process has a local clock whose drift rate from real time has a known boun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9040" y="4543560"/>
            <a:ext cx="8811720" cy="19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nternal synchronization in a synchronou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ne process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sends its local tim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to process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in a messag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could set its clock to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wher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s the time to transmi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s unknown bu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uncertainty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. Set clock to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+ (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/2 then skew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2880" y="477720"/>
            <a:ext cx="71326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et a synchronous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640" y="490680"/>
            <a:ext cx="7703280" cy="49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Internet, we can only say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wher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&gt;= 0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Cristian’s method (1989) for an asynchronous system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7480" y="4262400"/>
            <a:ext cx="8308800" cy="2005560"/>
            <a:chOff x="717480" y="4262400"/>
            <a:chExt cx="8308800" cy="2005560"/>
          </a:xfrm>
        </p:grpSpPr>
        <p:sp>
          <p:nvSpPr>
            <p:cNvPr id="143" name=""/>
            <p:cNvSpPr/>
            <p:nvPr/>
          </p:nvSpPr>
          <p:spPr>
            <a:xfrm>
              <a:off x="717480" y="4262400"/>
              <a:ext cx="2054160" cy="1501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7480" y="4262400"/>
              <a:ext cx="2084400" cy="1532160"/>
            </a:xfrm>
            <a:prstGeom prst="rect">
              <a:avLst/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40440" y="4262400"/>
              <a:ext cx="2054160" cy="1501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40440" y="4262400"/>
              <a:ext cx="2085840" cy="1532160"/>
            </a:xfrm>
            <a:prstGeom prst="rect">
              <a:avLst/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38040" y="4506840"/>
              <a:ext cx="1013040" cy="10112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26240" y="462924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26240" y="462924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58920" y="4721400"/>
              <a:ext cx="45673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89160" y="5211720"/>
              <a:ext cx="245880" cy="24624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89160" y="5211720"/>
              <a:ext cx="245880" cy="24624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434680" y="5334120"/>
              <a:ext cx="524196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4280" y="4660920"/>
              <a:ext cx="1220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64280" y="4660920"/>
              <a:ext cx="15228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8720" y="4660920"/>
              <a:ext cx="1224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08720" y="4660920"/>
              <a:ext cx="15408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33640" y="4660920"/>
              <a:ext cx="619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33640" y="4660920"/>
              <a:ext cx="9216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33640" y="5243400"/>
              <a:ext cx="619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3640" y="5243400"/>
              <a:ext cx="92160" cy="2448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2800" y="4506840"/>
              <a:ext cx="981000" cy="10112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68040" y="42768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72160" y="4389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10880" y="55641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16440" y="5676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98120" y="5900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5962680"/>
              <a:ext cx="15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 server,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73040" y="1531800"/>
            <a:ext cx="754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24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time serv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receives signals from a UTC sourc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roces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requests time i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nd receive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rom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ets its clock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rou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/2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ccuracy ±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rou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/2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because the earliest time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put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in message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 i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in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fter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p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ent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latest time was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min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before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rrived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t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p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 time by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’s clock when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arrives is in the range [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663300"/>
                </a:solidFill>
                <a:latin typeface="Arial"/>
              </a:rPr>
              <a:t>round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03760" y="59659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10040" y="2179800"/>
            <a:ext cx="4658040" cy="680040"/>
          </a:xfrm>
          <a:prstGeom prst="rect">
            <a:avLst/>
          </a:prstGeom>
          <a:solidFill>
            <a:srgbClr val="9c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round trip time recorded by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n estimated minimum round tri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1040" y="482760"/>
            <a:ext cx="84121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tential problem in using a single time ser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rkeley algorithm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ristian’s algorithm -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single time server might fail, so they suggest the  use of a group of synchronized serv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does not deal with faulty serv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Berkeley algorithm (also 1989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n algorithm for internal synchronization of a group of comput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aste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polls to collect clock values from the others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lave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master uses round trip times to estimate the slaves’ clock valu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takes an average (eliminating any above some average round trip time or with faulty clocks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sends the required adjustment to the slaves (better than sending the time which depends on the round trip time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15 computers, clock synchronization 20-25 millisecs drift rate &lt; 2x10</a:t>
            </a:r>
            <a:r>
              <a:rPr b="0" lang="en-GB" sz="1600" spc="-1" strike="noStrike" baseline="30000">
                <a:solidFill>
                  <a:srgbClr val="6633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If master fails, can elect a new master to take over (not in bounded time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twork Time Protocol (NTP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32040" y="3828960"/>
            <a:ext cx="8076600" cy="2500200"/>
            <a:chOff x="932040" y="3828960"/>
            <a:chExt cx="8076600" cy="2500200"/>
          </a:xfrm>
        </p:grpSpPr>
        <p:sp>
          <p:nvSpPr>
            <p:cNvPr id="180" name=""/>
            <p:cNvSpPr/>
            <p:nvPr/>
          </p:nvSpPr>
          <p:spPr>
            <a:xfrm>
              <a:off x="2170080" y="5265360"/>
              <a:ext cx="125640" cy="5472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63" y="16"/>
                  </a:moveTo>
                  <a:lnTo>
                    <a:pt x="79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270160" y="4964040"/>
              <a:ext cx="574560" cy="3150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6080" y="5279400"/>
              <a:ext cx="100080" cy="54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16" y="16"/>
                  </a:moveTo>
                  <a:lnTo>
                    <a:pt x="31" y="0"/>
                  </a:lnTo>
                  <a:lnTo>
                    <a:pt x="63" y="63"/>
                  </a:lnTo>
                  <a:lnTo>
                    <a:pt x="0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0840" y="4977720"/>
              <a:ext cx="525240" cy="301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21600" y="4526280"/>
              <a:ext cx="123840" cy="5472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3" y="16"/>
                  </a:moveTo>
                  <a:lnTo>
                    <a:pt x="78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721320" y="4266720"/>
              <a:ext cx="623880" cy="2732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71520" y="4513320"/>
              <a:ext cx="99720" cy="54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15"/>
                  </a:moveTo>
                  <a:lnTo>
                    <a:pt x="16" y="0"/>
                  </a:lnTo>
                  <a:lnTo>
                    <a:pt x="63" y="63"/>
                  </a:lnTo>
                  <a:lnTo>
                    <a:pt x="0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96600" y="4266720"/>
              <a:ext cx="574920" cy="246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7480" y="5251320"/>
              <a:ext cx="125280" cy="6840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6" y="16"/>
                  </a:moveTo>
                  <a:lnTo>
                    <a:pt x="31" y="0"/>
                  </a:lnTo>
                  <a:lnTo>
                    <a:pt x="79" y="79"/>
                  </a:lnTo>
                  <a:lnTo>
                    <a:pt x="0" y="32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5960" y="4964040"/>
              <a:ext cx="576360" cy="301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45480" y="3828960"/>
              <a:ext cx="10508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95680" y="4499280"/>
              <a:ext cx="10256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45960" y="4499280"/>
              <a:ext cx="10508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20840" y="5279400"/>
              <a:ext cx="10238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70880" y="5279400"/>
              <a:ext cx="100008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22600" y="5279400"/>
              <a:ext cx="102420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07000" y="4081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57560" y="475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80920" y="553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07480" y="475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32400" y="553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2680" y="553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2040" y="6024600"/>
              <a:ext cx="8076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55120" y="1387080"/>
            <a:ext cx="8859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 time service for the Internet - synchronizes clients to UTC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29080" y="57452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1160" y="1811160"/>
            <a:ext cx="715824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liability from redundant paths, scalable, authenticates tim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653160" y="2579760"/>
            <a:ext cx="6048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88960" y="1969920"/>
            <a:ext cx="5356440" cy="2000520"/>
            <a:chOff x="1488960" y="1969920"/>
            <a:chExt cx="5356440" cy="2000520"/>
          </a:xfrm>
        </p:grpSpPr>
        <p:sp>
          <p:nvSpPr>
            <p:cNvPr id="208" name=""/>
            <p:cNvSpPr/>
            <p:nvPr/>
          </p:nvSpPr>
          <p:spPr>
            <a:xfrm>
              <a:off x="1488960" y="1969920"/>
              <a:ext cx="5356440" cy="340560"/>
            </a:xfrm>
            <a:prstGeom prst="rect">
              <a:avLst/>
            </a:prstGeom>
            <a:solidFill>
              <a:srgbClr val="b5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</a:rPr>
                <a:t>Primary servers are connected to UTC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35000" y="2357280"/>
              <a:ext cx="2379960" cy="1613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165400" y="2162160"/>
            <a:ext cx="5357520" cy="2332080"/>
            <a:chOff x="2165400" y="2162160"/>
            <a:chExt cx="5357520" cy="2332080"/>
          </a:xfrm>
        </p:grpSpPr>
        <p:sp>
          <p:nvSpPr>
            <p:cNvPr id="211" name=""/>
            <p:cNvSpPr/>
            <p:nvPr/>
          </p:nvSpPr>
          <p:spPr>
            <a:xfrm>
              <a:off x="2165400" y="2162160"/>
              <a:ext cx="5357520" cy="642600"/>
            </a:xfrm>
            <a:prstGeom prst="rect">
              <a:avLst/>
            </a:prstGeom>
            <a:solidFill>
              <a:srgbClr val="99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</a:rPr>
                <a:t>Secondary servers are synchronized to primary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246840" y="2822400"/>
              <a:ext cx="846000" cy="1652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25720" y="2720880"/>
              <a:ext cx="625320" cy="1773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39880" y="2757600"/>
            <a:ext cx="5357520" cy="2482560"/>
            <a:chOff x="2639880" y="2757600"/>
            <a:chExt cx="5357520" cy="2482560"/>
          </a:xfrm>
        </p:grpSpPr>
        <p:sp>
          <p:nvSpPr>
            <p:cNvPr id="215" name=""/>
            <p:cNvSpPr/>
            <p:nvPr/>
          </p:nvSpPr>
          <p:spPr>
            <a:xfrm>
              <a:off x="2639880" y="2757600"/>
              <a:ext cx="5357520" cy="642600"/>
            </a:xfrm>
            <a:prstGeom prst="rect">
              <a:avLst/>
            </a:prstGeom>
            <a:solidFill>
              <a:srgbClr val="ff9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</a:rPr>
                <a:t>Synchronization subnet - lowest level servers in users’ compu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81240" y="3446640"/>
              <a:ext cx="60480" cy="1793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TP - synchronisation of serv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ynchronization subnet can reconfigure if failures occur, e.g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 primary that loses its UTC source can become a secondar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secondary that loses its primary can use another primar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Modes of synchronization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 server within a high speed LAN multicasts time to others which set clocks assuming some delay (not very accurate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Procedure cal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 server accepts requests from other computers (like Cristiain’s algorithm). Higher accuracy. Useful if no hardware multicast.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Symmetric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Pairs of servers exchange messages containing time information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Used where very high accuracies are needed (e.g. for higher levels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ssages exchanged between a pair of NTP peers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00000" y="3935520"/>
            <a:ext cx="8319600" cy="2510640"/>
            <a:chOff x="900000" y="3935520"/>
            <a:chExt cx="8319600" cy="2510640"/>
          </a:xfrm>
        </p:grpSpPr>
        <p:sp>
          <p:nvSpPr>
            <p:cNvPr id="223" name=""/>
            <p:cNvSpPr/>
            <p:nvPr/>
          </p:nvSpPr>
          <p:spPr>
            <a:xfrm>
              <a:off x="7837560" y="453312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361280" y="4670640"/>
              <a:ext cx="50472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99160" y="5694840"/>
              <a:ext cx="88920" cy="13896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19" y="0"/>
                  </a:moveTo>
                  <a:lnTo>
                    <a:pt x="37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53120" y="4476960"/>
              <a:ext cx="47628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8720" y="453312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322440" y="4670640"/>
              <a:ext cx="50508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68400" y="5694840"/>
              <a:ext cx="88920" cy="13896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37" y="0"/>
                  </a:moveTo>
                  <a:lnTo>
                    <a:pt x="56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0200" y="4476960"/>
              <a:ext cx="32688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5888880"/>
              <a:ext cx="7364520" cy="526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7640" y="3935520"/>
              <a:ext cx="7364160" cy="52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0720" y="4450680"/>
              <a:ext cx="149400" cy="8244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18"/>
                  </a:moveTo>
                  <a:lnTo>
                    <a:pt x="0" y="0"/>
                  </a:lnTo>
                  <a:lnTo>
                    <a:pt x="94" y="18"/>
                  </a:lnTo>
                  <a:lnTo>
                    <a:pt x="0" y="5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7640" y="4476960"/>
              <a:ext cx="7453080" cy="1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70720" y="5834160"/>
              <a:ext cx="149400" cy="8280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37"/>
                  </a:moveTo>
                  <a:lnTo>
                    <a:pt x="0" y="0"/>
                  </a:lnTo>
                  <a:lnTo>
                    <a:pt x="94" y="37"/>
                  </a:lnTo>
                  <a:lnTo>
                    <a:pt x="0" y="5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917640" y="5873760"/>
              <a:ext cx="7472160" cy="147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41640" y="61243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87800" y="621756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19200" y="41587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63560" y="4259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-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93600" y="41587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38320" y="425952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96640" y="425952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320" y="61243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63480" y="621756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0360" y="62175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42760" y="621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9400" y="415872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9400" y="612432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82480" y="437940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02040" y="50450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02120" y="5045040"/>
              <a:ext cx="24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82480" y="581940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220400"/>
            <a:ext cx="88596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ll modes use UDP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ach message bears timestamps of recent event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Local times of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of previous message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Local times of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of current message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cipient notes the time of receipt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( we have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-3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-2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 symmetric mode there can be a non-negligible delay between mess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9280" y="4921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igure 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ccuracy of NTP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120600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each pair of messages between two servers, NTP estimates an offse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between the two clocks and a delay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(total time for the two messages, which tak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3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o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1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’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gives us (by adding the equations) 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’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-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3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1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so (by subtracting the equation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(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’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)/2 wher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(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-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3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1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Using the fact that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’&gt;0 it can be shown that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/2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/2 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u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an estimate of the offset and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a measure of the accurac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NTP servers filter pairs &lt;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&gt;, estimating reliability from variation, allowing them to select peers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ccuracy of 10s of millisecs over Internet paths (1 on LAN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Logical time and logical clocks (Lamport 1978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243080"/>
            <a:ext cx="8859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stead of synchronizing clocks, event ordering can be use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23800" y="3873600"/>
            <a:ext cx="8742240" cy="2711520"/>
            <a:chOff x="523800" y="3873600"/>
            <a:chExt cx="8742240" cy="271152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523800" y="3873600"/>
              <a:ext cx="866952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867800" y="43419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1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60320" y="2155680"/>
            <a:ext cx="8020080" cy="1099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ll events are rela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different processes and no chain of messages to relate th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are not rela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 they are said to be concurrent; write a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83160" y="3502080"/>
            <a:ext cx="58194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appened before relation is the relation of causal or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82840" y="1728720"/>
            <a:ext cx="7202520" cy="1350360"/>
          </a:xfrm>
          <a:prstGeom prst="rect">
            <a:avLst/>
          </a:prstGeom>
          <a:solidFill>
            <a:srgbClr val="8a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If two events occurred at the same process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= 1, 2, …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) then they occurred in the order observed by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, that is  </a:t>
            </a:r>
            <a:r>
              <a:rPr b="0" lang="en-US" sz="1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</a:t>
            </a:r>
            <a:r>
              <a:rPr b="0" lang="en-US" sz="1600" spc="-1" strike="noStrike" baseline="-25000">
                <a:solidFill>
                  <a:srgbClr val="663300"/>
                </a:solidFill>
                <a:latin typeface="Arial"/>
              </a:rPr>
              <a:t>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when a message,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is sent between two processes,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send(m)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happened before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receive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he happened before relation is tran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7560" y="310680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HB1, HB2 and HB3 (page 397) are formal statements of these 3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9200" y="1598760"/>
            <a:ext cx="27363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(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9680" y="1598760"/>
            <a:ext cx="21870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au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98480" y="1619280"/>
            <a:ext cx="25174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au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9200" y="404640"/>
            <a:ext cx="8888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Lamport’s logical c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360" y="1201320"/>
            <a:ext cx="8950320" cy="2538360"/>
          </a:xfrm>
          <a:prstGeom prst="rect">
            <a:avLst/>
          </a:prstGeom>
          <a:solidFill>
            <a:srgbClr val="8ac5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A logical clock is a monotonically increasing software counter. It need not relate to a physical clock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ach process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has a logical clock,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which can be used to apply logical timestamps to even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LC1: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is incremented by 1 before each event at proces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LC2: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a) when proces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ends message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, it piggyback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= 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b) when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pj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receives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(m,t)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it set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lang="en-GB" sz="16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:=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lang="en-GB" sz="16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) and applies LC1 before timestamping the event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1520" y="3767040"/>
            <a:ext cx="8386560" cy="2853000"/>
            <a:chOff x="641520" y="3767040"/>
            <a:chExt cx="8386560" cy="285300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641520" y="3767040"/>
              <a:ext cx="8386560" cy="28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450560" y="452268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Figure 10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50920" y="1798560"/>
            <a:ext cx="58928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f p1, p2, p3 has its logical clock initialised to zer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ock values are those immediately after the ev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1 for a, 2 for 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2879640"/>
            <a:ext cx="56307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 is piggybacked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2)+1 =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83240" y="2023920"/>
            <a:ext cx="2881440" cy="1374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implie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verse is not true, that i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'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does not imply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51400" y="287280"/>
            <a:ext cx="28810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an example to show the converse is not tr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32560" y="469800"/>
            <a:ext cx="288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ctor clocks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360" y="1241280"/>
            <a:ext cx="8859600" cy="2484720"/>
          </a:xfrm>
          <a:prstGeom prst="rect">
            <a:avLst/>
          </a:prstGeom>
          <a:solidFill>
            <a:srgbClr val="99c5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ector clock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at proces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is an array of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integer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1:initially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= 0 for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= 1, 2, …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2:before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timestamps an event it set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:=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+1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3: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piggyback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on every message it send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4:when 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receives 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 it set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:= max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,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)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= 1, 2, …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N  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( then before next event adds I  to own element using VC2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5960" y="3898800"/>
            <a:ext cx="8650440" cy="2556000"/>
            <a:chOff x="615960" y="3898800"/>
            <a:chExt cx="8650440" cy="255600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615960" y="3898800"/>
              <a:ext cx="8650440" cy="25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448040" y="449892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Figure 10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121280" y="32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160" y="4233960"/>
            <a:ext cx="612288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ctor clocks overcome the shortcoming of Lamport logical c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e) &lt;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’) does not imply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ppened befor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360" y="5051520"/>
            <a:ext cx="511560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ctor timestamps are used to timestamp  local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8320" y="5667480"/>
            <a:ext cx="970560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applied in schemes  for replication of data e.g. Gossip (p 572), Coda (p585) and causal 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6680" y="1341360"/>
            <a:ext cx="50540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,0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,0,0) piggyba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,0,0)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5360" y="1855800"/>
            <a:ext cx="9013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recei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0,0,0), (2,0,0)) = (2, 0, 0) add 1 to own element = (2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2080" y="2394000"/>
            <a:ext cx="718488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ning of =, &lt;=, max etc for vector timestamps - compare elements pai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5120" y="3000240"/>
            <a:ext cx="6345000" cy="734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implie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). The converse is also true. See Exercise 10.3 for a proo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10720" y="204840"/>
            <a:ext cx="3646440" cy="33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see a pair of parallel events?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9120" y="392040"/>
            <a:ext cx="867420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] is the number of events th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s timest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 (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≠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is the number of events 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s been affec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72200" y="703440"/>
            <a:ext cx="574704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allel) because neith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 &lt;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n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&lt;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.1 Introductio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We need to measure time accurately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o know the time an event occurred at a compu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o do this we need to synchronize its clock with an authoritative external clock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lgorithms for clock synchronization useful for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ncurrency control based on timestamp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uthenticity of requests e.g. in Kerbero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re is no global clock in a distributed system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is chapter discusses clock accuracy and synchronisa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ogical time is an alternativ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t gives ordering of events - also useful for consistency of replicated dat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19400" y="263520"/>
            <a:ext cx="785412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FS client cache sche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client and server clocks need to be synchron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0320" y="264960"/>
            <a:ext cx="786744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FS client cache sche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perties do we require from the cloc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 on time and clocks in distributed systems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ccurate timekeeping is important for distributed systems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gorithms (e.g. Cristian’s and NTP) synchronize clocks in spite of their drift and the variability of message delay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ordering of an arbitrary pair of events at different computers, clock synchronization is not always practical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happened-before relation is a partial order on events that reflects a flow of information between them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Lamport clocks are counters that are updated according to the happened-before relationship between events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vector clocks are an improvement on Lamport clocks,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e can tell whether two events are ordered by happened-before or are concurrent by comparing their vector timestamp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buClr>
                <a:srgbClr val="ff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 2 (p 50) Computer clocks and timing event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ach computer in a DS has its own internal clock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used by local processes to obtain the value of the current tim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rocesses on different computers can timestamp their events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t clocks on different computers may give different tim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mputer clocks drift from perfect time and their drift rates differ from one another.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clock drift rat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: the relative amount that a computer clock differs from a perfect clock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ven if clocks on all computers in a DS are set to the same time, their clocks will eventually vary quite significantly unless corrections are applied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5800680"/>
            <a:ext cx="850032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lock properties are required by the Un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uses local fi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799240"/>
            <a:ext cx="84070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les are served by NFS, what properties doe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require from the computer cloc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.2 Clocks, events and process stat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845560" cy="5087880"/>
          </a:xfrm>
          <a:prstGeom prst="rect">
            <a:avLst/>
          </a:prstGeom>
          <a:solidFill>
            <a:srgbClr val="a1aa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distributed system is defined as a collection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P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of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N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e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 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, i = 1,2,… 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has a stat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onsisting of its variables (which it transforms as it execute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es communicate only by messages (via a  network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ctions of processe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end, Receive,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hange own stat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Event: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occurrence of a single action that a process carries out as it executes e.g.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end, Receive,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hange stat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vents at a single proces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can be placed in a total ordering denoted by the relation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 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between the events. i.e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 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 and only if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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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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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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 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history of process p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i: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s a series of events ordered by 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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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history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p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= h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=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lt;e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…&gt;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9480" y="442800"/>
            <a:ext cx="84895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happened before' relation is essential to understanding logical c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ock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e have seen how to order events (happened before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o timestamp events, use the computer’s clock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t real time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the OS reads the time on the computer’s hardware clock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calculates the time on its software clock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=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 + </a:t>
            </a:r>
            <a:r>
              <a:rPr b="0" i="1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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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a 64 bit number givingondbase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n general, 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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behaves well enough,  a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3400" y="5191200"/>
            <a:ext cx="35503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clock re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1760" y="5176800"/>
            <a:ext cx="38552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ccurate should it 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560" y="5829480"/>
            <a:ext cx="96768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resolution &lt; time interval between successive events tha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kew between computer clocks in a distributed system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3484440"/>
            <a:ext cx="88599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omputer clocks are not generally in perfect agreement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Skew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: the difference between the times on two clocks (at any instant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omputer clocks are subject to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clock drif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(they count time at different rates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lock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rift rate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: the difference per unit of time from some ideal reference clock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rdinary quartz clocks drift by about 1 sec in 11-12 days. (10</a:t>
            </a:r>
            <a:r>
              <a:rPr b="0" lang="en-GB" sz="2000" spc="-1" strike="noStrike" baseline="30000">
                <a:solidFill>
                  <a:srgbClr val="6633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secs/sec)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High precision quartz clocks drift rate is about 10</a:t>
            </a:r>
            <a:r>
              <a:rPr b="0" lang="en-GB" sz="2000" spc="-1" strike="noStrike" baseline="30000">
                <a:solidFill>
                  <a:srgbClr val="663300"/>
                </a:solidFill>
                <a:latin typeface="Arial"/>
              </a:rPr>
              <a:t>-7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or 10</a:t>
            </a:r>
            <a:r>
              <a:rPr b="0" lang="en-GB" sz="2000" spc="-1" strike="noStrike" baseline="30000">
                <a:solidFill>
                  <a:srgbClr val="663300"/>
                </a:solidFill>
                <a:latin typeface="Arial"/>
              </a:rPr>
              <a:t>-8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secs/sec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46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6440" y="1332000"/>
            <a:ext cx="8901000" cy="2019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51080" y="29894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igure 1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840" y="533520"/>
            <a:ext cx="87015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to clocks when their batteries become very 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ordinated Universal Time (UTC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ternational Atomic Time is based on very accurate physical clocks (drift rate 10</a:t>
            </a:r>
            <a:r>
              <a:rPr b="0" lang="en-US" sz="2400" spc="-1" strike="noStrike" baseline="30000">
                <a:solidFill>
                  <a:srgbClr val="663300"/>
                </a:solidFill>
                <a:latin typeface="Arial"/>
              </a:rPr>
              <a:t>-13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UTC is an international standard for time keep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t is based on atomic time, but occasionally adjusted to astronomical tim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t is broadcast from radio stations on land and satellite (e.g. GP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omputers with receivers can synchronize their clocks with these timing signal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ignals from land-based stations are accurate to about 0.1-10 millisecon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ignals from GPS are accurate to about 1 microsecon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6160" y="6022800"/>
            <a:ext cx="75585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an't we put GPS receivers on all our compu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.3 Synchronizing physical clock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xternal synchronizatio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computer’s clock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synchronized with an external authoritative time sourc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,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o that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|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| &l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fo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= 1, 2, …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N 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ver an interval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f real time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clock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re accurate to within the bound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nternal synchronizatio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clocks of a pair of computers are synchronized with one another so that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|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| &l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fo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= 1, 2, …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N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ver an interval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f real time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clock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nd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gree within the bound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nternally synchronized clocks are not necessarily externally synchronized, as they may drift collectively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f the set of processe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P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s synchronized externally within a bou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it is also internally synchronized within bound 2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ock correctnes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6040" y="1244160"/>
            <a:ext cx="88599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hardware clock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said to be correct if its drift rate is within a bound </a:t>
            </a:r>
            <a:r>
              <a:rPr b="0" i="1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gt; 0. (e.g. 10</a:t>
            </a:r>
            <a:r>
              <a:rPr b="0" lang="en-GB" sz="2400" spc="-1" strike="noStrike" baseline="30000">
                <a:solidFill>
                  <a:srgbClr val="663300"/>
                </a:solidFill>
                <a:latin typeface="Arial"/>
              </a:rPr>
              <a:t>-6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secs/ sec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means that the error in measuring the interval between real time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bounded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1 -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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≤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≤ (1 +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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whe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g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hich forbids jumps in time readings of hardware clock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eaker condition of monotonicity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' &g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 </a:t>
            </a:r>
            <a:r>
              <a:rPr b="0" i="1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 C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&g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.g. required by Unix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ake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an achieve monotonicity with a hardware clock that runs fast by adjusting the values of 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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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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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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)= 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) + </a:t>
            </a:r>
            <a:r>
              <a:rPr b="0" i="1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 faul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lock is one that does not obey its correctness condition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crash failur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a clock stops tick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rbitrar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failure - any other failure e.g. jumps in tim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4920" y="487440"/>
            <a:ext cx="89712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'Y2K bug' - what sort of clock failure would that b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2-11T15:46:21Z</dcterms:modified>
  <cp:revision>216</cp:revision>
  <dc:subject/>
  <dc:title>Figure 15.1 A distributed multimedia system</dc:title>
</cp:coreProperties>
</file>