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00AC4-FDE8-44B6-83A6-7C755F182E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idd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85F35-3C55-49BD-8EA9-09ED36632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954960"/>
            <a:ext cx="81788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CB4A8-32F9-44F3-9438-C7F373F9A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3990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447560"/>
            <a:ext cx="3990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954960"/>
            <a:ext cx="3990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954960"/>
            <a:ext cx="3990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7D497-2E02-441D-AFEE-F485867F7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263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447560"/>
            <a:ext cx="263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447560"/>
            <a:ext cx="263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954960"/>
            <a:ext cx="263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954960"/>
            <a:ext cx="263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954960"/>
            <a:ext cx="263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D78CC-3EC7-4CF5-B1A8-02EFC1591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E55ED-B53F-464A-A168-D0BEEDD31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6840" y="1447560"/>
            <a:ext cx="81788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F1C7E-523E-453E-9EFB-1FEFA34FA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3EED0-AD24-467B-9DCC-7F0B88C4C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3990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47600" y="1447560"/>
            <a:ext cx="3990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A35B1-3948-431A-89EF-FB7F2DEF4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81167-C403-4783-BC15-A7AB73EFF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06080" y="228240"/>
            <a:ext cx="82040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2A03E-610E-4D4B-A2D3-22DF353AD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3990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447560"/>
            <a:ext cx="3990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6840" y="3954960"/>
            <a:ext cx="3990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D1E79-6CA6-404B-A218-62DAF1E54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447560"/>
            <a:ext cx="81788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F0E3B-095F-4FAE-9666-EA601866A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3990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447560"/>
            <a:ext cx="3990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47600" y="3954960"/>
            <a:ext cx="3990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41005-22A4-4AA3-B8C8-DCEF01555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3990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47600" y="1447560"/>
            <a:ext cx="3990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3954960"/>
            <a:ext cx="81788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8A111-45A3-4D0F-97B7-70A3DC9F2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6840" y="3954960"/>
            <a:ext cx="81788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EFE2C-544D-47C1-B81B-AA31A64C8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3990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47600" y="1447560"/>
            <a:ext cx="3990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6840" y="3954960"/>
            <a:ext cx="3990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47600" y="3954960"/>
            <a:ext cx="3990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2475C-B363-4284-A145-41062DE84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263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22360" y="1447560"/>
            <a:ext cx="263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87880" y="1447560"/>
            <a:ext cx="263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6840" y="3954960"/>
            <a:ext cx="263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22360" y="3954960"/>
            <a:ext cx="263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87880" y="3954960"/>
            <a:ext cx="263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FBC7A-8921-4EDF-96B9-1D7E08B03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1AAE2-49B4-46A1-BB4E-9FE4B770A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3990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447560"/>
            <a:ext cx="3990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4F312-FC89-430F-BE90-58D62163A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A4B71-41FA-4B5D-A2E1-E92D3C654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228240"/>
            <a:ext cx="82040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B0E65-C265-47A2-86E2-27F69A4AA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3990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447560"/>
            <a:ext cx="3990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954960"/>
            <a:ext cx="3990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C8179-D1C5-4BFC-AF9C-6C197A570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3990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447560"/>
            <a:ext cx="3990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954960"/>
            <a:ext cx="3990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D713F-B76F-44FC-A9BF-B6277C539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3990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447560"/>
            <a:ext cx="3990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954960"/>
            <a:ext cx="81788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BE010-F38D-4129-AA2B-DA415FF01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560"/>
            <a:ext cx="81788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280" y="6400800"/>
            <a:ext cx="147348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81080" y="6400800"/>
            <a:ext cx="556272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35251-748C-42EB-BBA2-F831E1AC44B1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620120" y="6400800"/>
            <a:ext cx="101592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EBDCB-CD74-433A-A9F3-872B1B6893B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143000"/>
            <a:ext cx="8153280" cy="0"/>
          </a:xfrm>
          <a:prstGeom prst="line">
            <a:avLst/>
          </a:prstGeom>
          <a:ln w="127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842920" y="685440"/>
            <a:ext cx="5792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6909C-2741-4895-9228-3F7E65443A0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90920"/>
            <a:ext cx="8153280" cy="0"/>
          </a:xfrm>
          <a:prstGeom prst="line">
            <a:avLst/>
          </a:prstGeom>
          <a:ln w="127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2800" y="2833560"/>
            <a:ext cx="201312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George Coulouris, Jean Dollimore, Tim Kindberg 2001 email: 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uthors@cdk2.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aterial is made available for private study and for direct use by individual teach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may not be included in any product or employed in any service without the written permission of the autho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44600" y="5191200"/>
            <a:ext cx="17841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d0217"/>
                </a:solidFill>
                <a:latin typeface="Times New Roman"/>
              </a:rPr>
              <a:t>Viewing: These slides must be viewed in slide show mod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69800" y="1352520"/>
            <a:ext cx="1130400" cy="14349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68280" y="304920"/>
            <a:ext cx="1592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aching material based on Distributed Systems: Concepts and Design, Edition 3, Addison-Wesley 2001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6633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ffcc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ffcc00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842920" y="685440"/>
            <a:ext cx="5792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Distributed Systems Course</a:t>
            </a:r>
            <a:endParaRPr b="0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962440" y="3352320"/>
            <a:ext cx="59688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Taught at</a:t>
            </a:r>
            <a:r>
              <a:rPr b="0" lang="en-US" sz="2800" spc="-1" strike="noStrike">
                <a:solidFill>
                  <a:srgbClr val="663300"/>
                </a:solidFill>
                <a:latin typeface="Arial Black"/>
              </a:rPr>
              <a:t> Peking University</a:t>
            </a:r>
            <a:endParaRPr b="0" lang="en-US" sz="2800" spc="-1" strike="noStrike">
              <a:solidFill>
                <a:srgbClr val="663300"/>
              </a:solidFill>
              <a:latin typeface="Arial Black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By</a:t>
            </a:r>
            <a:r>
              <a:rPr b="0" lang="en-US" sz="2800" spc="-1" strike="noStrike">
                <a:solidFill>
                  <a:srgbClr val="663300"/>
                </a:solidFill>
                <a:latin typeface="Arial Black"/>
              </a:rPr>
              <a:t> George Coulouris </a:t>
            </a:r>
            <a:br>
              <a:rPr sz="2800"/>
            </a:b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and</a:t>
            </a:r>
            <a:r>
              <a:rPr b="0" lang="en-US" sz="2800" spc="-1" strike="noStrike">
                <a:solidFill>
                  <a:srgbClr val="663300"/>
                </a:solidFill>
                <a:latin typeface="Arial Black"/>
              </a:rPr>
              <a:t> Jean Dollimore</a:t>
            </a:r>
            <a:br>
              <a:rPr sz="2800"/>
            </a:br>
            <a:r>
              <a:rPr b="0" i="1" lang="en-US" sz="2000" spc="-1" strike="noStrike">
                <a:solidFill>
                  <a:srgbClr val="663300"/>
                </a:solidFill>
                <a:latin typeface="Arial"/>
              </a:rPr>
              <a:t>Autumn 2001</a:t>
            </a:r>
            <a:endParaRPr b="0" lang="en-US" sz="2000" spc="-1" strike="noStrike">
              <a:solidFill>
                <a:srgbClr val="663300"/>
              </a:solidFill>
              <a:latin typeface="Arial Black"/>
            </a:endParaRPr>
          </a:p>
        </p:txBody>
      </p:sp>
    </p:spTree>
  </p:cSld>
  <p:transition>
    <p:split dir="out" orient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Organization of the book and the course</a:t>
            </a:r>
            <a:endParaRPr b="0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1341360" y="1440000"/>
            <a:ext cx="6922800" cy="4903560"/>
            <a:chOff x="1341360" y="1440000"/>
            <a:chExt cx="6922800" cy="4903560"/>
          </a:xfrm>
        </p:grpSpPr>
        <p:grpSp>
          <p:nvGrpSpPr>
            <p:cNvPr id="99" name=""/>
            <p:cNvGrpSpPr/>
            <p:nvPr/>
          </p:nvGrpSpPr>
          <p:grpSpPr>
            <a:xfrm>
              <a:off x="1341360" y="1440000"/>
              <a:ext cx="3019680" cy="1272960"/>
              <a:chOff x="1341360" y="1440000"/>
              <a:chExt cx="3019680" cy="1272960"/>
            </a:xfrm>
          </p:grpSpPr>
          <p:sp>
            <p:nvSpPr>
              <p:cNvPr id="100" name=""/>
              <p:cNvSpPr/>
              <p:nvPr/>
            </p:nvSpPr>
            <p:spPr>
              <a:xfrm>
                <a:off x="1341360" y="1687680"/>
                <a:ext cx="3000600" cy="1006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1360" y="1687680"/>
                <a:ext cx="3019680" cy="102528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496160" y="1755720"/>
                <a:ext cx="51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540800" y="1755720"/>
                <a:ext cx="51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1585440" y="175572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1776240" y="1755720"/>
                <a:ext cx="17974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Characterization of D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1496160" y="1973160"/>
                <a:ext cx="51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540800" y="1973160"/>
                <a:ext cx="51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1585440" y="197316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1778400" y="1973160"/>
                <a:ext cx="12214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1822cd"/>
                    </a:solidFill>
                    <a:latin typeface="Arial"/>
                  </a:rPr>
                  <a:t>System Model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496160" y="2190600"/>
                <a:ext cx="51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1540800" y="2190600"/>
                <a:ext cx="51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1585440" y="219060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773720" y="2190600"/>
                <a:ext cx="251064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Networking and Internetworking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496160" y="2406600"/>
                <a:ext cx="51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540800" y="2406600"/>
                <a:ext cx="51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85440" y="240660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774080" y="2406600"/>
                <a:ext cx="227304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Interprocess Communicatio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347480" y="1440000"/>
                <a:ext cx="105516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0000"/>
                    </a:solidFill>
                    <a:latin typeface="Arial"/>
                  </a:rPr>
                  <a:t>Foundations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" name=""/>
            <p:cNvGrpSpPr/>
            <p:nvPr/>
          </p:nvGrpSpPr>
          <p:grpSpPr>
            <a:xfrm>
              <a:off x="4400640" y="1440000"/>
              <a:ext cx="3592440" cy="839520"/>
              <a:chOff x="4400640" y="1440000"/>
              <a:chExt cx="3592440" cy="839520"/>
            </a:xfrm>
          </p:grpSpPr>
          <p:sp>
            <p:nvSpPr>
              <p:cNvPr id="120" name=""/>
              <p:cNvSpPr/>
              <p:nvPr/>
            </p:nvSpPr>
            <p:spPr>
              <a:xfrm>
                <a:off x="4952880" y="1687680"/>
                <a:ext cx="3019680" cy="571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952880" y="1687680"/>
                <a:ext cx="3040200" cy="59184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5099760" y="1736640"/>
                <a:ext cx="198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5379480" y="1736640"/>
                <a:ext cx="186624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3300"/>
                    </a:solidFill>
                    <a:latin typeface="Arial"/>
                  </a:rPr>
                  <a:t>Time and Global State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5099760" y="1954080"/>
                <a:ext cx="198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1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5378760" y="1954080"/>
                <a:ext cx="228060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3300"/>
                    </a:solidFill>
                    <a:latin typeface="Arial"/>
                  </a:rPr>
                  <a:t>Coordination and Agreemen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4954680" y="1440000"/>
                <a:ext cx="17272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Arial"/>
                  </a:rPr>
                  <a:t>Distributed algorith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4716360" y="1982880"/>
                <a:ext cx="138240" cy="60120"/>
              </a:xfrm>
              <a:custGeom>
                <a:avLst/>
                <a:gdLst/>
                <a:ahLst/>
                <a:rect l="l" t="t" r="r" b="b"/>
                <a:pathLst>
                  <a:path w="87" h="38">
                    <a:moveTo>
                      <a:pt x="0" y="13"/>
                    </a:moveTo>
                    <a:lnTo>
                      <a:pt x="0" y="0"/>
                    </a:lnTo>
                    <a:lnTo>
                      <a:pt x="87" y="13"/>
                    </a:lnTo>
                    <a:lnTo>
                      <a:pt x="0" y="38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400640" y="2003400"/>
                <a:ext cx="31572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9" name=""/>
            <p:cNvGrpSpPr/>
            <p:nvPr/>
          </p:nvGrpSpPr>
          <p:grpSpPr>
            <a:xfrm>
              <a:off x="1341360" y="4430880"/>
              <a:ext cx="3059280" cy="1912680"/>
              <a:chOff x="1341360" y="4430880"/>
              <a:chExt cx="3059280" cy="1912680"/>
            </a:xfrm>
          </p:grpSpPr>
          <p:sp>
            <p:nvSpPr>
              <p:cNvPr id="130" name=""/>
              <p:cNvSpPr/>
              <p:nvPr/>
            </p:nvSpPr>
            <p:spPr>
              <a:xfrm>
                <a:off x="1341360" y="5081760"/>
                <a:ext cx="3040200" cy="1242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1341360" y="5081760"/>
                <a:ext cx="3059280" cy="126180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1497600" y="5170320"/>
                <a:ext cx="51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1542240" y="5170320"/>
                <a:ext cx="51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1586880" y="517032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1776600" y="5170320"/>
                <a:ext cx="21052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1822cd"/>
                    </a:solidFill>
                    <a:latin typeface="Arial"/>
                  </a:rPr>
                  <a:t>Operating System Suppor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497600" y="5386320"/>
                <a:ext cx="51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1542240" y="5386320"/>
                <a:ext cx="51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86880" y="538632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777320" y="5386320"/>
                <a:ext cx="1927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1822cd"/>
                    </a:solidFill>
                    <a:latin typeface="Arial"/>
                  </a:rPr>
                  <a:t>Distributed File Syste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7960" y="5603760"/>
                <a:ext cx="198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1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775880" y="5603760"/>
                <a:ext cx="250164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1822cd"/>
                    </a:solidFill>
                    <a:latin typeface="Arial"/>
                  </a:rPr>
                  <a:t>Distributed Multimedia Syste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497960" y="5821200"/>
                <a:ext cx="198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1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776960" y="5821200"/>
                <a:ext cx="217260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Distributed Shared Memory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497960" y="6039000"/>
                <a:ext cx="198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1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1779480" y="6039000"/>
                <a:ext cx="14104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Mach Case Study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1350720" y="4834080"/>
                <a:ext cx="174096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Arial"/>
                  </a:rPr>
                  <a:t>System infrastructure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131920" y="4608360"/>
                <a:ext cx="117720" cy="78120"/>
              </a:xfrm>
              <a:custGeom>
                <a:avLst/>
                <a:gdLst/>
                <a:ahLst/>
                <a:rect l="l" t="t" r="r" b="b"/>
                <a:pathLst>
                  <a:path w="74" h="49">
                    <a:moveTo>
                      <a:pt x="74" y="24"/>
                    </a:moveTo>
                    <a:lnTo>
                      <a:pt x="74" y="49"/>
                    </a:lnTo>
                    <a:lnTo>
                      <a:pt x="0" y="49"/>
                    </a:lnTo>
                    <a:lnTo>
                      <a:pt x="62" y="0"/>
                    </a:lnTo>
                    <a:lnTo>
                      <a:pt x="74" y="24"/>
                    </a:lnTo>
                    <a:close/>
                  </a:path>
                </a:pathLst>
              </a:custGeom>
              <a:solidFill>
                <a:srgbClr val="000000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flipH="1">
                <a:off x="2249640" y="4430880"/>
                <a:ext cx="769680" cy="215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9" name=""/>
            <p:cNvGrpSpPr/>
            <p:nvPr/>
          </p:nvGrpSpPr>
          <p:grpSpPr>
            <a:xfrm>
              <a:off x="2309760" y="2733840"/>
              <a:ext cx="3867120" cy="1617480"/>
              <a:chOff x="2309760" y="2733840"/>
              <a:chExt cx="3867120" cy="1617480"/>
            </a:xfrm>
          </p:grpSpPr>
          <p:sp>
            <p:nvSpPr>
              <p:cNvPr id="150" name=""/>
              <p:cNvSpPr/>
              <p:nvPr/>
            </p:nvSpPr>
            <p:spPr>
              <a:xfrm>
                <a:off x="2322360" y="3078000"/>
                <a:ext cx="91044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Arial"/>
                  </a:rPr>
                  <a:t>Middlewar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2309760" y="3344760"/>
                <a:ext cx="3848040" cy="987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2309760" y="3344760"/>
                <a:ext cx="3867120" cy="100656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2464560" y="3375000"/>
                <a:ext cx="51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2508840" y="3375000"/>
                <a:ext cx="51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2552040" y="337500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2736000" y="3375000"/>
                <a:ext cx="33976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3300"/>
                    </a:solidFill>
                    <a:latin typeface="Arial"/>
                  </a:rPr>
                  <a:t>Distributed Objects and Remote Invocatio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2464560" y="3591000"/>
                <a:ext cx="51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2508840" y="3591000"/>
                <a:ext cx="51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2552040" y="359100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2746800" y="3591000"/>
                <a:ext cx="6469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1822cd"/>
                    </a:solidFill>
                    <a:latin typeface="Arial"/>
                  </a:rPr>
                  <a:t>Security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2464560" y="3808440"/>
                <a:ext cx="51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2508840" y="3808440"/>
                <a:ext cx="51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2552040" y="380844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2746080" y="3808440"/>
                <a:ext cx="12106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1822cd"/>
                    </a:solidFill>
                    <a:latin typeface="Arial"/>
                  </a:rPr>
                  <a:t>Name Service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2464560" y="4025880"/>
                <a:ext cx="198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1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2746440" y="4025880"/>
                <a:ext cx="160704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3300"/>
                    </a:solidFill>
                    <a:latin typeface="Arial"/>
                  </a:rPr>
                  <a:t>CORBA Case Study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2822400" y="2911320"/>
                <a:ext cx="78120" cy="117720"/>
              </a:xfrm>
              <a:custGeom>
                <a:avLst/>
                <a:gdLst/>
                <a:ahLst/>
                <a:rect l="l" t="t" r="r" b="b"/>
                <a:pathLst>
                  <a:path w="49" h="74">
                    <a:moveTo>
                      <a:pt x="25" y="0"/>
                    </a:moveTo>
                    <a:lnTo>
                      <a:pt x="49" y="0"/>
                    </a:lnTo>
                    <a:lnTo>
                      <a:pt x="25" y="74"/>
                    </a:lnTo>
                    <a:lnTo>
                      <a:pt x="0" y="0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000000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2862360" y="2733840"/>
                <a:ext cx="1440" cy="1569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9" name=""/>
            <p:cNvGrpSpPr/>
            <p:nvPr/>
          </p:nvGrpSpPr>
          <p:grpSpPr>
            <a:xfrm>
              <a:off x="4460760" y="2338560"/>
              <a:ext cx="3803400" cy="3492360"/>
              <a:chOff x="4460760" y="2338560"/>
              <a:chExt cx="3803400" cy="3492360"/>
            </a:xfrm>
          </p:grpSpPr>
          <p:sp>
            <p:nvSpPr>
              <p:cNvPr id="170" name=""/>
              <p:cNvSpPr/>
              <p:nvPr/>
            </p:nvSpPr>
            <p:spPr>
              <a:xfrm>
                <a:off x="4737240" y="4983120"/>
                <a:ext cx="3216240" cy="828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4737240" y="4983120"/>
                <a:ext cx="3235320" cy="84780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4931640" y="5051520"/>
                <a:ext cx="198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1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5206320" y="5051520"/>
                <a:ext cx="305784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3300"/>
                    </a:solidFill>
                    <a:latin typeface="Arial"/>
                  </a:rPr>
                  <a:t>Transactions and Concurrency Control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4931640" y="5268960"/>
                <a:ext cx="198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1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5210280" y="5268960"/>
                <a:ext cx="1927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3300"/>
                    </a:solidFill>
                    <a:latin typeface="Arial"/>
                  </a:rPr>
                  <a:t>Distributed Transaction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4931640" y="5486400"/>
                <a:ext cx="198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1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5215680" y="5486400"/>
                <a:ext cx="883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3300"/>
                    </a:solidFill>
                    <a:latin typeface="Arial"/>
                  </a:rPr>
                  <a:t>Replicatio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4744440" y="4735440"/>
                <a:ext cx="896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300" spc="-1" strike="noStrike">
                    <a:solidFill>
                      <a:srgbClr val="000000"/>
                    </a:solidFill>
                    <a:latin typeface="Arial"/>
                  </a:rPr>
                  <a:t>Shared data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4795920" y="4568760"/>
                <a:ext cx="137880" cy="77760"/>
              </a:xfrm>
              <a:custGeom>
                <a:avLst/>
                <a:gdLst/>
                <a:ahLst/>
                <a:rect l="l" t="t" r="r" b="b"/>
                <a:pathLst>
                  <a:path w="87" h="49">
                    <a:moveTo>
                      <a:pt x="12" y="12"/>
                    </a:moveTo>
                    <a:lnTo>
                      <a:pt x="25" y="0"/>
                    </a:lnTo>
                    <a:lnTo>
                      <a:pt x="87" y="49"/>
                    </a:lnTo>
                    <a:lnTo>
                      <a:pt x="0" y="37"/>
                    </a:lnTo>
                    <a:lnTo>
                      <a:pt x="12" y="12"/>
                    </a:lnTo>
                    <a:close/>
                  </a:path>
                </a:pathLst>
              </a:custGeom>
              <a:solidFill>
                <a:srgbClr val="000000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4460760" y="4430880"/>
                <a:ext cx="354240" cy="1569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6630840" y="4686480"/>
                <a:ext cx="59040" cy="118800"/>
              </a:xfrm>
              <a:custGeom>
                <a:avLst/>
                <a:gdLst/>
                <a:ahLst/>
                <a:rect l="l" t="t" r="r" b="b"/>
                <a:pathLst>
                  <a:path w="37" h="75">
                    <a:moveTo>
                      <a:pt x="25" y="0"/>
                    </a:moveTo>
                    <a:lnTo>
                      <a:pt x="37" y="0"/>
                    </a:lnTo>
                    <a:lnTo>
                      <a:pt x="25" y="75"/>
                    </a:lnTo>
                    <a:lnTo>
                      <a:pt x="0" y="0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000000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6649920" y="2338560"/>
                <a:ext cx="20880" cy="2328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3" name=""/>
          <p:cNvSpPr/>
          <p:nvPr/>
        </p:nvSpPr>
        <p:spPr>
          <a:xfrm>
            <a:off x="8837640" y="6396120"/>
            <a:ext cx="30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9000" y="3657600"/>
            <a:ext cx="5010840" cy="2013840"/>
            <a:chOff x="9000" y="3657600"/>
            <a:chExt cx="5010840" cy="2013840"/>
          </a:xfrm>
        </p:grpSpPr>
        <p:sp>
          <p:nvSpPr>
            <p:cNvPr id="185" name=""/>
            <p:cNvSpPr/>
            <p:nvPr/>
          </p:nvSpPr>
          <p:spPr>
            <a:xfrm>
              <a:off x="3505320" y="3657600"/>
              <a:ext cx="1218960" cy="1600200"/>
            </a:xfrm>
            <a:custGeom>
              <a:avLst/>
              <a:gdLst/>
              <a:ahLst/>
              <a:rect l="l" t="t" r="r" b="b"/>
              <a:pathLst>
                <a:path w="768" h="1048">
                  <a:moveTo>
                    <a:pt x="0" y="40"/>
                  </a:moveTo>
                  <a:cubicBezTo>
                    <a:pt x="228" y="20"/>
                    <a:pt x="456" y="0"/>
                    <a:pt x="576" y="40"/>
                  </a:cubicBezTo>
                  <a:cubicBezTo>
                    <a:pt x="696" y="80"/>
                    <a:pt x="768" y="112"/>
                    <a:pt x="720" y="280"/>
                  </a:cubicBezTo>
                  <a:cubicBezTo>
                    <a:pt x="672" y="448"/>
                    <a:pt x="360" y="920"/>
                    <a:pt x="288" y="1048"/>
                  </a:cubicBezTo>
                </a:path>
              </a:pathLst>
            </a:custGeom>
            <a:noFill/>
            <a:ln w="28440">
              <a:solidFill>
                <a:srgbClr val="1822cd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9000" y="5334120"/>
              <a:ext cx="1177560" cy="337320"/>
            </a:xfrm>
            <a:prstGeom prst="rect">
              <a:avLst/>
            </a:prstGeom>
            <a:noFill/>
            <a:ln w="9360">
              <a:solidFill>
                <a:srgbClr val="1822c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1822cd"/>
                  </a:solidFill>
                  <a:latin typeface="Times New Roman"/>
                </a:rPr>
                <a:t>George star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219320" y="5486400"/>
              <a:ext cx="304560" cy="0"/>
            </a:xfrm>
            <a:prstGeom prst="line">
              <a:avLst/>
            </a:prstGeom>
            <a:ln w="28440">
              <a:solidFill>
                <a:srgbClr val="1822cd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143000" y="3733920"/>
              <a:ext cx="3876840" cy="1752480"/>
            </a:xfrm>
            <a:custGeom>
              <a:avLst/>
              <a:gdLst/>
              <a:ahLst/>
              <a:rect l="l" t="t" r="r" b="b"/>
              <a:pathLst>
                <a:path w="2672" h="1152">
                  <a:moveTo>
                    <a:pt x="1752" y="1152"/>
                  </a:moveTo>
                  <a:cubicBezTo>
                    <a:pt x="2040" y="1140"/>
                    <a:pt x="2328" y="1128"/>
                    <a:pt x="2424" y="1056"/>
                  </a:cubicBezTo>
                  <a:cubicBezTo>
                    <a:pt x="2520" y="984"/>
                    <a:pt x="2672" y="808"/>
                    <a:pt x="2328" y="720"/>
                  </a:cubicBezTo>
                  <a:cubicBezTo>
                    <a:pt x="1984" y="632"/>
                    <a:pt x="720" y="632"/>
                    <a:pt x="360" y="528"/>
                  </a:cubicBezTo>
                  <a:cubicBezTo>
                    <a:pt x="0" y="424"/>
                    <a:pt x="72" y="184"/>
                    <a:pt x="168" y="96"/>
                  </a:cubicBezTo>
                  <a:cubicBezTo>
                    <a:pt x="264" y="8"/>
                    <a:pt x="808" y="16"/>
                    <a:pt x="936" y="0"/>
                  </a:cubicBezTo>
                </a:path>
              </a:pathLst>
            </a:custGeom>
            <a:noFill/>
            <a:ln w="28440">
              <a:solidFill>
                <a:srgbClr val="1822cd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999360" y="1828800"/>
            <a:ext cx="7877880" cy="3124080"/>
            <a:chOff x="999360" y="1828800"/>
            <a:chExt cx="7877880" cy="3124080"/>
          </a:xfrm>
        </p:grpSpPr>
        <p:sp>
          <p:nvSpPr>
            <p:cNvPr id="190" name=""/>
            <p:cNvSpPr/>
            <p:nvPr/>
          </p:nvSpPr>
          <p:spPr>
            <a:xfrm>
              <a:off x="4406760" y="1828800"/>
              <a:ext cx="2121120" cy="2387520"/>
            </a:xfrm>
            <a:custGeom>
              <a:avLst/>
              <a:gdLst/>
              <a:ahLst/>
              <a:rect l="l" t="t" r="r" b="b"/>
              <a:pathLst>
                <a:path w="1336" h="1504">
                  <a:moveTo>
                    <a:pt x="344" y="1440"/>
                  </a:moveTo>
                  <a:cubicBezTo>
                    <a:pt x="840" y="1472"/>
                    <a:pt x="1336" y="1504"/>
                    <a:pt x="1304" y="1344"/>
                  </a:cubicBezTo>
                  <a:cubicBezTo>
                    <a:pt x="1272" y="1184"/>
                    <a:pt x="304" y="704"/>
                    <a:pt x="152" y="480"/>
                  </a:cubicBezTo>
                  <a:cubicBezTo>
                    <a:pt x="0" y="256"/>
                    <a:pt x="352" y="80"/>
                    <a:pt x="392" y="0"/>
                  </a:cubicBezTo>
                </a:path>
              </a:pathLst>
            </a:custGeom>
            <a:noFill/>
            <a:ln w="28440">
              <a:solidFill>
                <a:srgbClr val="ff3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848720" y="1981080"/>
              <a:ext cx="1028520" cy="2971800"/>
            </a:xfrm>
            <a:custGeom>
              <a:avLst/>
              <a:gdLst/>
              <a:ahLst/>
              <a:rect l="l" t="t" r="r" b="b"/>
              <a:pathLst>
                <a:path w="648" h="1872">
                  <a:moveTo>
                    <a:pt x="0" y="0"/>
                  </a:moveTo>
                  <a:cubicBezTo>
                    <a:pt x="216" y="136"/>
                    <a:pt x="432" y="272"/>
                    <a:pt x="528" y="480"/>
                  </a:cubicBezTo>
                  <a:cubicBezTo>
                    <a:pt x="624" y="688"/>
                    <a:pt x="648" y="1016"/>
                    <a:pt x="576" y="1248"/>
                  </a:cubicBezTo>
                  <a:cubicBezTo>
                    <a:pt x="504" y="1480"/>
                    <a:pt x="176" y="1768"/>
                    <a:pt x="96" y="1872"/>
                  </a:cubicBezTo>
                </a:path>
              </a:pathLst>
            </a:custGeom>
            <a:noFill/>
            <a:ln w="28440">
              <a:solidFill>
                <a:srgbClr val="ff3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999360" y="3276720"/>
              <a:ext cx="941040" cy="337320"/>
            </a:xfrm>
            <a:prstGeom prst="rect">
              <a:avLst/>
            </a:pr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3300"/>
                  </a:solidFill>
                  <a:latin typeface="Times New Roman"/>
                </a:rPr>
                <a:t>Jean star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981080" y="3479760"/>
              <a:ext cx="30492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438480" y="1177920"/>
            <a:ext cx="248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"/>
              </a:rPr>
              <a:t>[See page vi of the book]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Course outline</a:t>
            </a:r>
            <a:endParaRPr b="0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85680" y="3554280"/>
            <a:ext cx="4716720" cy="3227400"/>
            <a:chOff x="85680" y="3554280"/>
            <a:chExt cx="4716720" cy="3227400"/>
          </a:xfrm>
        </p:grpSpPr>
        <p:grpSp>
          <p:nvGrpSpPr>
            <p:cNvPr id="197" name=""/>
            <p:cNvGrpSpPr/>
            <p:nvPr/>
          </p:nvGrpSpPr>
          <p:grpSpPr>
            <a:xfrm>
              <a:off x="85680" y="3554280"/>
              <a:ext cx="2066040" cy="837360"/>
              <a:chOff x="85680" y="3554280"/>
              <a:chExt cx="2066040" cy="837360"/>
            </a:xfrm>
          </p:grpSpPr>
          <p:sp>
            <p:nvSpPr>
              <p:cNvPr id="198" name=""/>
              <p:cNvSpPr/>
              <p:nvPr/>
            </p:nvSpPr>
            <p:spPr>
              <a:xfrm>
                <a:off x="85680" y="3717000"/>
                <a:ext cx="1974240" cy="662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5680" y="3717000"/>
                <a:ext cx="1986840" cy="67464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186840" y="376092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217080" y="376092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245160" y="376092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377640" y="3760920"/>
                <a:ext cx="12718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haracterization of D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186840" y="390492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217080" y="390492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245160" y="390492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378000" y="3904920"/>
                <a:ext cx="8647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System Model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186840" y="404820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217080" y="404820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245160" y="404820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374040" y="4048200"/>
                <a:ext cx="17776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etworking and Internetworking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188280" y="419040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217080" y="419040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245160" y="419040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377280" y="4190400"/>
                <a:ext cx="1609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Interprocess Communicatio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91440" y="3554280"/>
                <a:ext cx="7704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100" spc="-1" strike="noStrike">
                    <a:solidFill>
                      <a:srgbClr val="000000"/>
                    </a:solidFill>
                    <a:latin typeface="Arial"/>
                  </a:rPr>
                  <a:t>Foundation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7" name=""/>
            <p:cNvGrpSpPr/>
            <p:nvPr/>
          </p:nvGrpSpPr>
          <p:grpSpPr>
            <a:xfrm>
              <a:off x="2098440" y="3554280"/>
              <a:ext cx="2363400" cy="551880"/>
              <a:chOff x="2098440" y="3554280"/>
              <a:chExt cx="2363400" cy="551880"/>
            </a:xfrm>
          </p:grpSpPr>
          <p:sp>
            <p:nvSpPr>
              <p:cNvPr id="218" name=""/>
              <p:cNvSpPr/>
              <p:nvPr/>
            </p:nvSpPr>
            <p:spPr>
              <a:xfrm>
                <a:off x="2461680" y="3717000"/>
                <a:ext cx="1986480" cy="375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2461680" y="3717000"/>
                <a:ext cx="2000160" cy="38916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2557440" y="3749400"/>
                <a:ext cx="1407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2746800" y="3749400"/>
                <a:ext cx="1319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Time and Global State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2557440" y="3892320"/>
                <a:ext cx="1407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11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2746440" y="3892320"/>
                <a:ext cx="1613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oordination and Agreement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2469240" y="3554280"/>
                <a:ext cx="12214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00"/>
                    </a:solidFill>
                    <a:latin typeface="Arial"/>
                  </a:rPr>
                  <a:t>Distributed algorithm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2305800" y="3911400"/>
                <a:ext cx="90720" cy="39240"/>
              </a:xfrm>
              <a:custGeom>
                <a:avLst/>
                <a:gdLst/>
                <a:ahLst/>
                <a:rect l="l" t="t" r="r" b="b"/>
                <a:pathLst>
                  <a:path w="87" h="38">
                    <a:moveTo>
                      <a:pt x="0" y="13"/>
                    </a:moveTo>
                    <a:lnTo>
                      <a:pt x="0" y="0"/>
                    </a:lnTo>
                    <a:lnTo>
                      <a:pt x="87" y="13"/>
                    </a:lnTo>
                    <a:lnTo>
                      <a:pt x="0" y="38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2098440" y="3924720"/>
                <a:ext cx="207360" cy="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7" name=""/>
            <p:cNvGrpSpPr/>
            <p:nvPr/>
          </p:nvGrpSpPr>
          <p:grpSpPr>
            <a:xfrm>
              <a:off x="85680" y="5522760"/>
              <a:ext cx="2062800" cy="1258920"/>
              <a:chOff x="85680" y="5522760"/>
              <a:chExt cx="2062800" cy="1258920"/>
            </a:xfrm>
          </p:grpSpPr>
          <p:sp>
            <p:nvSpPr>
              <p:cNvPr id="228" name=""/>
              <p:cNvSpPr/>
              <p:nvPr/>
            </p:nvSpPr>
            <p:spPr>
              <a:xfrm>
                <a:off x="85680" y="5951160"/>
                <a:ext cx="2000160" cy="81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85680" y="5951160"/>
                <a:ext cx="2012760" cy="83052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186840" y="601056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218520" y="601056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247320" y="601056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376200" y="6010560"/>
                <a:ext cx="14896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Operating System Support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186840" y="615168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218520" y="615168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247320" y="615168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378360" y="6151680"/>
                <a:ext cx="13633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istributed File System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186480" y="6294600"/>
                <a:ext cx="1407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15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379800" y="6294600"/>
                <a:ext cx="17686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istributed Multimedia System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186480" y="6436800"/>
                <a:ext cx="1407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16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378360" y="6436800"/>
                <a:ext cx="1538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istributed Shared Memory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186480" y="6582240"/>
                <a:ext cx="1407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18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376920" y="6582240"/>
                <a:ext cx="9990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ach Case Study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95760" y="5788080"/>
                <a:ext cx="1232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00"/>
                    </a:solidFill>
                    <a:latin typeface="Arial"/>
                  </a:rPr>
                  <a:t>System infrastructure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605520" y="5639400"/>
                <a:ext cx="77400" cy="51120"/>
              </a:xfrm>
              <a:custGeom>
                <a:avLst/>
                <a:gdLst/>
                <a:ahLst/>
                <a:rect l="l" t="t" r="r" b="b"/>
                <a:pathLst>
                  <a:path w="74" h="49">
                    <a:moveTo>
                      <a:pt x="74" y="24"/>
                    </a:moveTo>
                    <a:lnTo>
                      <a:pt x="74" y="49"/>
                    </a:lnTo>
                    <a:lnTo>
                      <a:pt x="0" y="49"/>
                    </a:lnTo>
                    <a:lnTo>
                      <a:pt x="62" y="0"/>
                    </a:lnTo>
                    <a:lnTo>
                      <a:pt x="74" y="24"/>
                    </a:lnTo>
                    <a:close/>
                  </a:path>
                </a:pathLst>
              </a:custGeom>
              <a:solidFill>
                <a:srgbClr val="000000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flipH="1">
                <a:off x="683280" y="5522760"/>
                <a:ext cx="506160" cy="141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7" name=""/>
            <p:cNvGrpSpPr/>
            <p:nvPr/>
          </p:nvGrpSpPr>
          <p:grpSpPr>
            <a:xfrm>
              <a:off x="722520" y="4405680"/>
              <a:ext cx="2689560" cy="1064160"/>
              <a:chOff x="722520" y="4405680"/>
              <a:chExt cx="2689560" cy="1064160"/>
            </a:xfrm>
          </p:grpSpPr>
          <p:sp>
            <p:nvSpPr>
              <p:cNvPr id="248" name=""/>
              <p:cNvSpPr/>
              <p:nvPr/>
            </p:nvSpPr>
            <p:spPr>
              <a:xfrm>
                <a:off x="730440" y="4633200"/>
                <a:ext cx="6454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00"/>
                    </a:solidFill>
                    <a:latin typeface="Arial"/>
                  </a:rPr>
                  <a:t>Middlewar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722520" y="4807440"/>
                <a:ext cx="2531520" cy="649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722520" y="4807440"/>
                <a:ext cx="2544120" cy="66240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822960" y="482760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851760" y="482760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882000" y="482760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1009440" y="4827600"/>
                <a:ext cx="2402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istributed Objects and Remote Invocatio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822960" y="496980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851760" y="496980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882000" y="496980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1010520" y="4969800"/>
                <a:ext cx="457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Security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822960" y="511272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851760" y="511272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882000" y="511272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1010520" y="5112720"/>
                <a:ext cx="858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ame Service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822600" y="5256000"/>
                <a:ext cx="1407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17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1010160" y="5256000"/>
                <a:ext cx="1139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ORBA Case Study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1059480" y="4522320"/>
                <a:ext cx="51120" cy="77400"/>
              </a:xfrm>
              <a:custGeom>
                <a:avLst/>
                <a:gdLst/>
                <a:ahLst/>
                <a:rect l="l" t="t" r="r" b="b"/>
                <a:pathLst>
                  <a:path w="49" h="74">
                    <a:moveTo>
                      <a:pt x="25" y="0"/>
                    </a:moveTo>
                    <a:lnTo>
                      <a:pt x="49" y="0"/>
                    </a:lnTo>
                    <a:lnTo>
                      <a:pt x="25" y="74"/>
                    </a:lnTo>
                    <a:lnTo>
                      <a:pt x="0" y="0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000000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1085760" y="4405680"/>
                <a:ext cx="720" cy="1029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7" name=""/>
            <p:cNvGrpSpPr/>
            <p:nvPr/>
          </p:nvGrpSpPr>
          <p:grpSpPr>
            <a:xfrm>
              <a:off x="2138040" y="4145400"/>
              <a:ext cx="2664360" cy="2298600"/>
              <a:chOff x="2138040" y="4145400"/>
              <a:chExt cx="2664360" cy="2298600"/>
            </a:xfrm>
          </p:grpSpPr>
          <p:sp>
            <p:nvSpPr>
              <p:cNvPr id="268" name=""/>
              <p:cNvSpPr/>
              <p:nvPr/>
            </p:nvSpPr>
            <p:spPr>
              <a:xfrm>
                <a:off x="2319840" y="5886000"/>
                <a:ext cx="2116080" cy="545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2319840" y="5886000"/>
                <a:ext cx="2128680" cy="55800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2447280" y="5931000"/>
                <a:ext cx="1407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12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2634480" y="5931000"/>
                <a:ext cx="2167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Transactions and Concurrency Control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2446920" y="6072840"/>
                <a:ext cx="1407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13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2635920" y="6072840"/>
                <a:ext cx="13647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istributed Transaction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2446920" y="6216120"/>
                <a:ext cx="1407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14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2637000" y="6216120"/>
                <a:ext cx="6238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Replicatio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2320920" y="5722920"/>
                <a:ext cx="6879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00"/>
                    </a:solidFill>
                    <a:latin typeface="Arial"/>
                  </a:rPr>
                  <a:t>Shared data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2358360" y="5613120"/>
                <a:ext cx="90720" cy="51120"/>
              </a:xfrm>
              <a:custGeom>
                <a:avLst/>
                <a:gdLst/>
                <a:ahLst/>
                <a:rect l="l" t="t" r="r" b="b"/>
                <a:pathLst>
                  <a:path w="87" h="49">
                    <a:moveTo>
                      <a:pt x="12" y="12"/>
                    </a:moveTo>
                    <a:lnTo>
                      <a:pt x="25" y="0"/>
                    </a:lnTo>
                    <a:lnTo>
                      <a:pt x="87" y="49"/>
                    </a:lnTo>
                    <a:lnTo>
                      <a:pt x="0" y="37"/>
                    </a:lnTo>
                    <a:lnTo>
                      <a:pt x="12" y="12"/>
                    </a:lnTo>
                    <a:close/>
                  </a:path>
                </a:pathLst>
              </a:custGeom>
              <a:solidFill>
                <a:srgbClr val="000000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2138040" y="5522400"/>
                <a:ext cx="232920" cy="1029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3565800" y="5690520"/>
                <a:ext cx="38520" cy="78120"/>
              </a:xfrm>
              <a:custGeom>
                <a:avLst/>
                <a:gdLst/>
                <a:ahLst/>
                <a:rect l="l" t="t" r="r" b="b"/>
                <a:pathLst>
                  <a:path w="37" h="75">
                    <a:moveTo>
                      <a:pt x="25" y="0"/>
                    </a:moveTo>
                    <a:lnTo>
                      <a:pt x="37" y="0"/>
                    </a:lnTo>
                    <a:lnTo>
                      <a:pt x="25" y="75"/>
                    </a:lnTo>
                    <a:lnTo>
                      <a:pt x="0" y="0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000000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3578400" y="4145400"/>
                <a:ext cx="13680" cy="1532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81" name=""/>
          <p:cNvSpPr/>
          <p:nvPr/>
        </p:nvSpPr>
        <p:spPr>
          <a:xfrm>
            <a:off x="762120" y="1224000"/>
            <a:ext cx="3147840" cy="18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2567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663300"/>
                </a:solidFill>
                <a:uFillTx/>
                <a:latin typeface="Arial"/>
              </a:rPr>
              <a:t>Geo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2567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3300"/>
                </a:solidFill>
                <a:latin typeface="Arial"/>
              </a:rPr>
              <a:t>File Systems - Ch 8</a:t>
            </a:r>
            <a:r>
              <a:rPr b="0" lang="en-US" sz="16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663300"/>
                </a:solidFill>
                <a:latin typeface="Arial"/>
              </a:rPr>
              <a:t>[2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2567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3300"/>
                </a:solidFill>
                <a:latin typeface="Arial"/>
              </a:rPr>
              <a:t>Security - Ch 7</a:t>
            </a:r>
            <a:r>
              <a:rPr b="0" lang="en-US" sz="16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663300"/>
                </a:solidFill>
                <a:latin typeface="Arial"/>
              </a:rPr>
              <a:t>[3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2567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3300"/>
                </a:solidFill>
                <a:latin typeface="Arial"/>
              </a:rPr>
              <a:t>Operating Systems - Ch 6</a:t>
            </a:r>
            <a:r>
              <a:rPr b="0" lang="en-US" sz="16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663300"/>
                </a:solidFill>
                <a:latin typeface="Arial"/>
              </a:rPr>
              <a:t>[1.5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2567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3300"/>
                </a:solidFill>
                <a:latin typeface="Arial"/>
              </a:rPr>
              <a:t>Name Services - Ch 9</a:t>
            </a:r>
            <a:r>
              <a:rPr b="0" lang="en-US" sz="16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663300"/>
                </a:solidFill>
                <a:latin typeface="Arial"/>
              </a:rPr>
              <a:t>[1.5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2567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3300"/>
                </a:solidFill>
                <a:latin typeface="Arial"/>
              </a:rPr>
              <a:t>Multimedia - Ch 15</a:t>
            </a:r>
            <a:r>
              <a:rPr b="0" lang="en-US" sz="16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663300"/>
                </a:solidFill>
                <a:latin typeface="Arial"/>
              </a:rPr>
              <a:t>[2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648320" y="1203480"/>
            <a:ext cx="4343400" cy="26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651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663300"/>
                </a:solidFill>
                <a:uFillTx/>
                <a:latin typeface="Arial"/>
              </a:rPr>
              <a:t>Je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3651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3300"/>
                </a:solidFill>
                <a:latin typeface="Arial"/>
              </a:rPr>
              <a:t>Revision - Ch 5</a:t>
            </a:r>
            <a:r>
              <a:rPr b="0" lang="en-US" sz="16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663300"/>
                </a:solidFill>
                <a:latin typeface="Arial"/>
              </a:rPr>
              <a:t>[.5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3651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3300"/>
                </a:solidFill>
                <a:latin typeface="Arial"/>
              </a:rPr>
              <a:t>Corba - Ch 17</a:t>
            </a:r>
            <a:r>
              <a:rPr b="0" lang="en-US" sz="16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663300"/>
                </a:solidFill>
                <a:latin typeface="Arial"/>
              </a:rPr>
              <a:t>[1.5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3651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3300"/>
                </a:solidFill>
                <a:latin typeface="Arial"/>
              </a:rPr>
              <a:t>Time - Ch 10</a:t>
            </a:r>
            <a:r>
              <a:rPr b="0" lang="en-US" sz="16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663300"/>
                </a:solidFill>
                <a:latin typeface="Arial"/>
              </a:rPr>
              <a:t>[1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3651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3300"/>
                </a:solidFill>
                <a:latin typeface="Arial"/>
              </a:rPr>
              <a:t>Multicast - Ch 11</a:t>
            </a:r>
            <a:r>
              <a:rPr b="0" lang="en-US" sz="16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663300"/>
                </a:solidFill>
                <a:latin typeface="Arial"/>
              </a:rPr>
              <a:t>[1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3651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3300"/>
                </a:solidFill>
                <a:latin typeface="Arial"/>
              </a:rPr>
              <a:t>Transactions &amp; concurrency control - Ch 12</a:t>
            </a:r>
            <a:r>
              <a:rPr b="0" lang="en-US" sz="16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663300"/>
                </a:solidFill>
                <a:latin typeface="Arial"/>
              </a:rPr>
              <a:t>[2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3651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3300"/>
                </a:solidFill>
                <a:latin typeface="Arial"/>
              </a:rPr>
              <a:t>Distributed Transactions - Ch 13</a:t>
            </a:r>
            <a:r>
              <a:rPr b="0" lang="en-US" sz="16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663300"/>
                </a:solidFill>
                <a:latin typeface="Arial"/>
              </a:rPr>
              <a:t>[2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3651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3300"/>
                </a:solidFill>
                <a:latin typeface="Arial"/>
              </a:rPr>
              <a:t>Replication - Ch 14</a:t>
            </a:r>
            <a:r>
              <a:rPr b="0" lang="en-US" sz="16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663300"/>
                </a:solidFill>
                <a:latin typeface="Arial"/>
              </a:rPr>
              <a:t>[2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8837640" y="6396120"/>
            <a:ext cx="30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00"/>
                </a:solidFill>
                <a:latin typeface="Arial"/>
              </a:rPr>
              <a:t>Jean's lectures</a:t>
            </a:r>
            <a:endParaRPr b="0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990360" y="1523880"/>
            <a:ext cx="77626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872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376280"/>
                <a:tab algn="l" pos="52513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663300"/>
                </a:solidFill>
                <a:latin typeface="Arial"/>
              </a:rPr>
              <a:t>Lecture</a:t>
            </a:r>
            <a:r>
              <a:rPr b="0" i="1" lang="en-GB" sz="14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i="1" lang="en-GB" sz="14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i="1" lang="en-GB" sz="1400" spc="-1" strike="noStrike">
                <a:solidFill>
                  <a:srgbClr val="663300"/>
                </a:solidFill>
                <a:latin typeface="Arial"/>
              </a:rPr>
              <a:t>Topic</a:t>
            </a:r>
            <a:r>
              <a:rPr b="0" i="1" lang="en-GB" sz="14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i="1" lang="en-GB" sz="1400" spc="-1" strike="noStrike">
                <a:solidFill>
                  <a:srgbClr val="663300"/>
                </a:solidFill>
                <a:latin typeface="Arial"/>
              </a:rPr>
              <a:t>Book sections</a:t>
            </a:r>
            <a:endParaRPr b="0" lang="en-US" sz="1400" spc="-1" strike="noStrike">
              <a:solidFill>
                <a:srgbClr val="663300"/>
              </a:solidFill>
              <a:latin typeface="Arial"/>
            </a:endParaRPr>
          </a:p>
          <a:p>
            <a:pPr marL="68724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1376280"/>
                <a:tab algn="l" pos="52513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663300"/>
                </a:solidFill>
                <a:latin typeface="Arial"/>
              </a:rPr>
              <a:t>(1.25 hrs each)</a:t>
            </a:r>
            <a:endParaRPr b="0" lang="en-US" sz="1400" spc="-1" strike="noStrike">
              <a:solidFill>
                <a:srgbClr val="663300"/>
              </a:solidFill>
              <a:latin typeface="Arial"/>
            </a:endParaRPr>
          </a:p>
          <a:p>
            <a:pPr marL="687240" indent="-687240">
              <a:lnSpc>
                <a:spcPct val="90000"/>
              </a:lnSpc>
              <a:spcBef>
                <a:spcPts val="451"/>
              </a:spcBef>
              <a:buClr>
                <a:srgbClr val="ff3300"/>
              </a:buClr>
              <a:buFont typeface="Arial"/>
              <a:buAutoNum type="arabicPeriod"/>
              <a:tabLst>
                <a:tab algn="l" pos="1376280"/>
                <a:tab algn="l" pos="52513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Revision  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from chaps. 5 and 4 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marL="687240" indent="-687240">
              <a:lnSpc>
                <a:spcPct val="90000"/>
              </a:lnSpc>
              <a:spcBef>
                <a:spcPts val="451"/>
              </a:spcBef>
              <a:buClr>
                <a:srgbClr val="ff3300"/>
              </a:buClr>
              <a:buFont typeface="Arial"/>
              <a:buAutoNum type="arabicPeriod"/>
              <a:tabLst>
                <a:tab algn="l" pos="1376280"/>
                <a:tab algn="l" pos="52513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Corba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sections 17.1 and 17.2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marL="687240" indent="-687240">
              <a:lnSpc>
                <a:spcPct val="90000"/>
              </a:lnSpc>
              <a:spcBef>
                <a:spcPts val="451"/>
              </a:spcBef>
              <a:buClr>
                <a:srgbClr val="ff3300"/>
              </a:buClr>
              <a:buFont typeface="Arial"/>
              <a:buAutoNum type="arabicPeriod"/>
              <a:tabLst>
                <a:tab algn="l" pos="1376280"/>
                <a:tab algn="l" pos="52513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Time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sections 10.1-4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marL="687240" indent="-687240">
              <a:lnSpc>
                <a:spcPct val="90000"/>
              </a:lnSpc>
              <a:spcBef>
                <a:spcPts val="451"/>
              </a:spcBef>
              <a:buClr>
                <a:srgbClr val="ff3300"/>
              </a:buClr>
              <a:buFont typeface="Arial"/>
              <a:buAutoNum type="arabicPeriod"/>
              <a:tabLst>
                <a:tab algn="l" pos="1376280"/>
                <a:tab algn="l" pos="52513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Multicast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section 11.4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marL="687240" indent="-687240">
              <a:lnSpc>
                <a:spcPct val="90000"/>
              </a:lnSpc>
              <a:spcBef>
                <a:spcPts val="451"/>
              </a:spcBef>
              <a:buClr>
                <a:srgbClr val="ff3300"/>
              </a:buClr>
              <a:buFont typeface="Arial"/>
              <a:buAutoNum type="arabicPeriod"/>
              <a:tabLst>
                <a:tab algn="l" pos="1376280"/>
                <a:tab algn="l" pos="52513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Transactions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sections 12.1-3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marL="687240" indent="-687240">
              <a:lnSpc>
                <a:spcPct val="90000"/>
              </a:lnSpc>
              <a:spcBef>
                <a:spcPts val="451"/>
              </a:spcBef>
              <a:buClr>
                <a:srgbClr val="ff3300"/>
              </a:buClr>
              <a:buFont typeface="Arial"/>
              <a:buAutoNum type="arabicPeriod"/>
              <a:tabLst>
                <a:tab algn="l" pos="1376280"/>
                <a:tab algn="l" pos="52513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Concurrency control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sections 12.5-7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marL="687240" indent="-687240">
              <a:lnSpc>
                <a:spcPct val="90000"/>
              </a:lnSpc>
              <a:spcBef>
                <a:spcPts val="451"/>
              </a:spcBef>
              <a:buClr>
                <a:srgbClr val="ff3300"/>
              </a:buClr>
              <a:buFont typeface="Arial"/>
              <a:buAutoNum type="arabicPeriod"/>
              <a:tabLst>
                <a:tab algn="l" pos="1376280"/>
                <a:tab algn="l" pos="52513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Distributed transactions: commit protocols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sections 13.1-3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marL="687240" indent="-687240">
              <a:lnSpc>
                <a:spcPct val="90000"/>
              </a:lnSpc>
              <a:spcBef>
                <a:spcPts val="451"/>
              </a:spcBef>
              <a:buClr>
                <a:srgbClr val="ff3300"/>
              </a:buClr>
              <a:buFont typeface="Arial"/>
              <a:buAutoNum type="arabicPeriod"/>
              <a:tabLst>
                <a:tab algn="l" pos="1376280"/>
                <a:tab algn="l" pos="52513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transaction recovery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section 13.6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marL="687240" indent="-687240">
              <a:lnSpc>
                <a:spcPct val="90000"/>
              </a:lnSpc>
              <a:spcBef>
                <a:spcPts val="451"/>
              </a:spcBef>
              <a:buClr>
                <a:srgbClr val="ff3300"/>
              </a:buClr>
              <a:buFont typeface="Arial"/>
              <a:buAutoNum type="arabicPeriod"/>
              <a:tabLst>
                <a:tab algn="l" pos="1376280"/>
                <a:tab algn="l" pos="52513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Replication model and fault-tolerant services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sections 14.1-3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marL="687240" indent="-687240">
              <a:lnSpc>
                <a:spcPct val="90000"/>
              </a:lnSpc>
              <a:spcBef>
                <a:spcPts val="451"/>
              </a:spcBef>
              <a:buClr>
                <a:srgbClr val="ff3300"/>
              </a:buClr>
              <a:buFont typeface="Arial"/>
              <a:buAutoNum type="arabicPeriod"/>
              <a:tabLst>
                <a:tab algn="l" pos="1376280"/>
                <a:tab algn="l" pos="52513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Gossip architecture, transactions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sections 14.4-5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marL="6872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376280"/>
                <a:tab algn="l" pos="52513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00"/>
                </a:solidFill>
                <a:latin typeface="Arial"/>
              </a:rPr>
              <a:t>George's lectures</a:t>
            </a:r>
            <a:endParaRPr b="0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990360" y="1523880"/>
            <a:ext cx="77626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6595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49480"/>
                <a:tab algn="l" pos="52513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663300"/>
                </a:solidFill>
                <a:latin typeface="Arial"/>
              </a:rPr>
              <a:t>Lecture</a:t>
            </a:r>
            <a:r>
              <a:rPr b="0" i="1" lang="en-GB" sz="12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i="1" lang="en-GB" sz="12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i="1" lang="en-GB" sz="1200" spc="-1" strike="noStrike">
                <a:solidFill>
                  <a:srgbClr val="663300"/>
                </a:solidFill>
                <a:latin typeface="Arial"/>
              </a:rPr>
              <a:t>Topic</a:t>
            </a:r>
            <a:r>
              <a:rPr b="0" i="1" lang="en-GB" sz="12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i="1" lang="en-GB" sz="1200" spc="-1" strike="noStrike">
                <a:solidFill>
                  <a:srgbClr val="663300"/>
                </a:solidFill>
                <a:latin typeface="Arial"/>
              </a:rPr>
              <a:t>Book sections</a:t>
            </a:r>
            <a:endParaRPr b="0" lang="en-US" sz="1200" spc="-1" strike="noStrike">
              <a:solidFill>
                <a:srgbClr val="663300"/>
              </a:solidFill>
              <a:latin typeface="Arial"/>
            </a:endParaRPr>
          </a:p>
          <a:p>
            <a:pPr marL="65952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1149480"/>
                <a:tab algn="l" pos="52513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663300"/>
                </a:solidFill>
                <a:latin typeface="Arial"/>
              </a:rPr>
              <a:t>(1.25 hrs each)</a:t>
            </a:r>
            <a:endParaRPr b="0" lang="en-US" sz="1200" spc="-1" strike="noStrike">
              <a:solidFill>
                <a:srgbClr val="663300"/>
              </a:solidFill>
              <a:latin typeface="Arial"/>
            </a:endParaRPr>
          </a:p>
          <a:p>
            <a:pPr marL="659520" indent="-659520">
              <a:lnSpc>
                <a:spcPct val="90000"/>
              </a:lnSpc>
              <a:spcBef>
                <a:spcPts val="400"/>
              </a:spcBef>
              <a:buClr>
                <a:srgbClr val="ff3300"/>
              </a:buClr>
              <a:buFont typeface="Arial"/>
              <a:buAutoNum type="arabicPeriod"/>
              <a:tabLst>
                <a:tab algn="l" pos="1149480"/>
                <a:tab algn="l" pos="52513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663300"/>
                </a:solidFill>
                <a:latin typeface="Arial"/>
              </a:rPr>
              <a:t>Fault tolerance model, dist. file system</a:t>
            </a:r>
            <a:r>
              <a:rPr b="0" lang="en-GB" sz="16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663300"/>
                </a:solidFill>
                <a:latin typeface="Arial"/>
              </a:rPr>
              <a:t>2.3.2, 8.1 - 8.2</a:t>
            </a:r>
            <a:br>
              <a:rPr sz="1600"/>
            </a:br>
            <a:r>
              <a:rPr b="0" lang="en-GB" sz="16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663300"/>
                </a:solidFill>
                <a:latin typeface="Arial"/>
              </a:rPr>
              <a:t>model, NFS basics</a:t>
            </a:r>
            <a:endParaRPr b="0" lang="en-US" sz="1600" spc="-1" strike="noStrike">
              <a:solidFill>
                <a:srgbClr val="663300"/>
              </a:solidFill>
              <a:latin typeface="Arial"/>
            </a:endParaRPr>
          </a:p>
          <a:p>
            <a:pPr marL="659520" indent="-659520">
              <a:lnSpc>
                <a:spcPct val="90000"/>
              </a:lnSpc>
              <a:spcBef>
                <a:spcPts val="400"/>
              </a:spcBef>
              <a:buClr>
                <a:srgbClr val="ff3300"/>
              </a:buClr>
              <a:buFont typeface="Arial"/>
              <a:buAutoNum type="arabicPeriod"/>
              <a:tabLst>
                <a:tab algn="l" pos="1149480"/>
                <a:tab algn="l" pos="52513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663300"/>
                </a:solidFill>
                <a:latin typeface="Arial"/>
              </a:rPr>
              <a:t>NFS, recent advances in dist. file systems</a:t>
            </a:r>
            <a:r>
              <a:rPr b="0" lang="en-GB" sz="16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663300"/>
                </a:solidFill>
                <a:latin typeface="Arial"/>
              </a:rPr>
              <a:t>8.3, 8.5, 8.6</a:t>
            </a:r>
            <a:endParaRPr b="0" lang="en-US" sz="1600" spc="-1" strike="noStrike">
              <a:solidFill>
                <a:srgbClr val="663300"/>
              </a:solidFill>
              <a:latin typeface="Arial"/>
            </a:endParaRPr>
          </a:p>
          <a:p>
            <a:pPr marL="659520" indent="-659520">
              <a:lnSpc>
                <a:spcPct val="90000"/>
              </a:lnSpc>
              <a:spcBef>
                <a:spcPts val="400"/>
              </a:spcBef>
              <a:buClr>
                <a:srgbClr val="ff3300"/>
              </a:buClr>
              <a:buFont typeface="Arial"/>
              <a:buAutoNum type="arabicPeriod"/>
              <a:tabLst>
                <a:tab algn="l" pos="1149480"/>
                <a:tab algn="l" pos="52513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663300"/>
                </a:solidFill>
                <a:latin typeface="Arial"/>
              </a:rPr>
              <a:t>Security model, security concepts, basic</a:t>
            </a:r>
            <a:r>
              <a:rPr b="0" lang="en-GB" sz="16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663300"/>
                </a:solidFill>
                <a:latin typeface="Arial"/>
              </a:rPr>
              <a:t>2.3.3, 7.1, 7.2</a:t>
            </a:r>
            <a:br>
              <a:rPr sz="1600"/>
            </a:br>
            <a:r>
              <a:rPr b="0" lang="en-GB" sz="16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663300"/>
                </a:solidFill>
                <a:latin typeface="Arial"/>
              </a:rPr>
              <a:t>security protocols</a:t>
            </a:r>
            <a:endParaRPr b="0" lang="en-US" sz="1600" spc="-1" strike="noStrike">
              <a:solidFill>
                <a:srgbClr val="663300"/>
              </a:solidFill>
              <a:latin typeface="Arial"/>
            </a:endParaRPr>
          </a:p>
          <a:p>
            <a:pPr marL="659520" indent="-659520">
              <a:lnSpc>
                <a:spcPct val="90000"/>
              </a:lnSpc>
              <a:spcBef>
                <a:spcPts val="400"/>
              </a:spcBef>
              <a:buClr>
                <a:srgbClr val="ff3300"/>
              </a:buClr>
              <a:buFont typeface="Arial"/>
              <a:buAutoNum type="arabicPeriod"/>
              <a:tabLst>
                <a:tab algn="l" pos="1149480"/>
                <a:tab algn="l" pos="52513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663300"/>
                </a:solidFill>
                <a:latin typeface="Arial"/>
              </a:rPr>
              <a:t>Cryptographic algorithms, digital signatures</a:t>
            </a:r>
            <a:r>
              <a:rPr b="0" lang="en-GB" sz="16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663300"/>
                </a:solidFill>
                <a:latin typeface="Arial"/>
              </a:rPr>
              <a:t>7.3, 7.4, 7.5</a:t>
            </a:r>
            <a:br>
              <a:rPr sz="1600"/>
            </a:br>
            <a:r>
              <a:rPr b="0" lang="en-GB" sz="16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663300"/>
                </a:solidFill>
                <a:latin typeface="Arial"/>
              </a:rPr>
              <a:t>performance and politics</a:t>
            </a:r>
            <a:endParaRPr b="0" lang="en-US" sz="1600" spc="-1" strike="noStrike">
              <a:solidFill>
                <a:srgbClr val="663300"/>
              </a:solidFill>
              <a:latin typeface="Arial"/>
            </a:endParaRPr>
          </a:p>
          <a:p>
            <a:pPr marL="659520" indent="-659520">
              <a:lnSpc>
                <a:spcPct val="90000"/>
              </a:lnSpc>
              <a:spcBef>
                <a:spcPts val="400"/>
              </a:spcBef>
              <a:buClr>
                <a:srgbClr val="ff3300"/>
              </a:buClr>
              <a:buFont typeface="Arial"/>
              <a:buAutoNum type="arabicPeriod"/>
              <a:tabLst>
                <a:tab algn="l" pos="1149480"/>
                <a:tab algn="l" pos="52513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663300"/>
                </a:solidFill>
                <a:latin typeface="Arial"/>
              </a:rPr>
              <a:t>Needham-Schroeder protocol, Kerberos,</a:t>
            </a:r>
            <a:r>
              <a:rPr b="0" lang="en-GB" sz="16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663300"/>
                </a:solidFill>
                <a:latin typeface="Arial"/>
              </a:rPr>
              <a:t>7.6</a:t>
            </a:r>
            <a:br>
              <a:rPr sz="1600"/>
            </a:br>
            <a:r>
              <a:rPr b="0" lang="en-GB" sz="16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663300"/>
                </a:solidFill>
                <a:latin typeface="Arial"/>
              </a:rPr>
              <a:t>SSL (TLS)</a:t>
            </a:r>
            <a:endParaRPr b="0" lang="en-US" sz="1600" spc="-1" strike="noStrike">
              <a:solidFill>
                <a:srgbClr val="663300"/>
              </a:solidFill>
              <a:latin typeface="Arial"/>
            </a:endParaRPr>
          </a:p>
          <a:p>
            <a:pPr marL="659520" indent="-659520">
              <a:lnSpc>
                <a:spcPct val="90000"/>
              </a:lnSpc>
              <a:spcBef>
                <a:spcPts val="400"/>
              </a:spcBef>
              <a:buClr>
                <a:srgbClr val="ff3300"/>
              </a:buClr>
              <a:buFont typeface="Arial"/>
              <a:buAutoNum type="arabicPeriod"/>
              <a:tabLst>
                <a:tab algn="l" pos="1149480"/>
                <a:tab algn="l" pos="52513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663300"/>
                </a:solidFill>
                <a:latin typeface="Arial"/>
              </a:rPr>
              <a:t>OS concepts, processes and threads,</a:t>
            </a:r>
            <a:r>
              <a:rPr b="0" lang="en-GB" sz="16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663300"/>
                </a:solidFill>
                <a:latin typeface="Arial"/>
              </a:rPr>
              <a:t>6.1, 6.2, 6.4</a:t>
            </a:r>
            <a:br>
              <a:rPr sz="1600"/>
            </a:br>
            <a:r>
              <a:rPr b="0" lang="en-GB" sz="16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663300"/>
                </a:solidFill>
                <a:latin typeface="Arial"/>
              </a:rPr>
              <a:t>thread programming </a:t>
            </a:r>
            <a:endParaRPr b="0" lang="en-US" sz="1600" spc="-1" strike="noStrike">
              <a:solidFill>
                <a:srgbClr val="663300"/>
              </a:solidFill>
              <a:latin typeface="Arial"/>
            </a:endParaRPr>
          </a:p>
          <a:p>
            <a:pPr marL="659520" indent="-659520">
              <a:lnSpc>
                <a:spcPct val="90000"/>
              </a:lnSpc>
              <a:spcBef>
                <a:spcPts val="400"/>
              </a:spcBef>
              <a:buClr>
                <a:srgbClr val="ff3300"/>
              </a:buClr>
              <a:buFont typeface="Arial"/>
              <a:buAutoNum type="arabicPeriod"/>
              <a:tabLst>
                <a:tab algn="l" pos="1149480"/>
                <a:tab algn="l" pos="52513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663300"/>
                </a:solidFill>
                <a:latin typeface="Arial"/>
              </a:rPr>
              <a:t>Communication and invocation mechanisms, </a:t>
            </a:r>
            <a:r>
              <a:rPr b="0" lang="en-GB" sz="16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663300"/>
                </a:solidFill>
                <a:latin typeface="Arial"/>
              </a:rPr>
              <a:t>6.5, 6.6, 9.1 </a:t>
            </a:r>
            <a:br>
              <a:rPr sz="1600"/>
            </a:br>
            <a:r>
              <a:rPr b="0" lang="en-GB" sz="16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663300"/>
                </a:solidFill>
                <a:latin typeface="Arial"/>
              </a:rPr>
              <a:t>OS architecture, name service concepts</a:t>
            </a:r>
            <a:endParaRPr b="0" lang="en-US" sz="1600" spc="-1" strike="noStrike">
              <a:solidFill>
                <a:srgbClr val="663300"/>
              </a:solidFill>
              <a:latin typeface="Arial"/>
            </a:endParaRPr>
          </a:p>
          <a:p>
            <a:pPr marL="659520" indent="-659520">
              <a:lnSpc>
                <a:spcPct val="90000"/>
              </a:lnSpc>
              <a:spcBef>
                <a:spcPts val="400"/>
              </a:spcBef>
              <a:buClr>
                <a:srgbClr val="ff3300"/>
              </a:buClr>
              <a:buFont typeface="Arial"/>
              <a:buAutoNum type="arabicPeriod"/>
              <a:tabLst>
                <a:tab algn="l" pos="1149480"/>
                <a:tab algn="l" pos="52513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663300"/>
                </a:solidFill>
                <a:latin typeface="Arial"/>
              </a:rPr>
              <a:t>Name services, DNS, directory and </a:t>
            </a:r>
            <a:r>
              <a:rPr b="0" lang="en-GB" sz="16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663300"/>
                </a:solidFill>
                <a:latin typeface="Arial"/>
              </a:rPr>
              <a:t>9.2, 9.3 </a:t>
            </a:r>
            <a:br>
              <a:rPr sz="1600"/>
            </a:br>
            <a:r>
              <a:rPr b="0" lang="en-GB" sz="1600" spc="-1" strike="noStrike">
                <a:solidFill>
                  <a:srgbClr val="663300"/>
                </a:solidFill>
                <a:latin typeface="Arial"/>
              </a:rPr>
              <a:t>discovery services</a:t>
            </a:r>
            <a:endParaRPr b="0" lang="en-US" sz="1600" spc="-1" strike="noStrike">
              <a:solidFill>
                <a:srgbClr val="663300"/>
              </a:solidFill>
              <a:latin typeface="Arial"/>
            </a:endParaRPr>
          </a:p>
          <a:p>
            <a:pPr marL="659520" indent="-659520">
              <a:lnSpc>
                <a:spcPct val="90000"/>
              </a:lnSpc>
              <a:spcBef>
                <a:spcPts val="400"/>
              </a:spcBef>
              <a:buClr>
                <a:srgbClr val="ff3300"/>
              </a:buClr>
              <a:buFont typeface="Arial"/>
              <a:buAutoNum type="arabicPeriod"/>
              <a:tabLst>
                <a:tab algn="l" pos="1149480"/>
                <a:tab algn="l" pos="52513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663300"/>
                </a:solidFill>
                <a:latin typeface="Arial"/>
              </a:rPr>
              <a:t>Distributed multimedia systems</a:t>
            </a:r>
            <a:r>
              <a:rPr b="0" lang="en-GB" sz="16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663300"/>
                </a:solidFill>
                <a:latin typeface="Arial"/>
              </a:rPr>
              <a:t>15.1, 15.2, 15.3, 15.4</a:t>
            </a:r>
            <a:endParaRPr b="0" lang="en-US" sz="1600" spc="-1" strike="noStrike">
              <a:solidFill>
                <a:srgbClr val="663300"/>
              </a:solidFill>
              <a:latin typeface="Arial"/>
            </a:endParaRPr>
          </a:p>
          <a:p>
            <a:pPr marL="659520" indent="-659520">
              <a:lnSpc>
                <a:spcPct val="90000"/>
              </a:lnSpc>
              <a:spcBef>
                <a:spcPts val="400"/>
              </a:spcBef>
              <a:buClr>
                <a:srgbClr val="ff3300"/>
              </a:buClr>
              <a:buFont typeface="Arial"/>
              <a:buAutoNum type="arabicPeriod"/>
              <a:tabLst>
                <a:tab algn="l" pos="1149480"/>
                <a:tab algn="l" pos="52513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663300"/>
                </a:solidFill>
                <a:latin typeface="Arial"/>
              </a:rPr>
              <a:t>Dist multimedia, Tiger video file server</a:t>
            </a:r>
            <a:r>
              <a:rPr b="0" lang="en-GB" sz="16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663300"/>
                </a:solidFill>
                <a:latin typeface="Arial"/>
              </a:rPr>
              <a:t>15.5, 15.6</a:t>
            </a:r>
            <a:endParaRPr b="0" lang="en-US" sz="16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28T11:16:16Z</dcterms:created>
  <dc:creator>George Coulouris</dc:creator>
  <dc:description/>
  <dc:language>en-US</dc:language>
  <cp:lastModifiedBy>George Coulouris</cp:lastModifiedBy>
  <cp:lastPrinted>2001-11-27T20:53:03Z</cp:lastPrinted>
  <dcterms:modified xsi:type="dcterms:W3CDTF">2001-12-30T17:33:18Z</dcterms:modified>
  <cp:revision>44</cp:revision>
  <dc:subject/>
  <dc:title>Distributed Systems Course</dc:title>
</cp:coreProperties>
</file>