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FD288-9A15-460A-89AF-CFF8FCCF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8D516-015A-48EF-817B-A5AB5923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092E7-1DA4-46E8-84CC-3990824F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89283-D61E-4CD6-8070-5CDAA3D4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2647-60D6-4408-A6EA-873B1D0EC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9CC7-C55C-44D2-A40D-8DD10C12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F9FF-4310-4002-96F9-A763E241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8B3E-EF07-4217-924E-A75E9CFC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0429-C529-4C7D-9B1A-D123B223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7331-2770-4EA1-AB5B-78020BE6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3FFE-E7CA-4657-9FFA-26D02590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4D9C0-6A2A-49EB-A173-721633A7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CCB4-2C00-4781-AE85-7243E72D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CE6C-B688-4E0C-8A56-453F67B6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2B8A-48A2-4948-BCD6-30F5AA2C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548E-F271-4691-A8A6-01FAA9DEC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7A8F-B4D1-4486-BE93-A98CE38A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FAA05-609A-45BA-8A9B-98C1C82B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4C376-1AAD-4F0B-B857-63D71B77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16495-E939-46BA-8B25-A9DFABE6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E6C2D-6A49-4952-B091-AC7B4A04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03CC7-1D69-47ED-A3FE-AFBEEC24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57DF0-E777-412F-B342-01F2DFBA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6FBBC-F2AA-4129-BF2C-A19DA618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82F5-BB15-4C70-8950-079F6E82ED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4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Pearson Education 200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2E89-BA1C-45DA-87A0-A8C0FBCB73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lides for Chapter 15: </a:t>
            </a:r>
            <a:br>
              <a:rPr sz="32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Replication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1320" y="2895480"/>
            <a:ext cx="69339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18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18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0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0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Edition 4, © Addison-Wesley 2005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95440" y="3095640"/>
            <a:ext cx="186984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5.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mmitted and tentative updates in Bayou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924480" y="1833480"/>
            <a:ext cx="7886160" cy="3402720"/>
            <a:chOff x="924480" y="1833480"/>
            <a:chExt cx="7886160" cy="3402720"/>
          </a:xfrm>
        </p:grpSpPr>
        <p:sp>
          <p:nvSpPr>
            <p:cNvPr id="642" name=""/>
            <p:cNvSpPr/>
            <p:nvPr/>
          </p:nvSpPr>
          <p:spPr>
            <a:xfrm>
              <a:off x="1263600" y="2670120"/>
              <a:ext cx="596880" cy="67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67000" y="2805120"/>
              <a:ext cx="25200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59040" y="2670120"/>
              <a:ext cx="635040" cy="67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046240" y="2805120"/>
              <a:ext cx="25200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492280" y="2670120"/>
              <a:ext cx="596880" cy="67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625840" y="2805120"/>
              <a:ext cx="25200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767040" y="2670120"/>
              <a:ext cx="598680" cy="67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953520" y="2805120"/>
              <a:ext cx="2811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i="1" lang="en-GB" sz="24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362480" y="2670120"/>
              <a:ext cx="636480" cy="67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594320" y="2805120"/>
              <a:ext cx="185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995720" y="2670120"/>
              <a:ext cx="635040" cy="67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178600" y="2805120"/>
              <a:ext cx="185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942240" y="2670120"/>
              <a:ext cx="635040" cy="67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209360" y="2805120"/>
              <a:ext cx="1256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i="1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29120" y="30067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79600" y="3006720"/>
              <a:ext cx="3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65360" y="3006720"/>
              <a:ext cx="38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652920" y="30067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269040" y="30067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418440" y="3006720"/>
              <a:ext cx="37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605640" y="3006720"/>
              <a:ext cx="38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92840" y="300672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288280" y="300672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437680" y="3006720"/>
              <a:ext cx="38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624880" y="300672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774280" y="3006720"/>
              <a:ext cx="363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091600" y="1833480"/>
              <a:ext cx="1474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mit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480280" y="1833480"/>
              <a:ext cx="125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nta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629320" y="2670120"/>
              <a:ext cx="598320" cy="67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761080" y="2805120"/>
              <a:ext cx="185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38440" y="2595600"/>
              <a:ext cx="2803320" cy="145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325760" y="3343320"/>
              <a:ext cx="223920" cy="223920"/>
            </a:xfrm>
            <a:custGeom>
              <a:avLst/>
              <a:gdLst/>
              <a:ahLst/>
              <a:rect l="l" t="t" r="r" b="b"/>
              <a:pathLst>
                <a:path w="141" h="141">
                  <a:moveTo>
                    <a:pt x="71" y="118"/>
                  </a:moveTo>
                  <a:lnTo>
                    <a:pt x="0" y="141"/>
                  </a:lnTo>
                  <a:lnTo>
                    <a:pt x="47" y="0"/>
                  </a:lnTo>
                  <a:lnTo>
                    <a:pt x="141" y="94"/>
                  </a:lnTo>
                  <a:lnTo>
                    <a:pt x="71" y="11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438800" y="3567240"/>
              <a:ext cx="1344600" cy="485640"/>
            </a:xfrm>
            <a:custGeom>
              <a:avLst/>
              <a:gdLst/>
              <a:ahLst/>
              <a:rect l="l" t="t" r="r" b="b"/>
              <a:pathLst>
                <a:path w="847" h="306">
                  <a:moveTo>
                    <a:pt x="847" y="306"/>
                  </a:moveTo>
                  <a:lnTo>
                    <a:pt x="306" y="236"/>
                  </a:lnTo>
                  <a:lnTo>
                    <a:pt x="117" y="118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260360" y="2146320"/>
              <a:ext cx="187560" cy="18720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118" y="71"/>
                  </a:moveTo>
                  <a:lnTo>
                    <a:pt x="118" y="118"/>
                  </a:lnTo>
                  <a:lnTo>
                    <a:pt x="0" y="71"/>
                  </a:lnTo>
                  <a:lnTo>
                    <a:pt x="118" y="0"/>
                  </a:lnTo>
                  <a:lnTo>
                    <a:pt x="118" y="7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176720" y="2146320"/>
              <a:ext cx="185760" cy="187200"/>
            </a:xfrm>
            <a:custGeom>
              <a:avLst/>
              <a:gdLst/>
              <a:ahLst/>
              <a:rect l="l" t="t" r="r" b="b"/>
              <a:pathLst>
                <a:path w="117" h="118">
                  <a:moveTo>
                    <a:pt x="0" y="71"/>
                  </a:moveTo>
                  <a:lnTo>
                    <a:pt x="0" y="0"/>
                  </a:lnTo>
                  <a:lnTo>
                    <a:pt x="117" y="71"/>
                  </a:lnTo>
                  <a:lnTo>
                    <a:pt x="0" y="118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447920" y="2259000"/>
              <a:ext cx="2690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38800" y="2146320"/>
              <a:ext cx="185760" cy="187200"/>
            </a:xfrm>
            <a:custGeom>
              <a:avLst/>
              <a:gdLst/>
              <a:ahLst/>
              <a:rect l="l" t="t" r="r" b="b"/>
              <a:pathLst>
                <a:path w="117" h="118">
                  <a:moveTo>
                    <a:pt x="117" y="71"/>
                  </a:moveTo>
                  <a:lnTo>
                    <a:pt x="117" y="118"/>
                  </a:lnTo>
                  <a:lnTo>
                    <a:pt x="0" y="71"/>
                  </a:lnTo>
                  <a:lnTo>
                    <a:pt x="117" y="0"/>
                  </a:lnTo>
                  <a:lnTo>
                    <a:pt x="117" y="7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624560" y="2259000"/>
              <a:ext cx="2803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466040" y="2259000"/>
              <a:ext cx="363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653240" y="2259000"/>
              <a:ext cx="3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839000" y="225900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988400" y="2259000"/>
              <a:ext cx="38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924480" y="4444920"/>
              <a:ext cx="75661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Tentative update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i="1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becomes the next committed updat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930600" y="4819680"/>
              <a:ext cx="67064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nd is inserted after the last committed update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i="1" lang="en-GB" sz="24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593120" y="2670120"/>
              <a:ext cx="598320" cy="67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36680" y="2805120"/>
              <a:ext cx="328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i="1" lang="en-GB" sz="2400" spc="-1" strike="noStrike" baseline="-25000">
                  <a:solidFill>
                    <a:srgbClr val="000000"/>
                  </a:solidFill>
                  <a:latin typeface="Arial"/>
                </a:rPr>
                <a:t>i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5.1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ransactions on replicated data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550800" y="1866960"/>
            <a:ext cx="8688600" cy="3591000"/>
            <a:chOff x="550800" y="1866960"/>
            <a:chExt cx="8688600" cy="3591000"/>
          </a:xfrm>
        </p:grpSpPr>
        <p:sp>
          <p:nvSpPr>
            <p:cNvPr id="690" name=""/>
            <p:cNvSpPr/>
            <p:nvPr/>
          </p:nvSpPr>
          <p:spPr>
            <a:xfrm>
              <a:off x="4794120" y="3222720"/>
              <a:ext cx="4445280" cy="22096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50800" y="3925800"/>
              <a:ext cx="3792600" cy="15321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857240" y="4327560"/>
              <a:ext cx="903600" cy="10303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133720" y="4654440"/>
              <a:ext cx="401400" cy="4017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087720" y="4327560"/>
              <a:ext cx="903240" cy="10303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38640" y="4603680"/>
              <a:ext cx="401400" cy="4017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944960" y="3324240"/>
              <a:ext cx="905040" cy="10285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195880" y="3600360"/>
              <a:ext cx="403200" cy="4017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358600" y="36669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50880" y="4327560"/>
              <a:ext cx="905040" cy="10303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901800" y="4603680"/>
              <a:ext cx="403200" cy="4017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048680" y="46720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97240" y="1905120"/>
              <a:ext cx="903240" cy="10047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384280" y="1892160"/>
              <a:ext cx="928800" cy="1028880"/>
            </a:xfrm>
            <a:prstGeom prst="rect">
              <a:avLst/>
            </a:prstGeom>
            <a:noFill/>
            <a:ln w="363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61960" y="1978200"/>
              <a:ext cx="1552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 + front 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034480" y="4327560"/>
              <a:ext cx="903240" cy="10303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285040" y="4603680"/>
              <a:ext cx="401760" cy="4017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446320" y="46720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975280" y="4327560"/>
              <a:ext cx="903240" cy="10303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226200" y="4603680"/>
              <a:ext cx="401760" cy="4017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387480" y="46720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047000" y="4327560"/>
              <a:ext cx="904680" cy="10303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280280" y="4603680"/>
              <a:ext cx="401760" cy="4017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443000" y="46720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94640" y="47214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499560" y="46720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939960" y="3560760"/>
              <a:ext cx="1287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getBalance(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916680" y="1879560"/>
              <a:ext cx="905040" cy="10047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904080" y="1866960"/>
              <a:ext cx="928800" cy="1030320"/>
            </a:xfrm>
            <a:prstGeom prst="rect">
              <a:avLst/>
            </a:prstGeom>
            <a:noFill/>
            <a:ln w="363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083200" y="2003400"/>
              <a:ext cx="1552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 + front 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521080" y="4062240"/>
              <a:ext cx="163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lica mana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467840" y="3913200"/>
              <a:ext cx="163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lica mana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058360" y="2857680"/>
              <a:ext cx="1151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deposit(B,3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517880" y="23605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998800" y="24112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004160" y="2319480"/>
              <a:ext cx="401400" cy="40140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333520" y="4452840"/>
              <a:ext cx="100080" cy="17640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32" y="16"/>
                  </a:moveTo>
                  <a:lnTo>
                    <a:pt x="63" y="16"/>
                  </a:lnTo>
                  <a:lnTo>
                    <a:pt x="16" y="111"/>
                  </a:lnTo>
                  <a:lnTo>
                    <a:pt x="0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2384280" y="2746440"/>
              <a:ext cx="276480" cy="17064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48240" y="3473280"/>
              <a:ext cx="150840" cy="101880"/>
            </a:xfrm>
            <a:custGeom>
              <a:avLst/>
              <a:gdLst/>
              <a:ahLst/>
              <a:rect l="l" t="t" r="r" b="b"/>
              <a:pathLst>
                <a:path w="95" h="64">
                  <a:moveTo>
                    <a:pt x="79" y="16"/>
                  </a:moveTo>
                  <a:lnTo>
                    <a:pt x="95" y="48"/>
                  </a:lnTo>
                  <a:lnTo>
                    <a:pt x="0" y="64"/>
                  </a:lnTo>
                  <a:lnTo>
                    <a:pt x="79" y="0"/>
                  </a:lnTo>
                  <a:lnTo>
                    <a:pt x="79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5598720" y="2644920"/>
              <a:ext cx="1430280" cy="8539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085240" y="4629240"/>
              <a:ext cx="149040" cy="100080"/>
            </a:xfrm>
            <a:custGeom>
              <a:avLst/>
              <a:gdLst/>
              <a:ahLst/>
              <a:rect l="l" t="t" r="r" b="b"/>
              <a:pathLst>
                <a:path w="94" h="63">
                  <a:moveTo>
                    <a:pt x="0" y="32"/>
                  </a:moveTo>
                  <a:lnTo>
                    <a:pt x="15" y="0"/>
                  </a:lnTo>
                  <a:lnTo>
                    <a:pt x="94" y="63"/>
                  </a:lnTo>
                  <a:lnTo>
                    <a:pt x="0" y="48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573880" y="3825720"/>
              <a:ext cx="2511360" cy="8542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105680" y="4603680"/>
              <a:ext cx="150840" cy="125640"/>
            </a:xfrm>
            <a:custGeom>
              <a:avLst/>
              <a:gdLst/>
              <a:ahLst/>
              <a:rect l="l" t="t" r="r" b="b"/>
              <a:pathLst>
                <a:path w="95" h="79">
                  <a:moveTo>
                    <a:pt x="0" y="32"/>
                  </a:moveTo>
                  <a:lnTo>
                    <a:pt x="15" y="0"/>
                  </a:lnTo>
                  <a:lnTo>
                    <a:pt x="95" y="79"/>
                  </a:lnTo>
                  <a:lnTo>
                    <a:pt x="0" y="48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573880" y="3900600"/>
              <a:ext cx="1531800" cy="7538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75360" y="4579920"/>
              <a:ext cx="150840" cy="149400"/>
            </a:xfrm>
            <a:custGeom>
              <a:avLst/>
              <a:gdLst/>
              <a:ahLst/>
              <a:rect l="l" t="t" r="r" b="b"/>
              <a:pathLst>
                <a:path w="95" h="94">
                  <a:moveTo>
                    <a:pt x="16" y="15"/>
                  </a:moveTo>
                  <a:lnTo>
                    <a:pt x="32" y="0"/>
                  </a:lnTo>
                  <a:lnTo>
                    <a:pt x="95" y="94"/>
                  </a:lnTo>
                  <a:lnTo>
                    <a:pt x="0" y="31"/>
                  </a:lnTo>
                  <a:lnTo>
                    <a:pt x="16" y="15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497560" y="4025880"/>
              <a:ext cx="603360" cy="577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509920" y="2368440"/>
              <a:ext cx="401400" cy="40320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5.1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vailable copi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609480" y="1814400"/>
            <a:ext cx="8539200" cy="3538800"/>
            <a:chOff x="609480" y="1814400"/>
            <a:chExt cx="8539200" cy="3538800"/>
          </a:xfrm>
        </p:grpSpPr>
        <p:sp>
          <p:nvSpPr>
            <p:cNvPr id="739" name=""/>
            <p:cNvSpPr/>
            <p:nvPr/>
          </p:nvSpPr>
          <p:spPr>
            <a:xfrm>
              <a:off x="4792680" y="3151080"/>
              <a:ext cx="4356000" cy="21780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11280" y="3843360"/>
              <a:ext cx="3736800" cy="15098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82720" y="4240080"/>
              <a:ext cx="890640" cy="10144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155600" y="4562640"/>
              <a:ext cx="395280" cy="39528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302480" y="46274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980280" y="49593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086280" y="4240080"/>
              <a:ext cx="890280" cy="10144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16520" y="3249720"/>
              <a:ext cx="892080" cy="10144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417760" y="1839960"/>
              <a:ext cx="890640" cy="9889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9480" y="1974960"/>
              <a:ext cx="1552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 + front 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29360" y="4214880"/>
              <a:ext cx="892080" cy="10144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377040" y="4487760"/>
              <a:ext cx="396720" cy="39528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203160" y="49338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511320" y="45529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867200" y="1814400"/>
              <a:ext cx="866880" cy="9907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856120" y="1925640"/>
              <a:ext cx="1552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 + front 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218720" y="3360600"/>
              <a:ext cx="163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lica mana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153840" y="2720880"/>
              <a:ext cx="1151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deposit(A,3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40000" y="19303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009960" y="19303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416680" y="3389400"/>
              <a:ext cx="1151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deposit(B,3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129360" y="2475000"/>
              <a:ext cx="1287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getBalance(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416320" y="3092400"/>
              <a:ext cx="1287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getBalance(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144880" y="3979800"/>
              <a:ext cx="163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lica mana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58280" y="49593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991040" y="396864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986600" y="4191120"/>
              <a:ext cx="890640" cy="10141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234280" y="4462560"/>
              <a:ext cx="395280" cy="39672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368560" y="45291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084880" y="49100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490840" y="2284560"/>
              <a:ext cx="396720" cy="39672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213520" y="2260440"/>
              <a:ext cx="396720" cy="39528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333600" y="4476600"/>
              <a:ext cx="420840" cy="39708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80840" y="45784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164200" y="3522600"/>
              <a:ext cx="396720" cy="39528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299920" y="35877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01840" y="4387680"/>
              <a:ext cx="123840" cy="149400"/>
            </a:xfrm>
            <a:custGeom>
              <a:avLst/>
              <a:gdLst/>
              <a:ahLst/>
              <a:rect l="l" t="t" r="r" b="b"/>
              <a:pathLst>
                <a:path w="78" h="94">
                  <a:moveTo>
                    <a:pt x="47" y="16"/>
                  </a:moveTo>
                  <a:lnTo>
                    <a:pt x="78" y="32"/>
                  </a:lnTo>
                  <a:lnTo>
                    <a:pt x="0" y="94"/>
                  </a:lnTo>
                  <a:lnTo>
                    <a:pt x="32" y="0"/>
                  </a:lnTo>
                  <a:lnTo>
                    <a:pt x="47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1476000" y="2655720"/>
              <a:ext cx="1089000" cy="17319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991040" y="3522600"/>
              <a:ext cx="149400" cy="12384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0" y="31"/>
                  </a:moveTo>
                  <a:lnTo>
                    <a:pt x="16" y="0"/>
                  </a:lnTo>
                  <a:lnTo>
                    <a:pt x="94" y="78"/>
                  </a:lnTo>
                  <a:lnTo>
                    <a:pt x="0" y="6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887560" y="2581200"/>
              <a:ext cx="2103480" cy="9907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54360" y="4363920"/>
              <a:ext cx="123840" cy="147600"/>
            </a:xfrm>
            <a:custGeom>
              <a:avLst/>
              <a:gdLst/>
              <a:ahLst/>
              <a:rect l="l" t="t" r="r" b="b"/>
              <a:pathLst>
                <a:path w="78" h="93">
                  <a:moveTo>
                    <a:pt x="63" y="15"/>
                  </a:moveTo>
                  <a:lnTo>
                    <a:pt x="78" y="47"/>
                  </a:lnTo>
                  <a:lnTo>
                    <a:pt x="0" y="93"/>
                  </a:lnTo>
                  <a:lnTo>
                    <a:pt x="47" y="0"/>
                  </a:lnTo>
                  <a:lnTo>
                    <a:pt x="63" y="15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3754440" y="2606760"/>
              <a:ext cx="1533600" cy="17809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110440" y="4387680"/>
              <a:ext cx="147600" cy="123840"/>
            </a:xfrm>
            <a:custGeom>
              <a:avLst/>
              <a:gdLst/>
              <a:ahLst/>
              <a:rect l="l" t="t" r="r" b="b"/>
              <a:pathLst>
                <a:path w="93" h="78">
                  <a:moveTo>
                    <a:pt x="15" y="16"/>
                  </a:moveTo>
                  <a:lnTo>
                    <a:pt x="31" y="0"/>
                  </a:lnTo>
                  <a:lnTo>
                    <a:pt x="93" y="78"/>
                  </a:lnTo>
                  <a:lnTo>
                    <a:pt x="0" y="32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560920" y="2581200"/>
              <a:ext cx="2573280" cy="18320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035920" y="4537080"/>
              <a:ext cx="147600" cy="98280"/>
            </a:xfrm>
            <a:custGeom>
              <a:avLst/>
              <a:gdLst/>
              <a:ahLst/>
              <a:rect l="l" t="t" r="r" b="b"/>
              <a:pathLst>
                <a:path w="93" h="62">
                  <a:moveTo>
                    <a:pt x="0" y="31"/>
                  </a:moveTo>
                  <a:lnTo>
                    <a:pt x="15" y="0"/>
                  </a:lnTo>
                  <a:lnTo>
                    <a:pt x="93" y="62"/>
                  </a:lnTo>
                  <a:lnTo>
                    <a:pt x="0" y="47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535720" y="3770280"/>
              <a:ext cx="2500200" cy="8161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229440" y="4462560"/>
              <a:ext cx="147600" cy="123840"/>
            </a:xfrm>
            <a:custGeom>
              <a:avLst/>
              <a:gdLst/>
              <a:ahLst/>
              <a:rect l="l" t="t" r="r" b="b"/>
              <a:pathLst>
                <a:path w="93" h="78">
                  <a:moveTo>
                    <a:pt x="15" y="16"/>
                  </a:moveTo>
                  <a:lnTo>
                    <a:pt x="31" y="0"/>
                  </a:lnTo>
                  <a:lnTo>
                    <a:pt x="93" y="78"/>
                  </a:lnTo>
                  <a:lnTo>
                    <a:pt x="0" y="47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486400" y="3868560"/>
              <a:ext cx="766800" cy="6192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576440" y="4710240"/>
              <a:ext cx="147600" cy="98280"/>
            </a:xfrm>
            <a:custGeom>
              <a:avLst/>
              <a:gdLst/>
              <a:ahLst/>
              <a:rect l="l" t="t" r="r" b="b"/>
              <a:pathLst>
                <a:path w="93" h="62">
                  <a:moveTo>
                    <a:pt x="93" y="31"/>
                  </a:moveTo>
                  <a:lnTo>
                    <a:pt x="93" y="62"/>
                  </a:lnTo>
                  <a:lnTo>
                    <a:pt x="0" y="47"/>
                  </a:lnTo>
                  <a:lnTo>
                    <a:pt x="93" y="0"/>
                  </a:lnTo>
                  <a:lnTo>
                    <a:pt x="93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1749600" y="4710240"/>
              <a:ext cx="1558800" cy="489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5.1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etwork parti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514440" y="1609560"/>
            <a:ext cx="8648640" cy="3640320"/>
            <a:chOff x="514440" y="1609560"/>
            <a:chExt cx="8648640" cy="3640320"/>
          </a:xfrm>
        </p:grpSpPr>
        <p:sp>
          <p:nvSpPr>
            <p:cNvPr id="791" name=""/>
            <p:cNvSpPr/>
            <p:nvPr/>
          </p:nvSpPr>
          <p:spPr>
            <a:xfrm>
              <a:off x="754200" y="2940120"/>
              <a:ext cx="8408880" cy="22096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870440" y="3065400"/>
              <a:ext cx="905040" cy="10051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335320" y="1635120"/>
              <a:ext cx="904680" cy="10033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14440" y="1697040"/>
              <a:ext cx="1552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 + front 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983360" y="4044960"/>
              <a:ext cx="903600" cy="10285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209080" y="4321080"/>
              <a:ext cx="426960" cy="4017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371800" y="43876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930240" y="4044960"/>
              <a:ext cx="903240" cy="10285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109960" y="4044960"/>
              <a:ext cx="903240" cy="10285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360520" y="4321080"/>
              <a:ext cx="426960" cy="4017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17040" y="2224080"/>
              <a:ext cx="129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withdraw(B, 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853320" y="1609560"/>
              <a:ext cx="904680" cy="10051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033880" y="1720800"/>
              <a:ext cx="1552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 + front 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393320" y="3654360"/>
              <a:ext cx="163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lica mana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109120" y="2500200"/>
              <a:ext cx="1151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deposit(B,3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443360" y="20779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949480" y="2154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678120" y="199404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677760" y="224460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t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411280" y="2085840"/>
              <a:ext cx="401760" cy="4017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929280" y="2062080"/>
              <a:ext cx="401760" cy="4017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121360" y="3341520"/>
              <a:ext cx="401400" cy="4017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271480" y="34084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181160" y="4321080"/>
              <a:ext cx="401400" cy="4017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329480" y="43876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482840" y="4170240"/>
              <a:ext cx="99720" cy="17640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47" y="16"/>
                  </a:moveTo>
                  <a:lnTo>
                    <a:pt x="63" y="32"/>
                  </a:lnTo>
                  <a:lnTo>
                    <a:pt x="0" y="111"/>
                  </a:lnTo>
                  <a:lnTo>
                    <a:pt x="15" y="0"/>
                  </a:lnTo>
                  <a:lnTo>
                    <a:pt x="47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1557360" y="2463840"/>
              <a:ext cx="928800" cy="17319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209680" y="4471920"/>
              <a:ext cx="176400" cy="74520"/>
            </a:xfrm>
            <a:custGeom>
              <a:avLst/>
              <a:gdLst/>
              <a:ahLst/>
              <a:rect l="l" t="t" r="r" b="b"/>
              <a:pathLst>
                <a:path w="111" h="47">
                  <a:moveTo>
                    <a:pt x="0" y="31"/>
                  </a:moveTo>
                  <a:lnTo>
                    <a:pt x="0" y="0"/>
                  </a:lnTo>
                  <a:lnTo>
                    <a:pt x="111" y="31"/>
                  </a:lnTo>
                  <a:lnTo>
                    <a:pt x="0" y="47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557360" y="4521240"/>
              <a:ext cx="65232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499000" y="3241800"/>
              <a:ext cx="149400" cy="125280"/>
            </a:xfrm>
            <a:custGeom>
              <a:avLst/>
              <a:gdLst/>
              <a:ahLst/>
              <a:rect l="l" t="t" r="r" b="b"/>
              <a:pathLst>
                <a:path w="94" h="79">
                  <a:moveTo>
                    <a:pt x="79" y="31"/>
                  </a:moveTo>
                  <a:lnTo>
                    <a:pt x="94" y="47"/>
                  </a:lnTo>
                  <a:lnTo>
                    <a:pt x="0" y="79"/>
                  </a:lnTo>
                  <a:lnTo>
                    <a:pt x="63" y="0"/>
                  </a:lnTo>
                  <a:lnTo>
                    <a:pt x="79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5624640" y="2387520"/>
              <a:ext cx="1379520" cy="9032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034480" y="4370400"/>
              <a:ext cx="150840" cy="76320"/>
            </a:xfrm>
            <a:custGeom>
              <a:avLst/>
              <a:gdLst/>
              <a:ahLst/>
              <a:rect l="l" t="t" r="r" b="b"/>
              <a:pathLst>
                <a:path w="95" h="48">
                  <a:moveTo>
                    <a:pt x="0" y="16"/>
                  </a:moveTo>
                  <a:lnTo>
                    <a:pt x="15" y="0"/>
                  </a:lnTo>
                  <a:lnTo>
                    <a:pt x="95" y="48"/>
                  </a:lnTo>
                  <a:lnTo>
                    <a:pt x="0" y="48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499000" y="3618000"/>
              <a:ext cx="2535480" cy="7779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514680" y="2865600"/>
              <a:ext cx="703440" cy="2384280"/>
            </a:xfrm>
            <a:custGeom>
              <a:avLst/>
              <a:gdLst/>
              <a:ahLst/>
              <a:rect l="l" t="t" r="r" b="b"/>
              <a:pathLst>
                <a:path w="443" h="1502">
                  <a:moveTo>
                    <a:pt x="48" y="15"/>
                  </a:moveTo>
                  <a:lnTo>
                    <a:pt x="301" y="348"/>
                  </a:lnTo>
                  <a:lnTo>
                    <a:pt x="0" y="585"/>
                  </a:lnTo>
                  <a:lnTo>
                    <a:pt x="253" y="822"/>
                  </a:lnTo>
                  <a:lnTo>
                    <a:pt x="0" y="1091"/>
                  </a:lnTo>
                  <a:lnTo>
                    <a:pt x="301" y="1502"/>
                  </a:lnTo>
                  <a:lnTo>
                    <a:pt x="427" y="1486"/>
                  </a:lnTo>
                  <a:lnTo>
                    <a:pt x="143" y="1091"/>
                  </a:lnTo>
                  <a:lnTo>
                    <a:pt x="396" y="838"/>
                  </a:lnTo>
                  <a:lnTo>
                    <a:pt x="159" y="585"/>
                  </a:lnTo>
                  <a:lnTo>
                    <a:pt x="443" y="332"/>
                  </a:lnTo>
                  <a:lnTo>
                    <a:pt x="190" y="0"/>
                  </a:lnTo>
                  <a:lnTo>
                    <a:pt x="48" y="15"/>
                  </a:lnTo>
                  <a:close/>
                </a:path>
              </a:pathLst>
            </a:custGeom>
            <a:solidFill>
              <a:srgbClr val="ffffff"/>
            </a:solidFill>
            <a:ln w="36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3801600" y="2487600"/>
              <a:ext cx="241560" cy="4636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521800" y="43876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2286000" y="4451400"/>
            <a:ext cx="5632560" cy="41760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298600" y="1257480"/>
            <a:ext cx="5632560" cy="4172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Page 650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Gifford’s quorum concensus exampl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7878600" y="1155600"/>
            <a:ext cx="16200" cy="1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643200" y="1724040"/>
            <a:ext cx="158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16400" y="1724040"/>
            <a:ext cx="158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108840" y="1724040"/>
            <a:ext cx="172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002360" y="1724040"/>
            <a:ext cx="158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216400" y="2016000"/>
            <a:ext cx="158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216400" y="230832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643200" y="261612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216400" y="261612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108840" y="2616120"/>
            <a:ext cx="172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002360" y="261612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216400" y="2616120"/>
            <a:ext cx="158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216400" y="290844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216400" y="320040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643200" y="350820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216400" y="350820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108840" y="3508200"/>
            <a:ext cx="172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002360" y="350820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216400" y="3508200"/>
            <a:ext cx="158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216400" y="380052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643200" y="410832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216400" y="410832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108840" y="4108320"/>
            <a:ext cx="172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002360" y="410832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01920" y="4984920"/>
            <a:ext cx="158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216400" y="4984920"/>
            <a:ext cx="158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108840" y="4984920"/>
            <a:ext cx="172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002360" y="4984920"/>
            <a:ext cx="158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301920" y="498492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216400" y="498492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301920" y="527688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216400" y="527688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301920" y="558468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216400" y="558468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108840" y="5584680"/>
            <a:ext cx="172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002360" y="558468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01920" y="5584680"/>
            <a:ext cx="158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216400" y="5584680"/>
            <a:ext cx="158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301920" y="587700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01920" y="618480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216400" y="587700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216400" y="618480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108840" y="6184800"/>
            <a:ext cx="172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002360" y="618480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100480" y="1386000"/>
            <a:ext cx="86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062760" y="1386000"/>
            <a:ext cx="86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026120" y="1386000"/>
            <a:ext cx="86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334960" y="1763640"/>
            <a:ext cx="64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at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35440" y="1763640"/>
            <a:ext cx="10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665520" y="1811160"/>
            <a:ext cx="77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lic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239440" y="17636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131880" y="17636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025400" y="17636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643200" y="172404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108840" y="1724040"/>
            <a:ext cx="1728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002360" y="172404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335320" y="2055960"/>
            <a:ext cx="1151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millisecon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665520" y="2103480"/>
            <a:ext cx="77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lic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239440" y="20559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131520" y="205596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025040" y="205596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643200" y="2016000"/>
            <a:ext cx="158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108840" y="2016000"/>
            <a:ext cx="1728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002360" y="2016000"/>
            <a:ext cx="158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665520" y="2395440"/>
            <a:ext cx="77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lica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239440" y="2347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131520" y="234792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025040" y="234792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643200" y="230832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108840" y="2308320"/>
            <a:ext cx="1728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002360" y="230832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334240" y="2655720"/>
            <a:ext cx="54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o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838600" y="2655720"/>
            <a:ext cx="10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665520" y="2703600"/>
            <a:ext cx="77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lic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239800" y="26557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131880" y="26557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025760" y="26557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643200" y="2616120"/>
            <a:ext cx="158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108840" y="2616120"/>
            <a:ext cx="1728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002360" y="2616120"/>
            <a:ext cx="158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327760" y="2948040"/>
            <a:ext cx="1110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665520" y="2995560"/>
            <a:ext cx="77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lic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239800" y="29480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131880" y="29480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025760" y="29480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643200" y="290844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08840" y="2908440"/>
            <a:ext cx="1728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002360" y="290844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665520" y="3287880"/>
            <a:ext cx="77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lica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239800" y="3240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131880" y="3240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025760" y="3240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643200" y="320040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108840" y="3200400"/>
            <a:ext cx="1728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002360" y="320040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334960" y="3548160"/>
            <a:ext cx="678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Qu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665520" y="35956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239800" y="35481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131880" y="35481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025760" y="35481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643200" y="3508200"/>
            <a:ext cx="158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108840" y="3508200"/>
            <a:ext cx="1728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002360" y="3508200"/>
            <a:ext cx="158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334960" y="3840120"/>
            <a:ext cx="38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i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665520" y="388764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239800" y="3840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131880" y="3840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025760" y="3840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643200" y="380052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108840" y="3800520"/>
            <a:ext cx="1728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002360" y="380052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332080" y="4541760"/>
            <a:ext cx="27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rived performance of file sui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334960" y="4937040"/>
            <a:ext cx="41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325680" y="4984920"/>
            <a:ext cx="65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t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239440" y="4984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131880" y="49370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025400" y="49370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108840" y="4897440"/>
            <a:ext cx="1728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002360" y="489744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324240" y="5276880"/>
            <a:ext cx="1690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ocking prob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239440" y="5276880"/>
            <a:ext cx="357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131160" y="5286240"/>
            <a:ext cx="56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0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024320" y="5286240"/>
            <a:ext cx="76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000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108840" y="5189400"/>
            <a:ext cx="1728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002360" y="5189400"/>
            <a:ext cx="158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334960" y="553716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325680" y="5586480"/>
            <a:ext cx="65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t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239440" y="5586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131520" y="553716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025040" y="5537160"/>
            <a:ext cx="30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108840" y="5497560"/>
            <a:ext cx="1728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002360" y="549756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324240" y="5878440"/>
            <a:ext cx="1690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ocking prob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239440" y="5878440"/>
            <a:ext cx="357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131160" y="5900760"/>
            <a:ext cx="56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0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7025400" y="5900760"/>
            <a:ext cx="357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108840" y="5789520"/>
            <a:ext cx="1728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002360" y="5789520"/>
            <a:ext cx="158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300400" y="1270080"/>
            <a:ext cx="559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300400" y="2646360"/>
            <a:ext cx="559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300400" y="4167360"/>
            <a:ext cx="559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286000" y="4454640"/>
            <a:ext cx="559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300400" y="5511960"/>
            <a:ext cx="559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300400" y="6154560"/>
            <a:ext cx="559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300400" y="3541680"/>
            <a:ext cx="559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5.1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wo network parti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525600" y="2139840"/>
            <a:ext cx="8658000" cy="2435400"/>
            <a:chOff x="525600" y="2139840"/>
            <a:chExt cx="8658000" cy="2435400"/>
          </a:xfrm>
        </p:grpSpPr>
        <p:sp>
          <p:nvSpPr>
            <p:cNvPr id="977" name=""/>
            <p:cNvSpPr/>
            <p:nvPr/>
          </p:nvSpPr>
          <p:spPr>
            <a:xfrm>
              <a:off x="525600" y="2790720"/>
              <a:ext cx="8658000" cy="16653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405400" y="3176640"/>
              <a:ext cx="1071720" cy="11905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702400" y="3460680"/>
              <a:ext cx="476280" cy="476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964640" y="3162240"/>
              <a:ext cx="1071360" cy="11905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8261280" y="3460680"/>
              <a:ext cx="476280" cy="476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33320" y="3176640"/>
              <a:ext cx="1071720" cy="11905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031760" y="3475080"/>
              <a:ext cx="476280" cy="476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162160" y="3176640"/>
              <a:ext cx="1071720" cy="11905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430360" y="3460680"/>
              <a:ext cx="505080" cy="476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28920" y="2854440"/>
              <a:ext cx="1944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eplica manager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672080" y="2139840"/>
              <a:ext cx="1809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Network part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295360" y="406872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836280" y="406872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627520" y="406872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125920" y="406872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009600" y="22287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580760" y="2228760"/>
              <a:ext cx="1261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ransac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727360" y="3236760"/>
              <a:ext cx="149040" cy="208080"/>
            </a:xfrm>
            <a:custGeom>
              <a:avLst/>
              <a:gdLst/>
              <a:ahLst/>
              <a:rect l="l" t="t" r="r" b="b"/>
              <a:pathLst>
                <a:path w="94" h="131">
                  <a:moveTo>
                    <a:pt x="75" y="19"/>
                  </a:moveTo>
                  <a:lnTo>
                    <a:pt x="94" y="37"/>
                  </a:lnTo>
                  <a:lnTo>
                    <a:pt x="0" y="131"/>
                  </a:lnTo>
                  <a:lnTo>
                    <a:pt x="37" y="0"/>
                  </a:lnTo>
                  <a:lnTo>
                    <a:pt x="75" y="19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2846160" y="2298600"/>
              <a:ext cx="625320" cy="95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536840" y="3683160"/>
              <a:ext cx="179280" cy="118800"/>
            </a:xfrm>
            <a:custGeom>
              <a:avLst/>
              <a:gdLst/>
              <a:ahLst/>
              <a:rect l="l" t="t" r="r" b="b"/>
              <a:pathLst>
                <a:path w="113" h="75">
                  <a:moveTo>
                    <a:pt x="113" y="37"/>
                  </a:moveTo>
                  <a:lnTo>
                    <a:pt x="113" y="75"/>
                  </a:lnTo>
                  <a:lnTo>
                    <a:pt x="0" y="37"/>
                  </a:lnTo>
                  <a:lnTo>
                    <a:pt x="113" y="0"/>
                  </a:lnTo>
                  <a:lnTo>
                    <a:pt x="113" y="37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1680840" y="3741840"/>
              <a:ext cx="7779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857760" y="2730600"/>
              <a:ext cx="655560" cy="1844640"/>
            </a:xfrm>
            <a:custGeom>
              <a:avLst/>
              <a:gdLst/>
              <a:ahLst/>
              <a:rect l="l" t="t" r="r" b="b"/>
              <a:pathLst>
                <a:path w="413" h="1162">
                  <a:moveTo>
                    <a:pt x="38" y="0"/>
                  </a:moveTo>
                  <a:lnTo>
                    <a:pt x="263" y="394"/>
                  </a:lnTo>
                  <a:lnTo>
                    <a:pt x="38" y="656"/>
                  </a:lnTo>
                  <a:lnTo>
                    <a:pt x="244" y="844"/>
                  </a:lnTo>
                  <a:lnTo>
                    <a:pt x="0" y="1162"/>
                  </a:lnTo>
                  <a:lnTo>
                    <a:pt x="150" y="1162"/>
                  </a:lnTo>
                  <a:lnTo>
                    <a:pt x="375" y="844"/>
                  </a:lnTo>
                  <a:lnTo>
                    <a:pt x="169" y="637"/>
                  </a:lnTo>
                  <a:lnTo>
                    <a:pt x="413" y="394"/>
                  </a:lnTo>
                  <a:lnTo>
                    <a:pt x="18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624720" y="2730600"/>
              <a:ext cx="655560" cy="1844640"/>
            </a:xfrm>
            <a:custGeom>
              <a:avLst/>
              <a:gdLst/>
              <a:ahLst/>
              <a:rect l="l" t="t" r="r" b="b"/>
              <a:pathLst>
                <a:path w="413" h="1162">
                  <a:moveTo>
                    <a:pt x="38" y="0"/>
                  </a:moveTo>
                  <a:lnTo>
                    <a:pt x="263" y="394"/>
                  </a:lnTo>
                  <a:lnTo>
                    <a:pt x="38" y="656"/>
                  </a:lnTo>
                  <a:lnTo>
                    <a:pt x="244" y="844"/>
                  </a:lnTo>
                  <a:lnTo>
                    <a:pt x="0" y="1162"/>
                  </a:lnTo>
                  <a:lnTo>
                    <a:pt x="150" y="1162"/>
                  </a:lnTo>
                  <a:lnTo>
                    <a:pt x="375" y="844"/>
                  </a:lnTo>
                  <a:lnTo>
                    <a:pt x="169" y="637"/>
                  </a:lnTo>
                  <a:lnTo>
                    <a:pt x="413" y="394"/>
                  </a:lnTo>
                  <a:lnTo>
                    <a:pt x="18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357960" y="2433600"/>
              <a:ext cx="490680" cy="370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4127040" y="2433600"/>
              <a:ext cx="505080" cy="3636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5.1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irtual parti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612720" y="2070000"/>
            <a:ext cx="8613720" cy="2281320"/>
            <a:chOff x="612720" y="2070000"/>
            <a:chExt cx="8613720" cy="2281320"/>
          </a:xfrm>
        </p:grpSpPr>
        <p:sp>
          <p:nvSpPr>
            <p:cNvPr id="1004" name=""/>
            <p:cNvSpPr/>
            <p:nvPr/>
          </p:nvSpPr>
          <p:spPr>
            <a:xfrm>
              <a:off x="612720" y="2589120"/>
              <a:ext cx="8408880" cy="16178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802040" y="2935440"/>
              <a:ext cx="1040040" cy="11840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091120" y="3252960"/>
              <a:ext cx="520560" cy="463320"/>
            </a:xfrm>
            <a:prstGeom prst="ellipse">
              <a:avLst/>
            </a:prstGeom>
            <a:solidFill>
              <a:srgbClr val="ffffff"/>
            </a:solidFill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835760" y="2935440"/>
              <a:ext cx="1041480" cy="11840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8124840" y="3252960"/>
              <a:ext cx="463680" cy="463320"/>
            </a:xfrm>
            <a:prstGeom prst="ellipse">
              <a:avLst/>
            </a:prstGeom>
            <a:solidFill>
              <a:srgbClr val="ffffff"/>
            </a:solidFill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814320" y="2935440"/>
              <a:ext cx="1041480" cy="11840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103400" y="3252960"/>
              <a:ext cx="463320" cy="463320"/>
            </a:xfrm>
            <a:prstGeom prst="ellipse">
              <a:avLst/>
            </a:prstGeom>
            <a:solidFill>
              <a:srgbClr val="ffffff"/>
            </a:solidFill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201760" y="2935440"/>
              <a:ext cx="1040040" cy="11840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490840" y="3252960"/>
              <a:ext cx="461880" cy="463320"/>
            </a:xfrm>
            <a:prstGeom prst="ellipse">
              <a:avLst/>
            </a:prstGeom>
            <a:solidFill>
              <a:srgbClr val="ffffff"/>
            </a:solidFill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915840" y="3805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360520" y="3805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989240" y="3805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994160" y="3805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13160" y="2619360"/>
              <a:ext cx="1944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eplica manager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556520" y="2128680"/>
              <a:ext cx="1608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Virtual part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416720" y="2070000"/>
              <a:ext cx="1809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Network part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3963960" y="2270160"/>
              <a:ext cx="463680" cy="4046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595520" y="3456000"/>
              <a:ext cx="201600" cy="85680"/>
            </a:xfrm>
            <a:custGeom>
              <a:avLst/>
              <a:gdLst/>
              <a:ahLst/>
              <a:rect l="l" t="t" r="r" b="b"/>
              <a:pathLst>
                <a:path w="127" h="54">
                  <a:moveTo>
                    <a:pt x="127" y="18"/>
                  </a:moveTo>
                  <a:lnTo>
                    <a:pt x="127" y="54"/>
                  </a:lnTo>
                  <a:lnTo>
                    <a:pt x="0" y="18"/>
                  </a:lnTo>
                  <a:lnTo>
                    <a:pt x="127" y="0"/>
                  </a:lnTo>
                  <a:lnTo>
                    <a:pt x="127" y="18"/>
                  </a:lnTo>
                  <a:close/>
                </a:path>
              </a:pathLst>
            </a:custGeom>
            <a:solidFill>
              <a:srgbClr val="000000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1796760" y="3484440"/>
              <a:ext cx="6937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889520" y="3484440"/>
              <a:ext cx="173160" cy="87480"/>
            </a:xfrm>
            <a:custGeom>
              <a:avLst/>
              <a:gdLst/>
              <a:ahLst/>
              <a:rect l="l" t="t" r="r" b="b"/>
              <a:pathLst>
                <a:path w="109" h="55">
                  <a:moveTo>
                    <a:pt x="0" y="18"/>
                  </a:moveTo>
                  <a:lnTo>
                    <a:pt x="0" y="0"/>
                  </a:lnTo>
                  <a:lnTo>
                    <a:pt x="109" y="18"/>
                  </a:lnTo>
                  <a:lnTo>
                    <a:pt x="0" y="55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24280" y="3513240"/>
              <a:ext cx="1936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708600" y="2589120"/>
              <a:ext cx="608040" cy="1762200"/>
            </a:xfrm>
            <a:custGeom>
              <a:avLst/>
              <a:gdLst/>
              <a:ahLst/>
              <a:rect l="l" t="t" r="r" b="b"/>
              <a:pathLst>
                <a:path w="383" h="1110">
                  <a:moveTo>
                    <a:pt x="19" y="0"/>
                  </a:moveTo>
                  <a:lnTo>
                    <a:pt x="255" y="382"/>
                  </a:lnTo>
                  <a:lnTo>
                    <a:pt x="37" y="619"/>
                  </a:lnTo>
                  <a:lnTo>
                    <a:pt x="237" y="819"/>
                  </a:lnTo>
                  <a:lnTo>
                    <a:pt x="0" y="1110"/>
                  </a:lnTo>
                  <a:lnTo>
                    <a:pt x="146" y="1110"/>
                  </a:lnTo>
                  <a:lnTo>
                    <a:pt x="365" y="819"/>
                  </a:lnTo>
                  <a:lnTo>
                    <a:pt x="164" y="619"/>
                  </a:lnTo>
                  <a:lnTo>
                    <a:pt x="383" y="382"/>
                  </a:lnTo>
                  <a:lnTo>
                    <a:pt x="182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42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6905520" y="2247840"/>
              <a:ext cx="439920" cy="3412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5.1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wo overlapping virtual parti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028" name=""/>
          <p:cNvGrpSpPr/>
          <p:nvPr/>
        </p:nvGrpSpPr>
        <p:grpSpPr>
          <a:xfrm>
            <a:off x="590400" y="2008080"/>
            <a:ext cx="8655840" cy="2721240"/>
            <a:chOff x="590400" y="2008080"/>
            <a:chExt cx="8655840" cy="2721240"/>
          </a:xfrm>
        </p:grpSpPr>
        <p:sp>
          <p:nvSpPr>
            <p:cNvPr id="1029" name=""/>
            <p:cNvSpPr/>
            <p:nvPr/>
          </p:nvSpPr>
          <p:spPr>
            <a:xfrm>
              <a:off x="2114640" y="2038320"/>
              <a:ext cx="4332240" cy="2664000"/>
            </a:xfrm>
            <a:prstGeom prst="ellipse">
              <a:avLst/>
            </a:prstGeom>
            <a:solidFill>
              <a:srgbClr val="ffdc99"/>
            </a:solidFill>
            <a:ln w="3960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541680" y="2065320"/>
              <a:ext cx="4332240" cy="2664000"/>
            </a:xfrm>
            <a:prstGeom prst="ellipse">
              <a:avLst/>
            </a:prstGeom>
            <a:solidFill>
              <a:srgbClr val="ffdc99"/>
            </a:solidFill>
            <a:ln w="3960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90400" y="2077920"/>
              <a:ext cx="164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Virtual partition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231280" y="2176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505640" y="2077920"/>
              <a:ext cx="164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Virtual partition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9146520" y="2176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438280" y="2819520"/>
              <a:ext cx="968400" cy="11030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06840" y="3114720"/>
              <a:ext cx="430200" cy="430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563560" y="359568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944880" y="2819520"/>
              <a:ext cx="968400" cy="11030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213080" y="3114720"/>
              <a:ext cx="432000" cy="430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070160" y="359568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075280" y="2819520"/>
              <a:ext cx="968400" cy="11030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343480" y="3114720"/>
              <a:ext cx="430200" cy="430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200200" y="359568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527880" y="2819520"/>
              <a:ext cx="968400" cy="11030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797520" y="3084480"/>
              <a:ext cx="430200" cy="430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652440" y="35956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114640" y="2008080"/>
              <a:ext cx="4332240" cy="2664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541680" y="2035080"/>
              <a:ext cx="4332240" cy="2664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5.1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reating a virtual parti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760320" y="1392120"/>
            <a:ext cx="838044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Phase 1: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76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The initiator sends a </a:t>
            </a:r>
            <a:r>
              <a:rPr b="0" i="1" lang="en-GB" sz="1900" spc="-1" strike="noStrike">
                <a:solidFill>
                  <a:srgbClr val="000000"/>
                </a:solidFill>
                <a:latin typeface="Times New Roman"/>
              </a:rPr>
              <a:t>Join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request to each potential member. The argument of </a:t>
            </a:r>
            <a:r>
              <a:rPr b="0" i="1" lang="en-GB" sz="1900" spc="-1" strike="noStrike">
                <a:solidFill>
                  <a:srgbClr val="000000"/>
                </a:solidFill>
                <a:latin typeface="Times New Roman"/>
              </a:rPr>
              <a:t>Join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is a proposed logical timestamp for the new virtual partition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76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When a replica manager receives a </a:t>
            </a:r>
            <a:r>
              <a:rPr b="0" i="1" lang="en-GB" sz="1900" spc="-1" strike="noStrike">
                <a:solidFill>
                  <a:srgbClr val="000000"/>
                </a:solidFill>
                <a:latin typeface="Times New Roman"/>
              </a:rPr>
              <a:t>Join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request, it compares the proposed logical timestamp with that of its current virtual partition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6240" indent="-2872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If the proposed logical timestamp is greater it agrees to join and replies </a:t>
            </a:r>
            <a:r>
              <a:rPr b="0" i="1" lang="en-GB" sz="19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6240" indent="-2872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If it is less, it refuses to join and replies </a:t>
            </a:r>
            <a:r>
              <a:rPr b="0" i="1" lang="en-GB" sz="19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Phase 2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76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If the initiator has received sufficient </a:t>
            </a:r>
            <a:r>
              <a:rPr b="0" i="1" lang="en-GB" sz="19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replies to have read and write quora, it may complete the creation of the new virtual partition by sending a </a:t>
            </a:r>
            <a:r>
              <a:rPr b="0" i="1" lang="en-GB" sz="1900" spc="-1" strike="noStrike">
                <a:solidFill>
                  <a:srgbClr val="000000"/>
                </a:solidFill>
                <a:latin typeface="Times New Roman"/>
              </a:rPr>
              <a:t>Confirmation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message to the sites that agreed to join. The creation timestamp and list of actual members are sent as argument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76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Replica managers receiving the </a:t>
            </a:r>
            <a:r>
              <a:rPr b="0" i="1" lang="en-GB" sz="1900" spc="-1" strike="noStrike">
                <a:solidFill>
                  <a:srgbClr val="000000"/>
                </a:solidFill>
                <a:latin typeface="Times New Roman"/>
              </a:rPr>
              <a:t>Confirmation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message join the new virtual partition and record its creation timestamp and list of actual member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5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basic architectural model for the management of replicated data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10200" y="1585800"/>
            <a:ext cx="8521200" cy="3424320"/>
            <a:chOff x="610200" y="1585800"/>
            <a:chExt cx="8521200" cy="3424320"/>
          </a:xfrm>
        </p:grpSpPr>
        <p:sp>
          <p:nvSpPr>
            <p:cNvPr id="89" name=""/>
            <p:cNvSpPr/>
            <p:nvPr/>
          </p:nvSpPr>
          <p:spPr>
            <a:xfrm>
              <a:off x="5491080" y="2001960"/>
              <a:ext cx="3640320" cy="30081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75080" y="2424240"/>
              <a:ext cx="692280" cy="66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75080" y="2424240"/>
              <a:ext cx="722160" cy="690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16280" y="2608200"/>
              <a:ext cx="308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24360" y="2243160"/>
              <a:ext cx="1440" cy="3603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354760" y="1585800"/>
              <a:ext cx="1488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equests an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744640" y="1916280"/>
              <a:ext cx="711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epli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94040" y="26082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49440" y="2243160"/>
              <a:ext cx="1023840" cy="1022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220600" y="4121280"/>
              <a:ext cx="803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eplic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63800" y="420228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3836880"/>
              <a:ext cx="1023840" cy="1022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8048520" y="2995560"/>
              <a:ext cx="360360" cy="108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6603480" y="3053880"/>
              <a:ext cx="1444680" cy="102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7326360" y="4078440"/>
              <a:ext cx="722160" cy="209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18520" y="3489480"/>
              <a:ext cx="803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0200" y="3359160"/>
              <a:ext cx="736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lien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1400040" y="3084120"/>
              <a:ext cx="420840" cy="48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1399680" y="3567240"/>
              <a:ext cx="420840" cy="420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60520" y="3459240"/>
              <a:ext cx="1154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Front end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27480" y="2693880"/>
              <a:ext cx="150840" cy="90720"/>
            </a:xfrm>
            <a:custGeom>
              <a:avLst/>
              <a:gdLst/>
              <a:ahLst/>
              <a:rect l="l" t="t" r="r" b="b"/>
              <a:pathLst>
                <a:path w="95" h="57">
                  <a:moveTo>
                    <a:pt x="95" y="19"/>
                  </a:moveTo>
                  <a:lnTo>
                    <a:pt x="95" y="57"/>
                  </a:lnTo>
                  <a:lnTo>
                    <a:pt x="0" y="19"/>
                  </a:lnTo>
                  <a:lnTo>
                    <a:pt x="95" y="0"/>
                  </a:lnTo>
                  <a:lnTo>
                    <a:pt x="95" y="1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80120" y="2693880"/>
              <a:ext cx="150840" cy="90720"/>
            </a:xfrm>
            <a:custGeom>
              <a:avLst/>
              <a:gdLst/>
              <a:ahLst/>
              <a:rect l="l" t="t" r="r" b="b"/>
              <a:pathLst>
                <a:path w="95" h="57">
                  <a:moveTo>
                    <a:pt x="0" y="19"/>
                  </a:moveTo>
                  <a:lnTo>
                    <a:pt x="0" y="0"/>
                  </a:lnTo>
                  <a:lnTo>
                    <a:pt x="95" y="19"/>
                  </a:lnTo>
                  <a:lnTo>
                    <a:pt x="0" y="5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08560" y="2724120"/>
              <a:ext cx="871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97240" y="4317840"/>
              <a:ext cx="150840" cy="60480"/>
            </a:xfrm>
            <a:custGeom>
              <a:avLst/>
              <a:gdLst/>
              <a:ahLst/>
              <a:rect l="l" t="t" r="r" b="b"/>
              <a:pathLst>
                <a:path w="95" h="38">
                  <a:moveTo>
                    <a:pt x="95" y="19"/>
                  </a:moveTo>
                  <a:lnTo>
                    <a:pt x="95" y="38"/>
                  </a:lnTo>
                  <a:lnTo>
                    <a:pt x="0" y="19"/>
                  </a:lnTo>
                  <a:lnTo>
                    <a:pt x="95" y="0"/>
                  </a:lnTo>
                  <a:lnTo>
                    <a:pt x="95" y="1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80120" y="4287960"/>
              <a:ext cx="150840" cy="90360"/>
            </a:xfrm>
            <a:custGeom>
              <a:avLst/>
              <a:gdLst/>
              <a:ahLst/>
              <a:rect l="l" t="t" r="r" b="b"/>
              <a:pathLst>
                <a:path w="95" h="57">
                  <a:moveTo>
                    <a:pt x="0" y="19"/>
                  </a:moveTo>
                  <a:lnTo>
                    <a:pt x="0" y="0"/>
                  </a:lnTo>
                  <a:lnTo>
                    <a:pt x="95" y="19"/>
                  </a:lnTo>
                  <a:lnTo>
                    <a:pt x="0" y="5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348080" y="4317840"/>
              <a:ext cx="932040" cy="30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33760" y="2724120"/>
              <a:ext cx="149040" cy="60480"/>
            </a:xfrm>
            <a:custGeom>
              <a:avLst/>
              <a:gdLst/>
              <a:ahLst/>
              <a:rect l="l" t="t" r="r" b="b"/>
              <a:pathLst>
                <a:path w="94" h="38">
                  <a:moveTo>
                    <a:pt x="94" y="19"/>
                  </a:moveTo>
                  <a:lnTo>
                    <a:pt x="94" y="38"/>
                  </a:lnTo>
                  <a:lnTo>
                    <a:pt x="0" y="19"/>
                  </a:lnTo>
                  <a:lnTo>
                    <a:pt x="94" y="0"/>
                  </a:lnTo>
                  <a:lnTo>
                    <a:pt x="94" y="1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65560" y="2724120"/>
              <a:ext cx="149040" cy="60480"/>
            </a:xfrm>
            <a:custGeom>
              <a:avLst/>
              <a:gdLst/>
              <a:ahLst/>
              <a:rect l="l" t="t" r="r" b="b"/>
              <a:pathLst>
                <a:path w="94" h="38">
                  <a:moveTo>
                    <a:pt x="0" y="19"/>
                  </a:moveTo>
                  <a:lnTo>
                    <a:pt x="0" y="0"/>
                  </a:lnTo>
                  <a:lnTo>
                    <a:pt x="94" y="19"/>
                  </a:lnTo>
                  <a:lnTo>
                    <a:pt x="0" y="38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13040" y="2754360"/>
              <a:ext cx="452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03520" y="4317840"/>
              <a:ext cx="149040" cy="90720"/>
            </a:xfrm>
            <a:custGeom>
              <a:avLst/>
              <a:gdLst/>
              <a:ahLst/>
              <a:rect l="l" t="t" r="r" b="b"/>
              <a:pathLst>
                <a:path w="94" h="57">
                  <a:moveTo>
                    <a:pt x="94" y="38"/>
                  </a:moveTo>
                  <a:lnTo>
                    <a:pt x="94" y="57"/>
                  </a:lnTo>
                  <a:lnTo>
                    <a:pt x="0" y="38"/>
                  </a:lnTo>
                  <a:lnTo>
                    <a:pt x="94" y="0"/>
                  </a:lnTo>
                  <a:lnTo>
                    <a:pt x="94" y="3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65560" y="4317840"/>
              <a:ext cx="119160" cy="90720"/>
            </a:xfrm>
            <a:custGeom>
              <a:avLst/>
              <a:gdLst/>
              <a:ahLst/>
              <a:rect l="l" t="t" r="r" b="b"/>
              <a:pathLst>
                <a:path w="75" h="57">
                  <a:moveTo>
                    <a:pt x="0" y="38"/>
                  </a:moveTo>
                  <a:lnTo>
                    <a:pt x="0" y="0"/>
                  </a:lnTo>
                  <a:lnTo>
                    <a:pt x="75" y="38"/>
                  </a:lnTo>
                  <a:lnTo>
                    <a:pt x="0" y="57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52560" y="4378320"/>
              <a:ext cx="482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958160" y="4422600"/>
              <a:ext cx="1073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anager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92760" y="2212920"/>
              <a:ext cx="1022400" cy="992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114600" y="2577960"/>
              <a:ext cx="375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34200" y="3957480"/>
              <a:ext cx="1022400" cy="992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75120" y="4322880"/>
              <a:ext cx="375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75080" y="4017960"/>
              <a:ext cx="692280" cy="66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75080" y="4017960"/>
              <a:ext cx="722160" cy="692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92520" y="4202280"/>
              <a:ext cx="308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97680" y="2092320"/>
              <a:ext cx="1022400" cy="992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243640" y="2457360"/>
              <a:ext cx="375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5.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ervices provided for process group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969840" y="1311120"/>
            <a:ext cx="7783560" cy="4675320"/>
            <a:chOff x="969840" y="1311120"/>
            <a:chExt cx="7783560" cy="4675320"/>
          </a:xfrm>
        </p:grpSpPr>
        <p:sp>
          <p:nvSpPr>
            <p:cNvPr id="133" name=""/>
            <p:cNvSpPr/>
            <p:nvPr/>
          </p:nvSpPr>
          <p:spPr>
            <a:xfrm>
              <a:off x="3411360" y="1311120"/>
              <a:ext cx="2129040" cy="4675320"/>
            </a:xfrm>
            <a:prstGeom prst="ellipse">
              <a:avLst/>
            </a:prstGeom>
            <a:solidFill>
              <a:srgbClr val="ffdc99"/>
            </a:solidFill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80240" y="4905360"/>
              <a:ext cx="39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Joi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39440" y="1633680"/>
              <a:ext cx="60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61320" y="1893960"/>
              <a:ext cx="770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30280" y="2152800"/>
              <a:ext cx="988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xpans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981160" y="2386080"/>
              <a:ext cx="363600" cy="6490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97880" y="3736800"/>
              <a:ext cx="854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Multicas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58760" y="3997440"/>
              <a:ext cx="1456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ommunica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53960" y="293364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18760" y="2924280"/>
              <a:ext cx="60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31360" y="3244680"/>
              <a:ext cx="470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62400" y="3892680"/>
              <a:ext cx="351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ai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78280" y="3129120"/>
              <a:ext cx="130320" cy="77760"/>
            </a:xfrm>
            <a:custGeom>
              <a:avLst/>
              <a:gdLst/>
              <a:ahLst/>
              <a:rect l="l" t="t" r="r" b="b"/>
              <a:pathLst>
                <a:path w="82" h="49">
                  <a:moveTo>
                    <a:pt x="0" y="33"/>
                  </a:moveTo>
                  <a:lnTo>
                    <a:pt x="0" y="0"/>
                  </a:lnTo>
                  <a:lnTo>
                    <a:pt x="82" y="33"/>
                  </a:lnTo>
                  <a:lnTo>
                    <a:pt x="0" y="49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27360" y="3181320"/>
              <a:ext cx="20253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83040" y="2479680"/>
              <a:ext cx="128520" cy="13032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16" y="66"/>
                  </a:moveTo>
                  <a:lnTo>
                    <a:pt x="0" y="49"/>
                  </a:lnTo>
                  <a:lnTo>
                    <a:pt x="81" y="0"/>
                  </a:lnTo>
                  <a:lnTo>
                    <a:pt x="32" y="82"/>
                  </a:lnTo>
                  <a:lnTo>
                    <a:pt x="16" y="66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3411360" y="2584440"/>
              <a:ext cx="597240" cy="596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69840" y="2739960"/>
              <a:ext cx="882720" cy="857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0800" y="1778040"/>
              <a:ext cx="857160" cy="857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60800" y="2739960"/>
              <a:ext cx="857160" cy="857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60800" y="3726000"/>
              <a:ext cx="857160" cy="831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08600" y="3700440"/>
              <a:ext cx="129960" cy="103320"/>
            </a:xfrm>
            <a:custGeom>
              <a:avLst/>
              <a:gdLst/>
              <a:ahLst/>
              <a:rect l="l" t="t" r="r" b="b"/>
              <a:pathLst>
                <a:path w="82" h="65">
                  <a:moveTo>
                    <a:pt x="16" y="16"/>
                  </a:moveTo>
                  <a:lnTo>
                    <a:pt x="33" y="0"/>
                  </a:lnTo>
                  <a:lnTo>
                    <a:pt x="82" y="65"/>
                  </a:lnTo>
                  <a:lnTo>
                    <a:pt x="0" y="33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36920" y="3181320"/>
              <a:ext cx="596880" cy="51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92600" y="4738680"/>
              <a:ext cx="908280" cy="857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05480" y="5129280"/>
              <a:ext cx="129960" cy="77760"/>
            </a:xfrm>
            <a:custGeom>
              <a:avLst/>
              <a:gdLst/>
              <a:ahLst/>
              <a:rect l="l" t="t" r="r" b="b"/>
              <a:pathLst>
                <a:path w="82" h="49">
                  <a:moveTo>
                    <a:pt x="82" y="33"/>
                  </a:moveTo>
                  <a:lnTo>
                    <a:pt x="82" y="49"/>
                  </a:lnTo>
                  <a:lnTo>
                    <a:pt x="0" y="33"/>
                  </a:lnTo>
                  <a:lnTo>
                    <a:pt x="82" y="0"/>
                  </a:lnTo>
                  <a:lnTo>
                    <a:pt x="82" y="3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5409720" y="5181480"/>
              <a:ext cx="1047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5021280" y="5181480"/>
              <a:ext cx="2332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4760640" y="5181480"/>
              <a:ext cx="1047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480" y="4089240"/>
              <a:ext cx="129960" cy="79560"/>
            </a:xfrm>
            <a:custGeom>
              <a:avLst/>
              <a:gdLst/>
              <a:ahLst/>
              <a:rect l="l" t="t" r="r" b="b"/>
              <a:pathLst>
                <a:path w="82" h="50">
                  <a:moveTo>
                    <a:pt x="0" y="33"/>
                  </a:moveTo>
                  <a:lnTo>
                    <a:pt x="0" y="0"/>
                  </a:lnTo>
                  <a:lnTo>
                    <a:pt x="82" y="33"/>
                  </a:lnTo>
                  <a:lnTo>
                    <a:pt x="0" y="5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917960" y="4141800"/>
              <a:ext cx="103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03800" y="4141800"/>
              <a:ext cx="258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45160" y="4141800"/>
              <a:ext cx="103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02640" y="3770280"/>
              <a:ext cx="1850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roup membershi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14400" y="4005360"/>
              <a:ext cx="1262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5400" y="2854440"/>
              <a:ext cx="590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eav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48480" y="3076560"/>
              <a:ext cx="129960" cy="77760"/>
            </a:xfrm>
            <a:custGeom>
              <a:avLst/>
              <a:gdLst/>
              <a:ahLst/>
              <a:rect l="l" t="t" r="r" b="b"/>
              <a:pathLst>
                <a:path w="82" h="49">
                  <a:moveTo>
                    <a:pt x="0" y="33"/>
                  </a:moveTo>
                  <a:lnTo>
                    <a:pt x="0" y="0"/>
                  </a:lnTo>
                  <a:lnTo>
                    <a:pt x="82" y="33"/>
                  </a:lnTo>
                  <a:lnTo>
                    <a:pt x="0" y="49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17960" y="3129120"/>
              <a:ext cx="103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03800" y="3129120"/>
              <a:ext cx="2588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645160" y="3129120"/>
              <a:ext cx="103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5748120" y="3242880"/>
              <a:ext cx="1090440" cy="7016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5540040" y="3960720"/>
              <a:ext cx="1298520" cy="255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5410080" y="3960360"/>
              <a:ext cx="1428840" cy="9860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3281040" y="3554280"/>
              <a:ext cx="571320" cy="3636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3281040" y="3165480"/>
              <a:ext cx="493560" cy="7524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267000" y="2854440"/>
              <a:ext cx="441360" cy="10634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94040" y="5442120"/>
              <a:ext cx="1395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Process grou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62480" y="5595840"/>
              <a:ext cx="442800" cy="18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5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iew-synchronous group communica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755280" y="1239840"/>
            <a:ext cx="7915680" cy="4775040"/>
            <a:chOff x="755280" y="1239840"/>
            <a:chExt cx="7915680" cy="4775040"/>
          </a:xfrm>
        </p:grpSpPr>
        <p:sp>
          <p:nvSpPr>
            <p:cNvPr id="181" name=""/>
            <p:cNvSpPr/>
            <p:nvPr/>
          </p:nvSpPr>
          <p:spPr>
            <a:xfrm>
              <a:off x="4316400" y="18320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0" y="28"/>
                  </a:moveTo>
                  <a:lnTo>
                    <a:pt x="0" y="0"/>
                  </a:lnTo>
                  <a:lnTo>
                    <a:pt x="56" y="28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03520" y="1876320"/>
              <a:ext cx="259056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16400" y="2255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0" y="28"/>
                  </a:moveTo>
                  <a:lnTo>
                    <a:pt x="0" y="0"/>
                  </a:lnTo>
                  <a:lnTo>
                    <a:pt x="56" y="28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03520" y="2300400"/>
              <a:ext cx="25905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16400" y="2679840"/>
              <a:ext cx="88920" cy="112680"/>
            </a:xfrm>
            <a:custGeom>
              <a:avLst/>
              <a:gdLst/>
              <a:ahLst/>
              <a:rect l="l" t="t" r="r" b="b"/>
              <a:pathLst>
                <a:path w="56" h="71">
                  <a:moveTo>
                    <a:pt x="0" y="43"/>
                  </a:moveTo>
                  <a:lnTo>
                    <a:pt x="0" y="0"/>
                  </a:lnTo>
                  <a:lnTo>
                    <a:pt x="56" y="43"/>
                  </a:lnTo>
                  <a:lnTo>
                    <a:pt x="0" y="7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03520" y="2747880"/>
              <a:ext cx="259056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45840" y="17463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45840" y="21700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63120" y="266868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17760" y="1765440"/>
              <a:ext cx="223920" cy="244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417760" y="1765440"/>
              <a:ext cx="223920" cy="244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3840" y="1965240"/>
              <a:ext cx="90720" cy="9072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15" y="14"/>
                  </a:moveTo>
                  <a:lnTo>
                    <a:pt x="29" y="0"/>
                  </a:lnTo>
                  <a:lnTo>
                    <a:pt x="57" y="57"/>
                  </a:lnTo>
                  <a:lnTo>
                    <a:pt x="0" y="43"/>
                  </a:lnTo>
                  <a:lnTo>
                    <a:pt x="15" y="14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82960" y="1876320"/>
              <a:ext cx="134640" cy="1112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060640" y="2077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0"/>
                  </a:lnTo>
                  <a:lnTo>
                    <a:pt x="42" y="56"/>
                  </a:lnTo>
                  <a:lnTo>
                    <a:pt x="0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82960" y="1876320"/>
              <a:ext cx="21960" cy="2016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28840" y="2077920"/>
              <a:ext cx="111240" cy="1335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2328480" y="2077920"/>
              <a:ext cx="111240" cy="1335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82960" y="2166840"/>
              <a:ext cx="110880" cy="1112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082960" y="2166840"/>
              <a:ext cx="110880" cy="1112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94040" y="1541520"/>
              <a:ext cx="1440" cy="223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71720" y="1652760"/>
              <a:ext cx="1440" cy="457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1927080" y="1787400"/>
              <a:ext cx="2232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1904760" y="1898640"/>
              <a:ext cx="2196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1882800" y="2033640"/>
              <a:ext cx="2232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1859040" y="2166840"/>
              <a:ext cx="2376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836720" y="2300400"/>
              <a:ext cx="144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14"/>
                  </a:lnTo>
                  <a:lnTo>
                    <a:pt x="0" y="28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814400" y="2435400"/>
              <a:ext cx="2232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14400" y="2568600"/>
              <a:ext cx="180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92440" y="2679840"/>
              <a:ext cx="1440" cy="45720"/>
            </a:xfrm>
            <a:custGeom>
              <a:avLst/>
              <a:gdLst/>
              <a:ahLst/>
              <a:rect l="l" t="t" r="r" b="b"/>
              <a:pathLst>
                <a:path w="0" h="29">
                  <a:moveTo>
                    <a:pt x="0" y="0"/>
                  </a:moveTo>
                  <a:lnTo>
                    <a:pt x="0" y="14"/>
                  </a:lnTo>
                  <a:lnTo>
                    <a:pt x="0" y="29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92440" y="2814480"/>
              <a:ext cx="2196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14400" y="2948040"/>
              <a:ext cx="180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14400" y="3083040"/>
              <a:ext cx="1800" cy="219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4680" y="2077920"/>
              <a:ext cx="1800" cy="223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98960" y="2189160"/>
              <a:ext cx="144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54320" y="2322360"/>
              <a:ext cx="1800" cy="46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54320" y="2457360"/>
              <a:ext cx="180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3132000" y="2590920"/>
              <a:ext cx="2232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32000" y="2725560"/>
              <a:ext cx="180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10040" y="2859120"/>
              <a:ext cx="144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65400" y="2992320"/>
              <a:ext cx="1800" cy="223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77720" y="1508040"/>
              <a:ext cx="832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 crash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09080" y="3063960"/>
              <a:ext cx="842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view (q, r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23440" y="3152880"/>
              <a:ext cx="1055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view (p, q, r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558280" y="1832040"/>
              <a:ext cx="9036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0" y="28"/>
                  </a:moveTo>
                  <a:lnTo>
                    <a:pt x="0" y="0"/>
                  </a:lnTo>
                  <a:lnTo>
                    <a:pt x="57" y="28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46840" y="1876320"/>
              <a:ext cx="258912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558280" y="2255760"/>
              <a:ext cx="9036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0" y="28"/>
                  </a:moveTo>
                  <a:lnTo>
                    <a:pt x="0" y="0"/>
                  </a:lnTo>
                  <a:lnTo>
                    <a:pt x="57" y="28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46840" y="2300400"/>
              <a:ext cx="25891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558280" y="2679840"/>
              <a:ext cx="9036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0" y="29"/>
                  </a:moveTo>
                  <a:lnTo>
                    <a:pt x="0" y="0"/>
                  </a:lnTo>
                  <a:lnTo>
                    <a:pt x="57" y="29"/>
                  </a:lnTo>
                  <a:lnTo>
                    <a:pt x="0" y="57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46840" y="2725560"/>
              <a:ext cx="258912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85920" y="17240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85920" y="21700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01760" y="261612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61080" y="1765440"/>
              <a:ext cx="200160" cy="2221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6661080" y="1765440"/>
              <a:ext cx="200160" cy="2221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38920" y="2211480"/>
              <a:ext cx="88920" cy="66600"/>
            </a:xfrm>
            <a:custGeom>
              <a:avLst/>
              <a:gdLst/>
              <a:ahLst/>
              <a:rect l="l" t="t" r="r" b="b"/>
              <a:pathLst>
                <a:path w="56" h="42">
                  <a:moveTo>
                    <a:pt x="14" y="14"/>
                  </a:moveTo>
                  <a:lnTo>
                    <a:pt x="28" y="0"/>
                  </a:lnTo>
                  <a:lnTo>
                    <a:pt x="56" y="42"/>
                  </a:lnTo>
                  <a:lnTo>
                    <a:pt x="0" y="42"/>
                  </a:lnTo>
                  <a:lnTo>
                    <a:pt x="14" y="14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26280" y="1876320"/>
              <a:ext cx="512640" cy="3571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85160" y="2635200"/>
              <a:ext cx="88920" cy="9036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28" y="14"/>
                  </a:moveTo>
                  <a:lnTo>
                    <a:pt x="42" y="0"/>
                  </a:lnTo>
                  <a:lnTo>
                    <a:pt x="56" y="57"/>
                  </a:lnTo>
                  <a:lnTo>
                    <a:pt x="0" y="42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26280" y="1876320"/>
              <a:ext cx="780840" cy="7812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235560" y="1541520"/>
              <a:ext cx="1800" cy="223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6191280" y="1652760"/>
              <a:ext cx="22320" cy="457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168960" y="1765440"/>
              <a:ext cx="2232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6146640" y="1898640"/>
              <a:ext cx="2232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6124320" y="2033640"/>
              <a:ext cx="2196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02360" y="2166840"/>
              <a:ext cx="144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080040" y="2300400"/>
              <a:ext cx="180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58080" y="2413080"/>
              <a:ext cx="144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6035760" y="2546280"/>
              <a:ext cx="2232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35760" y="2679840"/>
              <a:ext cx="1440" cy="45720"/>
            </a:xfrm>
            <a:custGeom>
              <a:avLst/>
              <a:gdLst/>
              <a:ahLst/>
              <a:rect l="l" t="t" r="r" b="b"/>
              <a:pathLst>
                <a:path w="0" h="29">
                  <a:moveTo>
                    <a:pt x="0" y="0"/>
                  </a:moveTo>
                  <a:lnTo>
                    <a:pt x="0" y="14"/>
                  </a:lnTo>
                  <a:lnTo>
                    <a:pt x="0" y="29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35760" y="2814480"/>
              <a:ext cx="144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58080" y="2948040"/>
              <a:ext cx="144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58080" y="3083040"/>
              <a:ext cx="1440" cy="219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86560" y="2077920"/>
              <a:ext cx="1800" cy="223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42280" y="2189160"/>
              <a:ext cx="144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397640" y="2322360"/>
              <a:ext cx="1800" cy="46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97640" y="2457360"/>
              <a:ext cx="180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75680" y="2590920"/>
              <a:ext cx="144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75680" y="2725560"/>
              <a:ext cx="144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331040" y="2859120"/>
              <a:ext cx="2232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08720" y="2992320"/>
              <a:ext cx="1800" cy="223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16360" y="1508040"/>
              <a:ext cx="832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 crash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47720" y="3063960"/>
              <a:ext cx="842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view (q, r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662080" y="3152880"/>
              <a:ext cx="1055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view (p, q, r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55280" y="1239840"/>
              <a:ext cx="99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 (allowed)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01920" y="1239840"/>
              <a:ext cx="99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 (allowed)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61040" y="4443480"/>
              <a:ext cx="66600" cy="112680"/>
            </a:xfrm>
            <a:custGeom>
              <a:avLst/>
              <a:gdLst/>
              <a:ahLst/>
              <a:rect l="l" t="t" r="r" b="b"/>
              <a:pathLst>
                <a:path w="42" h="71">
                  <a:moveTo>
                    <a:pt x="0" y="29"/>
                  </a:moveTo>
                  <a:lnTo>
                    <a:pt x="0" y="0"/>
                  </a:lnTo>
                  <a:lnTo>
                    <a:pt x="42" y="29"/>
                  </a:lnTo>
                  <a:lnTo>
                    <a:pt x="0" y="7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47800" y="4489560"/>
              <a:ext cx="25909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61040" y="4890960"/>
              <a:ext cx="66600" cy="8892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0" y="28"/>
                  </a:moveTo>
                  <a:lnTo>
                    <a:pt x="0" y="0"/>
                  </a:lnTo>
                  <a:lnTo>
                    <a:pt x="42" y="28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47800" y="4935600"/>
              <a:ext cx="25909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61040" y="5315040"/>
              <a:ext cx="66600" cy="8892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0" y="28"/>
                  </a:moveTo>
                  <a:lnTo>
                    <a:pt x="0" y="0"/>
                  </a:lnTo>
                  <a:lnTo>
                    <a:pt x="42" y="28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47800" y="5359320"/>
              <a:ext cx="259092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585440" y="43578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85440" y="48052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01280" y="522936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2016000" y="4154400"/>
              <a:ext cx="22320" cy="223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1993680" y="4265640"/>
              <a:ext cx="2196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1971720" y="4398840"/>
              <a:ext cx="2232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49400" y="4533840"/>
              <a:ext cx="180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927080" y="4667400"/>
              <a:ext cx="180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05120" y="4778280"/>
              <a:ext cx="1440" cy="46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882800" y="4913280"/>
              <a:ext cx="144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14"/>
                  </a:lnTo>
                  <a:lnTo>
                    <a:pt x="0" y="28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859040" y="5046840"/>
              <a:ext cx="144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1836720" y="5181480"/>
              <a:ext cx="2232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836720" y="5315040"/>
              <a:ext cx="144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14"/>
                  </a:lnTo>
                  <a:lnTo>
                    <a:pt x="0" y="28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36720" y="5448240"/>
              <a:ext cx="144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59040" y="5583240"/>
              <a:ext cx="144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59040" y="5694480"/>
              <a:ext cx="1440" cy="219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61600" y="5786280"/>
              <a:ext cx="1055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view (p, q, r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602560" y="4443480"/>
              <a:ext cx="68400" cy="90360"/>
            </a:xfrm>
            <a:custGeom>
              <a:avLst/>
              <a:gdLst/>
              <a:ahLst/>
              <a:rect l="l" t="t" r="r" b="b"/>
              <a:pathLst>
                <a:path w="43" h="57">
                  <a:moveTo>
                    <a:pt x="0" y="29"/>
                  </a:moveTo>
                  <a:lnTo>
                    <a:pt x="0" y="0"/>
                  </a:lnTo>
                  <a:lnTo>
                    <a:pt x="43" y="29"/>
                  </a:lnTo>
                  <a:lnTo>
                    <a:pt x="0" y="57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69160" y="4489560"/>
              <a:ext cx="2611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602560" y="4869000"/>
              <a:ext cx="68400" cy="110880"/>
            </a:xfrm>
            <a:custGeom>
              <a:avLst/>
              <a:gdLst/>
              <a:ahLst/>
              <a:rect l="l" t="t" r="r" b="b"/>
              <a:pathLst>
                <a:path w="43" h="70">
                  <a:moveTo>
                    <a:pt x="0" y="28"/>
                  </a:moveTo>
                  <a:lnTo>
                    <a:pt x="0" y="0"/>
                  </a:lnTo>
                  <a:lnTo>
                    <a:pt x="43" y="28"/>
                  </a:lnTo>
                  <a:lnTo>
                    <a:pt x="0" y="7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69160" y="4913280"/>
              <a:ext cx="261144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602560" y="5315040"/>
              <a:ext cx="68400" cy="88920"/>
            </a:xfrm>
            <a:custGeom>
              <a:avLst/>
              <a:gdLst/>
              <a:ahLst/>
              <a:rect l="l" t="t" r="r" b="b"/>
              <a:pathLst>
                <a:path w="43" h="56">
                  <a:moveTo>
                    <a:pt x="0" y="28"/>
                  </a:moveTo>
                  <a:lnTo>
                    <a:pt x="0" y="0"/>
                  </a:lnTo>
                  <a:lnTo>
                    <a:pt x="43" y="28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69160" y="5359320"/>
              <a:ext cx="261144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24080" y="43578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824080" y="47829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41360" y="522936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05720" y="4376880"/>
              <a:ext cx="199800" cy="2458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6705360" y="4376880"/>
              <a:ext cx="199800" cy="2458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754760" y="4846680"/>
              <a:ext cx="111240" cy="88920"/>
            </a:xfrm>
            <a:custGeom>
              <a:avLst/>
              <a:gdLst/>
              <a:ahLst/>
              <a:rect l="l" t="t" r="r" b="b"/>
              <a:pathLst>
                <a:path w="70" h="56">
                  <a:moveTo>
                    <a:pt x="14" y="28"/>
                  </a:moveTo>
                  <a:lnTo>
                    <a:pt x="28" y="0"/>
                  </a:lnTo>
                  <a:lnTo>
                    <a:pt x="70" y="42"/>
                  </a:lnTo>
                  <a:lnTo>
                    <a:pt x="0" y="56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348240" y="4489560"/>
              <a:ext cx="1428840" cy="4014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129440" y="5248440"/>
              <a:ext cx="88920" cy="8856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28"/>
                  </a:moveTo>
                  <a:lnTo>
                    <a:pt x="42" y="0"/>
                  </a:lnTo>
                  <a:lnTo>
                    <a:pt x="56" y="56"/>
                  </a:lnTo>
                  <a:lnTo>
                    <a:pt x="0" y="42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92880" y="4489560"/>
              <a:ext cx="758880" cy="7808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6257880" y="4154400"/>
              <a:ext cx="23760" cy="223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6235560" y="4265640"/>
              <a:ext cx="2232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13600" y="4398840"/>
              <a:ext cx="144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191280" y="4533840"/>
              <a:ext cx="144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68960" y="4645080"/>
              <a:ext cx="180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46640" y="4778280"/>
              <a:ext cx="1800" cy="46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124680" y="4913280"/>
              <a:ext cx="144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14"/>
                  </a:lnTo>
                  <a:lnTo>
                    <a:pt x="0" y="28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102360" y="5046840"/>
              <a:ext cx="144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80040" y="5181480"/>
              <a:ext cx="180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80040" y="5315040"/>
              <a:ext cx="180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80040" y="5425920"/>
              <a:ext cx="180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80040" y="5560920"/>
              <a:ext cx="2232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02360" y="5694480"/>
              <a:ext cx="1440" cy="219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531200" y="4711680"/>
              <a:ext cx="1440" cy="223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7464240" y="4800600"/>
              <a:ext cx="21960" cy="46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42280" y="4935600"/>
              <a:ext cx="144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7419960" y="5068800"/>
              <a:ext cx="2232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19960" y="5203800"/>
              <a:ext cx="144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19960" y="5337000"/>
              <a:ext cx="144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7375320" y="5470560"/>
              <a:ext cx="21960" cy="46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53360" y="5605560"/>
              <a:ext cx="1440" cy="219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55960" y="4119480"/>
              <a:ext cx="832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 crash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87320" y="5675400"/>
              <a:ext cx="842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view (q, r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702040" y="5764320"/>
              <a:ext cx="1055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view (p, q, r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94160" y="3875040"/>
              <a:ext cx="1226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 (disallowed)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141160" y="3875040"/>
              <a:ext cx="1236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 (disallowed)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484360" y="4398840"/>
              <a:ext cx="201600" cy="2239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2484360" y="4398840"/>
              <a:ext cx="201600" cy="2239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422520" y="4869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0" y="28"/>
                  </a:moveTo>
                  <a:lnTo>
                    <a:pt x="14" y="0"/>
                  </a:lnTo>
                  <a:lnTo>
                    <a:pt x="56" y="42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49560" y="4511520"/>
              <a:ext cx="1272960" cy="379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267000" y="5248440"/>
              <a:ext cx="88920" cy="8856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14" y="28"/>
                  </a:moveTo>
                  <a:lnTo>
                    <a:pt x="28" y="0"/>
                  </a:lnTo>
                  <a:lnTo>
                    <a:pt x="56" y="56"/>
                  </a:lnTo>
                  <a:lnTo>
                    <a:pt x="0" y="56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149560" y="4511520"/>
              <a:ext cx="1117440" cy="7812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11640" y="4711680"/>
              <a:ext cx="1440" cy="223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67000" y="4824360"/>
              <a:ext cx="180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22720" y="4957920"/>
              <a:ext cx="144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22720" y="5091120"/>
              <a:ext cx="144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98960" y="5226120"/>
              <a:ext cx="144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198960" y="5359320"/>
              <a:ext cx="144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154320" y="5492880"/>
              <a:ext cx="22320" cy="46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32000" y="5627520"/>
              <a:ext cx="1800" cy="223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41080" y="4143240"/>
              <a:ext cx="832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 crash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72440" y="5697360"/>
              <a:ext cx="842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view (q, r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5.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passive (primary-backup) model for fault toleranc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750960" y="1692360"/>
            <a:ext cx="8140680" cy="3539880"/>
            <a:chOff x="750960" y="1692360"/>
            <a:chExt cx="8140680" cy="3539880"/>
          </a:xfrm>
        </p:grpSpPr>
        <p:sp>
          <p:nvSpPr>
            <p:cNvPr id="347" name=""/>
            <p:cNvSpPr/>
            <p:nvPr/>
          </p:nvSpPr>
          <p:spPr>
            <a:xfrm>
              <a:off x="4608360" y="1692360"/>
              <a:ext cx="4283280" cy="35398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315960" y="238284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72600" y="236520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5880" y="1974960"/>
              <a:ext cx="1203120" cy="1168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81040" y="429408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37680" y="424188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0960" y="3816360"/>
              <a:ext cx="1203120" cy="1203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04120" y="1798560"/>
              <a:ext cx="1203480" cy="1168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01560" y="2241720"/>
              <a:ext cx="456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080320" y="1709640"/>
              <a:ext cx="1009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86880" y="4754520"/>
              <a:ext cx="977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Backup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628040" y="2984400"/>
              <a:ext cx="977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Backup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935520" y="2471760"/>
              <a:ext cx="177840" cy="104760"/>
            </a:xfrm>
            <a:custGeom>
              <a:avLst/>
              <a:gdLst/>
              <a:ahLst/>
              <a:rect l="l" t="t" r="r" b="b"/>
              <a:pathLst>
                <a:path w="112" h="66">
                  <a:moveTo>
                    <a:pt x="90" y="44"/>
                  </a:moveTo>
                  <a:lnTo>
                    <a:pt x="90" y="66"/>
                  </a:lnTo>
                  <a:lnTo>
                    <a:pt x="0" y="44"/>
                  </a:lnTo>
                  <a:lnTo>
                    <a:pt x="112" y="0"/>
                  </a:lnTo>
                  <a:lnTo>
                    <a:pt x="90" y="44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749840" y="2541600"/>
              <a:ext cx="177840" cy="71280"/>
            </a:xfrm>
            <a:custGeom>
              <a:avLst/>
              <a:gdLst/>
              <a:ahLst/>
              <a:rect l="l" t="t" r="r" b="b"/>
              <a:pathLst>
                <a:path w="112" h="45">
                  <a:moveTo>
                    <a:pt x="0" y="22"/>
                  </a:moveTo>
                  <a:lnTo>
                    <a:pt x="0" y="0"/>
                  </a:lnTo>
                  <a:lnTo>
                    <a:pt x="112" y="22"/>
                  </a:lnTo>
                  <a:lnTo>
                    <a:pt x="0" y="45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3360" y="2541600"/>
              <a:ext cx="601560" cy="3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768760" y="4383000"/>
              <a:ext cx="141120" cy="104760"/>
            </a:xfrm>
            <a:custGeom>
              <a:avLst/>
              <a:gdLst/>
              <a:ahLst/>
              <a:rect l="l" t="t" r="r" b="b"/>
              <a:pathLst>
                <a:path w="89" h="66">
                  <a:moveTo>
                    <a:pt x="0" y="44"/>
                  </a:moveTo>
                  <a:lnTo>
                    <a:pt x="0" y="0"/>
                  </a:lnTo>
                  <a:lnTo>
                    <a:pt x="89" y="44"/>
                  </a:lnTo>
                  <a:lnTo>
                    <a:pt x="0" y="66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25720" y="4383000"/>
              <a:ext cx="141120" cy="104760"/>
            </a:xfrm>
            <a:custGeom>
              <a:avLst/>
              <a:gdLst/>
              <a:ahLst/>
              <a:rect l="l" t="t" r="r" b="b"/>
              <a:pathLst>
                <a:path w="89" h="66">
                  <a:moveTo>
                    <a:pt x="89" y="44"/>
                  </a:moveTo>
                  <a:lnTo>
                    <a:pt x="89" y="66"/>
                  </a:lnTo>
                  <a:lnTo>
                    <a:pt x="0" y="44"/>
                  </a:lnTo>
                  <a:lnTo>
                    <a:pt x="89" y="0"/>
                  </a:lnTo>
                  <a:lnTo>
                    <a:pt x="89" y="44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2201400" y="4452840"/>
              <a:ext cx="5302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03680" y="2471760"/>
              <a:ext cx="141120" cy="104760"/>
            </a:xfrm>
            <a:custGeom>
              <a:avLst/>
              <a:gdLst/>
              <a:ahLst/>
              <a:rect l="l" t="t" r="r" b="b"/>
              <a:pathLst>
                <a:path w="89" h="66">
                  <a:moveTo>
                    <a:pt x="0" y="44"/>
                  </a:moveTo>
                  <a:lnTo>
                    <a:pt x="0" y="0"/>
                  </a:lnTo>
                  <a:lnTo>
                    <a:pt x="89" y="44"/>
                  </a:lnTo>
                  <a:lnTo>
                    <a:pt x="0" y="66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060640" y="2471760"/>
              <a:ext cx="141120" cy="104760"/>
            </a:xfrm>
            <a:custGeom>
              <a:avLst/>
              <a:gdLst/>
              <a:ahLst/>
              <a:rect l="l" t="t" r="r" b="b"/>
              <a:pathLst>
                <a:path w="89" h="66">
                  <a:moveTo>
                    <a:pt x="89" y="44"/>
                  </a:moveTo>
                  <a:lnTo>
                    <a:pt x="89" y="66"/>
                  </a:lnTo>
                  <a:lnTo>
                    <a:pt x="0" y="44"/>
                  </a:lnTo>
                  <a:lnTo>
                    <a:pt x="89" y="0"/>
                  </a:lnTo>
                  <a:lnTo>
                    <a:pt x="89" y="44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2236680" y="2541600"/>
              <a:ext cx="532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00600" y="4029120"/>
              <a:ext cx="141120" cy="14112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67" y="22"/>
                  </a:moveTo>
                  <a:lnTo>
                    <a:pt x="89" y="44"/>
                  </a:lnTo>
                  <a:lnTo>
                    <a:pt x="0" y="89"/>
                  </a:lnTo>
                  <a:lnTo>
                    <a:pt x="45" y="0"/>
                  </a:lnTo>
                  <a:lnTo>
                    <a:pt x="67" y="22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27680" y="3073320"/>
              <a:ext cx="176040" cy="141480"/>
            </a:xfrm>
            <a:custGeom>
              <a:avLst/>
              <a:gdLst/>
              <a:ahLst/>
              <a:rect l="l" t="t" r="r" b="b"/>
              <a:pathLst>
                <a:path w="111" h="89">
                  <a:moveTo>
                    <a:pt x="22" y="66"/>
                  </a:moveTo>
                  <a:lnTo>
                    <a:pt x="0" y="44"/>
                  </a:lnTo>
                  <a:lnTo>
                    <a:pt x="111" y="0"/>
                  </a:lnTo>
                  <a:lnTo>
                    <a:pt x="44" y="89"/>
                  </a:lnTo>
                  <a:lnTo>
                    <a:pt x="22" y="66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4041720" y="3177720"/>
              <a:ext cx="920880" cy="88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11840" y="3178080"/>
              <a:ext cx="106200" cy="177840"/>
            </a:xfrm>
            <a:custGeom>
              <a:avLst/>
              <a:gdLst/>
              <a:ahLst/>
              <a:rect l="l" t="t" r="r" b="b"/>
              <a:pathLst>
                <a:path w="67" h="112">
                  <a:moveTo>
                    <a:pt x="45" y="112"/>
                  </a:moveTo>
                  <a:lnTo>
                    <a:pt x="22" y="112"/>
                  </a:lnTo>
                  <a:lnTo>
                    <a:pt x="0" y="0"/>
                  </a:lnTo>
                  <a:lnTo>
                    <a:pt x="67" y="90"/>
                  </a:lnTo>
                  <a:lnTo>
                    <a:pt x="45" y="112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989680" y="3710160"/>
              <a:ext cx="141120" cy="176040"/>
            </a:xfrm>
            <a:custGeom>
              <a:avLst/>
              <a:gdLst/>
              <a:ahLst/>
              <a:rect l="l" t="t" r="r" b="b"/>
              <a:pathLst>
                <a:path w="89" h="111">
                  <a:moveTo>
                    <a:pt x="44" y="0"/>
                  </a:moveTo>
                  <a:lnTo>
                    <a:pt x="66" y="0"/>
                  </a:lnTo>
                  <a:lnTo>
                    <a:pt x="89" y="111"/>
                  </a:lnTo>
                  <a:lnTo>
                    <a:pt x="0" y="2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83120" y="3355920"/>
              <a:ext cx="141480" cy="35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156440" y="2400480"/>
              <a:ext cx="177840" cy="106200"/>
            </a:xfrm>
            <a:custGeom>
              <a:avLst/>
              <a:gdLst/>
              <a:ahLst/>
              <a:rect l="l" t="t" r="r" b="b"/>
              <a:pathLst>
                <a:path w="112" h="67">
                  <a:moveTo>
                    <a:pt x="23" y="22"/>
                  </a:moveTo>
                  <a:lnTo>
                    <a:pt x="0" y="0"/>
                  </a:lnTo>
                  <a:lnTo>
                    <a:pt x="112" y="22"/>
                  </a:lnTo>
                  <a:lnTo>
                    <a:pt x="23" y="67"/>
                  </a:lnTo>
                  <a:lnTo>
                    <a:pt x="23" y="22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272280" y="2471760"/>
              <a:ext cx="176040" cy="69840"/>
            </a:xfrm>
            <a:custGeom>
              <a:avLst/>
              <a:gdLst/>
              <a:ahLst/>
              <a:rect l="l" t="t" r="r" b="b"/>
              <a:pathLst>
                <a:path w="111" h="44">
                  <a:moveTo>
                    <a:pt x="89" y="22"/>
                  </a:moveTo>
                  <a:lnTo>
                    <a:pt x="111" y="44"/>
                  </a:lnTo>
                  <a:lnTo>
                    <a:pt x="0" y="22"/>
                  </a:lnTo>
                  <a:lnTo>
                    <a:pt x="89" y="0"/>
                  </a:lnTo>
                  <a:lnTo>
                    <a:pt x="89" y="22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6447960" y="2435400"/>
              <a:ext cx="708120" cy="7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016080" y="4064040"/>
              <a:ext cx="849600" cy="814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051000" y="2152800"/>
              <a:ext cx="849600" cy="849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997520" y="2046240"/>
              <a:ext cx="1203120" cy="1168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350320" y="2454120"/>
              <a:ext cx="456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76920" y="3886200"/>
              <a:ext cx="1203480" cy="1168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55280" y="4329000"/>
              <a:ext cx="456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5.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tive replica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544680" y="1655640"/>
            <a:ext cx="8664480" cy="3513240"/>
            <a:chOff x="544680" y="1655640"/>
            <a:chExt cx="8664480" cy="3513240"/>
          </a:xfrm>
        </p:grpSpPr>
        <p:sp>
          <p:nvSpPr>
            <p:cNvPr id="385" name=""/>
            <p:cNvSpPr/>
            <p:nvPr/>
          </p:nvSpPr>
          <p:spPr>
            <a:xfrm>
              <a:off x="3676680" y="1655640"/>
              <a:ext cx="2430360" cy="35132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191360" y="3279600"/>
              <a:ext cx="308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610480" y="32796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213760" y="2943360"/>
              <a:ext cx="995400" cy="966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013520" y="3089160"/>
              <a:ext cx="703440" cy="70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6048000" y="3411360"/>
              <a:ext cx="9651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716960" y="3382920"/>
              <a:ext cx="145800" cy="87480"/>
            </a:xfrm>
            <a:custGeom>
              <a:avLst/>
              <a:gdLst/>
              <a:ahLst/>
              <a:rect l="l" t="t" r="r" b="b"/>
              <a:pathLst>
                <a:path w="92" h="55">
                  <a:moveTo>
                    <a:pt x="92" y="18"/>
                  </a:moveTo>
                  <a:lnTo>
                    <a:pt x="92" y="55"/>
                  </a:lnTo>
                  <a:lnTo>
                    <a:pt x="0" y="18"/>
                  </a:lnTo>
                  <a:lnTo>
                    <a:pt x="92" y="0"/>
                  </a:lnTo>
                  <a:lnTo>
                    <a:pt x="92" y="1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096400" y="3382920"/>
              <a:ext cx="147600" cy="87480"/>
            </a:xfrm>
            <a:custGeom>
              <a:avLst/>
              <a:gdLst/>
              <a:ahLst/>
              <a:rect l="l" t="t" r="r" b="b"/>
              <a:pathLst>
                <a:path w="93" h="55">
                  <a:moveTo>
                    <a:pt x="0" y="18"/>
                  </a:moveTo>
                  <a:lnTo>
                    <a:pt x="0" y="0"/>
                  </a:lnTo>
                  <a:lnTo>
                    <a:pt x="93" y="18"/>
                  </a:lnTo>
                  <a:lnTo>
                    <a:pt x="0" y="55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891560" y="3411360"/>
              <a:ext cx="204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57800" y="2592360"/>
              <a:ext cx="117360" cy="146160"/>
            </a:xfrm>
            <a:custGeom>
              <a:avLst/>
              <a:gdLst/>
              <a:ahLst/>
              <a:rect l="l" t="t" r="r" b="b"/>
              <a:pathLst>
                <a:path w="74" h="92">
                  <a:moveTo>
                    <a:pt x="55" y="55"/>
                  </a:moveTo>
                  <a:lnTo>
                    <a:pt x="18" y="92"/>
                  </a:lnTo>
                  <a:lnTo>
                    <a:pt x="0" y="0"/>
                  </a:lnTo>
                  <a:lnTo>
                    <a:pt x="74" y="37"/>
                  </a:lnTo>
                  <a:lnTo>
                    <a:pt x="55" y="55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 flipV="1">
              <a:off x="5344920" y="2709360"/>
              <a:ext cx="703080" cy="73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375160" y="3352680"/>
              <a:ext cx="87480" cy="147600"/>
            </a:xfrm>
            <a:custGeom>
              <a:avLst/>
              <a:gdLst/>
              <a:ahLst/>
              <a:rect l="l" t="t" r="r" b="b"/>
              <a:pathLst>
                <a:path w="55" h="93">
                  <a:moveTo>
                    <a:pt x="55" y="56"/>
                  </a:moveTo>
                  <a:lnTo>
                    <a:pt x="55" y="93"/>
                  </a:lnTo>
                  <a:lnTo>
                    <a:pt x="0" y="56"/>
                  </a:lnTo>
                  <a:lnTo>
                    <a:pt x="55" y="0"/>
                  </a:lnTo>
                  <a:lnTo>
                    <a:pt x="55" y="56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5491080" y="3441600"/>
              <a:ext cx="5572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229360" y="4084560"/>
              <a:ext cx="115920" cy="11772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55" y="19"/>
                  </a:moveTo>
                  <a:lnTo>
                    <a:pt x="73" y="56"/>
                  </a:lnTo>
                  <a:lnTo>
                    <a:pt x="0" y="74"/>
                  </a:lnTo>
                  <a:lnTo>
                    <a:pt x="18" y="0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5316120" y="3441600"/>
              <a:ext cx="731880" cy="6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867360" y="2973240"/>
              <a:ext cx="117720" cy="115920"/>
            </a:xfrm>
            <a:custGeom>
              <a:avLst/>
              <a:gdLst/>
              <a:ahLst/>
              <a:rect l="l" t="t" r="r" b="b"/>
              <a:pathLst>
                <a:path w="74" h="73">
                  <a:moveTo>
                    <a:pt x="19" y="37"/>
                  </a:moveTo>
                  <a:lnTo>
                    <a:pt x="37" y="0"/>
                  </a:lnTo>
                  <a:lnTo>
                    <a:pt x="74" y="55"/>
                  </a:lnTo>
                  <a:lnTo>
                    <a:pt x="0" y="73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75160" y="2387520"/>
              <a:ext cx="1492200" cy="64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67360" y="3733920"/>
              <a:ext cx="117720" cy="11736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19" y="37"/>
                  </a:moveTo>
                  <a:lnTo>
                    <a:pt x="0" y="0"/>
                  </a:lnTo>
                  <a:lnTo>
                    <a:pt x="74" y="19"/>
                  </a:lnTo>
                  <a:lnTo>
                    <a:pt x="19" y="74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5316480" y="3820680"/>
              <a:ext cx="1550880" cy="585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867360" y="3206880"/>
              <a:ext cx="117720" cy="11736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0" y="37"/>
                  </a:moveTo>
                  <a:lnTo>
                    <a:pt x="0" y="0"/>
                  </a:lnTo>
                  <a:lnTo>
                    <a:pt x="74" y="37"/>
                  </a:lnTo>
                  <a:lnTo>
                    <a:pt x="0" y="74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45280" y="3265560"/>
              <a:ext cx="1522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41360" y="3279600"/>
              <a:ext cx="308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23760" y="32796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44680" y="2943360"/>
              <a:ext cx="995040" cy="966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379760" y="2943360"/>
              <a:ext cx="995400" cy="966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67040" y="3279600"/>
              <a:ext cx="375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66760" y="3089160"/>
              <a:ext cx="703440" cy="70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379760" y="1801800"/>
              <a:ext cx="995400" cy="966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667040" y="2109960"/>
              <a:ext cx="375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379760" y="4114800"/>
              <a:ext cx="995400" cy="965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67040" y="4451400"/>
              <a:ext cx="375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739960" y="3411360"/>
              <a:ext cx="9669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92160" y="3382920"/>
              <a:ext cx="146160" cy="87480"/>
            </a:xfrm>
            <a:custGeom>
              <a:avLst/>
              <a:gdLst/>
              <a:ahLst/>
              <a:rect l="l" t="t" r="r" b="b"/>
              <a:pathLst>
                <a:path w="92" h="55">
                  <a:moveTo>
                    <a:pt x="0" y="18"/>
                  </a:moveTo>
                  <a:lnTo>
                    <a:pt x="0" y="0"/>
                  </a:lnTo>
                  <a:lnTo>
                    <a:pt x="92" y="18"/>
                  </a:lnTo>
                  <a:lnTo>
                    <a:pt x="0" y="55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511280" y="3382920"/>
              <a:ext cx="146160" cy="87480"/>
            </a:xfrm>
            <a:custGeom>
              <a:avLst/>
              <a:gdLst/>
              <a:ahLst/>
              <a:rect l="l" t="t" r="r" b="b"/>
              <a:pathLst>
                <a:path w="92" h="55">
                  <a:moveTo>
                    <a:pt x="92" y="18"/>
                  </a:moveTo>
                  <a:lnTo>
                    <a:pt x="92" y="55"/>
                  </a:lnTo>
                  <a:lnTo>
                    <a:pt x="0" y="18"/>
                  </a:lnTo>
                  <a:lnTo>
                    <a:pt x="92" y="0"/>
                  </a:lnTo>
                  <a:lnTo>
                    <a:pt x="92" y="1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1657080" y="3411360"/>
              <a:ext cx="204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79760" y="2592360"/>
              <a:ext cx="117720" cy="146160"/>
            </a:xfrm>
            <a:custGeom>
              <a:avLst/>
              <a:gdLst/>
              <a:ahLst/>
              <a:rect l="l" t="t" r="r" b="b"/>
              <a:pathLst>
                <a:path w="74" h="92">
                  <a:moveTo>
                    <a:pt x="18" y="55"/>
                  </a:moveTo>
                  <a:lnTo>
                    <a:pt x="0" y="37"/>
                  </a:lnTo>
                  <a:lnTo>
                    <a:pt x="74" y="0"/>
                  </a:lnTo>
                  <a:lnTo>
                    <a:pt x="55" y="92"/>
                  </a:lnTo>
                  <a:lnTo>
                    <a:pt x="18" y="55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3706920" y="2709360"/>
              <a:ext cx="701640" cy="73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292640" y="3352680"/>
              <a:ext cx="115920" cy="147600"/>
            </a:xfrm>
            <a:custGeom>
              <a:avLst/>
              <a:gdLst/>
              <a:ahLst/>
              <a:rect l="l" t="t" r="r" b="b"/>
              <a:pathLst>
                <a:path w="73" h="93">
                  <a:moveTo>
                    <a:pt x="0" y="56"/>
                  </a:moveTo>
                  <a:lnTo>
                    <a:pt x="0" y="0"/>
                  </a:lnTo>
                  <a:lnTo>
                    <a:pt x="73" y="56"/>
                  </a:lnTo>
                  <a:lnTo>
                    <a:pt x="0" y="93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735360" y="3441600"/>
              <a:ext cx="5270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408560" y="4084560"/>
              <a:ext cx="117360" cy="11772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19" y="19"/>
                  </a:moveTo>
                  <a:lnTo>
                    <a:pt x="56" y="0"/>
                  </a:lnTo>
                  <a:lnTo>
                    <a:pt x="74" y="74"/>
                  </a:lnTo>
                  <a:lnTo>
                    <a:pt x="0" y="56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706920" y="3441600"/>
              <a:ext cx="731880" cy="67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770200" y="2973240"/>
              <a:ext cx="11592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55" y="37"/>
                  </a:moveTo>
                  <a:lnTo>
                    <a:pt x="73" y="73"/>
                  </a:lnTo>
                  <a:lnTo>
                    <a:pt x="0" y="55"/>
                  </a:lnTo>
                  <a:lnTo>
                    <a:pt x="37" y="0"/>
                  </a:lnTo>
                  <a:lnTo>
                    <a:pt x="55" y="3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2885760" y="2387520"/>
              <a:ext cx="1493640" cy="64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70200" y="3733920"/>
              <a:ext cx="11592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55" y="37"/>
                  </a:moveTo>
                  <a:lnTo>
                    <a:pt x="55" y="74"/>
                  </a:lnTo>
                  <a:lnTo>
                    <a:pt x="0" y="19"/>
                  </a:lnTo>
                  <a:lnTo>
                    <a:pt x="73" y="0"/>
                  </a:lnTo>
                  <a:lnTo>
                    <a:pt x="55" y="3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 flipV="1">
              <a:off x="2885760" y="3820680"/>
              <a:ext cx="1552680" cy="585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770200" y="3206880"/>
              <a:ext cx="11592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73" y="37"/>
                  </a:moveTo>
                  <a:lnTo>
                    <a:pt x="73" y="74"/>
                  </a:lnTo>
                  <a:lnTo>
                    <a:pt x="0" y="37"/>
                  </a:lnTo>
                  <a:lnTo>
                    <a:pt x="73" y="0"/>
                  </a:lnTo>
                  <a:lnTo>
                    <a:pt x="73" y="3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2885760" y="3265560"/>
              <a:ext cx="1552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5.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Query and update operations in a gossip servic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754880" y="1227240"/>
            <a:ext cx="76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2272680" y="1508040"/>
            <a:ext cx="5536800" cy="4687920"/>
            <a:chOff x="2272680" y="1508040"/>
            <a:chExt cx="5536800" cy="4687920"/>
          </a:xfrm>
        </p:grpSpPr>
        <p:sp>
          <p:nvSpPr>
            <p:cNvPr id="435" name=""/>
            <p:cNvSpPr/>
            <p:nvPr/>
          </p:nvSpPr>
          <p:spPr>
            <a:xfrm>
              <a:off x="2860560" y="3978360"/>
              <a:ext cx="1516320" cy="22176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08600" y="3949560"/>
              <a:ext cx="1515960" cy="2217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707160" y="3838680"/>
              <a:ext cx="55440" cy="139680"/>
            </a:xfrm>
            <a:custGeom>
              <a:avLst/>
              <a:gdLst/>
              <a:ahLst/>
              <a:rect l="l" t="t" r="r" b="b"/>
              <a:pathLst>
                <a:path w="35" h="88">
                  <a:moveTo>
                    <a:pt x="17" y="0"/>
                  </a:moveTo>
                  <a:lnTo>
                    <a:pt x="35" y="0"/>
                  </a:lnTo>
                  <a:lnTo>
                    <a:pt x="17" y="88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734160" y="3416400"/>
              <a:ext cx="1440" cy="39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759120" y="3809880"/>
              <a:ext cx="55800" cy="139680"/>
            </a:xfrm>
            <a:custGeom>
              <a:avLst/>
              <a:gdLst/>
              <a:ahLst/>
              <a:rect l="l" t="t" r="r" b="b"/>
              <a:pathLst>
                <a:path w="35" h="88">
                  <a:moveTo>
                    <a:pt x="18" y="0"/>
                  </a:moveTo>
                  <a:lnTo>
                    <a:pt x="35" y="0"/>
                  </a:lnTo>
                  <a:lnTo>
                    <a:pt x="18" y="88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787920" y="3416400"/>
              <a:ext cx="1440" cy="39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39040" y="4651200"/>
              <a:ext cx="55440" cy="141480"/>
            </a:xfrm>
            <a:custGeom>
              <a:avLst/>
              <a:gdLst/>
              <a:ahLst/>
              <a:rect l="l" t="t" r="r" b="b"/>
              <a:pathLst>
                <a:path w="35" h="89">
                  <a:moveTo>
                    <a:pt x="17" y="89"/>
                  </a:moveTo>
                  <a:lnTo>
                    <a:pt x="0" y="89"/>
                  </a:lnTo>
                  <a:lnTo>
                    <a:pt x="17" y="0"/>
                  </a:lnTo>
                  <a:lnTo>
                    <a:pt x="35" y="89"/>
                  </a:lnTo>
                  <a:lnTo>
                    <a:pt x="17" y="8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6566040" y="4792320"/>
              <a:ext cx="144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422520" y="4624560"/>
              <a:ext cx="55800" cy="139680"/>
            </a:xfrm>
            <a:custGeom>
              <a:avLst/>
              <a:gdLst/>
              <a:ahLst/>
              <a:rect l="l" t="t" r="r" b="b"/>
              <a:pathLst>
                <a:path w="35" h="88">
                  <a:moveTo>
                    <a:pt x="17" y="88"/>
                  </a:moveTo>
                  <a:lnTo>
                    <a:pt x="0" y="88"/>
                  </a:lnTo>
                  <a:lnTo>
                    <a:pt x="17" y="0"/>
                  </a:lnTo>
                  <a:lnTo>
                    <a:pt x="35" y="88"/>
                  </a:lnTo>
                  <a:lnTo>
                    <a:pt x="17" y="8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3449520" y="4792320"/>
              <a:ext cx="1800" cy="39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30680" y="4960800"/>
              <a:ext cx="57240" cy="139680"/>
            </a:xfrm>
            <a:custGeom>
              <a:avLst/>
              <a:gdLst/>
              <a:ahLst/>
              <a:rect l="l" t="t" r="r" b="b"/>
              <a:pathLst>
                <a:path w="36" h="88">
                  <a:moveTo>
                    <a:pt x="18" y="0"/>
                  </a:moveTo>
                  <a:lnTo>
                    <a:pt x="36" y="0"/>
                  </a:lnTo>
                  <a:lnTo>
                    <a:pt x="18" y="88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759120" y="4567320"/>
              <a:ext cx="1800" cy="39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03680" y="483228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913200" y="483228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747880" y="1508040"/>
              <a:ext cx="4687920" cy="19083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38640" y="4006800"/>
              <a:ext cx="58896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38640" y="4006800"/>
              <a:ext cx="617400" cy="588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170160" y="5129280"/>
              <a:ext cx="925560" cy="925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490200" y="414504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170160" y="2462040"/>
              <a:ext cx="954000" cy="927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449520" y="2781360"/>
              <a:ext cx="35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89760" y="2435400"/>
              <a:ext cx="954000" cy="925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383160" y="2752560"/>
              <a:ext cx="35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629240" y="1620720"/>
              <a:ext cx="898560" cy="925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881600" y="1938240"/>
              <a:ext cx="35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72680" y="3625920"/>
              <a:ext cx="750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960640" y="36259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912840" y="362592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362840" y="3625920"/>
              <a:ext cx="41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658560" y="4832280"/>
              <a:ext cx="73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p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57880" y="4006800"/>
              <a:ext cx="61776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57880" y="4006800"/>
              <a:ext cx="644400" cy="588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116760" y="5129280"/>
              <a:ext cx="898560" cy="925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438240" y="414504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78520" y="3625920"/>
              <a:ext cx="863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pdate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878440" y="36259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833520" y="3625920"/>
              <a:ext cx="975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pdate 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422520" y="3473280"/>
              <a:ext cx="55800" cy="140040"/>
            </a:xfrm>
            <a:custGeom>
              <a:avLst/>
              <a:gdLst/>
              <a:ahLst/>
              <a:rect l="l" t="t" r="r" b="b"/>
              <a:pathLst>
                <a:path w="35" h="88">
                  <a:moveTo>
                    <a:pt x="17" y="88"/>
                  </a:moveTo>
                  <a:lnTo>
                    <a:pt x="0" y="88"/>
                  </a:lnTo>
                  <a:lnTo>
                    <a:pt x="17" y="0"/>
                  </a:lnTo>
                  <a:lnTo>
                    <a:pt x="35" y="88"/>
                  </a:lnTo>
                  <a:lnTo>
                    <a:pt x="17" y="8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3449520" y="3641760"/>
              <a:ext cx="1800" cy="36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369120" y="3473280"/>
              <a:ext cx="57240" cy="140040"/>
            </a:xfrm>
            <a:custGeom>
              <a:avLst/>
              <a:gdLst/>
              <a:ahLst/>
              <a:rect l="l" t="t" r="r" b="b"/>
              <a:pathLst>
                <a:path w="36" h="88">
                  <a:moveTo>
                    <a:pt x="18" y="88"/>
                  </a:moveTo>
                  <a:lnTo>
                    <a:pt x="0" y="88"/>
                  </a:lnTo>
                  <a:lnTo>
                    <a:pt x="18" y="0"/>
                  </a:lnTo>
                  <a:lnTo>
                    <a:pt x="36" y="88"/>
                  </a:lnTo>
                  <a:lnTo>
                    <a:pt x="18" y="8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6397560" y="3641760"/>
              <a:ext cx="1800" cy="36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839120" y="5194440"/>
              <a:ext cx="69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3983040" y="5325840"/>
              <a:ext cx="814320" cy="2235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 flipV="1">
              <a:off x="5667480" y="5353200"/>
              <a:ext cx="590400" cy="1965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24160" y="2546280"/>
              <a:ext cx="140040" cy="84240"/>
            </a:xfrm>
            <a:custGeom>
              <a:avLst/>
              <a:gdLst/>
              <a:ahLst/>
              <a:rect l="l" t="t" r="r" b="b"/>
              <a:pathLst>
                <a:path w="88" h="53">
                  <a:moveTo>
                    <a:pt x="71" y="36"/>
                  </a:moveTo>
                  <a:lnTo>
                    <a:pt x="88" y="53"/>
                  </a:lnTo>
                  <a:lnTo>
                    <a:pt x="0" y="53"/>
                  </a:lnTo>
                  <a:lnTo>
                    <a:pt x="71" y="0"/>
                  </a:lnTo>
                  <a:lnTo>
                    <a:pt x="71" y="36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89560" y="2462040"/>
              <a:ext cx="139680" cy="84240"/>
            </a:xfrm>
            <a:custGeom>
              <a:avLst/>
              <a:gdLst/>
              <a:ahLst/>
              <a:rect l="l" t="t" r="r" b="b"/>
              <a:pathLst>
                <a:path w="88" h="53">
                  <a:moveTo>
                    <a:pt x="0" y="18"/>
                  </a:moveTo>
                  <a:lnTo>
                    <a:pt x="0" y="0"/>
                  </a:lnTo>
                  <a:lnTo>
                    <a:pt x="88" y="0"/>
                  </a:lnTo>
                  <a:lnTo>
                    <a:pt x="17" y="5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4264200" y="2518920"/>
              <a:ext cx="225360" cy="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37200" y="2911320"/>
              <a:ext cx="110880" cy="8424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70" y="18"/>
                  </a:moveTo>
                  <a:lnTo>
                    <a:pt x="70" y="53"/>
                  </a:lnTo>
                  <a:lnTo>
                    <a:pt x="0" y="18"/>
                  </a:lnTo>
                  <a:lnTo>
                    <a:pt x="70" y="0"/>
                  </a:lnTo>
                  <a:lnTo>
                    <a:pt x="70" y="1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35600" y="2911320"/>
              <a:ext cx="141480" cy="84240"/>
            </a:xfrm>
            <a:custGeom>
              <a:avLst/>
              <a:gdLst/>
              <a:ahLst/>
              <a:rect l="l" t="t" r="r" b="b"/>
              <a:pathLst>
                <a:path w="89" h="53">
                  <a:moveTo>
                    <a:pt x="0" y="18"/>
                  </a:moveTo>
                  <a:lnTo>
                    <a:pt x="0" y="0"/>
                  </a:lnTo>
                  <a:lnTo>
                    <a:pt x="89" y="18"/>
                  </a:lnTo>
                  <a:lnTo>
                    <a:pt x="0" y="5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376880" y="2940120"/>
              <a:ext cx="1431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472000" y="2406600"/>
              <a:ext cx="139680" cy="84240"/>
            </a:xfrm>
            <a:custGeom>
              <a:avLst/>
              <a:gdLst/>
              <a:ahLst/>
              <a:rect l="l" t="t" r="r" b="b"/>
              <a:pathLst>
                <a:path w="88" h="53">
                  <a:moveTo>
                    <a:pt x="88" y="35"/>
                  </a:moveTo>
                  <a:lnTo>
                    <a:pt x="70" y="53"/>
                  </a:lnTo>
                  <a:lnTo>
                    <a:pt x="0" y="0"/>
                  </a:lnTo>
                  <a:lnTo>
                    <a:pt x="88" y="0"/>
                  </a:lnTo>
                  <a:lnTo>
                    <a:pt x="88" y="35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948280" y="2575080"/>
              <a:ext cx="141480" cy="112680"/>
            </a:xfrm>
            <a:custGeom>
              <a:avLst/>
              <a:gdLst/>
              <a:ahLst/>
              <a:rect l="l" t="t" r="r" b="b"/>
              <a:pathLst>
                <a:path w="89" h="71">
                  <a:moveTo>
                    <a:pt x="18" y="35"/>
                  </a:moveTo>
                  <a:lnTo>
                    <a:pt x="18" y="0"/>
                  </a:lnTo>
                  <a:lnTo>
                    <a:pt x="89" y="71"/>
                  </a:lnTo>
                  <a:lnTo>
                    <a:pt x="0" y="53"/>
                  </a:lnTo>
                  <a:lnTo>
                    <a:pt x="18" y="35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11680" y="2462040"/>
              <a:ext cx="336600" cy="14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699440" y="2608200"/>
              <a:ext cx="659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oss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5.7</a:t>
            </a:r>
            <a:br>
              <a:rPr sz="2000"/>
            </a:b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Front ends propagate their timestamps whenever clients communicate directly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2654280" y="1309680"/>
            <a:ext cx="4540320" cy="4822920"/>
            <a:chOff x="2654280" y="1309680"/>
            <a:chExt cx="4540320" cy="4822920"/>
          </a:xfrm>
        </p:grpSpPr>
        <p:sp>
          <p:nvSpPr>
            <p:cNvPr id="491" name=""/>
            <p:cNvSpPr/>
            <p:nvPr/>
          </p:nvSpPr>
          <p:spPr>
            <a:xfrm>
              <a:off x="2790720" y="3984480"/>
              <a:ext cx="1467000" cy="21481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662440" y="3984480"/>
              <a:ext cx="1468440" cy="21481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654280" y="1619280"/>
              <a:ext cx="4540320" cy="18493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333600" y="4637160"/>
              <a:ext cx="54000" cy="136440"/>
            </a:xfrm>
            <a:custGeom>
              <a:avLst/>
              <a:gdLst/>
              <a:ahLst/>
              <a:rect l="l" t="t" r="r" b="b"/>
              <a:pathLst>
                <a:path w="34" h="86">
                  <a:moveTo>
                    <a:pt x="17" y="86"/>
                  </a:moveTo>
                  <a:lnTo>
                    <a:pt x="0" y="86"/>
                  </a:lnTo>
                  <a:lnTo>
                    <a:pt x="17" y="0"/>
                  </a:lnTo>
                  <a:lnTo>
                    <a:pt x="34" y="86"/>
                  </a:lnTo>
                  <a:lnTo>
                    <a:pt x="17" y="86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3360600" y="4773240"/>
              <a:ext cx="1800" cy="40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633840" y="4962600"/>
              <a:ext cx="54000" cy="10944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17" y="0"/>
                  </a:moveTo>
                  <a:lnTo>
                    <a:pt x="34" y="0"/>
                  </a:lnTo>
                  <a:lnTo>
                    <a:pt x="17" y="69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660840" y="4583160"/>
              <a:ext cx="144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252960" y="4038480"/>
              <a:ext cx="569880" cy="54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252960" y="4038480"/>
              <a:ext cx="598320" cy="571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89160" y="5126040"/>
              <a:ext cx="897120" cy="896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401280" y="417204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51920" y="5187960"/>
              <a:ext cx="69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li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080040" y="4038480"/>
              <a:ext cx="598680" cy="54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080040" y="4038480"/>
              <a:ext cx="625680" cy="571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943600" y="5126040"/>
              <a:ext cx="870120" cy="896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255720" y="417204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3822840" y="5316480"/>
              <a:ext cx="788760" cy="21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 flipV="1">
              <a:off x="5454720" y="5343120"/>
              <a:ext cx="59832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97920" y="1309680"/>
              <a:ext cx="761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333600" y="3522600"/>
              <a:ext cx="54000" cy="136440"/>
            </a:xfrm>
            <a:custGeom>
              <a:avLst/>
              <a:gdLst/>
              <a:ahLst/>
              <a:rect l="l" t="t" r="r" b="b"/>
              <a:pathLst>
                <a:path w="34" h="86">
                  <a:moveTo>
                    <a:pt x="17" y="86"/>
                  </a:moveTo>
                  <a:lnTo>
                    <a:pt x="0" y="86"/>
                  </a:lnTo>
                  <a:lnTo>
                    <a:pt x="17" y="0"/>
                  </a:lnTo>
                  <a:lnTo>
                    <a:pt x="34" y="86"/>
                  </a:lnTo>
                  <a:lnTo>
                    <a:pt x="17" y="86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3360600" y="3659040"/>
              <a:ext cx="1800" cy="37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660840" y="3848040"/>
              <a:ext cx="54000" cy="10944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17" y="0"/>
                  </a:moveTo>
                  <a:lnTo>
                    <a:pt x="34" y="0"/>
                  </a:lnTo>
                  <a:lnTo>
                    <a:pt x="17" y="69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87840" y="3468600"/>
              <a:ext cx="144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88040" y="3522600"/>
              <a:ext cx="5544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17" y="68"/>
                  </a:moveTo>
                  <a:lnTo>
                    <a:pt x="0" y="68"/>
                  </a:lnTo>
                  <a:lnTo>
                    <a:pt x="17" y="0"/>
                  </a:lnTo>
                  <a:lnTo>
                    <a:pt x="35" y="68"/>
                  </a:lnTo>
                  <a:lnTo>
                    <a:pt x="17" y="6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6215040" y="3659040"/>
              <a:ext cx="1440" cy="37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515280" y="3848040"/>
              <a:ext cx="53640" cy="136440"/>
            </a:xfrm>
            <a:custGeom>
              <a:avLst/>
              <a:gdLst/>
              <a:ahLst/>
              <a:rect l="l" t="t" r="r" b="b"/>
              <a:pathLst>
                <a:path w="34" h="86">
                  <a:moveTo>
                    <a:pt x="17" y="0"/>
                  </a:moveTo>
                  <a:lnTo>
                    <a:pt x="34" y="0"/>
                  </a:lnTo>
                  <a:lnTo>
                    <a:pt x="17" y="86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41920" y="3468600"/>
              <a:ext cx="1800" cy="37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889600" y="4255920"/>
              <a:ext cx="136440" cy="8280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0" y="34"/>
                  </a:moveTo>
                  <a:lnTo>
                    <a:pt x="0" y="0"/>
                  </a:lnTo>
                  <a:lnTo>
                    <a:pt x="86" y="34"/>
                  </a:lnTo>
                  <a:lnTo>
                    <a:pt x="0" y="52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78280" y="4255920"/>
              <a:ext cx="135000" cy="8280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85" y="34"/>
                  </a:moveTo>
                  <a:lnTo>
                    <a:pt x="85" y="52"/>
                  </a:lnTo>
                  <a:lnTo>
                    <a:pt x="0" y="34"/>
                  </a:lnTo>
                  <a:lnTo>
                    <a:pt x="85" y="0"/>
                  </a:lnTo>
                  <a:lnTo>
                    <a:pt x="85" y="34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4013280" y="4309920"/>
              <a:ext cx="18763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678200" y="4035600"/>
              <a:ext cx="660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379760" y="4308480"/>
              <a:ext cx="1168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stam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188040" y="4637160"/>
              <a:ext cx="5544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17" y="68"/>
                  </a:moveTo>
                  <a:lnTo>
                    <a:pt x="0" y="68"/>
                  </a:lnTo>
                  <a:lnTo>
                    <a:pt x="17" y="0"/>
                  </a:lnTo>
                  <a:lnTo>
                    <a:pt x="35" y="68"/>
                  </a:lnTo>
                  <a:lnTo>
                    <a:pt x="17" y="6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6215040" y="4773600"/>
              <a:ext cx="1440" cy="37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15280" y="4962600"/>
              <a:ext cx="53640" cy="136440"/>
            </a:xfrm>
            <a:custGeom>
              <a:avLst/>
              <a:gdLst/>
              <a:ahLst/>
              <a:rect l="l" t="t" r="r" b="b"/>
              <a:pathLst>
                <a:path w="34" h="86">
                  <a:moveTo>
                    <a:pt x="17" y="0"/>
                  </a:moveTo>
                  <a:lnTo>
                    <a:pt x="34" y="0"/>
                  </a:lnTo>
                  <a:lnTo>
                    <a:pt x="17" y="86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541920" y="4583160"/>
              <a:ext cx="1800" cy="37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062160" y="2489040"/>
              <a:ext cx="924120" cy="89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311640" y="2778120"/>
              <a:ext cx="35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889600" y="2462040"/>
              <a:ext cx="924120" cy="89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153120" y="2751120"/>
              <a:ext cx="35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475160" y="1673280"/>
              <a:ext cx="870120" cy="898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697280" y="1962000"/>
              <a:ext cx="35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986280" y="2598840"/>
              <a:ext cx="136440" cy="81000"/>
            </a:xfrm>
            <a:custGeom>
              <a:avLst/>
              <a:gdLst/>
              <a:ahLst/>
              <a:rect l="l" t="t" r="r" b="b"/>
              <a:pathLst>
                <a:path w="86" h="51">
                  <a:moveTo>
                    <a:pt x="69" y="17"/>
                  </a:moveTo>
                  <a:lnTo>
                    <a:pt x="86" y="34"/>
                  </a:lnTo>
                  <a:lnTo>
                    <a:pt x="0" y="51"/>
                  </a:lnTo>
                  <a:lnTo>
                    <a:pt x="69" y="0"/>
                  </a:lnTo>
                  <a:lnTo>
                    <a:pt x="69" y="1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340160" y="2489040"/>
              <a:ext cx="135000" cy="8280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0" y="34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17" y="52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4122720" y="2543040"/>
              <a:ext cx="217440" cy="8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068720" y="2924280"/>
              <a:ext cx="135000" cy="8244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85" y="17"/>
                  </a:moveTo>
                  <a:lnTo>
                    <a:pt x="85" y="52"/>
                  </a:lnTo>
                  <a:lnTo>
                    <a:pt x="0" y="17"/>
                  </a:lnTo>
                  <a:lnTo>
                    <a:pt x="85" y="0"/>
                  </a:lnTo>
                  <a:lnTo>
                    <a:pt x="85" y="1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645160" y="2924280"/>
              <a:ext cx="135000" cy="8244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0" y="17"/>
                  </a:moveTo>
                  <a:lnTo>
                    <a:pt x="0" y="0"/>
                  </a:lnTo>
                  <a:lnTo>
                    <a:pt x="85" y="17"/>
                  </a:lnTo>
                  <a:lnTo>
                    <a:pt x="0" y="52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230720" y="2951280"/>
              <a:ext cx="1387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91280" y="2435400"/>
              <a:ext cx="136440" cy="80640"/>
            </a:xfrm>
            <a:custGeom>
              <a:avLst/>
              <a:gdLst/>
              <a:ahLst/>
              <a:rect l="l" t="t" r="r" b="b"/>
              <a:pathLst>
                <a:path w="86" h="51">
                  <a:moveTo>
                    <a:pt x="69" y="34"/>
                  </a:moveTo>
                  <a:lnTo>
                    <a:pt x="69" y="51"/>
                  </a:lnTo>
                  <a:lnTo>
                    <a:pt x="0" y="0"/>
                  </a:lnTo>
                  <a:lnTo>
                    <a:pt x="86" y="17"/>
                  </a:lnTo>
                  <a:lnTo>
                    <a:pt x="69" y="34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753160" y="2625840"/>
              <a:ext cx="136440" cy="81000"/>
            </a:xfrm>
            <a:custGeom>
              <a:avLst/>
              <a:gdLst/>
              <a:ahLst/>
              <a:rect l="l" t="t" r="r" b="b"/>
              <a:pathLst>
                <a:path w="86" h="51">
                  <a:moveTo>
                    <a:pt x="17" y="17"/>
                  </a:moveTo>
                  <a:lnTo>
                    <a:pt x="17" y="0"/>
                  </a:lnTo>
                  <a:lnTo>
                    <a:pt x="86" y="51"/>
                  </a:lnTo>
                  <a:lnTo>
                    <a:pt x="0" y="34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427720" y="2489040"/>
              <a:ext cx="325440" cy="16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540680" y="2630520"/>
              <a:ext cx="659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oss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5.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gossip replica manager, showing its main state component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638720" y="1200240"/>
            <a:ext cx="1218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repli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841840" y="1200240"/>
            <a:ext cx="90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905760" y="1356840"/>
            <a:ext cx="7713720" cy="4893120"/>
            <a:chOff x="905760" y="1356840"/>
            <a:chExt cx="7713720" cy="4893120"/>
          </a:xfrm>
        </p:grpSpPr>
        <p:sp>
          <p:nvSpPr>
            <p:cNvPr id="547" name=""/>
            <p:cNvSpPr/>
            <p:nvPr/>
          </p:nvSpPr>
          <p:spPr>
            <a:xfrm>
              <a:off x="3181320" y="5243400"/>
              <a:ext cx="3672000" cy="6159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3444840" y="1357200"/>
              <a:ext cx="3333960" cy="906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91000" y="5586480"/>
              <a:ext cx="173160" cy="2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711760" y="5635800"/>
              <a:ext cx="195480" cy="2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054840" y="5684760"/>
              <a:ext cx="172800" cy="4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373800" y="5757840"/>
              <a:ext cx="196920" cy="2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18280" y="5611680"/>
              <a:ext cx="220680" cy="4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761080" y="5708520"/>
              <a:ext cx="220680" cy="2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78680" y="5783400"/>
              <a:ext cx="72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436760" y="2589120"/>
              <a:ext cx="7100640" cy="22352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657440" y="3154320"/>
              <a:ext cx="2849400" cy="9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657440" y="3154320"/>
              <a:ext cx="2874960" cy="1006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465880" y="3154320"/>
              <a:ext cx="2849400" cy="9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465880" y="3154320"/>
              <a:ext cx="2874960" cy="1006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755720" y="3276720"/>
              <a:ext cx="184320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755720" y="3276720"/>
              <a:ext cx="1866960" cy="318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883880" y="3313080"/>
              <a:ext cx="1672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lica timesta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529000" y="33386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755720" y="3670200"/>
              <a:ext cx="270216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755720" y="3670200"/>
              <a:ext cx="2727360" cy="417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025720" y="3670200"/>
              <a:ext cx="1440" cy="39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320920" y="3670200"/>
              <a:ext cx="1440" cy="39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614680" y="3670200"/>
              <a:ext cx="1440" cy="39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935440" y="3670200"/>
              <a:ext cx="1440" cy="39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205080" y="3670200"/>
              <a:ext cx="1800" cy="39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24400" y="3670200"/>
              <a:ext cx="1440" cy="39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19600" y="3670200"/>
              <a:ext cx="1440" cy="39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14800" y="3670200"/>
              <a:ext cx="1440" cy="39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616480" y="3772080"/>
              <a:ext cx="98208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pdate l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564160" y="3252960"/>
              <a:ext cx="1817640" cy="29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564160" y="3218040"/>
              <a:ext cx="1843200" cy="318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758560" y="3243240"/>
              <a:ext cx="52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62560" y="3313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315840" y="324324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mesta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538960" y="3621240"/>
              <a:ext cx="270324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538960" y="3621240"/>
              <a:ext cx="2727000" cy="441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663600" y="3710160"/>
              <a:ext cx="52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9240" y="3817800"/>
              <a:ext cx="122400" cy="73080"/>
            </a:xfrm>
            <a:custGeom>
              <a:avLst/>
              <a:gdLst/>
              <a:ahLst/>
              <a:rect l="l" t="t" r="r" b="b"/>
              <a:pathLst>
                <a:path w="77" h="46">
                  <a:moveTo>
                    <a:pt x="0" y="15"/>
                  </a:moveTo>
                  <a:lnTo>
                    <a:pt x="0" y="0"/>
                  </a:lnTo>
                  <a:lnTo>
                    <a:pt x="77" y="15"/>
                  </a:lnTo>
                  <a:lnTo>
                    <a:pt x="0" y="4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581360" y="3841920"/>
              <a:ext cx="677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68960" y="4334040"/>
              <a:ext cx="122040" cy="1220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15" y="15"/>
                  </a:moveTo>
                  <a:lnTo>
                    <a:pt x="31" y="0"/>
                  </a:lnTo>
                  <a:lnTo>
                    <a:pt x="77" y="77"/>
                  </a:lnTo>
                  <a:lnTo>
                    <a:pt x="0" y="31"/>
                  </a:lnTo>
                  <a:lnTo>
                    <a:pt x="15" y="15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097600" y="4160880"/>
              <a:ext cx="19512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489640" y="4284720"/>
              <a:ext cx="243360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489640" y="4284720"/>
              <a:ext cx="2457360" cy="417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664600" y="4349880"/>
              <a:ext cx="2247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xecuted operation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708440" y="3556080"/>
              <a:ext cx="57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648680" y="390060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pd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130560" y="2981160"/>
              <a:ext cx="74520" cy="123840"/>
            </a:xfrm>
            <a:custGeom>
              <a:avLst/>
              <a:gdLst/>
              <a:ahLst/>
              <a:rect l="l" t="t" r="r" b="b"/>
              <a:pathLst>
                <a:path w="47" h="78">
                  <a:moveTo>
                    <a:pt x="16" y="0"/>
                  </a:moveTo>
                  <a:lnTo>
                    <a:pt x="47" y="0"/>
                  </a:lnTo>
                  <a:lnTo>
                    <a:pt x="16" y="78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156120" y="1459080"/>
              <a:ext cx="1440" cy="149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173320" y="4235400"/>
              <a:ext cx="73080" cy="147600"/>
            </a:xfrm>
            <a:custGeom>
              <a:avLst/>
              <a:gdLst/>
              <a:ahLst/>
              <a:rect l="l" t="t" r="r" b="b"/>
              <a:pathLst>
                <a:path w="46" h="93">
                  <a:moveTo>
                    <a:pt x="31" y="77"/>
                  </a:moveTo>
                  <a:lnTo>
                    <a:pt x="0" y="77"/>
                  </a:lnTo>
                  <a:lnTo>
                    <a:pt x="46" y="0"/>
                  </a:lnTo>
                  <a:lnTo>
                    <a:pt x="46" y="93"/>
                  </a:lnTo>
                  <a:lnTo>
                    <a:pt x="31" y="7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1755720" y="4383000"/>
              <a:ext cx="466920" cy="1596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639880" y="4235400"/>
              <a:ext cx="73080" cy="122400"/>
            </a:xfrm>
            <a:custGeom>
              <a:avLst/>
              <a:gdLst/>
              <a:ahLst/>
              <a:rect l="l" t="t" r="r" b="b"/>
              <a:pathLst>
                <a:path w="46" h="77">
                  <a:moveTo>
                    <a:pt x="1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6" y="62"/>
                  </a:lnTo>
                  <a:lnTo>
                    <a:pt x="15" y="7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2689200" y="4357800"/>
              <a:ext cx="588960" cy="1596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135520" y="5303880"/>
              <a:ext cx="75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pd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078920" y="1765440"/>
              <a:ext cx="63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oss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905760" y="2035080"/>
              <a:ext cx="92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ss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436760" y="5708520"/>
              <a:ext cx="539640" cy="51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36760" y="5708520"/>
              <a:ext cx="563400" cy="541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584360" y="584820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935440" y="2244600"/>
              <a:ext cx="515880" cy="19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712960" y="5046840"/>
              <a:ext cx="466920" cy="195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260960" y="1360440"/>
              <a:ext cx="2482920" cy="49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260960" y="1360440"/>
              <a:ext cx="2506680" cy="515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1000" y="1359000"/>
              <a:ext cx="1800" cy="49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555800" y="1393920"/>
              <a:ext cx="678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Rep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82280" y="161784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timesta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616360" y="1479600"/>
              <a:ext cx="88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Replica lo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967200" y="5537160"/>
              <a:ext cx="284940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7200" y="5537160"/>
              <a:ext cx="2874960" cy="318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245200" y="5537160"/>
              <a:ext cx="1440" cy="32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71240" y="5572080"/>
              <a:ext cx="1093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Operation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48160" y="557208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Updat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36840" y="5621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248160" y="557208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Pr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129360" y="5537160"/>
              <a:ext cx="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779480" y="5046840"/>
              <a:ext cx="4669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779480" y="5046840"/>
              <a:ext cx="492120" cy="195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008160" y="5708520"/>
              <a:ext cx="565200" cy="51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008160" y="5708520"/>
              <a:ext cx="590760" cy="541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164040" y="584820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084080" y="2330280"/>
              <a:ext cx="1535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lica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03720" y="2736720"/>
              <a:ext cx="1817640" cy="29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03720" y="2736720"/>
              <a:ext cx="1842840" cy="319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502080" y="2752560"/>
              <a:ext cx="1501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mestamp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173320" y="1459080"/>
              <a:ext cx="73080" cy="122040"/>
            </a:xfrm>
            <a:custGeom>
              <a:avLst/>
              <a:gdLst/>
              <a:ahLst/>
              <a:rect l="l" t="t" r="r" b="b"/>
              <a:pathLst>
                <a:path w="46" h="77">
                  <a:moveTo>
                    <a:pt x="15" y="77"/>
                  </a:moveTo>
                  <a:lnTo>
                    <a:pt x="0" y="77"/>
                  </a:lnTo>
                  <a:lnTo>
                    <a:pt x="15" y="0"/>
                  </a:lnTo>
                  <a:lnTo>
                    <a:pt x="46" y="77"/>
                  </a:lnTo>
                  <a:lnTo>
                    <a:pt x="15" y="7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2197080" y="1606680"/>
              <a:ext cx="1440" cy="149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952640" y="2244600"/>
              <a:ext cx="49068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52640" y="2244600"/>
              <a:ext cx="515880" cy="19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2917800" y="1356840"/>
              <a:ext cx="1344600" cy="8938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2917800" y="1860120"/>
              <a:ext cx="1357200" cy="592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3444840" y="1872720"/>
              <a:ext cx="3321000" cy="567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81320" y="5041800"/>
              <a:ext cx="3659040" cy="478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716200" y="5041800"/>
              <a:ext cx="1244520" cy="490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703600" y="5243400"/>
              <a:ext cx="1270080" cy="603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Jean Dollimore</cp:lastModifiedBy>
  <cp:lastPrinted>2000-11-12T21:05:10Z</cp:lastPrinted>
  <dcterms:modified xsi:type="dcterms:W3CDTF">2005-05-21T15:40:38Z</dcterms:modified>
  <cp:revision>53</cp:revision>
  <dc:subject/>
  <dc:title>Figure 15.1 A distributed multimedia system</dc:title>
</cp:coreProperties>
</file>