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E421-C1DD-4D4F-821F-F08CBF8FD4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09D2-C353-4AB1-8BC5-419DA433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BF7B-178A-4629-9205-1F4D6C8B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9B4B7-A995-45E3-81BE-C24423DE01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01F90-62BF-48B5-AD27-69C335DC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39648-5579-493C-A6A1-6638A29E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7368C-8416-4129-8909-481BA60A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BDA21-C7F2-4FF9-8AB5-84F12979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7171C-2129-48BD-8307-F1B682A6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3E512-51B4-40D1-A846-E5A51952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336F4-FEDA-4F3A-A33B-3760800B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3292-2478-4496-BFF9-C0D42FFB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469BE-7A75-4DA5-B13D-6A32F52C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99CAE-1038-4A70-917C-B8D61D00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65257-19F9-4F4E-8A02-4DE9E188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E1BF0-AECE-44D5-9E83-3FBDCD64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7911F-A1EF-4F29-86E5-E1AC0653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8C4E-B501-4A57-B27D-AADEAD78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BE32-4EF5-4218-8E93-082B0E8B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F4922-EF35-46F2-81E5-1F9B01F4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8E3E-C81A-40DD-9497-4475826E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A91D4-2D3F-4C2E-9C43-78D95C57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3AAC-3982-4267-9FF9-15D1474D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1526-4FE5-4E6E-AA06-E2A0F1B2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416E-808A-428A-B323-A81811D7DD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4632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229A-5DFA-4CEF-A825-A9851A6B1F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4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Interprocess Communicatio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600" y="2959200"/>
            <a:ext cx="18698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BA CDR messag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374840" y="5079960"/>
            <a:ext cx="81532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397160" y="1552680"/>
            <a:ext cx="7306560" cy="3734640"/>
            <a:chOff x="1397160" y="1552680"/>
            <a:chExt cx="7306560" cy="3734640"/>
          </a:xfrm>
        </p:grpSpPr>
        <p:sp>
          <p:nvSpPr>
            <p:cNvPr id="464" name=""/>
            <p:cNvSpPr/>
            <p:nvPr/>
          </p:nvSpPr>
          <p:spPr>
            <a:xfrm>
              <a:off x="1397160" y="5043600"/>
              <a:ext cx="288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e flattened form represents 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54840" y="504360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86640" y="5043600"/>
              <a:ext cx="381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ruct with value: {‘Smith’, ‘London’, 1934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82880" y="2127240"/>
              <a:ext cx="4078080" cy="24606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58920" y="223200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0–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158920" y="25606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4–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158920" y="28875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8–1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59280" y="321624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–1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59280" y="359100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6–1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159280" y="3941640"/>
              <a:ext cx="563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0-2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59280" y="429408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4–2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38440" y="218448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38440" y="253692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urier New"/>
                </a:rPr>
                <a:t>"Smit"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38440" y="286380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"h___"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38080" y="3216240"/>
              <a:ext cx="29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38440" y="354492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urier New"/>
                </a:rPr>
                <a:t>"Lond"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8440" y="389556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"on__"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38440" y="4246560"/>
              <a:ext cx="579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193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42720" y="1576440"/>
              <a:ext cx="831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index i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45240" y="1833480"/>
              <a:ext cx="1684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sequence of byt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46960" y="1833480"/>
              <a:ext cx="68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4 byt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8560" y="1892160"/>
              <a:ext cx="141480" cy="9396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89" y="30"/>
                  </a:moveTo>
                  <a:lnTo>
                    <a:pt x="89" y="59"/>
                  </a:lnTo>
                  <a:lnTo>
                    <a:pt x="0" y="30"/>
                  </a:lnTo>
                  <a:lnTo>
                    <a:pt x="89" y="0"/>
                  </a:lnTo>
                  <a:lnTo>
                    <a:pt x="89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303800" y="1940040"/>
              <a:ext cx="163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02480" y="1916280"/>
              <a:ext cx="14112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0" y="30"/>
                  </a:moveTo>
                  <a:lnTo>
                    <a:pt x="0" y="0"/>
                  </a:lnTo>
                  <a:lnTo>
                    <a:pt x="89" y="30"/>
                  </a:lnTo>
                  <a:lnTo>
                    <a:pt x="0" y="5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68840" y="1963800"/>
              <a:ext cx="2113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13680" y="1552680"/>
              <a:ext cx="569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notes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15840" y="1785960"/>
              <a:ext cx="170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on representa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84160" y="2162160"/>
              <a:ext cx="147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length of str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83080" y="2583000"/>
              <a:ext cx="710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Smith’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84160" y="3262320"/>
              <a:ext cx="147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length of str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83440" y="3614760"/>
              <a:ext cx="89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London’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84160" y="4294080"/>
              <a:ext cx="1358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unsigned lo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82880" y="2502000"/>
              <a:ext cx="4030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82880" y="2830680"/>
              <a:ext cx="4030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30400" y="3159000"/>
              <a:ext cx="4030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0400" y="3533760"/>
              <a:ext cx="4030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30400" y="3860640"/>
              <a:ext cx="4030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06640" y="4189320"/>
              <a:ext cx="4030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44960" y="2151000"/>
              <a:ext cx="1440" cy="2413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4.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dication of Java serialized for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14080" y="2320920"/>
            <a:ext cx="9100440" cy="2432520"/>
            <a:chOff x="514080" y="2320920"/>
            <a:chExt cx="9100440" cy="2432520"/>
          </a:xfrm>
        </p:grpSpPr>
        <p:sp>
          <p:nvSpPr>
            <p:cNvPr id="505" name=""/>
            <p:cNvSpPr/>
            <p:nvPr/>
          </p:nvSpPr>
          <p:spPr>
            <a:xfrm>
              <a:off x="1447920" y="4433760"/>
              <a:ext cx="765972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4080" y="4448160"/>
              <a:ext cx="907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he true serialized form contains additional type markers; h0 and h1 are hand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8720" y="2705040"/>
              <a:ext cx="6027840" cy="15066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8720" y="3100320"/>
              <a:ext cx="60040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8720" y="3792600"/>
              <a:ext cx="60040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47920" y="2705040"/>
              <a:ext cx="1440" cy="1482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59200" y="2705040"/>
              <a:ext cx="1800" cy="1482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30400" y="3100320"/>
              <a:ext cx="1800" cy="1087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02800" y="2370240"/>
              <a:ext cx="173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erialized 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8120" y="2741760"/>
              <a:ext cx="69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840" y="3309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7400" y="38527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9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36600" y="2765520"/>
              <a:ext cx="23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-byte version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44640" y="3284640"/>
              <a:ext cx="77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nt 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44280" y="3852720"/>
              <a:ext cx="801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Sm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44960" y="3160800"/>
              <a:ext cx="161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java.lang.St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47120" y="3408480"/>
              <a:ext cx="62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44600" y="3852720"/>
              <a:ext cx="98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 Lond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42080" y="27655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40280" y="3211560"/>
              <a:ext cx="161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java.lang.St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43160" y="3457440"/>
              <a:ext cx="60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c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42080" y="38527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14040" y="2320920"/>
              <a:ext cx="124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xplan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65480" y="2765520"/>
              <a:ext cx="284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lass name, version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64400" y="3211560"/>
              <a:ext cx="2724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umber, type and name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00840" y="3457440"/>
              <a:ext cx="192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tance variabl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67640" y="3878280"/>
              <a:ext cx="283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alues of instance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4.10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XML definition of the Person stru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39960" y="1660680"/>
            <a:ext cx="77976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&lt;person id="123456789"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&lt;name&gt;Smith&lt;/na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&lt;place&gt;London&lt;/plac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&lt;year&gt;1934&lt;/yea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&lt;!-- a comment --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Times New Roman"/>
              </a:rPr>
              <a:t>&lt;/person 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1 Illustration of the use of a namespace in th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erso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stru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68560" y="1658880"/>
            <a:ext cx="9440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erson pers:id="123456789" xmlns:pers = "http://www.cdk4.net/person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ers:name&gt; Smith &lt;/pers: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ers:place&gt; London &lt;/pers:place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ers:year&gt; 1934 &lt;/pers:yea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2 An XML schema for the Person structure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6280" y="1677960"/>
            <a:ext cx="897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schema  xmlns:xsd = URL of XML schema definitio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element name= "person" type ="personType"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complexType name="personTyp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element name = "name"  type="xs:string"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element name = "place"  type="xs:string"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element name = "year"  type="xs:positiveInteger"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xsd:attribute name= "id"   type = "xs:positiveInteger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/xsd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presentation of a remote object referen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04880" y="2646360"/>
            <a:ext cx="8394840" cy="1074600"/>
            <a:chOff x="704880" y="2646360"/>
            <a:chExt cx="8394840" cy="1074600"/>
          </a:xfrm>
        </p:grpSpPr>
        <p:sp>
          <p:nvSpPr>
            <p:cNvPr id="540" name=""/>
            <p:cNvSpPr/>
            <p:nvPr/>
          </p:nvSpPr>
          <p:spPr>
            <a:xfrm>
              <a:off x="704880" y="3021120"/>
              <a:ext cx="8394840" cy="69984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94000" y="3021120"/>
              <a:ext cx="144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57560" y="3021120"/>
              <a:ext cx="180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46680" y="3021120"/>
              <a:ext cx="180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34360" y="3021120"/>
              <a:ext cx="144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1560" y="3225960"/>
              <a:ext cx="1532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et addr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65000" y="3225960"/>
              <a:ext cx="1186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port numb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70320" y="322596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63320" y="3225960"/>
              <a:ext cx="1386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object numb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65400" y="3105000"/>
              <a:ext cx="1166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face of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66120" y="3346560"/>
              <a:ext cx="1319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emote objec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30840" y="264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87920" y="264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28080" y="264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80560" y="264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quest-reply commun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70760" y="1994040"/>
            <a:ext cx="2977920" cy="3154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70760" y="1994040"/>
            <a:ext cx="3003480" cy="317952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" y="1994040"/>
            <a:ext cx="2980080" cy="3154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6400" y="1994040"/>
            <a:ext cx="3005280" cy="317952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97680" y="260820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39320" y="173196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796400" y="17319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7240" y="2244600"/>
            <a:ext cx="2652840" cy="2629080"/>
          </a:xfrm>
          <a:prstGeom prst="ellipse">
            <a:avLst/>
          </a:pr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04800" y="273204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91000" y="355932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a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23080" y="4410000"/>
            <a:ext cx="123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tinu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5920" y="39099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320720" y="418464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370560" y="2270160"/>
            <a:ext cx="2578320" cy="2552760"/>
          </a:xfrm>
          <a:prstGeom prst="ellipse">
            <a:avLst/>
          </a:pr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126920" y="290844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t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289280" y="353376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89640" y="383364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21560" y="2921040"/>
            <a:ext cx="174600" cy="125280"/>
          </a:xfrm>
          <a:custGeom>
            <a:avLst/>
            <a:gdLst/>
            <a:ahLst/>
            <a:rect l="l" t="t" r="r" b="b"/>
            <a:pathLst>
              <a:path w="110" h="79">
                <a:moveTo>
                  <a:pt x="0" y="31"/>
                </a:moveTo>
                <a:lnTo>
                  <a:pt x="0" y="0"/>
                </a:lnTo>
                <a:lnTo>
                  <a:pt x="110" y="47"/>
                </a:lnTo>
                <a:lnTo>
                  <a:pt x="0" y="79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65520" y="2820960"/>
            <a:ext cx="3930480" cy="1494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565360" y="4071960"/>
            <a:ext cx="200160" cy="100080"/>
          </a:xfrm>
          <a:custGeom>
            <a:avLst/>
            <a:gdLst/>
            <a:ahLst/>
            <a:rect l="l" t="t" r="r" b="b"/>
            <a:pathLst>
              <a:path w="126" h="63">
                <a:moveTo>
                  <a:pt x="126" y="32"/>
                </a:moveTo>
                <a:lnTo>
                  <a:pt x="126" y="63"/>
                </a:lnTo>
                <a:lnTo>
                  <a:pt x="0" y="32"/>
                </a:lnTo>
                <a:lnTo>
                  <a:pt x="126" y="0"/>
                </a:lnTo>
                <a:lnTo>
                  <a:pt x="126" y="32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65520" y="4122720"/>
            <a:ext cx="4181400" cy="7452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46200" y="295740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073280" y="3233880"/>
            <a:ext cx="113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164360" y="413532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d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76400" y="3143160"/>
            <a:ext cx="74520" cy="239760"/>
            <a:chOff x="1976400" y="3143160"/>
            <a:chExt cx="74520" cy="239760"/>
          </a:xfrm>
        </p:grpSpPr>
        <p:sp>
          <p:nvSpPr>
            <p:cNvPr id="581" name=""/>
            <p:cNvSpPr/>
            <p:nvPr/>
          </p:nvSpPr>
          <p:spPr>
            <a:xfrm>
              <a:off x="1976400" y="3143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6400" y="33080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976400" y="3981600"/>
            <a:ext cx="74520" cy="239040"/>
            <a:chOff x="1976400" y="3981600"/>
            <a:chExt cx="74520" cy="239040"/>
          </a:xfrm>
        </p:grpSpPr>
        <p:sp>
          <p:nvSpPr>
            <p:cNvPr id="584" name=""/>
            <p:cNvSpPr/>
            <p:nvPr/>
          </p:nvSpPr>
          <p:spPr>
            <a:xfrm>
              <a:off x="1976400" y="3981600"/>
              <a:ext cx="745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6400" y="41461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of the request-reply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16040" y="2127240"/>
            <a:ext cx="889308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byte[] doOperation (RemoteObjectRef o, int methodId, byte[] argu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ds a request message to the remote object and returns the rep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arguments specify the remote object, the method to be invoked and the arguments of that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byte[] getRequest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quires a client request via the server 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void sendReply (byte[] reply, InetAddress clientHost, int clientPort)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ds the reply message reply to the client at its Internet address and 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quest-reply message stru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669960" y="1784520"/>
            <a:ext cx="8604360" cy="2950920"/>
            <a:chOff x="669960" y="1784520"/>
            <a:chExt cx="8604360" cy="2950920"/>
          </a:xfrm>
        </p:grpSpPr>
        <p:sp>
          <p:nvSpPr>
            <p:cNvPr id="590" name=""/>
            <p:cNvSpPr/>
            <p:nvPr/>
          </p:nvSpPr>
          <p:spPr>
            <a:xfrm>
              <a:off x="669960" y="1784520"/>
              <a:ext cx="4702320" cy="2950920"/>
            </a:xfrm>
            <a:prstGeom prst="rect">
              <a:avLst/>
            </a:pr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9960" y="2368440"/>
              <a:ext cx="4670280" cy="1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9960" y="2951280"/>
              <a:ext cx="4670280" cy="144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9960" y="3535200"/>
              <a:ext cx="4670280" cy="1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1640" y="4119480"/>
              <a:ext cx="4670640" cy="1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85680" y="1897200"/>
              <a:ext cx="1800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messageTyp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86760" y="2481120"/>
              <a:ext cx="1230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request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86400" y="3097080"/>
              <a:ext cx="214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objectRefere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84960" y="3648240"/>
              <a:ext cx="1270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method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85680" y="4232160"/>
              <a:ext cx="1378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34360" y="1897200"/>
              <a:ext cx="363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int   (0=Request, 1= Reply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635800" y="2481120"/>
              <a:ext cx="349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33640" y="3097080"/>
              <a:ext cx="2314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RemoteObjectRe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33640" y="3679920"/>
              <a:ext cx="182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int or Metho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34720" y="4264200"/>
              <a:ext cx="1835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array of byt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PC exchange protoco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910960" y="2216160"/>
            <a:ext cx="204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63760" y="30621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887560" y="309240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63760" y="35193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6680" y="35193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44120" y="351936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63760" y="40021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6680" y="40021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744200" y="40021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253560" y="4002120"/>
            <a:ext cx="194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nowledge 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444680" y="1749600"/>
            <a:ext cx="7059240" cy="2939400"/>
            <a:chOff x="1444680" y="1749600"/>
            <a:chExt cx="7059240" cy="2939400"/>
          </a:xfrm>
        </p:grpSpPr>
        <p:sp>
          <p:nvSpPr>
            <p:cNvPr id="617" name=""/>
            <p:cNvSpPr/>
            <p:nvPr/>
          </p:nvSpPr>
          <p:spPr>
            <a:xfrm>
              <a:off x="1444680" y="1749600"/>
              <a:ext cx="705924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44680" y="4664880"/>
              <a:ext cx="705924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887560" y="351936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87560" y="400212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44840" y="4002120"/>
            <a:ext cx="712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54160" y="267012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44840" y="270504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56440" y="272088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395360" y="221292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307040" y="2212920"/>
            <a:ext cx="227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ssages sent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iddleware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2880" y="1817640"/>
            <a:ext cx="85392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TTP request messag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44400" y="2597040"/>
            <a:ext cx="8543880" cy="809640"/>
            <a:chOff x="644400" y="2597040"/>
            <a:chExt cx="8543880" cy="809640"/>
          </a:xfrm>
        </p:grpSpPr>
        <p:sp>
          <p:nvSpPr>
            <p:cNvPr id="629" name=""/>
            <p:cNvSpPr/>
            <p:nvPr/>
          </p:nvSpPr>
          <p:spPr>
            <a:xfrm>
              <a:off x="644400" y="2973240"/>
              <a:ext cx="8543880" cy="4334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10960" y="2973240"/>
              <a:ext cx="1440" cy="4096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14680" y="2973240"/>
              <a:ext cx="1080" cy="4096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73400" y="2995560"/>
              <a:ext cx="1440" cy="411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84920" y="2973240"/>
              <a:ext cx="1080" cy="4096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49760" y="30747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108520" y="3074760"/>
              <a:ext cx="3100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//www.dcs.qmw.ac.uk/index.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38520" y="3074760"/>
              <a:ext cx="980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TTP/ 1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56240" y="2597040"/>
              <a:ext cx="165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RL or path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89640" y="2597040"/>
              <a:ext cx="67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eth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63280" y="2597040"/>
              <a:ext cx="128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TTP 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82480" y="259704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ead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93280" y="2597040"/>
              <a:ext cx="127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essage b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TTP reply messag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77880" y="2384280"/>
            <a:ext cx="8542440" cy="979560"/>
            <a:chOff x="677880" y="2384280"/>
            <a:chExt cx="8542440" cy="979560"/>
          </a:xfrm>
        </p:grpSpPr>
        <p:sp>
          <p:nvSpPr>
            <p:cNvPr id="644" name=""/>
            <p:cNvSpPr/>
            <p:nvPr/>
          </p:nvSpPr>
          <p:spPr>
            <a:xfrm>
              <a:off x="677880" y="2792160"/>
              <a:ext cx="8542440" cy="57168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54480" y="2792160"/>
              <a:ext cx="144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48200" y="2792160"/>
              <a:ext cx="144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32520" y="2822400"/>
              <a:ext cx="144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34200" y="2792160"/>
              <a:ext cx="144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12600" y="2925720"/>
              <a:ext cx="130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TTP/1.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619080" y="292572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43320" y="2925720"/>
              <a:ext cx="43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27080" y="2925720"/>
              <a:ext cx="169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33280" y="238428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TTP 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37280" y="2384280"/>
              <a:ext cx="136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us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22360" y="238428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ea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25400" y="2384280"/>
              <a:ext cx="96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ead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389000" y="2384280"/>
              <a:ext cx="170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essage bo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4.2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ulticast peer joins a group and sends and receives datagra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6160" y="1403280"/>
            <a:ext cx="8303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class MulticastPeer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static void main(String args[]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args give message contents &amp; destination multicast group (e.g. "228.5.6.7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ulticastSocket s =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netAddress group = InetAddress.getByName(args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 = new MulticastSocket(6789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.joinGroup(grou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yte [] m = args[0].getByte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atagramPacket messageOu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ew DatagramPacket(m, m.length, group, 6789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.send(messageOut)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this figure continued on the next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2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59080" y="1471680"/>
            <a:ext cx="855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get messages from other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yte[] buffer = new byte[100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or(int i=0; i&lt; 3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atagramPacket messageIn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ew DatagramPacket(buffer, buffer.lengt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.receive(messageI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ystem.out.println("Received:" + new String(messageIn.getData(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.leaveGroup(group)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catch (SocketException e){System.out.println("Socket: " + 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catch (IOException e){System.out.println("IO: " + e.getMessage()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finally {if(s != null) s.close(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4.2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ockets used for datagra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37920" y="2122560"/>
            <a:ext cx="8739360" cy="3029040"/>
            <a:chOff x="637920" y="2122560"/>
            <a:chExt cx="8739360" cy="3029040"/>
          </a:xfrm>
        </p:grpSpPr>
        <p:sp>
          <p:nvSpPr>
            <p:cNvPr id="664" name=""/>
            <p:cNvSpPr/>
            <p:nvPr/>
          </p:nvSpPr>
          <p:spPr>
            <a:xfrm>
              <a:off x="710280" y="4876920"/>
              <a:ext cx="573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ServerAddress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ClientAddress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are socket ad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7920" y="212256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ing a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317920" y="2122560"/>
              <a:ext cx="194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eiving a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73640" y="2513160"/>
              <a:ext cx="4079880" cy="2152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73640" y="2513160"/>
              <a:ext cx="4103640" cy="21762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48240" y="2662200"/>
              <a:ext cx="375444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48240" y="2662200"/>
              <a:ext cx="3780000" cy="18525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8160" y="2513160"/>
              <a:ext cx="4054680" cy="2152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8160" y="2513160"/>
              <a:ext cx="4079880" cy="21762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43120" y="2662200"/>
              <a:ext cx="367956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3120" y="2662200"/>
              <a:ext cx="3703320" cy="18525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44640" y="3424320"/>
              <a:ext cx="188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ind(s, ClientAddr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41400" y="3949560"/>
              <a:ext cx="319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endto(s, "message", ServerAddr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960" y="3424320"/>
              <a:ext cx="19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ind(s, ServerAddr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4440" y="3949560"/>
              <a:ext cx="291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mount = recvfrom(s, buffer, from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48440" y="4014720"/>
              <a:ext cx="299880" cy="174600"/>
            </a:xfrm>
            <a:custGeom>
              <a:avLst/>
              <a:gdLst/>
              <a:ahLst/>
              <a:rect l="l" t="t" r="r" b="b"/>
              <a:pathLst>
                <a:path w="189" h="110">
                  <a:moveTo>
                    <a:pt x="0" y="63"/>
                  </a:moveTo>
                  <a:lnTo>
                    <a:pt x="0" y="0"/>
                  </a:lnTo>
                  <a:lnTo>
                    <a:pt x="189" y="63"/>
                  </a:lnTo>
                  <a:lnTo>
                    <a:pt x="0" y="11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4246200" y="4114800"/>
              <a:ext cx="1001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9040" y="2773440"/>
              <a:ext cx="345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 = socket(AF_INET, SOCK_DGRAM, 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54360" y="2747880"/>
              <a:ext cx="345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 = socket(AF_INET, SOCK_DGRAM, 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973080" y="3105000"/>
              <a:ext cx="74520" cy="239760"/>
              <a:chOff x="973080" y="3105000"/>
              <a:chExt cx="74520" cy="239760"/>
            </a:xfrm>
          </p:grpSpPr>
          <p:sp>
            <p:nvSpPr>
              <p:cNvPr id="684" name=""/>
              <p:cNvSpPr/>
              <p:nvPr/>
            </p:nvSpPr>
            <p:spPr>
              <a:xfrm>
                <a:off x="973080" y="310500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973080" y="326988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973080" y="3701880"/>
              <a:ext cx="74520" cy="239760"/>
              <a:chOff x="973080" y="3701880"/>
              <a:chExt cx="74520" cy="239760"/>
            </a:xfrm>
          </p:grpSpPr>
          <p:sp>
            <p:nvSpPr>
              <p:cNvPr id="687" name=""/>
              <p:cNvSpPr/>
              <p:nvPr/>
            </p:nvSpPr>
            <p:spPr>
              <a:xfrm>
                <a:off x="973080" y="37018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973080" y="386676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5659560" y="3079800"/>
              <a:ext cx="74520" cy="239760"/>
              <a:chOff x="5659560" y="3079800"/>
              <a:chExt cx="74520" cy="239760"/>
            </a:xfrm>
          </p:grpSpPr>
          <p:sp>
            <p:nvSpPr>
              <p:cNvPr id="690" name=""/>
              <p:cNvSpPr/>
              <p:nvPr/>
            </p:nvSpPr>
            <p:spPr>
              <a:xfrm>
                <a:off x="5659560" y="307980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59560" y="324468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659560" y="3676680"/>
              <a:ext cx="74520" cy="239760"/>
              <a:chOff x="5659560" y="3676680"/>
              <a:chExt cx="74520" cy="239760"/>
            </a:xfrm>
          </p:grpSpPr>
          <p:sp>
            <p:nvSpPr>
              <p:cNvPr id="693" name=""/>
              <p:cNvSpPr/>
              <p:nvPr/>
            </p:nvSpPr>
            <p:spPr>
              <a:xfrm>
                <a:off x="5659560" y="36766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659560" y="384156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2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ckets used for strea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3520" y="4906800"/>
            <a:ext cx="862164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6120" y="2021040"/>
            <a:ext cx="223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ing a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011200" y="2021040"/>
            <a:ext cx="334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ing and accepting a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943520" y="2381400"/>
            <a:ext cx="4162320" cy="2253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943520" y="2381400"/>
            <a:ext cx="4186080" cy="227808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092560" y="2603520"/>
            <a:ext cx="3864240" cy="18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092560" y="2603520"/>
            <a:ext cx="3889440" cy="1857240"/>
          </a:xfrm>
          <a:prstGeom prst="rect">
            <a:avLst/>
          </a:prstGeom>
          <a:noFill/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376600" y="3160800"/>
            <a:ext cx="2013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ind(s, ServerAddress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79120" y="3359160"/>
            <a:ext cx="88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sten(s,5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75160" y="3754440"/>
            <a:ext cx="283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New = accept(s, ClientAddress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75520" y="4176720"/>
            <a:ext cx="265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 = read(sNew, buffer, amoun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8040" y="2381400"/>
            <a:ext cx="4062240" cy="2253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08040" y="2381400"/>
            <a:ext cx="4087800" cy="227808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06400" y="2603520"/>
            <a:ext cx="3691080" cy="18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06400" y="2603520"/>
            <a:ext cx="3716280" cy="1857240"/>
          </a:xfrm>
          <a:prstGeom prst="rect">
            <a:avLst/>
          </a:prstGeom>
          <a:noFill/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916200" y="2789280"/>
            <a:ext cx="348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 = socket(AF_INET, SOCK_STREAM,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10800" y="3457440"/>
            <a:ext cx="226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nnect(s, ServerAddres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911520" y="4127400"/>
            <a:ext cx="227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ite(s, "message", length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16680" y="4189320"/>
            <a:ext cx="223560" cy="123840"/>
          </a:xfrm>
          <a:custGeom>
            <a:avLst/>
            <a:gdLst/>
            <a:ahLst/>
            <a:rect l="l" t="t" r="r" b="b"/>
            <a:pathLst>
              <a:path w="141" h="78">
                <a:moveTo>
                  <a:pt x="0" y="47"/>
                </a:moveTo>
                <a:lnTo>
                  <a:pt x="0" y="0"/>
                </a:lnTo>
                <a:lnTo>
                  <a:pt x="141" y="47"/>
                </a:lnTo>
                <a:lnTo>
                  <a:pt x="0" y="7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406680" y="4264200"/>
            <a:ext cx="171000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81640" y="2763720"/>
            <a:ext cx="348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 = socket(AF_INET, SOCK_STREAM,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10280" y="5003640"/>
            <a:ext cx="573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rverAddres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ientAddres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re socket 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05400" y="36259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405400" y="30416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34920" y="3156120"/>
            <a:ext cx="74520" cy="239040"/>
            <a:chOff x="934920" y="3156120"/>
            <a:chExt cx="74520" cy="239040"/>
          </a:xfrm>
        </p:grpSpPr>
        <p:sp>
          <p:nvSpPr>
            <p:cNvPr id="721" name=""/>
            <p:cNvSpPr/>
            <p:nvPr/>
          </p:nvSpPr>
          <p:spPr>
            <a:xfrm>
              <a:off x="934920" y="3156120"/>
              <a:ext cx="745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34920" y="33206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934920" y="3841920"/>
            <a:ext cx="74520" cy="239040"/>
            <a:chOff x="934920" y="3841920"/>
            <a:chExt cx="74520" cy="239040"/>
          </a:xfrm>
        </p:grpSpPr>
        <p:sp>
          <p:nvSpPr>
            <p:cNvPr id="724" name=""/>
            <p:cNvSpPr/>
            <p:nvPr/>
          </p:nvSpPr>
          <p:spPr>
            <a:xfrm>
              <a:off x="934920" y="3841920"/>
              <a:ext cx="745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34920" y="40064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405400" y="4083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ckets and por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50440" y="2536920"/>
            <a:ext cx="8662680" cy="2397960"/>
            <a:chOff x="550440" y="2536920"/>
            <a:chExt cx="8662680" cy="2397960"/>
          </a:xfrm>
        </p:grpSpPr>
        <p:sp>
          <p:nvSpPr>
            <p:cNvPr id="91" name=""/>
            <p:cNvSpPr/>
            <p:nvPr/>
          </p:nvSpPr>
          <p:spPr>
            <a:xfrm>
              <a:off x="900000" y="2536920"/>
              <a:ext cx="2287800" cy="2017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00000" y="2536920"/>
              <a:ext cx="2314800" cy="204444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3000" y="2859120"/>
              <a:ext cx="1803240" cy="134604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0680" y="3570120"/>
              <a:ext cx="878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36760" y="2817720"/>
              <a:ext cx="11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greed po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26080" y="2536920"/>
              <a:ext cx="2287800" cy="2017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26080" y="2536920"/>
              <a:ext cx="2314800" cy="204444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67640" y="2859120"/>
              <a:ext cx="1803240" cy="134604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54600" y="28861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1"/>
                  </a:moveTo>
                  <a:arcTo wR="10800" hR="10800" stAng="-5441165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1"/>
                  </a:moveTo>
                  <a:arcTo wR="10800" hR="10800" stAng="-5441165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54600" y="28861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0800" y="2913120"/>
              <a:ext cx="1440" cy="216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56040" y="4151160"/>
              <a:ext cx="26640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3" y="1"/>
                  </a:moveTo>
                  <a:arcTo wR="10800" hR="10800" stAng="-5440442" swAng="5399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3" y="1"/>
                  </a:moveTo>
                  <a:arcTo wR="10800" hR="10800" stAng="-5440442" swAng="539902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54960" y="4151880"/>
              <a:ext cx="2689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70"/>
                  </a:moveTo>
                  <a:arcTo wR="10800" hR="10800" stAng="-41417" swAng="5482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70"/>
                  </a:moveTo>
                  <a:arcTo wR="10800" hR="10800" stAng="-41417" swAng="5482833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60800" y="4178160"/>
              <a:ext cx="1440" cy="2145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65880" y="2968560"/>
              <a:ext cx="26604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3"/>
                  </a:moveTo>
                  <a:arcTo wR="10800" hR="10800" stAng="-10759557" swAng="5319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3"/>
                  </a:moveTo>
                  <a:arcTo wR="10800" hR="10800" stAng="-10759557" swAng="5319116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64440" y="2968560"/>
              <a:ext cx="26892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0" y="21599"/>
                  </a:moveTo>
                  <a:arcTo wR="10800" hR="10800" stAng="5441417" swAng="5399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0" y="21599"/>
                  </a:moveTo>
                  <a:arcTo wR="10800" hR="10800" stAng="5441417" swAng="5399026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26080" y="2994120"/>
              <a:ext cx="1800" cy="2142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64440" y="3854520"/>
              <a:ext cx="26892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64440" y="3854880"/>
              <a:ext cx="2689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21599"/>
                  </a:moveTo>
                  <a:arcTo wR="10800" hR="10800" stAng="5441165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21599"/>
                  </a:moveTo>
                  <a:arcTo wR="10800" hR="10800" stAng="5441165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26080" y="3881520"/>
              <a:ext cx="1800" cy="215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56040" y="2536920"/>
              <a:ext cx="26640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3" y="1"/>
                  </a:moveTo>
                  <a:arcTo wR="10800" hR="10800" stAng="-5440442" swAng="5399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3" y="1"/>
                  </a:moveTo>
                  <a:arcTo wR="10800" hR="10800" stAng="-5440442" swAng="539902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54960" y="2537280"/>
              <a:ext cx="2689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70"/>
                  </a:moveTo>
                  <a:arcTo wR="10800" hR="10800" stAng="-41417" swAng="5482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70"/>
                  </a:moveTo>
                  <a:arcTo wR="10800" hR="10800" stAng="-41417" swAng="5482833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60800" y="2563920"/>
              <a:ext cx="1440" cy="2142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54600" y="38005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1"/>
                  </a:moveTo>
                  <a:arcTo wR="10800" hR="10800" stAng="-5441165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1"/>
                  </a:moveTo>
                  <a:arcTo wR="10800" hR="10800" stAng="-5441165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600" y="38005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60800" y="3827520"/>
              <a:ext cx="1440" cy="216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64440" y="2616120"/>
              <a:ext cx="26892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64440" y="2616120"/>
              <a:ext cx="26892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21599"/>
                  </a:moveTo>
                  <a:arcTo wR="10800" hR="10800" stAng="5441165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21599"/>
                  </a:moveTo>
                  <a:arcTo wR="10800" hR="10800" stAng="5441165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26080" y="2643120"/>
              <a:ext cx="1800" cy="243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65880" y="4179960"/>
              <a:ext cx="2660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3"/>
                  </a:moveTo>
                  <a:arcTo wR="10800" hR="10800" stAng="-10759557" swAng="5319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3"/>
                  </a:moveTo>
                  <a:arcTo wR="10800" hR="10800" stAng="-10759557" swAng="5319116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64440" y="4179960"/>
              <a:ext cx="26892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0" y="21599"/>
                  </a:moveTo>
                  <a:arcTo wR="10800" hR="10800" stAng="5441417" swAng="5399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0" y="21599"/>
                  </a:moveTo>
                  <a:arcTo wR="10800" hR="10800" stAng="5441417" swAng="5399026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26080" y="4205160"/>
              <a:ext cx="1800" cy="2145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88640" y="2925720"/>
              <a:ext cx="78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ny po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268800" y="3048120"/>
              <a:ext cx="431640" cy="3492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853240" y="3020760"/>
              <a:ext cx="565200" cy="3762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936440" y="3282840"/>
              <a:ext cx="525240" cy="1684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199280" y="3180960"/>
              <a:ext cx="403200" cy="297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42920" y="3032280"/>
              <a:ext cx="62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ock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0400" y="3032280"/>
              <a:ext cx="62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ock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24240" y="4675320"/>
              <a:ext cx="318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net address = 138.37.88.2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0440" y="4675320"/>
              <a:ext cx="318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net address = 138.37.94.24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6360" y="4243320"/>
              <a:ext cx="103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 por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3376080" y="3935520"/>
              <a:ext cx="862200" cy="296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349440" y="4286160"/>
              <a:ext cx="968040" cy="525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610240" y="4285800"/>
              <a:ext cx="727200" cy="255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610240" y="3962160"/>
              <a:ext cx="808200" cy="215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85960" y="3894120"/>
              <a:ext cx="50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33920" y="392112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89040" y="3478320"/>
              <a:ext cx="241560" cy="188640"/>
            </a:xfrm>
            <a:custGeom>
              <a:avLst/>
              <a:gdLst/>
              <a:ahLst/>
              <a:rect l="l" t="t" r="r" b="b"/>
              <a:pathLst>
                <a:path w="152" h="119">
                  <a:moveTo>
                    <a:pt x="0" y="0"/>
                  </a:moveTo>
                  <a:lnTo>
                    <a:pt x="17" y="85"/>
                  </a:lnTo>
                  <a:lnTo>
                    <a:pt x="67" y="119"/>
                  </a:lnTo>
                  <a:lnTo>
                    <a:pt x="135" y="85"/>
                  </a:lnTo>
                  <a:lnTo>
                    <a:pt x="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c99"/>
            </a:solidFill>
            <a:ln w="3960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9040" y="3289320"/>
              <a:ext cx="268560" cy="404640"/>
            </a:xfrm>
            <a:custGeom>
              <a:avLst/>
              <a:gdLst>
                <a:gd name="textAreaLeft" fmla="*/ 33480 w 268560"/>
                <a:gd name="textAreaRight" fmla="*/ 235080 w 268560"/>
                <a:gd name="textAreaTop" fmla="*/ 33480 h 404640"/>
                <a:gd name="textAreaBottom" fmla="*/ 371160 h 404640"/>
              </a:gdLst>
              <a:ahLst/>
              <a:rect l="textAreaLeft" t="textAreaTop" r="textAreaRight" b="textAreaBottom"/>
              <a:pathLst>
                <a:path w="21600" h="32530">
                  <a:moveTo>
                    <a:pt x="9202" y="0"/>
                  </a:moveTo>
                  <a:arcTo wR="9202" hR="9202" stAng="16200000" swAng="-5400000"/>
                  <a:lnTo>
                    <a:pt x="0" y="23328"/>
                  </a:lnTo>
                  <a:arcTo wR="9202" hR="9202" stAng="10800000" swAng="-5400000"/>
                  <a:lnTo>
                    <a:pt x="12398" y="32530"/>
                  </a:lnTo>
                  <a:arcTo wR="9202" hR="9202" stAng="5400000" swAng="-5400000"/>
                  <a:lnTo>
                    <a:pt x="21600" y="9202"/>
                  </a:lnTo>
                  <a:arcTo wR="9202" hR="9202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9040" y="3478320"/>
              <a:ext cx="24156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56280" y="3478320"/>
              <a:ext cx="243000" cy="188640"/>
            </a:xfrm>
            <a:custGeom>
              <a:avLst/>
              <a:gdLst/>
              <a:ahLst/>
              <a:rect l="l" t="t" r="r" b="b"/>
              <a:pathLst>
                <a:path w="153" h="119">
                  <a:moveTo>
                    <a:pt x="0" y="0"/>
                  </a:moveTo>
                  <a:lnTo>
                    <a:pt x="17" y="85"/>
                  </a:lnTo>
                  <a:lnTo>
                    <a:pt x="68" y="119"/>
                  </a:lnTo>
                  <a:lnTo>
                    <a:pt x="136" y="85"/>
                  </a:lnTo>
                  <a:lnTo>
                    <a:pt x="1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c99"/>
            </a:solidFill>
            <a:ln w="3960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56280" y="3289320"/>
              <a:ext cx="268560" cy="404640"/>
            </a:xfrm>
            <a:custGeom>
              <a:avLst/>
              <a:gdLst>
                <a:gd name="textAreaLeft" fmla="*/ 33480 w 268560"/>
                <a:gd name="textAreaRight" fmla="*/ 235080 w 268560"/>
                <a:gd name="textAreaTop" fmla="*/ 33480 h 404640"/>
                <a:gd name="textAreaBottom" fmla="*/ 371160 h 404640"/>
              </a:gdLst>
              <a:ahLst/>
              <a:rect l="textAreaLeft" t="textAreaTop" r="textAreaRight" b="textAreaBottom"/>
              <a:pathLst>
                <a:path w="21600" h="32530">
                  <a:moveTo>
                    <a:pt x="9202" y="0"/>
                  </a:moveTo>
                  <a:arcTo wR="9202" hR="9202" stAng="16200000" swAng="-5400000"/>
                  <a:lnTo>
                    <a:pt x="0" y="23328"/>
                  </a:lnTo>
                  <a:arcTo wR="9202" hR="9202" stAng="10800000" swAng="-5400000"/>
                  <a:lnTo>
                    <a:pt x="12398" y="32530"/>
                  </a:lnTo>
                  <a:arcTo wR="9202" hR="9202" stAng="5400000" swAng="-5400000"/>
                  <a:lnTo>
                    <a:pt x="21600" y="9202"/>
                  </a:lnTo>
                  <a:arcTo wR="9202" hR="9202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56280" y="3478320"/>
              <a:ext cx="2430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33703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1"/>
                  </a:moveTo>
                  <a:arcTo wR="10800" hR="10800" stAng="-5441165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1"/>
                  </a:moveTo>
                  <a:arcTo wR="10800" hR="10800" stAng="-5441165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54600" y="3370680"/>
              <a:ext cx="26928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87800" y="3397320"/>
              <a:ext cx="1440" cy="242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91440" y="3370320"/>
              <a:ext cx="26892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91440" y="3370680"/>
              <a:ext cx="2689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21599"/>
                  </a:moveTo>
                  <a:arcTo wR="10800" hR="10800" stAng="5441165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21599"/>
                  </a:moveTo>
                  <a:arcTo wR="10800" hR="10800" stAng="5441165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6080" y="3397320"/>
              <a:ext cx="1800" cy="216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02440" y="3451320"/>
              <a:ext cx="216000" cy="10800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0" y="34"/>
                  </a:moveTo>
                  <a:lnTo>
                    <a:pt x="0" y="0"/>
                  </a:lnTo>
                  <a:lnTo>
                    <a:pt x="136" y="34"/>
                  </a:lnTo>
                  <a:lnTo>
                    <a:pt x="0" y="6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322440" y="3505320"/>
              <a:ext cx="28796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3240" y="3451320"/>
              <a:ext cx="241560" cy="135000"/>
            </a:xfrm>
            <a:custGeom>
              <a:avLst/>
              <a:gdLst/>
              <a:ahLst/>
              <a:rect l="l" t="t" r="r" b="b"/>
              <a:pathLst>
                <a:path w="152" h="85">
                  <a:moveTo>
                    <a:pt x="0" y="51"/>
                  </a:moveTo>
                  <a:lnTo>
                    <a:pt x="0" y="0"/>
                  </a:lnTo>
                  <a:lnTo>
                    <a:pt x="152" y="17"/>
                  </a:lnTo>
                  <a:lnTo>
                    <a:pt x="17" y="8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649600" y="3532320"/>
              <a:ext cx="323640" cy="54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67640" y="3451320"/>
              <a:ext cx="242640" cy="16200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0" y="51"/>
                  </a:moveTo>
                  <a:lnTo>
                    <a:pt x="0" y="0"/>
                  </a:lnTo>
                  <a:lnTo>
                    <a:pt x="153" y="68"/>
                  </a:lnTo>
                  <a:lnTo>
                    <a:pt x="0" y="10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6472080" y="3478320"/>
              <a:ext cx="268560" cy="54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DP client sends a message to the server and gets a repl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720" y="1353960"/>
            <a:ext cx="942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lass UDPClient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static void main(String args[]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args give message contents and server host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Socket aSocke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 = new DatagramSocket(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yte [] m = args[0].getByte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etAddress aHost = InetAddress.getByName(args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 serverPort = 6789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Packet request = new DatagramPacket(m,  args[0].length(), aHost, server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.send(request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yte[] buffer = new byte[10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Packet reply = new DatagramPacket(buffer, buffer.length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.receive(repl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ystem.out.println("Reply: " + new String(reply.getData())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SocketException e){System.out.println("Socket: " + 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IOException e){System.out.println("IO: " + 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finally {if(aSocket != null) aSocket.close(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DP server repeatedly receives a request and sends it back to the clien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1600" y="1374840"/>
            <a:ext cx="80859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lass UDPServer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static void main(String args[]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Socket aSocke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 = new DatagramSocket(6789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yte[] buffer = new byte[10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Packet request = new DatagramPacket(buffer, buffer.lengt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.receive(request)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Packet reply = new DatagramPacket(request.getData(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request.getLength(), request.getAddress(), request.getPort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.send(repl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SocketException e){System.out.println("Socket: " + 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IOException e) {System.out.println("IO: " + 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finally {if(aSocket != null) aSocket.close(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TCP client makes connection to server, sends request and receives repl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349280"/>
            <a:ext cx="86025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public class TCPClien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public static void main (String args[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/ arguments supply message and hostname of 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ocket s = nu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int serverPort = 789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 = new Socket(args[1], serverPort)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ataInputStream in = new DataInputStream( s.getInputStream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ataOutputStream out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new DataOutputStream( s.getOutputStream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out.writeUTF(args[0]);    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/ UTF is a string encoding see Sn 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tring data = in.readUTF();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ystem.out.println("Received: "+ data) 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catch (UnknownHostException e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ystem.out.println("Sock:"+e.getMessage()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catch (EOFException e){System.out.println("EOF:"+e.getMessage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catch (IOException e){System.out.println("IO:"+e.getMessage())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finally {if(s!=null) try {s.close();}catch (IOException e){System.out.println("close:"+e.getMessage());}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6 TCP server makes a connection for each client and then echoes the client’s  reque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14000" y="1359000"/>
            <a:ext cx="7016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lass TCPServ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static void main (String args[]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 serverPort = 7896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erverSocket listenSocket = new ServerSocket(server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hile(tr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ocket clientSocket = listenSocket.accep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onnection c = new Connection(clientSock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catch(IOException e) {System.out.println("Listen :"+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is figure continues on the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6 continu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64960" y="1292400"/>
            <a:ext cx="77094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lass Connection extends Threa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InputStream 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OutputStream 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ocket clientSock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onnection (Socket aClientSocket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lientSocket = aClientSock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 = new DataInputStream( clientSocket.getInputStrea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ut =new DataOutputStream( clientSocket.getOutputStrea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his.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catch(IOException e)  {System.out.println("Connection:"+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void ru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            // an ech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ring data = in.readUTF(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ut.writeUTF(da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catch(EOFException e) {System.out.println("EOF:"+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catch(IOException e) {System.out.println("IO:"+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finally{ try {clientSocket.close();}catch (IOException e){/*close failed*/}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BA CDR for constructed typ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392120" y="1544760"/>
            <a:ext cx="7007400" cy="2349360"/>
            <a:chOff x="1392120" y="1544760"/>
            <a:chExt cx="7007400" cy="2349360"/>
          </a:xfrm>
        </p:grpSpPr>
        <p:sp>
          <p:nvSpPr>
            <p:cNvPr id="169" name=""/>
            <p:cNvSpPr/>
            <p:nvPr/>
          </p:nvSpPr>
          <p:spPr>
            <a:xfrm>
              <a:off x="1407960" y="1638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19200" y="16383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5960" y="1638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06400" y="16383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03560" y="163836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10920" y="163836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0920" y="16383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78040" y="16383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4360" y="16383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41120" y="1638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43360" y="16383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92400" y="16383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51440" y="16383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02920" y="1638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4800" y="1638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92120" y="1544760"/>
              <a:ext cx="16956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87720" y="1544760"/>
              <a:ext cx="14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02120" y="1544760"/>
              <a:ext cx="5297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07960" y="19335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8428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710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2920" y="1933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5688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59120" y="19335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03560" y="1933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5756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4900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458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46280" y="19335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97120" y="193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0040" y="1933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1268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1420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11040" y="19335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460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288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44760" y="1933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27640" y="193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81640" y="1933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3312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3500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318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34440" y="193356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4960" y="19335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14520" y="1933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20720" y="193356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67320" y="193356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984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996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97520" y="193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9720" y="1933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9120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83720" y="193356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3240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4560" y="19335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73600" y="19335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51720" y="193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3920" y="1933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57920" y="19335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0660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04160" y="1933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718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904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59760" y="1933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92120" y="1838160"/>
              <a:ext cx="16956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87720" y="1838160"/>
              <a:ext cx="144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02120" y="1838160"/>
              <a:ext cx="52974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07960" y="22129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84280" y="2212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37560" y="2212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7256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6940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03560" y="2212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57560" y="22129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4900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458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46280" y="221292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97120" y="22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0040" y="22129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1268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1420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11040" y="2212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460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4288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44760" y="22129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27640" y="22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81640" y="2212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3312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3500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318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34440" y="22129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44960" y="221292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14520" y="2212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20720" y="221292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67320" y="221292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984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9996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97520" y="22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49720" y="22129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34040" y="22129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25840" y="221292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75240" y="22129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67040" y="2212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07080" y="221292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00760" y="2212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4400" y="221292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06040" y="22129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6868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0920" y="22129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56600" y="22129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4640" y="22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72520" y="22129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40560" y="2212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144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16680" y="221292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3880" y="221292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03560" y="249228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77440" y="2492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79680" y="2492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26840" y="2492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28720" y="24922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13400" y="24922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52360" y="2492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92400" y="24922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51080" y="24922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35400" y="2492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7600" y="24922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71920" y="24922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64080" y="249228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13120" y="24922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04920" y="2492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44960" y="249228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0760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9480" y="27716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80760" y="277164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040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0356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91040" y="277164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25680" y="277164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5752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49320" y="2771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91160" y="277164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4488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3164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33880" y="2771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85720" y="2771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6968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67240" y="27716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1908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16640" y="2771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84680" y="27716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9360" y="2771640"/>
              <a:ext cx="1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 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5080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48360" y="2771640"/>
              <a:ext cx="20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56080" y="27716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3968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41920" y="2771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94120" y="2771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 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2056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1812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09920" y="2771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50320" y="2771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18000" y="2771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7320" y="27716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08600" y="277164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70320" y="277164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48520" y="27716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84960" y="2771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42560" y="277164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43360" y="2771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28040" y="2771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89960" y="2771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4792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4548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3692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34480" y="2771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7960" y="3051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8428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37920" y="305100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r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17200" y="3051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0356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57560" y="3051000"/>
              <a:ext cx="20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65640" y="305100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97120" y="30510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65240" y="3051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49560" y="305100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67360" y="3051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30720" y="30510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82920" y="3051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67240" y="305100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59040" y="3051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99080" y="3051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66760" y="3051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0680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63320" y="3051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0520" y="30510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3600" y="305100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2448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81360" y="3051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65680" y="30510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17880" y="3051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02560" y="30510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57440" y="3051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54280" y="3051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56520" y="305100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42920" y="3051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4516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97360" y="3051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0796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472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9480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92000" y="33307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23840" y="33307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0124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9880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5748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4244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0284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0436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01920" y="33307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7968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3152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3304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3060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2204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19600" y="3330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6712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2508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2192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24160" y="333072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68880" y="33307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3692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8876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91360" y="3330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2528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2752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1500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3320" y="3330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56200" y="333072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73640" y="333072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24480" y="333072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54440" y="3330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3732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2948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83480" y="33307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49720" y="33307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90840" y="333072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3988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37440" y="3330720"/>
              <a:ext cx="20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5160" y="3330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29480" y="3330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8132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78880" y="33307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46920" y="3330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129440" y="333072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46880" y="33307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2148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78720" y="333072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2956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2100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17120" y="33307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0760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9840" y="361008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5816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6004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03560" y="3610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5684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5836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56280" y="3610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95240" y="3610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35280" y="36100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236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49560" y="3610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08600" y="3610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6008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62320" y="361008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88760" y="361008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40040" y="36100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86200" y="3610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4272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0280" y="36100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57360" y="3610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97400" y="36100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89560" y="361008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17080" y="361008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21280" y="36100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8760" y="36100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64000" y="361008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2120" y="3878280"/>
              <a:ext cx="16956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87720" y="3808440"/>
              <a:ext cx="14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02120" y="3878280"/>
              <a:ext cx="5297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21T12:58:09Z</dcterms:modified>
  <cp:revision>72</cp:revision>
  <dc:subject/>
  <dc:title>Figure 15.1 A distributed multimedia system</dc:title>
</cp:coreProperties>
</file>