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9.png" ContentType="image/png"/>
  <Override PartName="/ppt/media/image7.pct" ContentType="image/x-pict"/>
  <Override PartName="/ppt/media/image8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AA8A-BAA2-4886-B105-60D68FAA6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59F7-3C16-4B4B-9AA9-3A63742C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3B47-5279-4B2B-B1B0-D84DA3C0F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E564-B573-4B84-BD90-C3BBC4B40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72E03-6028-43E4-82A1-3BC3EE790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1278-1DC5-47C1-A29B-507AF9D8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87C9-1887-4322-B18B-97D70C43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2600-A272-418A-B64E-8C9AC4FE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036F-4792-4F5F-BA99-2AC7E415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04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0AFD-F325-4598-87E0-4D262607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C8C5-B45E-4655-96F0-DDEC29CC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A22D-E28A-49AE-A99D-720C6BDD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36B4-AD8E-4F26-882C-3D5A358D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2751-6EC3-4306-9A9C-4CF608D8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6094-C8B1-49EC-BF5D-45AD792E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E20D-82AE-4807-B4FF-75A813163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ECCC-90D1-4AFD-815B-C25D059E5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E593-F6FA-42BF-9FCF-47A52E99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021D-E94C-4084-9CE9-91F59B55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7413-281E-4EF7-B9FB-D5C8EC4C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04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7303-8F68-4D4C-B076-27860689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E08E-4839-4524-895E-40497AA5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D18A-3A8B-40EA-BF77-9CE2747E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C4E2-790B-4E10-B84B-10579E4A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280" y="6400800"/>
            <a:ext cx="14734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81080" y="6400800"/>
            <a:ext cx="5562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nstructor’s Guide for  Coulouris, Dollimore and Kindberg   Distributed Systems: Concepts and Design   Edn. 4  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©  Pearson Education 200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6400800"/>
            <a:ext cx="1015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E6AC-9899-467E-95C4-AEC0A7FD9B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143000"/>
            <a:ext cx="815328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11DB-EDA1-450F-A111-5FFBD8293B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90920"/>
            <a:ext cx="815328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Slides for Chapter 11: </a:t>
            </a:r>
            <a:br>
              <a:rPr sz="3200"/>
            </a:b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ime and Global State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438280" y="28954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From</a:t>
            </a:r>
            <a:r>
              <a:rPr b="0" lang="en-GB" sz="1800" spc="-1" strike="noStrike">
                <a:solidFill>
                  <a:srgbClr val="663300"/>
                </a:solidFill>
                <a:latin typeface="Arial Black"/>
              </a:rPr>
              <a:t> Coulouris, Dollimore and Kindberg</a:t>
            </a:r>
            <a:br>
              <a:rPr sz="1800"/>
            </a:b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Distributed Systems: </a:t>
            </a:r>
            <a:br>
              <a:rPr sz="2000"/>
            </a:b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Concepts and Design</a:t>
            </a:r>
            <a:endParaRPr b="0" lang="en-US" sz="20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Edition 4, © Pearson Education 2005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96800" y="3070080"/>
            <a:ext cx="189396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1.9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ut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73120" y="1890720"/>
            <a:ext cx="8025840" cy="3146400"/>
            <a:chOff x="573120" y="1890720"/>
            <a:chExt cx="8025840" cy="3146400"/>
          </a:xfrm>
        </p:grpSpPr>
        <p:sp>
          <p:nvSpPr>
            <p:cNvPr id="183" name=""/>
            <p:cNvSpPr/>
            <p:nvPr/>
          </p:nvSpPr>
          <p:spPr>
            <a:xfrm>
              <a:off x="7435800" y="2355840"/>
              <a:ext cx="112680" cy="61920"/>
            </a:xfrm>
            <a:custGeom>
              <a:avLst/>
              <a:gdLst/>
              <a:ahLst/>
              <a:rect l="l" t="t" r="r" b="b"/>
              <a:pathLst>
                <a:path w="71" h="39">
                  <a:moveTo>
                    <a:pt x="0" y="19"/>
                  </a:moveTo>
                  <a:lnTo>
                    <a:pt x="0" y="0"/>
                  </a:lnTo>
                  <a:lnTo>
                    <a:pt x="71" y="19"/>
                  </a:lnTo>
                  <a:lnTo>
                    <a:pt x="0" y="3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00000" y="2386080"/>
              <a:ext cx="65358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435800" y="3581280"/>
              <a:ext cx="112680" cy="32040"/>
            </a:xfrm>
            <a:custGeom>
              <a:avLst/>
              <a:gdLst/>
              <a:ahLst/>
              <a:rect l="l" t="t" r="r" b="b"/>
              <a:pathLst>
                <a:path w="71" h="20">
                  <a:moveTo>
                    <a:pt x="0" y="20"/>
                  </a:moveTo>
                  <a:lnTo>
                    <a:pt x="0" y="0"/>
                  </a:lnTo>
                  <a:lnTo>
                    <a:pt x="71" y="2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00000" y="3613320"/>
              <a:ext cx="65358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00000" y="2233440"/>
              <a:ext cx="1800" cy="1563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173320" y="2325600"/>
              <a:ext cx="112680" cy="1224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49560" y="2325600"/>
              <a:ext cx="114480" cy="1224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30520" y="3398760"/>
              <a:ext cx="141480" cy="122400"/>
            </a:xfrm>
            <a:custGeom>
              <a:avLst/>
              <a:gdLst/>
              <a:ahLst/>
              <a:rect l="l" t="t" r="r" b="b"/>
              <a:pathLst>
                <a:path w="89" h="77">
                  <a:moveTo>
                    <a:pt x="18" y="19"/>
                  </a:moveTo>
                  <a:lnTo>
                    <a:pt x="18" y="0"/>
                  </a:lnTo>
                  <a:lnTo>
                    <a:pt x="89" y="77"/>
                  </a:lnTo>
                  <a:lnTo>
                    <a:pt x="0" y="57"/>
                  </a:lnTo>
                  <a:lnTo>
                    <a:pt x="18" y="19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73320" y="2325600"/>
              <a:ext cx="1357200" cy="110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21360" y="2478240"/>
              <a:ext cx="84240" cy="153720"/>
            </a:xfrm>
            <a:custGeom>
              <a:avLst/>
              <a:gdLst/>
              <a:ahLst/>
              <a:rect l="l" t="t" r="r" b="b"/>
              <a:pathLst>
                <a:path w="53" h="97">
                  <a:moveTo>
                    <a:pt x="18" y="77"/>
                  </a:moveTo>
                  <a:lnTo>
                    <a:pt x="0" y="58"/>
                  </a:lnTo>
                  <a:lnTo>
                    <a:pt x="53" y="0"/>
                  </a:lnTo>
                  <a:lnTo>
                    <a:pt x="35" y="97"/>
                  </a:lnTo>
                  <a:lnTo>
                    <a:pt x="18" y="77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568840" y="2600280"/>
              <a:ext cx="480960" cy="101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55560" y="286056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42760" y="29732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19560" y="292248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08200" y="30351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3120" y="2370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99840" y="24829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3120" y="3505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99840" y="36162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85280" y="3382920"/>
              <a:ext cx="91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hysica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15320" y="3657600"/>
              <a:ext cx="43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05600" y="2325600"/>
              <a:ext cx="112680" cy="1224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352520" y="2325600"/>
              <a:ext cx="112680" cy="1224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09680" y="1971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57280" y="21049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55840" y="18907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10520" y="4762440"/>
              <a:ext cx="144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istent c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1920" y="4486320"/>
              <a:ext cx="1587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consistent c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672000" y="3521160"/>
              <a:ext cx="114120" cy="1220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379760" y="3521160"/>
              <a:ext cx="113040" cy="1220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511960" y="3521160"/>
              <a:ext cx="112680" cy="1220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144880" y="1971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301840" y="21049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301840" y="18907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24360" y="1971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81320" y="21049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4560" y="18907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108840" y="1971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65800" y="21049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269040" y="18907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683160" y="3841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40120" y="3944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843360" y="37609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397400" y="3841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54360" y="3944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57600" y="37609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29240" y="3841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686560" y="3944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689440" y="37609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682640" y="1957320"/>
              <a:ext cx="2470320" cy="2405160"/>
            </a:xfrm>
            <a:custGeom>
              <a:avLst/>
              <a:gdLst/>
              <a:ahLst/>
              <a:rect l="l" t="t" r="r" b="b"/>
              <a:pathLst>
                <a:path w="1556" h="1515">
                  <a:moveTo>
                    <a:pt x="39" y="0"/>
                  </a:moveTo>
                  <a:cubicBezTo>
                    <a:pt x="68" y="63"/>
                    <a:pt x="0" y="249"/>
                    <a:pt x="211" y="376"/>
                  </a:cubicBezTo>
                  <a:cubicBezTo>
                    <a:pt x="422" y="503"/>
                    <a:pt x="1081" y="572"/>
                    <a:pt x="1305" y="762"/>
                  </a:cubicBezTo>
                  <a:cubicBezTo>
                    <a:pt x="1529" y="952"/>
                    <a:pt x="1518" y="1391"/>
                    <a:pt x="1556" y="1515"/>
                  </a:cubicBezTo>
                </a:path>
              </a:pathLst>
            </a:custGeom>
            <a:noFill/>
            <a:ln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48040" y="1982880"/>
              <a:ext cx="1347840" cy="2404800"/>
            </a:xfrm>
            <a:custGeom>
              <a:avLst/>
              <a:gdLst/>
              <a:ahLst/>
              <a:rect l="l" t="t" r="r" b="b"/>
              <a:pathLst>
                <a:path w="1556" h="1515">
                  <a:moveTo>
                    <a:pt x="39" y="0"/>
                  </a:moveTo>
                  <a:cubicBezTo>
                    <a:pt x="68" y="63"/>
                    <a:pt x="0" y="249"/>
                    <a:pt x="211" y="376"/>
                  </a:cubicBezTo>
                  <a:cubicBezTo>
                    <a:pt x="422" y="503"/>
                    <a:pt x="1081" y="572"/>
                    <a:pt x="1305" y="762"/>
                  </a:cubicBezTo>
                  <a:cubicBezTo>
                    <a:pt x="1529" y="952"/>
                    <a:pt x="1518" y="1391"/>
                    <a:pt x="1556" y="1515"/>
                  </a:cubicBezTo>
                </a:path>
              </a:pathLst>
            </a:custGeom>
            <a:noFill/>
            <a:ln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1.10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Chandy and Lamport’s ‘snapshot’ algorith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97320" y="1550880"/>
            <a:ext cx="8146440" cy="46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rker receiving rule for process 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receipt of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rk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ssage over chann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 yet recorded its state)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rds its process state now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rds the state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the empty se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rns on recording of messages arriving over other incoming channel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cords the state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the set of messages it has received ov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it saved its st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nd 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rker sending rule for process 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recorded its state, for each outgoing chann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nds one marker message ov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efore it sends any other message ov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1.1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wo processes and their initial stat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601560" y="2195640"/>
            <a:ext cx="8075880" cy="27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1.1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execution of the processes in Figure 11.11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42880" y="1539720"/>
            <a:ext cx="803124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1.13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Reachability between states in the snapshot algorith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57360" y="1984320"/>
            <a:ext cx="7781760" cy="2778120"/>
            <a:chOff x="657360" y="1984320"/>
            <a:chExt cx="7781760" cy="2778120"/>
          </a:xfrm>
        </p:grpSpPr>
        <p:sp>
          <p:nvSpPr>
            <p:cNvPr id="242" name=""/>
            <p:cNvSpPr/>
            <p:nvPr/>
          </p:nvSpPr>
          <p:spPr>
            <a:xfrm>
              <a:off x="1684440" y="2666880"/>
              <a:ext cx="1025280" cy="1111320"/>
            </a:xfrm>
            <a:custGeom>
              <a:avLst/>
              <a:gdLst/>
              <a:ahLst/>
              <a:rect l="l" t="t" r="r" b="b"/>
              <a:pathLst>
                <a:path w="646" h="700">
                  <a:moveTo>
                    <a:pt x="0" y="360"/>
                  </a:moveTo>
                  <a:lnTo>
                    <a:pt x="332" y="0"/>
                  </a:lnTo>
                  <a:lnTo>
                    <a:pt x="646" y="360"/>
                  </a:lnTo>
                  <a:lnTo>
                    <a:pt x="332" y="700"/>
                  </a:lnTo>
                  <a:lnTo>
                    <a:pt x="0" y="360"/>
                  </a:lnTo>
                  <a:close/>
                </a:path>
              </a:pathLst>
            </a:custGeom>
            <a:solidFill>
              <a:srgbClr val="ffdc99"/>
            </a:solidFill>
            <a:ln w="28440">
              <a:solidFill>
                <a:srgbClr val="ffd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431040" y="2666880"/>
              <a:ext cx="1027080" cy="1079640"/>
            </a:xfrm>
            <a:custGeom>
              <a:avLst/>
              <a:gdLst/>
              <a:ahLst/>
              <a:rect l="l" t="t" r="r" b="b"/>
              <a:pathLst>
                <a:path w="647" h="680">
                  <a:moveTo>
                    <a:pt x="0" y="340"/>
                  </a:moveTo>
                  <a:lnTo>
                    <a:pt x="333" y="0"/>
                  </a:lnTo>
                  <a:lnTo>
                    <a:pt x="647" y="340"/>
                  </a:lnTo>
                  <a:lnTo>
                    <a:pt x="333" y="680"/>
                  </a:lnTo>
                  <a:lnTo>
                    <a:pt x="0" y="340"/>
                  </a:lnTo>
                  <a:close/>
                </a:path>
              </a:pathLst>
            </a:custGeom>
            <a:solidFill>
              <a:srgbClr val="ffdc99"/>
            </a:solidFill>
            <a:ln w="28440">
              <a:solidFill>
                <a:srgbClr val="ffd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45040" y="3651120"/>
              <a:ext cx="996840" cy="1111320"/>
            </a:xfrm>
            <a:custGeom>
              <a:avLst/>
              <a:gdLst/>
              <a:ahLst/>
              <a:rect l="l" t="t" r="r" b="b"/>
              <a:pathLst>
                <a:path w="628" h="700">
                  <a:moveTo>
                    <a:pt x="0" y="360"/>
                  </a:moveTo>
                  <a:lnTo>
                    <a:pt x="314" y="0"/>
                  </a:lnTo>
                  <a:lnTo>
                    <a:pt x="628" y="360"/>
                  </a:lnTo>
                  <a:lnTo>
                    <a:pt x="314" y="700"/>
                  </a:lnTo>
                  <a:lnTo>
                    <a:pt x="0" y="360"/>
                  </a:lnTo>
                  <a:close/>
                </a:path>
              </a:pathLst>
            </a:custGeom>
            <a:solidFill>
              <a:srgbClr val="ffdc99"/>
            </a:solidFill>
            <a:ln w="28440">
              <a:solidFill>
                <a:srgbClr val="ffd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6040" y="309564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30480" y="3211560"/>
              <a:ext cx="24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ni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94200" y="309564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50080" y="3211560"/>
              <a:ext cx="352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fina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566720" y="3143160"/>
              <a:ext cx="117720" cy="127080"/>
            </a:xfrm>
            <a:custGeom>
              <a:avLst/>
              <a:gdLst/>
              <a:ahLst/>
              <a:rect l="l" t="t" r="r" b="b"/>
              <a:pathLst>
                <a:path w="74" h="80">
                  <a:moveTo>
                    <a:pt x="0" y="40"/>
                  </a:moveTo>
                  <a:lnTo>
                    <a:pt x="0" y="0"/>
                  </a:lnTo>
                  <a:lnTo>
                    <a:pt x="74" y="40"/>
                  </a:lnTo>
                  <a:lnTo>
                    <a:pt x="0" y="8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7360" y="3206880"/>
              <a:ext cx="9093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352000" y="3143160"/>
              <a:ext cx="87120" cy="127080"/>
            </a:xfrm>
            <a:custGeom>
              <a:avLst/>
              <a:gdLst/>
              <a:ahLst/>
              <a:rect l="l" t="t" r="r" b="b"/>
              <a:pathLst>
                <a:path w="55" h="80">
                  <a:moveTo>
                    <a:pt x="0" y="40"/>
                  </a:moveTo>
                  <a:lnTo>
                    <a:pt x="0" y="0"/>
                  </a:lnTo>
                  <a:lnTo>
                    <a:pt x="55" y="40"/>
                  </a:lnTo>
                  <a:lnTo>
                    <a:pt x="0" y="8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58120" y="3206880"/>
              <a:ext cx="877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607080" y="2698920"/>
              <a:ext cx="117720" cy="126720"/>
            </a:xfrm>
            <a:custGeom>
              <a:avLst/>
              <a:gdLst/>
              <a:ahLst/>
              <a:rect l="l" t="t" r="r" b="b"/>
              <a:pathLst>
                <a:path w="74" h="80">
                  <a:moveTo>
                    <a:pt x="37" y="20"/>
                  </a:moveTo>
                  <a:lnTo>
                    <a:pt x="74" y="0"/>
                  </a:lnTo>
                  <a:lnTo>
                    <a:pt x="74" y="80"/>
                  </a:lnTo>
                  <a:lnTo>
                    <a:pt x="0" y="40"/>
                  </a:lnTo>
                  <a:lnTo>
                    <a:pt x="37" y="2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497480" y="2349360"/>
              <a:ext cx="2168280" cy="349560"/>
            </a:xfrm>
            <a:custGeom>
              <a:avLst/>
              <a:gdLst/>
              <a:ahLst/>
              <a:rect l="l" t="t" r="r" b="b"/>
              <a:pathLst>
                <a:path w="1366" h="220">
                  <a:moveTo>
                    <a:pt x="0" y="0"/>
                  </a:moveTo>
                  <a:lnTo>
                    <a:pt x="886" y="40"/>
                  </a:lnTo>
                  <a:lnTo>
                    <a:pt x="1200" y="120"/>
                  </a:lnTo>
                  <a:lnTo>
                    <a:pt x="1366" y="22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357280" y="2349360"/>
              <a:ext cx="448596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75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7567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13280" y="4127400"/>
              <a:ext cx="88920" cy="127080"/>
            </a:xfrm>
            <a:custGeom>
              <a:avLst/>
              <a:gdLst/>
              <a:ahLst/>
              <a:rect l="l" t="t" r="r" b="b"/>
              <a:pathLst>
                <a:path w="56" h="80">
                  <a:moveTo>
                    <a:pt x="0" y="40"/>
                  </a:moveTo>
                  <a:lnTo>
                    <a:pt x="0" y="0"/>
                  </a:lnTo>
                  <a:lnTo>
                    <a:pt x="56" y="40"/>
                  </a:lnTo>
                  <a:lnTo>
                    <a:pt x="0" y="8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98600" y="3697200"/>
              <a:ext cx="1700280" cy="493920"/>
            </a:xfrm>
            <a:custGeom>
              <a:avLst/>
              <a:gdLst/>
              <a:ahLst/>
              <a:rect l="l" t="t" r="r" b="b"/>
              <a:pathLst>
                <a:path w="1071" h="340">
                  <a:moveTo>
                    <a:pt x="1071" y="340"/>
                  </a:moveTo>
                  <a:lnTo>
                    <a:pt x="646" y="300"/>
                  </a:lnTo>
                  <a:lnTo>
                    <a:pt x="314" y="240"/>
                  </a:lnTo>
                  <a:lnTo>
                    <a:pt x="93" y="120"/>
                  </a:lnTo>
                  <a:lnTo>
                    <a:pt x="37" y="6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24800" y="3714840"/>
              <a:ext cx="117360" cy="127080"/>
            </a:xfrm>
            <a:custGeom>
              <a:avLst/>
              <a:gdLst/>
              <a:ahLst/>
              <a:rect l="l" t="t" r="r" b="b"/>
              <a:pathLst>
                <a:path w="74" h="80">
                  <a:moveTo>
                    <a:pt x="37" y="60"/>
                  </a:moveTo>
                  <a:lnTo>
                    <a:pt x="0" y="40"/>
                  </a:lnTo>
                  <a:lnTo>
                    <a:pt x="74" y="0"/>
                  </a:lnTo>
                  <a:lnTo>
                    <a:pt x="74" y="80"/>
                  </a:lnTo>
                  <a:lnTo>
                    <a:pt x="37" y="6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95720" y="3809880"/>
              <a:ext cx="1787760" cy="381240"/>
            </a:xfrm>
            <a:custGeom>
              <a:avLst/>
              <a:gdLst/>
              <a:ahLst/>
              <a:rect l="l" t="t" r="r" b="b"/>
              <a:pathLst>
                <a:path w="1126" h="240">
                  <a:moveTo>
                    <a:pt x="1126" y="0"/>
                  </a:moveTo>
                  <a:lnTo>
                    <a:pt x="994" y="122"/>
                  </a:lnTo>
                  <a:lnTo>
                    <a:pt x="738" y="200"/>
                  </a:lnTo>
                  <a:lnTo>
                    <a:pt x="0" y="24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379760" y="407988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33480" y="4195800"/>
              <a:ext cx="416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na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103920" y="1984320"/>
              <a:ext cx="1944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actual execution 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9360" y="21002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54480" y="198432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,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49600" y="21002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54360" y="198432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,..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93960" y="3000240"/>
              <a:ext cx="1073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ecording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02160" y="3095640"/>
              <a:ext cx="1073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ecording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93960" y="3286080"/>
              <a:ext cx="711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begin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02160" y="3381480"/>
              <a:ext cx="523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end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180800" y="4334040"/>
              <a:ext cx="1221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e-snap: 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368080" y="4270320"/>
              <a:ext cx="66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430000" y="44496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35120" y="433404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,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30240" y="4270320"/>
              <a:ext cx="66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792160" y="44496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96560" y="4334040"/>
              <a:ext cx="403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,...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87160" y="4270320"/>
              <a:ext cx="66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50160" y="4449600"/>
              <a:ext cx="308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-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431320" y="4334040"/>
              <a:ext cx="1328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ost-snap: 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721200" y="4270320"/>
              <a:ext cx="66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784920" y="44496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919920" y="433404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,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114680" y="4270320"/>
              <a:ext cx="66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78040" y="4449600"/>
              <a:ext cx="355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+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27600" y="433404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,..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1.1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Vector timestamps and variable values for the execution of Figure 11.9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33240" y="1906560"/>
            <a:ext cx="7965720" cy="3289320"/>
            <a:chOff x="633240" y="1906560"/>
            <a:chExt cx="7965720" cy="3289320"/>
          </a:xfrm>
        </p:grpSpPr>
        <p:sp>
          <p:nvSpPr>
            <p:cNvPr id="289" name=""/>
            <p:cNvSpPr/>
            <p:nvPr/>
          </p:nvSpPr>
          <p:spPr>
            <a:xfrm>
              <a:off x="7440480" y="2620800"/>
              <a:ext cx="112680" cy="61920"/>
            </a:xfrm>
            <a:custGeom>
              <a:avLst/>
              <a:gdLst/>
              <a:ahLst/>
              <a:rect l="l" t="t" r="r" b="b"/>
              <a:pathLst>
                <a:path w="71" h="39">
                  <a:moveTo>
                    <a:pt x="0" y="20"/>
                  </a:moveTo>
                  <a:lnTo>
                    <a:pt x="0" y="0"/>
                  </a:lnTo>
                  <a:lnTo>
                    <a:pt x="71" y="20"/>
                  </a:lnTo>
                  <a:lnTo>
                    <a:pt x="0" y="39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957240" y="2652840"/>
              <a:ext cx="64832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440480" y="3807000"/>
              <a:ext cx="112680" cy="61560"/>
            </a:xfrm>
            <a:custGeom>
              <a:avLst/>
              <a:gdLst/>
              <a:ahLst/>
              <a:rect l="l" t="t" r="r" b="b"/>
              <a:pathLst>
                <a:path w="71" h="39">
                  <a:moveTo>
                    <a:pt x="0" y="19"/>
                  </a:moveTo>
                  <a:lnTo>
                    <a:pt x="0" y="0"/>
                  </a:lnTo>
                  <a:lnTo>
                    <a:pt x="71" y="19"/>
                  </a:lnTo>
                  <a:lnTo>
                    <a:pt x="0" y="3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957240" y="3836880"/>
              <a:ext cx="64832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57240" y="2470320"/>
              <a:ext cx="1440" cy="157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20840" y="2590920"/>
              <a:ext cx="111240" cy="1220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90960" y="2590920"/>
              <a:ext cx="112680" cy="1220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67240" y="3654360"/>
              <a:ext cx="141120" cy="122400"/>
            </a:xfrm>
            <a:custGeom>
              <a:avLst/>
              <a:gdLst/>
              <a:ahLst/>
              <a:rect l="l" t="t" r="r" b="b"/>
              <a:pathLst>
                <a:path w="89" h="77">
                  <a:moveTo>
                    <a:pt x="18" y="39"/>
                  </a:moveTo>
                  <a:lnTo>
                    <a:pt x="18" y="0"/>
                  </a:lnTo>
                  <a:lnTo>
                    <a:pt x="89" y="77"/>
                  </a:lnTo>
                  <a:lnTo>
                    <a:pt x="0" y="58"/>
                  </a:lnTo>
                  <a:lnTo>
                    <a:pt x="18" y="39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47840" y="2652840"/>
              <a:ext cx="1319400" cy="10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37200" y="2743200"/>
              <a:ext cx="84240" cy="152280"/>
            </a:xfrm>
            <a:custGeom>
              <a:avLst/>
              <a:gdLst/>
              <a:ahLst/>
              <a:rect l="l" t="t" r="r" b="b"/>
              <a:pathLst>
                <a:path w="53" h="96">
                  <a:moveTo>
                    <a:pt x="18" y="77"/>
                  </a:moveTo>
                  <a:lnTo>
                    <a:pt x="0" y="57"/>
                  </a:lnTo>
                  <a:lnTo>
                    <a:pt x="53" y="0"/>
                  </a:lnTo>
                  <a:lnTo>
                    <a:pt x="35" y="96"/>
                  </a:lnTo>
                  <a:lnTo>
                    <a:pt x="18" y="77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5587920" y="2865600"/>
              <a:ext cx="478080" cy="100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499840" y="312264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87400" y="32338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36840" y="315288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224400" y="32637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33240" y="2635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58520" y="27478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33240" y="3760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58520" y="38718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685280" y="3638520"/>
              <a:ext cx="91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hysica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921800" y="3913200"/>
              <a:ext cx="43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121440" y="2590920"/>
              <a:ext cx="112680" cy="1220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406520" y="2590920"/>
              <a:ext cx="112680" cy="1220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946680" y="4854600"/>
              <a:ext cx="584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ut 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519080" y="49672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65400" y="1906560"/>
              <a:ext cx="47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1,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65320" y="1906560"/>
              <a:ext cx="47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,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08760" y="1906560"/>
              <a:ext cx="47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4,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637080" y="4398840"/>
              <a:ext cx="47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,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309920" y="4398840"/>
              <a:ext cx="47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,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405400" y="4398840"/>
              <a:ext cx="47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,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921040" y="1906560"/>
              <a:ext cx="47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3,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180800" y="2241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93480" y="23526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93200" y="2241720"/>
              <a:ext cx="325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904760" y="2241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015640" y="23526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116080" y="2241720"/>
              <a:ext cx="578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03320" y="2241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14200" y="23526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014640" y="2241720"/>
              <a:ext cx="578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10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250800" y="4065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363480" y="41767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63920" y="4065480"/>
              <a:ext cx="578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282560" y="4065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395600" y="41767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495320" y="4065480"/>
              <a:ext cx="45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9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236920" y="4065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349600" y="41767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449680" y="4065480"/>
              <a:ext cx="45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9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903640" y="2241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16320" y="23526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116400" y="2241720"/>
              <a:ext cx="45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9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08360" y="3776760"/>
              <a:ext cx="111240" cy="1220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37000" y="3776760"/>
              <a:ext cx="112680" cy="1220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532480" y="3776760"/>
              <a:ext cx="112680" cy="1220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81760" y="4700520"/>
              <a:ext cx="584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ut 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78440" y="4632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754280" y="2228760"/>
              <a:ext cx="2469960" cy="2524320"/>
            </a:xfrm>
            <a:custGeom>
              <a:avLst/>
              <a:gdLst/>
              <a:ahLst/>
              <a:rect l="l" t="t" r="r" b="b"/>
              <a:pathLst>
                <a:path w="1556" h="1515">
                  <a:moveTo>
                    <a:pt x="39" y="0"/>
                  </a:moveTo>
                  <a:cubicBezTo>
                    <a:pt x="68" y="63"/>
                    <a:pt x="0" y="249"/>
                    <a:pt x="211" y="376"/>
                  </a:cubicBezTo>
                  <a:cubicBezTo>
                    <a:pt x="422" y="503"/>
                    <a:pt x="1081" y="572"/>
                    <a:pt x="1305" y="762"/>
                  </a:cubicBezTo>
                  <a:cubicBezTo>
                    <a:pt x="1529" y="952"/>
                    <a:pt x="1518" y="1391"/>
                    <a:pt x="1556" y="1515"/>
                  </a:cubicBezTo>
                </a:path>
              </a:pathLst>
            </a:custGeom>
            <a:noFill/>
            <a:ln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748040" y="2254320"/>
              <a:ext cx="1347840" cy="2405160"/>
            </a:xfrm>
            <a:custGeom>
              <a:avLst/>
              <a:gdLst/>
              <a:ahLst/>
              <a:rect l="l" t="t" r="r" b="b"/>
              <a:pathLst>
                <a:path w="1556" h="1515">
                  <a:moveTo>
                    <a:pt x="39" y="0"/>
                  </a:moveTo>
                  <a:cubicBezTo>
                    <a:pt x="68" y="63"/>
                    <a:pt x="0" y="249"/>
                    <a:pt x="211" y="376"/>
                  </a:cubicBezTo>
                  <a:cubicBezTo>
                    <a:pt x="422" y="503"/>
                    <a:pt x="1081" y="572"/>
                    <a:pt x="1305" y="762"/>
                  </a:cubicBezTo>
                  <a:cubicBezTo>
                    <a:pt x="1529" y="952"/>
                    <a:pt x="1518" y="1391"/>
                    <a:pt x="1556" y="1515"/>
                  </a:cubicBezTo>
                </a:path>
              </a:pathLst>
            </a:custGeom>
            <a:noFill/>
            <a:ln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1.1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lattice of global states for the execution of Figure 11.14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542160" y="1679400"/>
            <a:ext cx="8159040" cy="3978360"/>
            <a:chOff x="542160" y="1679400"/>
            <a:chExt cx="8159040" cy="3978360"/>
          </a:xfrm>
        </p:grpSpPr>
        <p:sp>
          <p:nvSpPr>
            <p:cNvPr id="351" name=""/>
            <p:cNvSpPr/>
            <p:nvPr/>
          </p:nvSpPr>
          <p:spPr>
            <a:xfrm>
              <a:off x="2289240" y="2886840"/>
              <a:ext cx="955440" cy="1038600"/>
            </a:xfrm>
            <a:custGeom>
              <a:avLst/>
              <a:gdLst/>
              <a:ahLst/>
              <a:rect l="l" t="t" r="r" b="b"/>
              <a:pathLst>
                <a:path w="602" h="671">
                  <a:moveTo>
                    <a:pt x="0" y="344"/>
                  </a:moveTo>
                  <a:lnTo>
                    <a:pt x="301" y="0"/>
                  </a:lnTo>
                  <a:lnTo>
                    <a:pt x="602" y="344"/>
                  </a:lnTo>
                  <a:lnTo>
                    <a:pt x="301" y="671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ffffff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575240" y="2871360"/>
              <a:ext cx="4125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Sij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= global state after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events at process 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77760" y="3123720"/>
              <a:ext cx="2818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events at process 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766960" y="1876320"/>
              <a:ext cx="982800" cy="1010520"/>
            </a:xfrm>
            <a:custGeom>
              <a:avLst/>
              <a:gdLst/>
              <a:ahLst/>
              <a:rect l="l" t="t" r="r" b="b"/>
              <a:pathLst>
                <a:path w="619" h="653">
                  <a:moveTo>
                    <a:pt x="0" y="653"/>
                  </a:moveTo>
                  <a:lnTo>
                    <a:pt x="318" y="326"/>
                  </a:lnTo>
                  <a:lnTo>
                    <a:pt x="619" y="0"/>
                  </a:lnTo>
                </a:path>
              </a:pathLst>
            </a:custGeom>
            <a:noFill/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766960" y="3419280"/>
              <a:ext cx="957240" cy="1010880"/>
            </a:xfrm>
            <a:custGeom>
              <a:avLst/>
              <a:gdLst/>
              <a:ahLst/>
              <a:rect l="l" t="t" r="r" b="b"/>
              <a:pathLst>
                <a:path w="603" h="653">
                  <a:moveTo>
                    <a:pt x="0" y="327"/>
                  </a:moveTo>
                  <a:lnTo>
                    <a:pt x="301" y="0"/>
                  </a:lnTo>
                  <a:lnTo>
                    <a:pt x="603" y="327"/>
                  </a:lnTo>
                  <a:lnTo>
                    <a:pt x="301" y="653"/>
                  </a:lnTo>
                  <a:lnTo>
                    <a:pt x="0" y="327"/>
                  </a:lnTo>
                  <a:close/>
                </a:path>
              </a:pathLst>
            </a:custGeom>
            <a:solidFill>
              <a:srgbClr val="ffffff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244680" y="3925440"/>
              <a:ext cx="984600" cy="1010880"/>
            </a:xfrm>
            <a:custGeom>
              <a:avLst/>
              <a:gdLst/>
              <a:ahLst/>
              <a:rect l="l" t="t" r="r" b="b"/>
              <a:pathLst>
                <a:path w="620" h="653">
                  <a:moveTo>
                    <a:pt x="0" y="326"/>
                  </a:moveTo>
                  <a:lnTo>
                    <a:pt x="302" y="0"/>
                  </a:lnTo>
                  <a:lnTo>
                    <a:pt x="620" y="326"/>
                  </a:lnTo>
                  <a:lnTo>
                    <a:pt x="302" y="653"/>
                  </a:lnTo>
                  <a:lnTo>
                    <a:pt x="0" y="326"/>
                  </a:lnTo>
                  <a:close/>
                </a:path>
              </a:pathLst>
            </a:custGeom>
            <a:solidFill>
              <a:srgbClr val="ffffff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3244680" y="4936680"/>
              <a:ext cx="479520" cy="532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91000" y="1679400"/>
              <a:ext cx="34452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615840" y="172152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757680" y="18234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12920" y="2213640"/>
              <a:ext cx="34452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130200" y="225360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273480" y="23572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581200" y="2746080"/>
              <a:ext cx="34452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606400" y="278784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747880" y="28900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112920" y="3252240"/>
              <a:ext cx="31752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117600" y="329220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259080" y="33944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128680" y="3252240"/>
              <a:ext cx="31932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31560" y="329220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273400" y="33944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606760" y="3756600"/>
              <a:ext cx="318960" cy="30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615760" y="379836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757600" y="39006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086280" y="4261320"/>
              <a:ext cx="3189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096720" y="433080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240000" y="44330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537000" y="3784680"/>
              <a:ext cx="34596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558960" y="382644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01880" y="39286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68720" y="4289040"/>
              <a:ext cx="31896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080960" y="433080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22800" y="44330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64000" y="4795560"/>
              <a:ext cx="345960" cy="30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588840" y="483732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0680" y="49392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086280" y="5300280"/>
              <a:ext cx="34416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107880" y="534204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249720" y="54442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42160" y="1721520"/>
              <a:ext cx="698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evel 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122480" y="22536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122480" y="27597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22480" y="32922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122480" y="37983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122480" y="43308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122480" y="48373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122480" y="53697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1.1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lgorithms to evaluate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possibly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definitely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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811080" y="1386000"/>
            <a:ext cx="720432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1.1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valuating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definitely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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541440" y="1841400"/>
            <a:ext cx="803916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1.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kew between computer clocks in a distributed syste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09680" y="2685960"/>
            <a:ext cx="82152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1.2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Clock synchronization using a time server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42960" y="2373480"/>
            <a:ext cx="7642080" cy="1956240"/>
            <a:chOff x="642960" y="2373480"/>
            <a:chExt cx="7642080" cy="1956240"/>
          </a:xfrm>
        </p:grpSpPr>
        <p:sp>
          <p:nvSpPr>
            <p:cNvPr id="91" name=""/>
            <p:cNvSpPr/>
            <p:nvPr/>
          </p:nvSpPr>
          <p:spPr>
            <a:xfrm>
              <a:off x="642960" y="2387520"/>
              <a:ext cx="1897200" cy="14461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88200" y="2387520"/>
              <a:ext cx="1896840" cy="14461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3920" y="2622600"/>
              <a:ext cx="934920" cy="974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189840" y="2739960"/>
              <a:ext cx="226800" cy="206280"/>
            </a:xfrm>
            <a:custGeom>
              <a:avLst/>
              <a:gdLst/>
              <a:ahLst/>
              <a:rect l="l" t="t" r="r" b="b"/>
              <a:pathLst>
                <a:path w="155" h="135">
                  <a:moveTo>
                    <a:pt x="155" y="58"/>
                  </a:moveTo>
                  <a:lnTo>
                    <a:pt x="0" y="135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55" y="5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189840" y="2739960"/>
              <a:ext cx="226800" cy="206280"/>
            </a:xfrm>
            <a:custGeom>
              <a:avLst/>
              <a:gdLst/>
              <a:ahLst/>
              <a:rect l="l" t="t" r="r" b="b"/>
              <a:pathLst>
                <a:path w="155" h="135">
                  <a:moveTo>
                    <a:pt x="155" y="58"/>
                  </a:moveTo>
                  <a:lnTo>
                    <a:pt x="0" y="135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55" y="58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73160" y="2828880"/>
              <a:ext cx="42166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001960" y="3301920"/>
              <a:ext cx="226800" cy="23652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0" y="77"/>
                  </a:moveTo>
                  <a:lnTo>
                    <a:pt x="155" y="0"/>
                  </a:lnTo>
                  <a:lnTo>
                    <a:pt x="155" y="77"/>
                  </a:lnTo>
                  <a:lnTo>
                    <a:pt x="155" y="155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01960" y="3301920"/>
              <a:ext cx="226800" cy="23652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0" y="77"/>
                  </a:moveTo>
                  <a:lnTo>
                    <a:pt x="155" y="0"/>
                  </a:lnTo>
                  <a:lnTo>
                    <a:pt x="155" y="77"/>
                  </a:lnTo>
                  <a:lnTo>
                    <a:pt x="155" y="155"/>
                  </a:lnTo>
                  <a:lnTo>
                    <a:pt x="0" y="77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228400" y="3419640"/>
              <a:ext cx="48387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02320" y="2771640"/>
              <a:ext cx="112680" cy="17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502320" y="2771640"/>
              <a:ext cx="141480" cy="206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27680" y="2771640"/>
              <a:ext cx="112680" cy="17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727680" y="2771640"/>
              <a:ext cx="142920" cy="206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51320" y="2771640"/>
              <a:ext cx="57240" cy="17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51320" y="3332160"/>
              <a:ext cx="57240" cy="20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70600" y="2622600"/>
              <a:ext cx="905040" cy="974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98320" y="237348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15040" y="2481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37920" y="364176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70480" y="37497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48720" y="39654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601680" y="4024440"/>
              <a:ext cx="1585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ime server,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51320" y="2743200"/>
              <a:ext cx="84240" cy="206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51320" y="3332160"/>
              <a:ext cx="84240" cy="235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1.3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An example synchronization subnet in an NTP implementa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15840" y="1550880"/>
            <a:ext cx="7454880" cy="4391280"/>
            <a:chOff x="915840" y="1550880"/>
            <a:chExt cx="7454880" cy="4391280"/>
          </a:xfrm>
        </p:grpSpPr>
        <p:sp>
          <p:nvSpPr>
            <p:cNvPr id="117" name=""/>
            <p:cNvSpPr/>
            <p:nvPr/>
          </p:nvSpPr>
          <p:spPr>
            <a:xfrm>
              <a:off x="2058480" y="4024800"/>
              <a:ext cx="115920" cy="93960"/>
            </a:xfrm>
            <a:custGeom>
              <a:avLst/>
              <a:gdLst/>
              <a:ahLst/>
              <a:rect l="l" t="t" r="r" b="b"/>
              <a:pathLst>
                <a:path w="79" h="63">
                  <a:moveTo>
                    <a:pt x="63" y="16"/>
                  </a:moveTo>
                  <a:lnTo>
                    <a:pt x="79" y="32"/>
                  </a:lnTo>
                  <a:lnTo>
                    <a:pt x="0" y="63"/>
                  </a:lnTo>
                  <a:lnTo>
                    <a:pt x="47" y="0"/>
                  </a:lnTo>
                  <a:lnTo>
                    <a:pt x="63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150640" y="3505680"/>
              <a:ext cx="530280" cy="5425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36160" y="4048560"/>
              <a:ext cx="92160" cy="9396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16" y="16"/>
                  </a:moveTo>
                  <a:lnTo>
                    <a:pt x="31" y="0"/>
                  </a:lnTo>
                  <a:lnTo>
                    <a:pt x="63" y="63"/>
                  </a:lnTo>
                  <a:lnTo>
                    <a:pt x="0" y="16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51240" y="3529440"/>
              <a:ext cx="484560" cy="5187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398040" y="2751840"/>
              <a:ext cx="114120" cy="9396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63" y="16"/>
                  </a:moveTo>
                  <a:lnTo>
                    <a:pt x="78" y="32"/>
                  </a:lnTo>
                  <a:lnTo>
                    <a:pt x="0" y="63"/>
                  </a:lnTo>
                  <a:lnTo>
                    <a:pt x="47" y="0"/>
                  </a:lnTo>
                  <a:lnTo>
                    <a:pt x="63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3490200" y="2304720"/>
              <a:ext cx="575640" cy="4708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82720" y="2729160"/>
              <a:ext cx="91800" cy="9396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0" y="15"/>
                  </a:moveTo>
                  <a:lnTo>
                    <a:pt x="16" y="0"/>
                  </a:lnTo>
                  <a:lnTo>
                    <a:pt x="63" y="63"/>
                  </a:lnTo>
                  <a:lnTo>
                    <a:pt x="0" y="3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51720" y="2304720"/>
              <a:ext cx="530640" cy="424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98520" y="4000680"/>
              <a:ext cx="115560" cy="11808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16" y="16"/>
                  </a:moveTo>
                  <a:lnTo>
                    <a:pt x="31" y="0"/>
                  </a:lnTo>
                  <a:lnTo>
                    <a:pt x="79" y="79"/>
                  </a:lnTo>
                  <a:lnTo>
                    <a:pt x="0" y="32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89840" y="3505680"/>
              <a:ext cx="531720" cy="5187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74040" y="1550880"/>
              <a:ext cx="969840" cy="966240"/>
            </a:xfrm>
            <a:prstGeom prst="ellipse">
              <a:avLst/>
            </a:prstGeom>
            <a:solidFill>
              <a:srgbClr val="ffdc99"/>
            </a:solidFill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43760" y="2705400"/>
              <a:ext cx="946800" cy="966240"/>
            </a:xfrm>
            <a:prstGeom prst="ellipse">
              <a:avLst/>
            </a:prstGeom>
            <a:solidFill>
              <a:srgbClr val="ffdc99"/>
            </a:solidFill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58960" y="2705400"/>
              <a:ext cx="969840" cy="966240"/>
            </a:xfrm>
            <a:prstGeom prst="ellipse">
              <a:avLst/>
            </a:prstGeom>
            <a:solidFill>
              <a:srgbClr val="ffdc99"/>
            </a:solidFill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74760" y="4048560"/>
              <a:ext cx="945000" cy="966240"/>
            </a:xfrm>
            <a:prstGeom prst="ellipse">
              <a:avLst/>
            </a:prstGeom>
            <a:solidFill>
              <a:srgbClr val="ffdc99"/>
            </a:solidFill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13120" y="4048560"/>
              <a:ext cx="923040" cy="966240"/>
            </a:xfrm>
            <a:prstGeom prst="ellipse">
              <a:avLst/>
            </a:prstGeom>
            <a:solidFill>
              <a:srgbClr val="ffdc99"/>
            </a:solidFill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29400" y="4048560"/>
              <a:ext cx="945360" cy="966240"/>
            </a:xfrm>
            <a:prstGeom prst="ellipse">
              <a:avLst/>
            </a:prstGeom>
            <a:solidFill>
              <a:srgbClr val="ffdc99"/>
            </a:solidFill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00280" y="19857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69640" y="31406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99200" y="44838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84840" y="31406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39000" y="44838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54200" y="44838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15840" y="5331960"/>
              <a:ext cx="74548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ote: Arrows denote synchronization control, numbers denote strat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1.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essages exchanged between a pair of NTP peer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847800" y="2278080"/>
            <a:ext cx="7720200" cy="2684520"/>
            <a:chOff x="847800" y="2278080"/>
            <a:chExt cx="7720200" cy="2684520"/>
          </a:xfrm>
        </p:grpSpPr>
        <p:sp>
          <p:nvSpPr>
            <p:cNvPr id="142" name=""/>
            <p:cNvSpPr/>
            <p:nvPr/>
          </p:nvSpPr>
          <p:spPr>
            <a:xfrm>
              <a:off x="7251480" y="2919240"/>
              <a:ext cx="82080" cy="147960"/>
            </a:xfrm>
            <a:custGeom>
              <a:avLst/>
              <a:gdLst/>
              <a:ahLst/>
              <a:rect l="l" t="t" r="r" b="b"/>
              <a:pathLst>
                <a:path w="56" h="93">
                  <a:moveTo>
                    <a:pt x="18" y="93"/>
                  </a:moveTo>
                  <a:lnTo>
                    <a:pt x="0" y="75"/>
                  </a:lnTo>
                  <a:lnTo>
                    <a:pt x="56" y="0"/>
                  </a:lnTo>
                  <a:lnTo>
                    <a:pt x="37" y="93"/>
                  </a:lnTo>
                  <a:lnTo>
                    <a:pt x="18" y="93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811920" y="3066840"/>
              <a:ext cx="465840" cy="1306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77600" y="4165560"/>
              <a:ext cx="82080" cy="149400"/>
            </a:xfrm>
            <a:custGeom>
              <a:avLst/>
              <a:gdLst/>
              <a:ahLst/>
              <a:rect l="l" t="t" r="r" b="b"/>
              <a:pathLst>
                <a:path w="56" h="94">
                  <a:moveTo>
                    <a:pt x="19" y="0"/>
                  </a:moveTo>
                  <a:lnTo>
                    <a:pt x="37" y="0"/>
                  </a:lnTo>
                  <a:lnTo>
                    <a:pt x="56" y="94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65760" y="2859120"/>
              <a:ext cx="439560" cy="1306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23320" y="2919240"/>
              <a:ext cx="82080" cy="147960"/>
            </a:xfrm>
            <a:custGeom>
              <a:avLst/>
              <a:gdLst/>
              <a:ahLst/>
              <a:rect l="l" t="t" r="r" b="b"/>
              <a:pathLst>
                <a:path w="56" h="93">
                  <a:moveTo>
                    <a:pt x="18" y="93"/>
                  </a:moveTo>
                  <a:lnTo>
                    <a:pt x="0" y="75"/>
                  </a:lnTo>
                  <a:lnTo>
                    <a:pt x="56" y="0"/>
                  </a:lnTo>
                  <a:lnTo>
                    <a:pt x="37" y="93"/>
                  </a:lnTo>
                  <a:lnTo>
                    <a:pt x="18" y="93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3083760" y="3066840"/>
              <a:ext cx="466200" cy="1306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41680" y="4165560"/>
              <a:ext cx="82080" cy="149400"/>
            </a:xfrm>
            <a:custGeom>
              <a:avLst/>
              <a:gdLst/>
              <a:ahLst/>
              <a:rect l="l" t="t" r="r" b="b"/>
              <a:pathLst>
                <a:path w="56" h="94">
                  <a:moveTo>
                    <a:pt x="37" y="0"/>
                  </a:moveTo>
                  <a:lnTo>
                    <a:pt x="56" y="0"/>
                  </a:lnTo>
                  <a:lnTo>
                    <a:pt x="56" y="94"/>
                  </a:lnTo>
                  <a:lnTo>
                    <a:pt x="0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94000" y="2859120"/>
              <a:ext cx="301680" cy="1306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47800" y="4373640"/>
              <a:ext cx="6797880" cy="5652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64000" y="2278080"/>
              <a:ext cx="6797520" cy="5634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43600" y="2830680"/>
              <a:ext cx="137880" cy="88560"/>
            </a:xfrm>
            <a:custGeom>
              <a:avLst/>
              <a:gdLst/>
              <a:ahLst/>
              <a:rect l="l" t="t" r="r" b="b"/>
              <a:pathLst>
                <a:path w="94" h="56">
                  <a:moveTo>
                    <a:pt x="0" y="18"/>
                  </a:moveTo>
                  <a:lnTo>
                    <a:pt x="0" y="0"/>
                  </a:lnTo>
                  <a:lnTo>
                    <a:pt x="94" y="18"/>
                  </a:lnTo>
                  <a:lnTo>
                    <a:pt x="0" y="5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64000" y="2859120"/>
              <a:ext cx="68796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743600" y="4314960"/>
              <a:ext cx="137880" cy="88920"/>
            </a:xfrm>
            <a:custGeom>
              <a:avLst/>
              <a:gdLst/>
              <a:ahLst/>
              <a:rect l="l" t="t" r="r" b="b"/>
              <a:pathLst>
                <a:path w="94" h="56">
                  <a:moveTo>
                    <a:pt x="0" y="37"/>
                  </a:moveTo>
                  <a:lnTo>
                    <a:pt x="0" y="0"/>
                  </a:lnTo>
                  <a:lnTo>
                    <a:pt x="94" y="37"/>
                  </a:lnTo>
                  <a:lnTo>
                    <a:pt x="0" y="56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864000" y="4357800"/>
              <a:ext cx="6897240" cy="15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16840" y="46260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50400" y="4734000"/>
              <a:ext cx="43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42280" y="251784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74760" y="26258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-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26480" y="251784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60400" y="2625840"/>
              <a:ext cx="43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13680" y="262584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86560" y="46260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21920" y="4734000"/>
              <a:ext cx="43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73760" y="473400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287520" y="47340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150560" y="2517840"/>
              <a:ext cx="938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erver B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150560" y="4626000"/>
              <a:ext cx="938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erver 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30880" y="2754360"/>
              <a:ext cx="537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18720" y="346716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72640" y="3467160"/>
              <a:ext cx="24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'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30880" y="4299120"/>
              <a:ext cx="537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1.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vents occurring at three process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58720" y="2028960"/>
            <a:ext cx="800280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1.6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Lamport timestamps for the events shown in Figure 11.5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92200" y="1843200"/>
            <a:ext cx="803412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1.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Vector timestamps for the events shown in Figure 11.5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68440" y="1789200"/>
            <a:ext cx="798516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1.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etecting global properti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98480" y="1482840"/>
            <a:ext cx="7253280" cy="46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George Coulouris</cp:lastModifiedBy>
  <cp:lastPrinted>2000-11-12T21:05:10Z</cp:lastPrinted>
  <dcterms:modified xsi:type="dcterms:W3CDTF">2005-05-21T09:15:47Z</dcterms:modified>
  <cp:revision>51</cp:revision>
  <dc:subject/>
  <dc:title>Figure 15.1 A distributed multimedia system</dc:title>
</cp:coreProperties>
</file>