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45D-83F6-4DC1-8B63-0792828F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853-BE8A-4634-B321-AE047A8B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F72-C4FE-46BB-82C3-B2D14AD3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15F-D276-4F25-A628-C0C921BD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7BA3-67B1-4084-8917-795EE4D7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83CC-6A38-4B28-9426-42B519D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8CA4-3A78-4879-848E-4C5AF45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939-5B59-4460-A8F2-B95FB5F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7164-F52A-48CC-9ADC-D548AC9A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1DD6-793A-47DE-8A7C-192D23F7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9E24-28A1-40EE-88FC-9493ADB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635-57D4-4569-AFED-6A11E32B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910D-3DC4-49AE-AA16-3CB65BBA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971B-FB9C-40A7-8338-8FB8A3E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CA7-077B-49AC-9DB6-75B9B01D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5BC-9293-4123-AF99-00612924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06EE-0335-4B04-A750-D01D5663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245-64F0-4297-B77E-2100843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826-B066-41AB-A1E4-69BE14A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040-ED94-4FAE-9D62-A09052D0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52F-1972-4866-A744-D0A2346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247-546A-454D-973F-25094F2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F3F-7D45-4D70-998D-A9CF731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E10-2A6E-491D-BDA6-01BF65A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F133-88F2-48F4-8168-96B20E5E08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EDE-7815-4BB5-99A7-118CCEA18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9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ame Servic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tructuring the directo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73120" y="1890720"/>
            <a:ext cx="7842600" cy="3341880"/>
            <a:chOff x="573120" y="1890720"/>
            <a:chExt cx="7842600" cy="3341880"/>
          </a:xfrm>
        </p:grpSpPr>
        <p:sp>
          <p:nvSpPr>
            <p:cNvPr id="604" name=""/>
            <p:cNvSpPr/>
            <p:nvPr/>
          </p:nvSpPr>
          <p:spPr>
            <a:xfrm>
              <a:off x="2678040" y="3535200"/>
              <a:ext cx="1074960" cy="40644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678040" y="3535200"/>
              <a:ext cx="1100160" cy="433440"/>
            </a:xfrm>
            <a:prstGeom prst="roundRect">
              <a:avLst>
                <a:gd name="adj" fmla="val 45236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0216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12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78000" y="35622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274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98840" y="27176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01880" y="440208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01880" y="440208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65240" y="4064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2000" y="4402080"/>
              <a:ext cx="10764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02000" y="4402080"/>
              <a:ext cx="110160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2756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766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196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5284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14240" y="4064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60600" y="4248000"/>
              <a:ext cx="1508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5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8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602080" y="3780000"/>
              <a:ext cx="625320" cy="460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94040" y="4221000"/>
              <a:ext cx="1238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51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3452760" y="3779640"/>
              <a:ext cx="34920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27320" y="4240080"/>
              <a:ext cx="17280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02" y="34"/>
                  </a:moveTo>
                  <a:lnTo>
                    <a:pt x="119" y="68"/>
                  </a:lnTo>
                  <a:lnTo>
                    <a:pt x="0" y="68"/>
                  </a:lnTo>
                  <a:lnTo>
                    <a:pt x="85" y="0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476000" y="3780000"/>
              <a:ext cx="1500120" cy="514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018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652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018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5092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38480" y="32893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7348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76440" y="4157640"/>
              <a:ext cx="7761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7472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2400" y="353520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02400" y="3535200"/>
              <a:ext cx="1125720" cy="433440"/>
            </a:xfrm>
            <a:prstGeom prst="roundRect">
              <a:avLst>
                <a:gd name="adj" fmla="val 45236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29400" y="356220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884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2792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78800" y="35622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54640" y="2717640"/>
              <a:ext cx="19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3920" y="440208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03920" y="440208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64160" y="3940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53120" y="4402080"/>
              <a:ext cx="1100160" cy="379440"/>
            </a:xfrm>
            <a:prstGeom prst="roundRect">
              <a:avLst>
                <a:gd name="adj" fmla="val 50000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53120" y="4402080"/>
              <a:ext cx="112572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786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2812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7864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2772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3160" y="4673520"/>
              <a:ext cx="100080" cy="18900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35" y="17"/>
                  </a:moveTo>
                  <a:lnTo>
                    <a:pt x="69" y="17"/>
                  </a:lnTo>
                  <a:lnTo>
                    <a:pt x="17" y="119"/>
                  </a:lnTo>
                  <a:lnTo>
                    <a:pt x="0" y="0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6703920" y="3780000"/>
              <a:ext cx="174600" cy="893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70720" y="4221000"/>
              <a:ext cx="1238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34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7129440" y="3779640"/>
              <a:ext cx="34920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2768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8560" y="442908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03880" y="44290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52960" y="442908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29360" y="32893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78800" y="413856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4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91080" y="414648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7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52920" y="2181240"/>
              <a:ext cx="1074600" cy="379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52920" y="2181240"/>
              <a:ext cx="1100160" cy="406440"/>
            </a:xfrm>
            <a:prstGeom prst="roundRect">
              <a:avLst>
                <a:gd name="adj" fmla="val 48241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7040" y="220824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27560" y="220824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220824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02320" y="220824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27840" y="3373560"/>
              <a:ext cx="17640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17" y="34"/>
                  </a:moveTo>
                  <a:lnTo>
                    <a:pt x="34" y="0"/>
                  </a:lnTo>
                  <a:lnTo>
                    <a:pt x="120" y="85"/>
                  </a:lnTo>
                  <a:lnTo>
                    <a:pt x="0" y="51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53200" y="2370240"/>
              <a:ext cx="1600200" cy="1057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76720" y="3373560"/>
              <a:ext cx="1508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6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9" y="0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402000" y="2370240"/>
              <a:ext cx="1425600" cy="1030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02040" y="2560680"/>
              <a:ext cx="1746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102" y="17"/>
                  </a:moveTo>
                  <a:lnTo>
                    <a:pt x="119" y="51"/>
                  </a:lnTo>
                  <a:lnTo>
                    <a:pt x="0" y="51"/>
                  </a:lnTo>
                  <a:lnTo>
                    <a:pt x="102" y="0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076640" y="2370240"/>
              <a:ext cx="550800" cy="217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53200" y="3968640"/>
              <a:ext cx="7765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2240" y="39466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63840" y="189072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3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83120" y="189072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27560" y="4267080"/>
              <a:ext cx="17460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7" y="34"/>
                  </a:moveTo>
                  <a:lnTo>
                    <a:pt x="34" y="0"/>
                  </a:lnTo>
                  <a:lnTo>
                    <a:pt x="119" y="68"/>
                  </a:lnTo>
                  <a:lnTo>
                    <a:pt x="0" y="68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676680" y="3750840"/>
              <a:ext cx="1550880" cy="5698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53760" y="49579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633/EC/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38760" y="3929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3120" y="2333520"/>
              <a:ext cx="313848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3120" y="2333520"/>
              <a:ext cx="31636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0640" y="2425680"/>
              <a:ext cx="157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#599 = #633/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120" y="2666880"/>
              <a:ext cx="3087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#642 = #633/NORTH AMERIC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4520" y="2052720"/>
              <a:ext cx="223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ll-known directorie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.500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496880" y="1411200"/>
            <a:ext cx="6383520" cy="4351320"/>
            <a:chOff x="1496880" y="1411200"/>
            <a:chExt cx="6383520" cy="4351320"/>
          </a:xfrm>
        </p:grpSpPr>
        <p:sp>
          <p:nvSpPr>
            <p:cNvPr id="689" name=""/>
            <p:cNvSpPr/>
            <p:nvPr/>
          </p:nvSpPr>
          <p:spPr>
            <a:xfrm>
              <a:off x="3022560" y="1411200"/>
              <a:ext cx="4857840" cy="4351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1800" y="2592360"/>
              <a:ext cx="996840" cy="10778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52880" y="1647720"/>
              <a:ext cx="9972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52880" y="3535200"/>
              <a:ext cx="9972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96880" y="2793960"/>
              <a:ext cx="873360" cy="77616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0480" y="3063960"/>
              <a:ext cx="155520" cy="10152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106" y="21"/>
                  </a:moveTo>
                  <a:lnTo>
                    <a:pt x="106" y="64"/>
                  </a:lnTo>
                  <a:lnTo>
                    <a:pt x="0" y="21"/>
                  </a:lnTo>
                  <a:lnTo>
                    <a:pt x="106" y="0"/>
                  </a:lnTo>
                  <a:lnTo>
                    <a:pt x="106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54240" y="3063960"/>
              <a:ext cx="155520" cy="10152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0" y="21"/>
                  </a:moveTo>
                  <a:lnTo>
                    <a:pt x="0" y="0"/>
                  </a:lnTo>
                  <a:lnTo>
                    <a:pt x="107" y="21"/>
                  </a:lnTo>
                  <a:lnTo>
                    <a:pt x="0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56000" y="3097080"/>
              <a:ext cx="498240" cy="18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5160" y="3435480"/>
              <a:ext cx="155880" cy="10152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85" y="43"/>
                  </a:moveTo>
                  <a:lnTo>
                    <a:pt x="63" y="64"/>
                  </a:lnTo>
                  <a:lnTo>
                    <a:pt x="0" y="0"/>
                  </a:lnTo>
                  <a:lnTo>
                    <a:pt x="106" y="22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97360" y="3738600"/>
              <a:ext cx="15552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21"/>
                  </a:moveTo>
                  <a:lnTo>
                    <a:pt x="21" y="0"/>
                  </a:lnTo>
                  <a:lnTo>
                    <a:pt x="106" y="85"/>
                  </a:lnTo>
                  <a:lnTo>
                    <a:pt x="0" y="42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62480" y="3502080"/>
              <a:ext cx="434880" cy="2700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8640" y="2760840"/>
              <a:ext cx="154080" cy="13464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106" y="21"/>
                  </a:moveTo>
                  <a:lnTo>
                    <a:pt x="106" y="64"/>
                  </a:lnTo>
                  <a:lnTo>
                    <a:pt x="0" y="85"/>
                  </a:lnTo>
                  <a:lnTo>
                    <a:pt x="85" y="0"/>
                  </a:lnTo>
                  <a:lnTo>
                    <a:pt x="106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67120" y="242244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64"/>
                  </a:moveTo>
                  <a:lnTo>
                    <a:pt x="0" y="43"/>
                  </a:lnTo>
                  <a:lnTo>
                    <a:pt x="106" y="0"/>
                  </a:lnTo>
                  <a:lnTo>
                    <a:pt x="42" y="85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392720" y="2523960"/>
              <a:ext cx="404640" cy="2700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96880" y="1714680"/>
              <a:ext cx="873360" cy="77616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96880" y="3873600"/>
              <a:ext cx="873360" cy="774720"/>
            </a:xfrm>
            <a:prstGeom prst="rect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70240" y="4110120"/>
              <a:ext cx="1537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85" y="42"/>
                  </a:moveTo>
                  <a:lnTo>
                    <a:pt x="106" y="63"/>
                  </a:lnTo>
                  <a:lnTo>
                    <a:pt x="0" y="106"/>
                  </a:lnTo>
                  <a:lnTo>
                    <a:pt x="64" y="0"/>
                  </a:lnTo>
                  <a:lnTo>
                    <a:pt x="85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47840" y="350208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64"/>
                  </a:moveTo>
                  <a:lnTo>
                    <a:pt x="0" y="43"/>
                  </a:lnTo>
                  <a:lnTo>
                    <a:pt x="106" y="0"/>
                  </a:lnTo>
                  <a:lnTo>
                    <a:pt x="43" y="85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523960" y="3603240"/>
              <a:ext cx="623880" cy="5396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70240" y="2085840"/>
              <a:ext cx="15372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85" y="64"/>
                  </a:moveTo>
                  <a:lnTo>
                    <a:pt x="85" y="85"/>
                  </a:lnTo>
                  <a:lnTo>
                    <a:pt x="0" y="0"/>
                  </a:lnTo>
                  <a:lnTo>
                    <a:pt x="106" y="42"/>
                  </a:lnTo>
                  <a:lnTo>
                    <a:pt x="85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7840" y="2658960"/>
              <a:ext cx="1558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21" y="21"/>
                  </a:moveTo>
                  <a:lnTo>
                    <a:pt x="43" y="0"/>
                  </a:lnTo>
                  <a:lnTo>
                    <a:pt x="106" y="85"/>
                  </a:lnTo>
                  <a:lnTo>
                    <a:pt x="0" y="43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23960" y="2187720"/>
              <a:ext cx="654120" cy="5047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35880" y="1681200"/>
              <a:ext cx="995400" cy="107964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2400" y="2641680"/>
              <a:ext cx="171360" cy="18576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2" y="64"/>
                  </a:moveTo>
                  <a:lnTo>
                    <a:pt x="0" y="43"/>
                  </a:lnTo>
                  <a:lnTo>
                    <a:pt x="85" y="0"/>
                  </a:lnTo>
                  <a:lnTo>
                    <a:pt x="43" y="85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24440" y="3502080"/>
              <a:ext cx="125640" cy="168120"/>
            </a:xfrm>
            <a:custGeom>
              <a:avLst/>
              <a:gdLst/>
              <a:ahLst/>
              <a:rect l="l" t="t" r="r" b="b"/>
              <a:pathLst>
                <a:path w="85" h="106">
                  <a:moveTo>
                    <a:pt x="64" y="21"/>
                  </a:moveTo>
                  <a:lnTo>
                    <a:pt x="85" y="43"/>
                  </a:lnTo>
                  <a:lnTo>
                    <a:pt x="0" y="106"/>
                  </a:lnTo>
                  <a:lnTo>
                    <a:pt x="43" y="0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5949720" y="2793960"/>
              <a:ext cx="685800" cy="7412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35880" y="3097080"/>
              <a:ext cx="995400" cy="111312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35880" y="4479840"/>
              <a:ext cx="995400" cy="1112760"/>
            </a:xfrm>
            <a:prstGeom prst="ellipse">
              <a:avLst/>
            </a:prstGeom>
            <a:solidFill>
              <a:srgbClr val="ffffff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9960" y="3840120"/>
              <a:ext cx="157320" cy="10008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107" y="42"/>
                  </a:moveTo>
                  <a:lnTo>
                    <a:pt x="107" y="63"/>
                  </a:lnTo>
                  <a:lnTo>
                    <a:pt x="0" y="63"/>
                  </a:lnTo>
                  <a:lnTo>
                    <a:pt x="107" y="0"/>
                  </a:lnTo>
                  <a:lnTo>
                    <a:pt x="107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16640" y="3754440"/>
              <a:ext cx="203400" cy="11916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0" y="21"/>
                  </a:moveTo>
                  <a:lnTo>
                    <a:pt x="0" y="0"/>
                  </a:lnTo>
                  <a:lnTo>
                    <a:pt x="106" y="0"/>
                  </a:lnTo>
                  <a:lnTo>
                    <a:pt x="21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137280" y="3805200"/>
              <a:ext cx="279360" cy="1015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50080" y="4344840"/>
              <a:ext cx="1238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5" y="43"/>
                  </a:moveTo>
                  <a:lnTo>
                    <a:pt x="64" y="85"/>
                  </a:lnTo>
                  <a:lnTo>
                    <a:pt x="0" y="0"/>
                  </a:lnTo>
                  <a:lnTo>
                    <a:pt x="85" y="21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78560" y="4683240"/>
              <a:ext cx="157320" cy="135000"/>
            </a:xfrm>
            <a:custGeom>
              <a:avLst/>
              <a:gdLst/>
              <a:ahLst/>
              <a:rect l="l" t="t" r="r" b="b"/>
              <a:pathLst>
                <a:path w="107" h="85">
                  <a:moveTo>
                    <a:pt x="22" y="21"/>
                  </a:moveTo>
                  <a:lnTo>
                    <a:pt x="22" y="0"/>
                  </a:lnTo>
                  <a:lnTo>
                    <a:pt x="107" y="85"/>
                  </a:lnTo>
                  <a:lnTo>
                    <a:pt x="0" y="63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73920" y="4446720"/>
              <a:ext cx="404640" cy="2696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81920" y="297828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07400" y="391968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76000" y="486252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6000" y="349740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76000" y="199692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7400" y="2014560"/>
              <a:ext cx="57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37280" y="193212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37280" y="300816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37280" y="410544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U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of the X.500 Directory Information Tre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777960" y="1328760"/>
            <a:ext cx="7551360" cy="4781520"/>
            <a:chOff x="777960" y="1328760"/>
            <a:chExt cx="7551360" cy="4781520"/>
          </a:xfrm>
        </p:grpSpPr>
        <p:sp>
          <p:nvSpPr>
            <p:cNvPr id="734" name=""/>
            <p:cNvSpPr/>
            <p:nvPr/>
          </p:nvSpPr>
          <p:spPr>
            <a:xfrm>
              <a:off x="240012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94960" y="2217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n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4280" y="2217600"/>
              <a:ext cx="16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Britain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51480" y="2217600"/>
              <a:ext cx="1235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e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7540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375720" y="1533600"/>
              <a:ext cx="89820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92280" y="1533600"/>
              <a:ext cx="9216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11000" y="1533600"/>
              <a:ext cx="119160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09160" y="313056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T Plc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10000" y="3130560"/>
              <a:ext cx="299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University of Gormenghast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1432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2976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3486240" y="2427120"/>
              <a:ext cx="87912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84440" y="2427120"/>
              <a:ext cx="458640" cy="67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24240" y="4108320"/>
              <a:ext cx="391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 of Computer Scien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24720" y="3870360"/>
              <a:ext cx="286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mputing Servi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5120" y="4349880"/>
              <a:ext cx="325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ngineering Department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00440" y="39099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57200" y="44020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31880" y="3321000"/>
              <a:ext cx="1943280" cy="55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311000" y="3320640"/>
              <a:ext cx="183240" cy="7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4494600" y="3341520"/>
              <a:ext cx="1913760" cy="9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61200" y="13287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X.500 Service (roo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2160" y="4965840"/>
              <a:ext cx="284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al Staff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57240" y="5442120"/>
              <a:ext cx="287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search Students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60120" y="5203800"/>
              <a:ext cx="174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ly (applicationProces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19760" y="49975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01400" y="5494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017600" y="4314960"/>
              <a:ext cx="18324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82120" y="4294080"/>
              <a:ext cx="1283760" cy="90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82120" y="4294080"/>
              <a:ext cx="2677680" cy="11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98640" y="5911920"/>
              <a:ext cx="177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lice Flintstone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39760" y="5911920"/>
              <a:ext cx="128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t King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99760" y="5911920"/>
              <a:ext cx="170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mes Healey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2920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796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2520" y="5288040"/>
              <a:ext cx="75168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595680" y="5288040"/>
              <a:ext cx="3297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128680" y="5288040"/>
              <a:ext cx="1740960" cy="55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76480" y="591192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net Papworth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98880" y="5288040"/>
              <a:ext cx="2016720" cy="62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75240" y="585144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X.500 DIB En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94120" y="572436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069920" y="1440000"/>
            <a:ext cx="7556400" cy="4284360"/>
            <a:chOff x="1069920" y="1440000"/>
            <a:chExt cx="7556400" cy="4284360"/>
          </a:xfrm>
        </p:grpSpPr>
        <p:sp>
          <p:nvSpPr>
            <p:cNvPr id="779" name=""/>
            <p:cNvSpPr/>
            <p:nvPr/>
          </p:nvSpPr>
          <p:spPr>
            <a:xfrm>
              <a:off x="1099080" y="147312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6400" y="1770120"/>
              <a:ext cx="6264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, Departmental Staff, Department of Computer Science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96960" y="1996920"/>
              <a:ext cx="277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University of Gormenghast, G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9920" y="1440000"/>
              <a:ext cx="73015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93400" y="1440000"/>
              <a:ext cx="205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9920" y="1461960"/>
              <a:ext cx="205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393400" y="1461960"/>
              <a:ext cx="205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97280" y="249876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mmon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97640" y="2795760"/>
              <a:ext cx="179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L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60840" y="2795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98360" y="30225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2360" y="3022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98360" y="32511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71840" y="3251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96920" y="3478320"/>
              <a:ext cx="134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.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98720" y="396252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ur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9800" y="375300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15120" y="375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8360" y="42577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98360" y="4740120"/>
              <a:ext cx="153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telephone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5120" y="5037120"/>
              <a:ext cx="1697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+44 986 33 46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25080" y="249876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22560" y="288612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70840" y="288612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25080" y="32734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02360" y="32734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20760" y="3625920"/>
              <a:ext cx="26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f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64120" y="3979800"/>
              <a:ext cx="356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22920" y="432108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room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812560" y="432108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97160" y="4321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22200" y="4708440"/>
              <a:ext cx="62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Z4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5080" y="50515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serCla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1480" y="5438880"/>
              <a:ext cx="172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search Fello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9920" y="2487600"/>
              <a:ext cx="205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9920" y="5702400"/>
              <a:ext cx="37026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94840" y="2487600"/>
              <a:ext cx="2016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94840" y="570240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15000" y="5702400"/>
              <a:ext cx="3556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93400" y="2487600"/>
              <a:ext cx="205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93400" y="5702400"/>
              <a:ext cx="2091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osed naming domains used to access a resource from a U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63400" y="1336680"/>
            <a:ext cx="7775640" cy="4556160"/>
            <a:chOff x="563400" y="1336680"/>
            <a:chExt cx="7775640" cy="4556160"/>
          </a:xfrm>
        </p:grpSpPr>
        <p:sp>
          <p:nvSpPr>
            <p:cNvPr id="89" name=""/>
            <p:cNvSpPr/>
            <p:nvPr/>
          </p:nvSpPr>
          <p:spPr>
            <a:xfrm>
              <a:off x="2352600" y="3040200"/>
              <a:ext cx="4654800" cy="6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9720" y="4165560"/>
              <a:ext cx="149832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92680" y="4294080"/>
              <a:ext cx="1263600" cy="1395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0280" y="1735200"/>
              <a:ext cx="517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cdk3.net:8888/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4240" y="13366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05000" y="2727360"/>
              <a:ext cx="503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ID (IP number, port number, pathna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200" y="4498920"/>
              <a:ext cx="171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3160" y="4962600"/>
              <a:ext cx="157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60:8c:2:b0: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21440" y="4848120"/>
              <a:ext cx="35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25600" y="3125880"/>
              <a:ext cx="139392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8640" y="3125880"/>
              <a:ext cx="268740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400" y="4807080"/>
              <a:ext cx="1839960" cy="455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57280" y="1643040"/>
              <a:ext cx="5472000" cy="457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70840" y="419256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0080" y="327492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.55.55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600" y="4294080"/>
              <a:ext cx="185760" cy="16992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108" y="36"/>
                  </a:moveTo>
                  <a:lnTo>
                    <a:pt x="126" y="72"/>
                  </a:lnTo>
                  <a:lnTo>
                    <a:pt x="0" y="107"/>
                  </a:lnTo>
                  <a:lnTo>
                    <a:pt x="90" y="0"/>
                  </a:lnTo>
                  <a:lnTo>
                    <a:pt x="108" y="36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827000" y="3610080"/>
              <a:ext cx="1182600" cy="741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3960" y="4749840"/>
              <a:ext cx="182520" cy="171360"/>
            </a:xfrm>
            <a:custGeom>
              <a:avLst/>
              <a:gdLst/>
              <a:ahLst/>
              <a:rect l="l" t="t" r="r" b="b"/>
              <a:pathLst>
                <a:path w="125" h="108">
                  <a:moveTo>
                    <a:pt x="17" y="18"/>
                  </a:moveTo>
                  <a:lnTo>
                    <a:pt x="53" y="0"/>
                  </a:lnTo>
                  <a:lnTo>
                    <a:pt x="125" y="108"/>
                  </a:lnTo>
                  <a:lnTo>
                    <a:pt x="0" y="54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14440" y="3609720"/>
              <a:ext cx="1314360" cy="1168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7040" y="3274920"/>
              <a:ext cx="255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33960" y="4749840"/>
              <a:ext cx="579600" cy="426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78200" y="2868480"/>
              <a:ext cx="104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36" y="0"/>
                  </a:moveTo>
                  <a:lnTo>
                    <a:pt x="72" y="0"/>
                  </a:lnTo>
                  <a:lnTo>
                    <a:pt x="36" y="12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30400" y="1986120"/>
              <a:ext cx="1800" cy="85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71760" y="4978440"/>
              <a:ext cx="3051000" cy="112680"/>
              <a:chOff x="2471760" y="4978440"/>
              <a:chExt cx="3051000" cy="112680"/>
            </a:xfrm>
          </p:grpSpPr>
          <p:sp>
            <p:nvSpPr>
              <p:cNvPr id="113" name=""/>
              <p:cNvSpPr/>
              <p:nvPr/>
            </p:nvSpPr>
            <p:spPr>
              <a:xfrm>
                <a:off x="5338800" y="4978440"/>
                <a:ext cx="183960" cy="112680"/>
              </a:xfrm>
              <a:custGeom>
                <a:avLst/>
                <a:gdLst/>
                <a:ahLst/>
                <a:rect l="l" t="t" r="r" b="b"/>
                <a:pathLst>
                  <a:path w="125" h="71">
                    <a:moveTo>
                      <a:pt x="0" y="35"/>
                    </a:moveTo>
                    <a:lnTo>
                      <a:pt x="0" y="0"/>
                    </a:lnTo>
                    <a:lnTo>
                      <a:pt x="125" y="35"/>
                    </a:lnTo>
                    <a:lnTo>
                      <a:pt x="0" y="7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1760" y="5033880"/>
                <a:ext cx="2841480" cy="180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773520" y="3125880"/>
              <a:ext cx="682560" cy="512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3680" y="32749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8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0960" y="4549680"/>
              <a:ext cx="131760" cy="20016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36" y="0"/>
                  </a:moveTo>
                  <a:lnTo>
                    <a:pt x="72" y="0"/>
                  </a:lnTo>
                  <a:lnTo>
                    <a:pt x="90" y="126"/>
                  </a:lnTo>
                  <a:lnTo>
                    <a:pt x="0" y="1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665320" y="3610080"/>
              <a:ext cx="420840" cy="9396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45640" y="2397240"/>
              <a:ext cx="12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271840" y="5119560"/>
              <a:ext cx="39348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03680" y="5618160"/>
              <a:ext cx="69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5584680" y="4908600"/>
              <a:ext cx="25092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terative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00" y="2066760"/>
            <a:ext cx="7845480" cy="3260160"/>
            <a:chOff x="550800" y="2066760"/>
            <a:chExt cx="7845480" cy="3260160"/>
          </a:xfrm>
        </p:grpSpPr>
        <p:sp>
          <p:nvSpPr>
            <p:cNvPr id="125" name=""/>
            <p:cNvSpPr/>
            <p:nvPr/>
          </p:nvSpPr>
          <p:spPr>
            <a:xfrm>
              <a:off x="550800" y="4484520"/>
              <a:ext cx="78454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4760" y="2066760"/>
              <a:ext cx="2368440" cy="2711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51200" y="3117960"/>
              <a:ext cx="698400" cy="780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51200" y="2165400"/>
              <a:ext cx="744840" cy="806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48360" y="3875040"/>
              <a:ext cx="720720" cy="806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2240" y="3362400"/>
              <a:ext cx="653760" cy="46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6560" y="3484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8320" y="3581280"/>
              <a:ext cx="112680" cy="4932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77" y="31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92440" y="3508200"/>
              <a:ext cx="135000" cy="7308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5" y="31"/>
                  </a:moveTo>
                  <a:lnTo>
                    <a:pt x="0" y="0"/>
                  </a:lnTo>
                  <a:lnTo>
                    <a:pt x="92" y="15"/>
                  </a:lnTo>
                  <a:lnTo>
                    <a:pt x="15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321000" y="3557160"/>
              <a:ext cx="271440" cy="49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8320" y="3336840"/>
              <a:ext cx="11268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62" y="16"/>
                  </a:moveTo>
                  <a:lnTo>
                    <a:pt x="77" y="4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6560" y="2701800"/>
              <a:ext cx="112680" cy="748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15" y="31"/>
                  </a:moveTo>
                  <a:lnTo>
                    <a:pt x="0" y="16"/>
                  </a:lnTo>
                  <a:lnTo>
                    <a:pt x="77" y="0"/>
                  </a:lnTo>
                  <a:lnTo>
                    <a:pt x="15" y="47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98680" y="2751120"/>
              <a:ext cx="1217880" cy="611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1040" y="4192560"/>
              <a:ext cx="11268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31"/>
                  </a:moveTo>
                  <a:lnTo>
                    <a:pt x="15" y="0"/>
                  </a:lnTo>
                  <a:lnTo>
                    <a:pt x="77" y="46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8320" y="3703680"/>
              <a:ext cx="112680" cy="4932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7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320640" y="3728520"/>
              <a:ext cx="1670040" cy="513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0200" y="3344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2160" y="2995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00200" y="3863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120" y="5083200"/>
              <a:ext cx="70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 client iteratively contacts name servers NS1–NS3 in order to resolve a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280" y="2430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5520" y="3359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43480" y="41576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2520" y="320184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2520" y="34210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n-recursive and recursive server-controlled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4720" y="1887480"/>
            <a:ext cx="7921800" cy="3821040"/>
            <a:chOff x="504720" y="1887480"/>
            <a:chExt cx="7921800" cy="3821040"/>
          </a:xfrm>
        </p:grpSpPr>
        <p:sp>
          <p:nvSpPr>
            <p:cNvPr id="152" name=""/>
            <p:cNvSpPr/>
            <p:nvPr/>
          </p:nvSpPr>
          <p:spPr>
            <a:xfrm>
              <a:off x="5559480" y="1887480"/>
              <a:ext cx="2388960" cy="273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80000" y="3367080"/>
              <a:ext cx="11448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31"/>
                  </a:moveTo>
                  <a:lnTo>
                    <a:pt x="0" y="0"/>
                  </a:lnTo>
                  <a:lnTo>
                    <a:pt x="78" y="31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48360" y="3416400"/>
              <a:ext cx="411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9560" y="2651040"/>
              <a:ext cx="114120" cy="9864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6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218280" y="2749680"/>
              <a:ext cx="365040" cy="345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1960" y="3564000"/>
              <a:ext cx="44640" cy="12384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15" y="0"/>
                  </a:moveTo>
                  <a:lnTo>
                    <a:pt x="31" y="0"/>
                  </a:lnTo>
                  <a:lnTo>
                    <a:pt x="31" y="78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05680" y="2725560"/>
              <a:ext cx="6984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7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7127640" y="2847600"/>
              <a:ext cx="204840" cy="716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8360" y="3514680"/>
              <a:ext cx="11412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78" y="46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62480" y="3564000"/>
              <a:ext cx="432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41680" y="3159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5160" y="2701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4600" y="3040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41680" y="3621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1440" y="1911240"/>
              <a:ext cx="2433600" cy="273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5440" y="3267000"/>
              <a:ext cx="70632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3400" y="3390840"/>
              <a:ext cx="11448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16"/>
                  </a:moveTo>
                  <a:lnTo>
                    <a:pt x="0" y="0"/>
                  </a:lnTo>
                  <a:lnTo>
                    <a:pt x="78" y="16"/>
                  </a:lnTo>
                  <a:lnTo>
                    <a:pt x="0" y="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78000" y="3416400"/>
              <a:ext cx="433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9040" y="2700360"/>
              <a:ext cx="114480" cy="9828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5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3021120"/>
              <a:ext cx="11448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63" y="16"/>
                  </a:moveTo>
                  <a:lnTo>
                    <a:pt x="78" y="31"/>
                  </a:lnTo>
                  <a:lnTo>
                    <a:pt x="0" y="78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531880" y="2798640"/>
              <a:ext cx="247320" cy="247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52760" y="3687840"/>
              <a:ext cx="11412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62" y="46"/>
                  </a:lnTo>
                  <a:lnTo>
                    <a:pt x="0" y="0"/>
                  </a:lnTo>
                  <a:lnTo>
                    <a:pt x="78" y="15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44960" y="3908520"/>
              <a:ext cx="11412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1"/>
                  </a:moveTo>
                  <a:lnTo>
                    <a:pt x="16" y="0"/>
                  </a:lnTo>
                  <a:lnTo>
                    <a:pt x="78" y="47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66880" y="3736800"/>
              <a:ext cx="478080" cy="196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8000" y="3538440"/>
              <a:ext cx="114120" cy="748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8" y="31"/>
                  </a:moveTo>
                  <a:lnTo>
                    <a:pt x="78" y="47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392120" y="3587760"/>
              <a:ext cx="433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0160" y="310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5800" y="2751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36520" y="359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1320" y="3673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4720" y="3070080"/>
              <a:ext cx="114480" cy="9864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62" y="16"/>
                  </a:moveTo>
                  <a:lnTo>
                    <a:pt x="78" y="31"/>
                  </a:lnTo>
                  <a:lnTo>
                    <a:pt x="0" y="62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445080" y="2676600"/>
              <a:ext cx="455760" cy="419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8304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4720" y="5413320"/>
              <a:ext cx="79218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6600" y="5424480"/>
              <a:ext cx="717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name server NS1 communicates with other name servers on behalf of a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0520" y="337500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99720" y="337500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9000" y="47829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4680" y="500544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65800" y="3267000"/>
              <a:ext cx="70632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9560" y="1986120"/>
              <a:ext cx="75276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9440" y="2236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47880" y="3046320"/>
              <a:ext cx="75096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9480" y="3314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81400" y="3736800"/>
              <a:ext cx="75240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3000" y="4005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83320" y="1936800"/>
              <a:ext cx="74952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99320" y="21877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997360"/>
              <a:ext cx="74952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59360" y="3265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3360" y="3687840"/>
              <a:ext cx="750960" cy="812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2880" y="3956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2520" y="478296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20920" y="500544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nam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41360" y="1374840"/>
            <a:ext cx="7778160" cy="4665600"/>
            <a:chOff x="441360" y="1374840"/>
            <a:chExt cx="7778160" cy="4665600"/>
          </a:xfrm>
        </p:grpSpPr>
        <p:sp>
          <p:nvSpPr>
            <p:cNvPr id="208" name=""/>
            <p:cNvSpPr/>
            <p:nvPr/>
          </p:nvSpPr>
          <p:spPr>
            <a:xfrm>
              <a:off x="1571760" y="5775480"/>
              <a:ext cx="530856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9800" y="1380960"/>
              <a:ext cx="20005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Name server names are in italics, and the corresponding domains are in parenthese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360" y="2192400"/>
              <a:ext cx="180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ows denote name server entr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90640" y="2606760"/>
              <a:ext cx="1238400" cy="973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68680" y="4630680"/>
              <a:ext cx="120816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7040" y="4630680"/>
              <a:ext cx="119232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720" y="2989440"/>
              <a:ext cx="1189080" cy="974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11840" y="3044880"/>
              <a:ext cx="1122480" cy="900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59040" y="4630680"/>
              <a:ext cx="119232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54360" y="1785960"/>
              <a:ext cx="1208160" cy="974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33760" y="3486240"/>
              <a:ext cx="1208160" cy="973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18800" y="137484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.root-servers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7480" y="156528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oo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4560" y="1881360"/>
              <a:ext cx="1104840" cy="841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68680" y="3541680"/>
              <a:ext cx="1122480" cy="89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09800" y="4726080"/>
              <a:ext cx="108900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2160" y="4726080"/>
              <a:ext cx="113976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24680" y="4726080"/>
              <a:ext cx="1104840" cy="822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63280" y="30560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0.ja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19440" y="322740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42400" y="5651640"/>
              <a:ext cx="138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7240" y="5823000"/>
              <a:ext cx="11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cs.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7800" y="5651640"/>
              <a:ext cx="114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alpha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94040" y="582300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43400" y="565164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-doc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3080" y="5823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ic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2577960"/>
              <a:ext cx="98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91080" y="274968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purdue.ed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8160" y="20224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9000" y="2193840"/>
              <a:ext cx="77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36440" y="376092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4720" y="40100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6320" y="5003640"/>
              <a:ext cx="101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3320" y="519444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37800" y="505944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6520" y="4984920"/>
              <a:ext cx="111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72480" y="2989440"/>
              <a:ext cx="85680" cy="554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11" y="0"/>
                  </a:lnTo>
                  <a:lnTo>
                    <a:pt x="55" y="33"/>
                  </a:lnTo>
                  <a:lnTo>
                    <a:pt x="0" y="33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5486400" y="2282400"/>
              <a:ext cx="1486080" cy="72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23200" y="4651200"/>
              <a:ext cx="85680" cy="572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22" y="0"/>
                  </a:lnTo>
                  <a:lnTo>
                    <a:pt x="55" y="33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5221440" y="3902040"/>
              <a:ext cx="1319040" cy="76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98840" y="5070600"/>
              <a:ext cx="87480" cy="5688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2"/>
                  </a:moveTo>
                  <a:lnTo>
                    <a:pt x="0" y="0"/>
                  </a:lnTo>
                  <a:lnTo>
                    <a:pt x="56" y="22"/>
                  </a:lnTo>
                  <a:lnTo>
                    <a:pt x="0" y="3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79720" y="5108400"/>
              <a:ext cx="501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6200" y="3397320"/>
              <a:ext cx="92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 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9040" y="2644920"/>
              <a:ext cx="112248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39960" y="2664000"/>
              <a:ext cx="86040" cy="586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11"/>
                  </a:moveTo>
                  <a:lnTo>
                    <a:pt x="55" y="22"/>
                  </a:lnTo>
                  <a:lnTo>
                    <a:pt x="0" y="34"/>
                  </a:lnTo>
                  <a:lnTo>
                    <a:pt x="44" y="0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726000" y="2109600"/>
              <a:ext cx="1036440" cy="57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42840" y="21970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1.ni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2160" y="23684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6880" y="313200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02160" y="3619440"/>
              <a:ext cx="87480" cy="3816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1" y="11"/>
                  </a:moveTo>
                  <a:lnTo>
                    <a:pt x="11" y="0"/>
                  </a:lnTo>
                  <a:lnTo>
                    <a:pt x="56" y="22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548160" y="3276360"/>
              <a:ext cx="95400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6880" y="28843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14600" y="4630680"/>
              <a:ext cx="87480" cy="7776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6" y="23"/>
                  </a:moveTo>
                  <a:lnTo>
                    <a:pt x="56" y="34"/>
                  </a:lnTo>
                  <a:lnTo>
                    <a:pt x="0" y="45"/>
                  </a:lnTo>
                  <a:lnTo>
                    <a:pt x="45" y="0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02080" y="4095360"/>
              <a:ext cx="108756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99160" y="238608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resource reco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03480" y="226692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4080" y="226692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60560" y="1839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3280" y="1839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0560" y="2227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3280" y="222732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6056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3280" y="5376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0240" y="1816200"/>
            <a:ext cx="7847280" cy="3538440"/>
            <a:chOff x="660240" y="1816200"/>
            <a:chExt cx="7847280" cy="3538440"/>
          </a:xfrm>
        </p:grpSpPr>
        <p:sp>
          <p:nvSpPr>
            <p:cNvPr id="273" name=""/>
            <p:cNvSpPr/>
            <p:nvPr/>
          </p:nvSpPr>
          <p:spPr>
            <a:xfrm>
              <a:off x="715680" y="1876320"/>
              <a:ext cx="122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cord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34720" y="1876320"/>
              <a:ext cx="90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55280" y="1876320"/>
              <a:ext cx="145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in con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480" y="2239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5080" y="2239920"/>
              <a:ext cx="183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mputer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56720" y="223992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480" y="25304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530440"/>
              <a:ext cx="266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authoritative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4200" y="2530440"/>
              <a:ext cx="223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for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80" y="282096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040" y="2820960"/>
              <a:ext cx="29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canonical name for an al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4200" y="2820960"/>
              <a:ext cx="209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for al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840" y="31114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0760" y="3111480"/>
              <a:ext cx="303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ks the start of data for a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87280" y="31114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33360" y="311148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53120" y="3111480"/>
              <a:ext cx="283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ameters governing the 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7480" y="3402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32920" y="3402000"/>
              <a:ext cx="309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well-known service 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52400" y="34020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 of service names and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7120" y="36925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32200" y="3692520"/>
              <a:ext cx="279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 pointer (reve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6520" y="393552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oku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6000" y="369252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7840" y="42260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35080" y="4226040"/>
              <a:ext cx="157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1680" y="4226040"/>
              <a:ext cx="325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chine architecture and opera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7440" y="4467240"/>
              <a:ext cx="6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7480" y="475776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34720" y="4757760"/>
              <a:ext cx="13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il ex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6000" y="4757760"/>
              <a:ext cx="79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 of &l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71760" y="4757760"/>
              <a:ext cx="1477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reference,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6120" y="47577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pai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7120" y="50734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35080" y="5073480"/>
              <a:ext cx="100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xt 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6000" y="5073480"/>
              <a:ext cx="125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bitrary 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60240" y="1816200"/>
              <a:ext cx="7762320" cy="3538440"/>
              <a:chOff x="660240" y="1816200"/>
              <a:chExt cx="7762320" cy="3538440"/>
            </a:xfrm>
          </p:grpSpPr>
          <p:sp>
            <p:nvSpPr>
              <p:cNvPr id="310" name=""/>
              <p:cNvSpPr/>
              <p:nvPr/>
            </p:nvSpPr>
            <p:spPr>
              <a:xfrm>
                <a:off x="660240" y="181620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0240" y="220356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0240" y="5353200"/>
                <a:ext cx="776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zone data reco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21480" y="1398600"/>
            <a:ext cx="6811920" cy="1955880"/>
            <a:chOff x="1221480" y="1398600"/>
            <a:chExt cx="6811920" cy="1955880"/>
          </a:xfrm>
        </p:grpSpPr>
        <p:sp>
          <p:nvSpPr>
            <p:cNvPr id="315" name=""/>
            <p:cNvSpPr/>
            <p:nvPr/>
          </p:nvSpPr>
          <p:spPr>
            <a:xfrm>
              <a:off x="1228680" y="1398600"/>
              <a:ext cx="671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28680" y="1781280"/>
              <a:ext cx="671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28680" y="3352680"/>
              <a:ext cx="6716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21480" y="144792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53200" y="144792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ime to l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90680" y="1447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32880" y="144792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5800" y="144792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4000" y="194148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78240" y="194148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21520" y="19414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63360" y="1941480"/>
              <a:ext cx="38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n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000" y="221760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78240" y="2217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21520" y="22176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63360" y="2217600"/>
              <a:ext cx="38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4000" y="24987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78240" y="24987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21520" y="24987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64800" y="249876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cer.ucs.ed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4000" y="27813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78240" y="2781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21160" y="27813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65520" y="278136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  mail1.qmul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44000" y="30621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78240" y="30621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21160" y="30621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65520" y="306216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mail2.qmul.ac.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239480" y="3571920"/>
            <a:ext cx="6735960" cy="1136160"/>
            <a:chOff x="1239480" y="3571920"/>
            <a:chExt cx="6735960" cy="1136160"/>
          </a:xfrm>
        </p:grpSpPr>
        <p:sp>
          <p:nvSpPr>
            <p:cNvPr id="344" name=""/>
            <p:cNvSpPr/>
            <p:nvPr/>
          </p:nvSpPr>
          <p:spPr>
            <a:xfrm>
              <a:off x="1264680" y="364320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omain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7800" y="364320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55880" y="36432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20760" y="3643200"/>
              <a:ext cx="46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 to 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66440" y="36432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29800" y="364320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20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9840" y="36432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80480" y="364320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444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50400" y="364320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28840" y="36432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39840" y="410184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32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10800" y="410184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5740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84640" y="410184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9272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54920" y="410184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70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5920" y="410184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76840" y="410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35160" y="410184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7080" y="41018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9480" y="440352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90760" y="44035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48720" y="44035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9064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10800" y="44035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5740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84640" y="440352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272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4200" y="4403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892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120" y="4403520"/>
              <a:ext cx="117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8.37.88.2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86560" y="44035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8920" y="357192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8920" y="395424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58920" y="4706640"/>
              <a:ext cx="67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242720" y="4964040"/>
            <a:ext cx="6672960" cy="1306080"/>
            <a:chOff x="1242720" y="4964040"/>
            <a:chExt cx="6672960" cy="1306080"/>
          </a:xfrm>
        </p:grpSpPr>
        <p:grpSp>
          <p:nvGrpSpPr>
            <p:cNvPr id="384" name=""/>
            <p:cNvGrpSpPr/>
            <p:nvPr/>
          </p:nvGrpSpPr>
          <p:grpSpPr>
            <a:xfrm>
              <a:off x="1243080" y="4964040"/>
              <a:ext cx="5809680" cy="243720"/>
              <a:chOff x="1243080" y="4964040"/>
              <a:chExt cx="5809680" cy="243720"/>
            </a:xfrm>
          </p:grpSpPr>
          <p:sp>
            <p:nvSpPr>
              <p:cNvPr id="385" name=""/>
              <p:cNvSpPr/>
              <p:nvPr/>
            </p:nvSpPr>
            <p:spPr>
              <a:xfrm>
                <a:off x="1243080" y="496404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0696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19800" y="496404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6676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7240" y="496404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640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71840" y="496404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30320" y="496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45000" y="4964040"/>
                <a:ext cx="707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0.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242720" y="5232600"/>
              <a:ext cx="6274800" cy="243720"/>
              <a:chOff x="1242720" y="5232600"/>
              <a:chExt cx="6274800" cy="243720"/>
            </a:xfrm>
          </p:grpSpPr>
          <p:sp>
            <p:nvSpPr>
              <p:cNvPr id="395" name=""/>
              <p:cNvSpPr/>
              <p:nvPr/>
            </p:nvSpPr>
            <p:spPr>
              <a:xfrm>
                <a:off x="1242720" y="5232600"/>
                <a:ext cx="628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0.d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60480" y="523260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4112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4804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720160" y="523260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6676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97600" y="523260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0640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271840" y="523260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16560" y="52326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45000" y="5232600"/>
                <a:ext cx="1172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38.37.88.24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243080" y="5488920"/>
              <a:ext cx="5809680" cy="243720"/>
              <a:chOff x="1243080" y="5488920"/>
              <a:chExt cx="5809680" cy="243720"/>
            </a:xfrm>
          </p:grpSpPr>
          <p:sp>
            <p:nvSpPr>
              <p:cNvPr id="407" name=""/>
              <p:cNvSpPr/>
              <p:nvPr/>
            </p:nvSpPr>
            <p:spPr>
              <a:xfrm>
                <a:off x="1243080" y="548892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0696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19800" y="548892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6676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97240" y="548892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0640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71840" y="54889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30320" y="5488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45000" y="5488920"/>
                <a:ext cx="707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1.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242720" y="5785560"/>
              <a:ext cx="6274800" cy="243720"/>
              <a:chOff x="1242720" y="5785560"/>
              <a:chExt cx="6274800" cy="243720"/>
            </a:xfrm>
          </p:grpSpPr>
          <p:sp>
            <p:nvSpPr>
              <p:cNvPr id="417" name=""/>
              <p:cNvSpPr/>
              <p:nvPr/>
            </p:nvSpPr>
            <p:spPr>
              <a:xfrm>
                <a:off x="1242720" y="5785560"/>
                <a:ext cx="628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ns1.d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60480" y="578556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4112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4804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20160" y="578556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6676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97600" y="578556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0640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71840" y="57855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6560" y="578556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45000" y="5785560"/>
                <a:ext cx="1172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38.37.94.24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243080" y="6026400"/>
              <a:ext cx="6672600" cy="243720"/>
              <a:chOff x="1243080" y="6026400"/>
              <a:chExt cx="6672600" cy="243720"/>
            </a:xfrm>
          </p:grpSpPr>
          <p:sp>
            <p:nvSpPr>
              <p:cNvPr id="429" name=""/>
              <p:cNvSpPr/>
              <p:nvPr/>
            </p:nvSpPr>
            <p:spPr>
              <a:xfrm>
                <a:off x="1243080" y="602640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0696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20160" y="6026400"/>
                <a:ext cx="24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6676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97600" y="602640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40640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2200" y="602640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30320" y="6026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46800" y="6026400"/>
                <a:ext cx="18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7800" y="60264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2472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1184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02920" y="6026400"/>
                <a:ext cx="11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15960" y="60264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22520" y="6026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10000" y="6026400"/>
                <a:ext cx="7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89920" y="6026400"/>
                <a:ext cx="243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26440" y="6026400"/>
                <a:ext cx="14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70440" y="6026400"/>
                <a:ext cx="34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.u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NS directory tree and value tree for user Peter.Smit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03880" y="1319040"/>
            <a:ext cx="4199400" cy="4559400"/>
            <a:chOff x="2603880" y="1319040"/>
            <a:chExt cx="4199400" cy="4559400"/>
          </a:xfrm>
        </p:grpSpPr>
        <p:sp>
          <p:nvSpPr>
            <p:cNvPr id="450" name=""/>
            <p:cNvSpPr/>
            <p:nvPr/>
          </p:nvSpPr>
          <p:spPr>
            <a:xfrm>
              <a:off x="2808360" y="3805200"/>
              <a:ext cx="957240" cy="362160"/>
            </a:xfrm>
            <a:prstGeom prst="roundRect">
              <a:avLst>
                <a:gd name="adj" fmla="val 48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08360" y="3805200"/>
              <a:ext cx="979560" cy="385920"/>
            </a:xfrm>
            <a:prstGeom prst="roundRect">
              <a:avLst>
                <a:gd name="adj" fmla="val 45269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32040" y="3805200"/>
              <a:ext cx="180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0992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404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6388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75080" y="3081240"/>
              <a:ext cx="958680" cy="338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75080" y="3081240"/>
              <a:ext cx="981000" cy="362160"/>
            </a:xfrm>
            <a:prstGeom prst="roundRect">
              <a:avLst>
                <a:gd name="adj" fmla="val 48245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9912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6640" y="3081240"/>
              <a:ext cx="792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3076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1008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11760" y="1587600"/>
              <a:ext cx="955800" cy="360360"/>
            </a:xfrm>
            <a:prstGeom prst="roundRect">
              <a:avLst>
                <a:gd name="adj" fmla="val 484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11760" y="1587600"/>
              <a:ext cx="977760" cy="385560"/>
            </a:xfrm>
            <a:prstGeom prst="roundRect">
              <a:avLst>
                <a:gd name="adj" fmla="val 45269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800" y="1611360"/>
              <a:ext cx="0" cy="312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1188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6744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44960" y="161136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1280" y="2359080"/>
              <a:ext cx="9572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21280" y="2359080"/>
              <a:ext cx="979200" cy="360360"/>
            </a:xfrm>
            <a:prstGeom prst="roundRect">
              <a:avLst>
                <a:gd name="adj" fmla="val 4845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27760" y="2057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56160" y="2359080"/>
              <a:ext cx="9572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56160" y="2359080"/>
              <a:ext cx="978120" cy="360360"/>
            </a:xfrm>
            <a:prstGeom prst="roundRect">
              <a:avLst>
                <a:gd name="adj" fmla="val 4845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8020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5628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1184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8972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83520" y="20574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7840" y="2779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54440" y="2189160"/>
              <a:ext cx="135000" cy="12060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6" y="31"/>
                  </a:moveTo>
                  <a:lnTo>
                    <a:pt x="92" y="46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789440" y="1802880"/>
              <a:ext cx="511200" cy="411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11840" y="2165400"/>
              <a:ext cx="11124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15" y="15"/>
                  </a:moveTo>
                  <a:lnTo>
                    <a:pt x="46" y="0"/>
                  </a:lnTo>
                  <a:lnTo>
                    <a:pt x="76" y="91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5522400" y="1803240"/>
              <a:ext cx="31140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32120" y="355140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41520" y="3637080"/>
              <a:ext cx="1335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6" y="30"/>
                  </a:moveTo>
                  <a:lnTo>
                    <a:pt x="91" y="45"/>
                  </a:lnTo>
                  <a:lnTo>
                    <a:pt x="0" y="91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52760" y="3274920"/>
              <a:ext cx="51264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03880" y="356076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3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496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2840" y="2382840"/>
              <a:ext cx="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4455720" y="2382840"/>
              <a:ext cx="2052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5448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76640" y="4383000"/>
              <a:ext cx="246240" cy="2415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3360" y="486576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89640" y="479268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16"/>
                  </a:moveTo>
                  <a:lnTo>
                    <a:pt x="30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4187520" y="4503600"/>
              <a:ext cx="422280" cy="314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21120" y="426240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31"/>
                  </a:moveTo>
                  <a:lnTo>
                    <a:pt x="31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543120" y="3973320"/>
              <a:ext cx="37764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08880" y="4029120"/>
              <a:ext cx="10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ter.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3040" y="44910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654360" y="4503600"/>
              <a:ext cx="48888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09920" y="4865760"/>
              <a:ext cx="2444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64240" y="454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65760" y="13190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9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50120" y="131904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4880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2472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43600" y="281304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4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63880" y="539604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15"/>
                  </a:moveTo>
                  <a:lnTo>
                    <a:pt x="91" y="30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075120" y="5010120"/>
              <a:ext cx="44604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10040" y="5372280"/>
              <a:ext cx="13320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15" y="30"/>
                  </a:moveTo>
                  <a:lnTo>
                    <a:pt x="30" y="0"/>
                  </a:lnTo>
                  <a:lnTo>
                    <a:pt x="91" y="91"/>
                  </a:lnTo>
                  <a:lnTo>
                    <a:pt x="0" y="45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609720" y="5010120"/>
              <a:ext cx="42228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98840" y="5407200"/>
              <a:ext cx="87480" cy="1443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30" y="0"/>
                  </a:moveTo>
                  <a:lnTo>
                    <a:pt x="60" y="0"/>
                  </a:lnTo>
                  <a:lnTo>
                    <a:pt x="30" y="91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43480" y="5033880"/>
              <a:ext cx="144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21880" y="51562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4160" y="5156280"/>
              <a:ext cx="72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65640" y="5178600"/>
              <a:ext cx="37764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03080" y="51562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63720" y="5589720"/>
              <a:ext cx="22248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30440" y="558972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76640" y="5589720"/>
              <a:ext cx="24624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10040" y="2913120"/>
              <a:ext cx="13320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30"/>
                  </a:moveTo>
                  <a:lnTo>
                    <a:pt x="91" y="45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120920" y="2527200"/>
              <a:ext cx="46836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rging trees under a new roo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681280" y="3602160"/>
            <a:ext cx="106380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81280" y="3602160"/>
            <a:ext cx="1087560" cy="428400"/>
          </a:xfrm>
          <a:prstGeom prst="roundRect">
            <a:avLst>
              <a:gd name="adj" fmla="val 45185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88400" y="281160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14480" y="4459320"/>
            <a:ext cx="106524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4459320"/>
            <a:ext cx="10875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86480" y="412416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98760" y="4459320"/>
            <a:ext cx="10638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98760" y="4459320"/>
            <a:ext cx="10875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9240" y="41241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67080" y="4289400"/>
            <a:ext cx="149040" cy="13320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5" y="34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5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608200" y="3816000"/>
            <a:ext cx="61776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84680" y="4262400"/>
            <a:ext cx="12528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472920" y="3816360"/>
            <a:ext cx="3207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46040" y="4299120"/>
            <a:ext cx="173160" cy="106200"/>
          </a:xfrm>
          <a:custGeom>
            <a:avLst/>
            <a:gdLst/>
            <a:ahLst/>
            <a:rect l="l" t="t" r="r" b="b"/>
            <a:pathLst>
              <a:path w="118" h="67">
                <a:moveTo>
                  <a:pt x="101" y="34"/>
                </a:moveTo>
                <a:lnTo>
                  <a:pt x="118" y="67"/>
                </a:lnTo>
                <a:lnTo>
                  <a:pt x="0" y="67"/>
                </a:lnTo>
                <a:lnTo>
                  <a:pt x="101" y="0"/>
                </a:lnTo>
                <a:lnTo>
                  <a:pt x="101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518840" y="3816360"/>
            <a:ext cx="1460520" cy="536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2012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662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7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93720" y="4218120"/>
            <a:ext cx="76680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9596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4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88000" y="3602160"/>
            <a:ext cx="106200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88000" y="3602160"/>
            <a:ext cx="1087560" cy="428400"/>
          </a:xfrm>
          <a:prstGeom prst="roundRect">
            <a:avLst>
              <a:gd name="adj" fmla="val 45185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03520" y="2793960"/>
            <a:ext cx="181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24560" y="4459320"/>
            <a:ext cx="10890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24560" y="4459320"/>
            <a:ext cx="111276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5080" y="404352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32600" y="4459320"/>
            <a:ext cx="106380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32600" y="4459320"/>
            <a:ext cx="108900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02360" y="4289400"/>
            <a:ext cx="173160" cy="133200"/>
          </a:xfrm>
          <a:custGeom>
            <a:avLst/>
            <a:gdLst/>
            <a:ahLst/>
            <a:rect l="l" t="t" r="r" b="b"/>
            <a:pathLst>
              <a:path w="118" h="84">
                <a:moveTo>
                  <a:pt x="84" y="34"/>
                </a:moveTo>
                <a:lnTo>
                  <a:pt x="118" y="51"/>
                </a:lnTo>
                <a:lnTo>
                  <a:pt x="0" y="84"/>
                </a:lnTo>
                <a:lnTo>
                  <a:pt x="68" y="0"/>
                </a:lnTo>
                <a:lnTo>
                  <a:pt x="84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265800" y="3816000"/>
            <a:ext cx="56844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19960" y="4280040"/>
            <a:ext cx="12384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7081560" y="3816360"/>
            <a:ext cx="3459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1424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4136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45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236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7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35640" y="2263680"/>
            <a:ext cx="106344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5640" y="2263680"/>
            <a:ext cx="1089000" cy="401760"/>
          </a:xfrm>
          <a:prstGeom prst="roundRect">
            <a:avLst>
              <a:gd name="adj" fmla="val 48222"/>
            </a:avLst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5148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0380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0920" y="226368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84680" y="226368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85000" y="3441600"/>
            <a:ext cx="173160" cy="133560"/>
          </a:xfrm>
          <a:custGeom>
            <a:avLst/>
            <a:gdLst/>
            <a:ahLst/>
            <a:rect l="l" t="t" r="r" b="b"/>
            <a:pathLst>
              <a:path w="118" h="84">
                <a:moveTo>
                  <a:pt x="17" y="34"/>
                </a:moveTo>
                <a:lnTo>
                  <a:pt x="34" y="0"/>
                </a:lnTo>
                <a:lnTo>
                  <a:pt x="118" y="84"/>
                </a:lnTo>
                <a:lnTo>
                  <a:pt x="0" y="51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26200" y="2451240"/>
            <a:ext cx="158256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4920" y="3441600"/>
            <a:ext cx="147600" cy="1335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4" y="17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4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398760" y="2451240"/>
            <a:ext cx="143352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3120" y="2505240"/>
            <a:ext cx="313848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3120" y="2505240"/>
            <a:ext cx="3163680" cy="61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0640" y="2597040"/>
            <a:ext cx="157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599 = #633/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8120" y="2838600"/>
            <a:ext cx="308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642 = #633/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7880" y="2638440"/>
            <a:ext cx="149400" cy="81000"/>
          </a:xfrm>
          <a:custGeom>
            <a:avLst/>
            <a:gdLst/>
            <a:ahLst/>
            <a:rect l="l" t="t" r="r" b="b"/>
            <a:pathLst>
              <a:path w="101" h="51">
                <a:moveTo>
                  <a:pt x="101" y="17"/>
                </a:moveTo>
                <a:lnTo>
                  <a:pt x="101" y="51"/>
                </a:lnTo>
                <a:lnTo>
                  <a:pt x="0" y="51"/>
                </a:lnTo>
                <a:lnTo>
                  <a:pt x="84" y="0"/>
                </a:lnTo>
                <a:lnTo>
                  <a:pt x="101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067280" y="2451240"/>
            <a:ext cx="542880" cy="2142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4520" y="2224080"/>
            <a:ext cx="223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ll-known director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07120" y="4030560"/>
            <a:ext cx="7668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67960" y="4025880"/>
            <a:ext cx="90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55560" y="198288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3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66200" y="19828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ORL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1496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728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1960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71920" y="4459320"/>
            <a:ext cx="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6416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504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9736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4844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0112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344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0576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2796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8028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3260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672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9568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4980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76560" y="3629160"/>
            <a:ext cx="144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28880" y="3629160"/>
            <a:ext cx="1800" cy="37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28880" y="4459320"/>
            <a:ext cx="180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8300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3532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87640" y="4459320"/>
            <a:ext cx="1440" cy="37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5:02:19Z</dcterms:modified>
  <cp:revision>63</cp:revision>
  <dc:subject/>
  <dc:title>Figure 15.1 A distributed multimedia system</dc:title>
</cp:coreProperties>
</file>