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1BF-F20A-4D32-BF83-208BA50B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4F2-F149-40A8-874F-1A033FE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2F3-7806-418D-93E9-E20FDE0A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A92-44FA-4163-BF14-CC431A2E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214F-04DE-4A85-A7D6-F01C1CC3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82FF-747F-41FD-9678-5ADE498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6931-D10E-4D16-9F72-BBAF2A18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52CB-6951-4C78-B25C-C21D888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973A-85A5-4921-847F-447901EC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071E-91A9-4096-8900-B4F6C9A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C9A2-0116-49AF-9357-31BA5B6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67C-B31A-45BC-A0EB-AACBFA51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528-DCC9-491A-AE7E-3536474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FEA-B6C1-4F54-8375-2F67D86E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6AF-98C6-44DD-92FF-B2FDC3D6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0CD4-500D-49C0-A49D-80C94BCA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209B-B581-4254-93FC-90484D82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812-D931-49EC-985C-38B1BB3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EEA-0F24-4C26-973A-5A47886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AEC-32DB-4467-8422-E729E72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39D-6713-43DA-83B3-0259E04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B06-95F0-4E9A-8526-21204AD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6C5-7954-404F-983F-500D651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F78-6926-450C-8A9A-B16FA6D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C20F-A569-418F-844A-B0C489FF57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8671-A050-4ECC-B669-C0A48BF1C7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2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Architectural Model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and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3640" y="2457360"/>
            <a:ext cx="7882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mission and arbitrary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05800" y="1631880"/>
            <a:ext cx="8371800" cy="4236120"/>
            <a:chOff x="505800" y="1631880"/>
            <a:chExt cx="8371800" cy="4236120"/>
          </a:xfrm>
        </p:grpSpPr>
        <p:sp>
          <p:nvSpPr>
            <p:cNvPr id="120" name=""/>
            <p:cNvSpPr/>
            <p:nvPr/>
          </p:nvSpPr>
          <p:spPr>
            <a:xfrm>
              <a:off x="540000" y="1668600"/>
              <a:ext cx="157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1680" y="166860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95080" y="166860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440" y="1631880"/>
              <a:ext cx="17978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88240" y="1631880"/>
              <a:ext cx="921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3240" y="1631880"/>
              <a:ext cx="52092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2160" y="19922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il-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1520" y="19922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9760" y="1992240"/>
              <a:ext cx="556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halts and remains halted. Other processes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9600" y="2266920"/>
              <a:ext cx="163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ct this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568440" y="1982880"/>
              <a:ext cx="7974000" cy="1440"/>
              <a:chOff x="568440" y="1982880"/>
              <a:chExt cx="7974000" cy="1440"/>
            </a:xfrm>
          </p:grpSpPr>
          <p:sp>
            <p:nvSpPr>
              <p:cNvPr id="131" name=""/>
              <p:cNvSpPr/>
              <p:nvPr/>
            </p:nvSpPr>
            <p:spPr>
              <a:xfrm>
                <a:off x="568440" y="1982880"/>
                <a:ext cx="17978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88240" y="1982880"/>
                <a:ext cx="9216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33240" y="1982880"/>
                <a:ext cx="52092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54400" y="254160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1520" y="254160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19760" y="2541600"/>
              <a:ext cx="556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halts and remains halted. Other processes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2000" y="2816280"/>
              <a:ext cx="307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be able to detect this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8920" y="309096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58640" y="309096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0040" y="3090960"/>
              <a:ext cx="576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 inserted in an outgoing message buffer ne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32000" y="3365640"/>
              <a:ext cx="522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rives at the other end’s incoming message buff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600" y="3639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-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1520" y="36399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9000" y="363996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process completes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1760" y="363996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n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6880" y="3639960"/>
              <a:ext cx="270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the message is not 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5160" y="3914640"/>
              <a:ext cx="315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 its outgoing message buff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800" y="418932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-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1520" y="4189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6680" y="4189320"/>
              <a:ext cx="514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 is put in a process’s incoming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68000" y="4464000"/>
              <a:ext cx="434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ffer, but that process does not receive 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640" y="4738680"/>
              <a:ext cx="95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bit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9920" y="501336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yzan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9280" y="4738680"/>
              <a:ext cx="105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61160" y="501336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0200" y="4738680"/>
              <a:ext cx="531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/channel exhibits arbitrary behaviour: it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36320" y="5013360"/>
              <a:ext cx="520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/transmit arbitrary messages at arbitrary tim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42440" y="5288040"/>
              <a:ext cx="499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it omissions; a process may stop or take 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5360" y="5562720"/>
              <a:ext cx="144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orrect ste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440" y="5864400"/>
              <a:ext cx="17978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8240" y="5864400"/>
              <a:ext cx="92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3240" y="5864400"/>
              <a:ext cx="52092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ing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3160" y="2151000"/>
            <a:ext cx="8266680" cy="2049840"/>
            <a:chOff x="533160" y="2151000"/>
            <a:chExt cx="8266680" cy="2049840"/>
          </a:xfrm>
        </p:grpSpPr>
        <p:sp>
          <p:nvSpPr>
            <p:cNvPr id="165" name=""/>
            <p:cNvSpPr/>
            <p:nvPr/>
          </p:nvSpPr>
          <p:spPr>
            <a:xfrm>
              <a:off x="533160" y="2187720"/>
              <a:ext cx="165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7000" y="218772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6960" y="218772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200" y="2151000"/>
              <a:ext cx="1794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83920" y="2151000"/>
              <a:ext cx="1749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55480" y="2151000"/>
              <a:ext cx="43740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560" y="252576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5257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71520" y="2525760"/>
              <a:ext cx="480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’s local clock exceeds the bounds on 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55400" y="2798640"/>
              <a:ext cx="274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te of drift from real ti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65200" y="2487600"/>
              <a:ext cx="7963920" cy="1440"/>
              <a:chOff x="565200" y="2487600"/>
              <a:chExt cx="7963920" cy="1440"/>
            </a:xfrm>
          </p:grpSpPr>
          <p:sp>
            <p:nvSpPr>
              <p:cNvPr id="176" name=""/>
              <p:cNvSpPr/>
              <p:nvPr/>
            </p:nvSpPr>
            <p:spPr>
              <a:xfrm>
                <a:off x="565200" y="2487600"/>
                <a:ext cx="179496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83560" y="2487600"/>
                <a:ext cx="17492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55120" y="2487600"/>
                <a:ext cx="43740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45400" y="307332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320" y="3073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88800" y="3073320"/>
              <a:ext cx="436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exceeds the bounds on the inter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7800" y="3348000"/>
              <a:ext cx="193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two ste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400" y="36226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59440" y="362268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71160" y="3622680"/>
              <a:ext cx="482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’s transmission takes longer tha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09760" y="3895560"/>
              <a:ext cx="136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d bou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5200" y="4195800"/>
              <a:ext cx="1794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3920" y="4195800"/>
              <a:ext cx="1749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55480" y="4195800"/>
              <a:ext cx="4374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s and princip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98600" y="1957320"/>
            <a:ext cx="80928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nem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66880" y="2158920"/>
            <a:ext cx="7270200" cy="2519280"/>
            <a:chOff x="866880" y="2158920"/>
            <a:chExt cx="7270200" cy="2519280"/>
          </a:xfrm>
        </p:grpSpPr>
        <p:sp>
          <p:nvSpPr>
            <p:cNvPr id="194" name=""/>
            <p:cNvSpPr/>
            <p:nvPr/>
          </p:nvSpPr>
          <p:spPr>
            <a:xfrm>
              <a:off x="2406960" y="2685960"/>
              <a:ext cx="4162680" cy="1992240"/>
            </a:xfrm>
            <a:custGeom>
              <a:avLst/>
              <a:gdLst/>
              <a:ahLst/>
              <a:rect l="l" t="t" r="r" b="b"/>
              <a:pathLst>
                <a:path w="2841" h="1255">
                  <a:moveTo>
                    <a:pt x="2472" y="111"/>
                  </a:moveTo>
                  <a:lnTo>
                    <a:pt x="2011" y="74"/>
                  </a:lnTo>
                  <a:lnTo>
                    <a:pt x="1568" y="0"/>
                  </a:lnTo>
                  <a:lnTo>
                    <a:pt x="1236" y="0"/>
                  </a:lnTo>
                  <a:lnTo>
                    <a:pt x="904" y="37"/>
                  </a:lnTo>
                  <a:lnTo>
                    <a:pt x="259" y="129"/>
                  </a:lnTo>
                  <a:lnTo>
                    <a:pt x="111" y="185"/>
                  </a:lnTo>
                  <a:lnTo>
                    <a:pt x="56" y="314"/>
                  </a:lnTo>
                  <a:lnTo>
                    <a:pt x="19" y="609"/>
                  </a:lnTo>
                  <a:lnTo>
                    <a:pt x="0" y="775"/>
                  </a:lnTo>
                  <a:lnTo>
                    <a:pt x="93" y="923"/>
                  </a:lnTo>
                  <a:lnTo>
                    <a:pt x="406" y="1125"/>
                  </a:lnTo>
                  <a:lnTo>
                    <a:pt x="591" y="1199"/>
                  </a:lnTo>
                  <a:lnTo>
                    <a:pt x="775" y="1236"/>
                  </a:lnTo>
                  <a:lnTo>
                    <a:pt x="1181" y="1255"/>
                  </a:lnTo>
                  <a:lnTo>
                    <a:pt x="1993" y="1181"/>
                  </a:lnTo>
                  <a:lnTo>
                    <a:pt x="2306" y="1144"/>
                  </a:lnTo>
                  <a:lnTo>
                    <a:pt x="2601" y="1033"/>
                  </a:lnTo>
                  <a:lnTo>
                    <a:pt x="2712" y="941"/>
                  </a:lnTo>
                  <a:lnTo>
                    <a:pt x="2804" y="812"/>
                  </a:lnTo>
                  <a:lnTo>
                    <a:pt x="2841" y="683"/>
                  </a:lnTo>
                  <a:lnTo>
                    <a:pt x="2823" y="535"/>
                  </a:lnTo>
                  <a:lnTo>
                    <a:pt x="2730" y="259"/>
                  </a:lnTo>
                  <a:lnTo>
                    <a:pt x="2638" y="166"/>
                  </a:lnTo>
                  <a:lnTo>
                    <a:pt x="2491" y="129"/>
                  </a:lnTo>
                  <a:lnTo>
                    <a:pt x="2472" y="111"/>
                  </a:lnTo>
                  <a:close/>
                </a:path>
              </a:pathLst>
            </a:custGeom>
            <a:solidFill>
              <a:srgbClr val="ffdc99"/>
            </a:solidFill>
            <a:ln w="428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50760" y="2722680"/>
              <a:ext cx="1919160" cy="70308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45200" y="3900600"/>
              <a:ext cx="2586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mmunication chann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74880" y="219708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py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06480" y="21733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4280" y="3184560"/>
              <a:ext cx="1432800" cy="9666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6880" y="3271680"/>
              <a:ext cx="1378800" cy="8208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1320" y="3535200"/>
              <a:ext cx="45669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91320" y="3798720"/>
              <a:ext cx="45669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12320" y="351468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83160" y="3490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19200" y="35449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90040" y="3521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55160" y="3490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6120" y="3594240"/>
              <a:ext cx="108000" cy="1458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9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37760" y="3652920"/>
              <a:ext cx="3780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25520" y="2913120"/>
              <a:ext cx="1207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he enem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58320" y="2158920"/>
              <a:ext cx="1161720" cy="3812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9000" y="3594240"/>
              <a:ext cx="108360" cy="1458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9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09560" y="3652920"/>
              <a:ext cx="35136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6800" y="3139920"/>
              <a:ext cx="28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’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866200" y="3417480"/>
              <a:ext cx="216720" cy="2350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59120" y="3448080"/>
              <a:ext cx="80280" cy="43956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813480" y="3360600"/>
              <a:ext cx="54000" cy="1159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5120" y="2511360"/>
              <a:ext cx="243000" cy="790560"/>
            </a:xfrm>
            <a:custGeom>
              <a:avLst/>
              <a:gdLst/>
              <a:ahLst/>
              <a:rect l="l" t="t" r="r" b="b"/>
              <a:pathLst>
                <a:path w="166" h="498">
                  <a:moveTo>
                    <a:pt x="0" y="0"/>
                  </a:moveTo>
                  <a:lnTo>
                    <a:pt x="147" y="313"/>
                  </a:lnTo>
                  <a:lnTo>
                    <a:pt x="166" y="424"/>
                  </a:lnTo>
                  <a:lnTo>
                    <a:pt x="129" y="498"/>
                  </a:lnTo>
                </a:path>
              </a:pathLst>
            </a:custGeom>
            <a:noFill/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5240" y="250200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4840" y="248436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457760" y="2705040"/>
            <a:ext cx="136440" cy="265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70800" y="2941560"/>
            <a:ext cx="1657080" cy="120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024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78800" y="3059280"/>
            <a:ext cx="1441440" cy="9712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9160" y="2941560"/>
            <a:ext cx="1683000" cy="1176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024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1160" y="3117960"/>
            <a:ext cx="1386000" cy="8236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0600" y="2529000"/>
            <a:ext cx="4183200" cy="2001600"/>
          </a:xfrm>
          <a:custGeom>
            <a:avLst/>
            <a:gdLst/>
            <a:ahLst/>
            <a:rect l="l" t="t" r="r" b="b"/>
            <a:pathLst>
              <a:path w="2855" h="1261">
                <a:moveTo>
                  <a:pt x="2484" y="111"/>
                </a:moveTo>
                <a:lnTo>
                  <a:pt x="2021" y="74"/>
                </a:lnTo>
                <a:lnTo>
                  <a:pt x="1576" y="19"/>
                </a:lnTo>
                <a:lnTo>
                  <a:pt x="1242" y="0"/>
                </a:lnTo>
                <a:lnTo>
                  <a:pt x="908" y="37"/>
                </a:lnTo>
                <a:lnTo>
                  <a:pt x="259" y="130"/>
                </a:lnTo>
                <a:lnTo>
                  <a:pt x="111" y="204"/>
                </a:lnTo>
                <a:lnTo>
                  <a:pt x="56" y="315"/>
                </a:lnTo>
                <a:lnTo>
                  <a:pt x="18" y="612"/>
                </a:lnTo>
                <a:lnTo>
                  <a:pt x="0" y="797"/>
                </a:lnTo>
                <a:lnTo>
                  <a:pt x="93" y="946"/>
                </a:lnTo>
                <a:lnTo>
                  <a:pt x="408" y="1131"/>
                </a:lnTo>
                <a:lnTo>
                  <a:pt x="593" y="1224"/>
                </a:lnTo>
                <a:lnTo>
                  <a:pt x="797" y="1261"/>
                </a:lnTo>
                <a:lnTo>
                  <a:pt x="1186" y="1261"/>
                </a:lnTo>
                <a:lnTo>
                  <a:pt x="2002" y="1205"/>
                </a:lnTo>
                <a:lnTo>
                  <a:pt x="2317" y="1168"/>
                </a:lnTo>
                <a:lnTo>
                  <a:pt x="2614" y="1038"/>
                </a:lnTo>
                <a:lnTo>
                  <a:pt x="2725" y="946"/>
                </a:lnTo>
                <a:lnTo>
                  <a:pt x="2818" y="834"/>
                </a:lnTo>
                <a:lnTo>
                  <a:pt x="2855" y="686"/>
                </a:lnTo>
                <a:lnTo>
                  <a:pt x="2836" y="538"/>
                </a:lnTo>
                <a:lnTo>
                  <a:pt x="2744" y="278"/>
                </a:lnTo>
                <a:lnTo>
                  <a:pt x="2651" y="167"/>
                </a:lnTo>
                <a:lnTo>
                  <a:pt x="2503" y="148"/>
                </a:lnTo>
                <a:lnTo>
                  <a:pt x="2484" y="111"/>
                </a:lnTo>
                <a:close/>
              </a:path>
            </a:pathLst>
          </a:custGeom>
          <a:solidFill>
            <a:srgbClr val="ffdc99"/>
          </a:solidFill>
          <a:ln w="302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43160" y="3382920"/>
            <a:ext cx="458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243160" y="3668760"/>
            <a:ext cx="4605480" cy="14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72440" y="3367080"/>
            <a:ext cx="167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ure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1280" y="3355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37160" y="33386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97680" y="336708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2840" y="33670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13920" y="241452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69720" y="23796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74600" y="2793960"/>
            <a:ext cx="135000" cy="265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ftware and hardware service layers in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0040" y="1433520"/>
            <a:ext cx="75470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s invoke individual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5480" y="1976400"/>
            <a:ext cx="7975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application based on peer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35040" y="1230480"/>
            <a:ext cx="63882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vice provided by multipl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61960" y="1455840"/>
            <a:ext cx="5908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proxy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5760" y="2117880"/>
            <a:ext cx="80658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ppl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7720" y="1620720"/>
            <a:ext cx="8110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n clients and comput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2928960"/>
            <a:ext cx="1834920" cy="1289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1000" y="2552760"/>
            <a:ext cx="2539800" cy="1950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5080" y="3144960"/>
            <a:ext cx="1512720" cy="871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9080" y="33004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0960" y="361332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80280" y="3075120"/>
            <a:ext cx="1641240" cy="906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2000" y="3230640"/>
            <a:ext cx="136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43880" y="3543480"/>
            <a:ext cx="101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3160" y="2394000"/>
            <a:ext cx="3057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computer or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19720" y="2149560"/>
            <a:ext cx="198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7800" y="3492360"/>
            <a:ext cx="533520" cy="73080"/>
          </a:xfrm>
          <a:custGeom>
            <a:avLst/>
            <a:gdLst/>
            <a:ahLst/>
            <a:rect l="l" t="t" r="r" b="b"/>
            <a:pathLst>
              <a:path w="263" h="66">
                <a:moveTo>
                  <a:pt x="0" y="22"/>
                </a:moveTo>
                <a:lnTo>
                  <a:pt x="66" y="0"/>
                </a:lnTo>
                <a:lnTo>
                  <a:pt x="176" y="22"/>
                </a:lnTo>
                <a:lnTo>
                  <a:pt x="220" y="44"/>
                </a:lnTo>
                <a:lnTo>
                  <a:pt x="263" y="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6800" y="3492360"/>
            <a:ext cx="965160" cy="34920"/>
          </a:xfrm>
          <a:custGeom>
            <a:avLst/>
            <a:gdLst/>
            <a:ahLst/>
            <a:rect l="l" t="t" r="r" b="b"/>
            <a:pathLst>
              <a:path w="659" h="22">
                <a:moveTo>
                  <a:pt x="659" y="0"/>
                </a:moveTo>
                <a:lnTo>
                  <a:pt x="527" y="22"/>
                </a:lnTo>
                <a:lnTo>
                  <a:pt x="286" y="22"/>
                </a:lnTo>
                <a:lnTo>
                  <a:pt x="110" y="22"/>
                </a:lnTo>
                <a:lnTo>
                  <a:pt x="0" y="2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75120" y="2865600"/>
            <a:ext cx="2606400" cy="1150920"/>
          </a:xfrm>
          <a:custGeom>
            <a:avLst/>
            <a:gdLst/>
            <a:ahLst/>
            <a:rect l="l" t="t" r="r" b="b"/>
            <a:pathLst>
              <a:path w="1779" h="725">
                <a:moveTo>
                  <a:pt x="44" y="176"/>
                </a:moveTo>
                <a:lnTo>
                  <a:pt x="66" y="132"/>
                </a:lnTo>
                <a:lnTo>
                  <a:pt x="176" y="66"/>
                </a:lnTo>
                <a:lnTo>
                  <a:pt x="286" y="44"/>
                </a:lnTo>
                <a:lnTo>
                  <a:pt x="352" y="44"/>
                </a:lnTo>
                <a:lnTo>
                  <a:pt x="396" y="22"/>
                </a:lnTo>
                <a:lnTo>
                  <a:pt x="527" y="44"/>
                </a:lnTo>
                <a:lnTo>
                  <a:pt x="659" y="66"/>
                </a:lnTo>
                <a:lnTo>
                  <a:pt x="791" y="66"/>
                </a:lnTo>
                <a:lnTo>
                  <a:pt x="923" y="66"/>
                </a:lnTo>
                <a:lnTo>
                  <a:pt x="1010" y="44"/>
                </a:lnTo>
                <a:lnTo>
                  <a:pt x="1076" y="22"/>
                </a:lnTo>
                <a:lnTo>
                  <a:pt x="1164" y="0"/>
                </a:lnTo>
                <a:lnTo>
                  <a:pt x="1274" y="0"/>
                </a:lnTo>
                <a:lnTo>
                  <a:pt x="1362" y="0"/>
                </a:lnTo>
                <a:lnTo>
                  <a:pt x="1428" y="22"/>
                </a:lnTo>
                <a:lnTo>
                  <a:pt x="1472" y="44"/>
                </a:lnTo>
                <a:lnTo>
                  <a:pt x="1559" y="66"/>
                </a:lnTo>
                <a:lnTo>
                  <a:pt x="1647" y="132"/>
                </a:lnTo>
                <a:lnTo>
                  <a:pt x="1757" y="220"/>
                </a:lnTo>
                <a:lnTo>
                  <a:pt x="1779" y="351"/>
                </a:lnTo>
                <a:lnTo>
                  <a:pt x="1779" y="439"/>
                </a:lnTo>
                <a:lnTo>
                  <a:pt x="1757" y="505"/>
                </a:lnTo>
                <a:lnTo>
                  <a:pt x="1713" y="637"/>
                </a:lnTo>
                <a:lnTo>
                  <a:pt x="1625" y="681"/>
                </a:lnTo>
                <a:lnTo>
                  <a:pt x="1494" y="725"/>
                </a:lnTo>
                <a:lnTo>
                  <a:pt x="1362" y="703"/>
                </a:lnTo>
                <a:lnTo>
                  <a:pt x="1230" y="681"/>
                </a:lnTo>
                <a:lnTo>
                  <a:pt x="1120" y="681"/>
                </a:lnTo>
                <a:lnTo>
                  <a:pt x="1010" y="659"/>
                </a:lnTo>
                <a:lnTo>
                  <a:pt x="879" y="659"/>
                </a:lnTo>
                <a:lnTo>
                  <a:pt x="769" y="659"/>
                </a:lnTo>
                <a:lnTo>
                  <a:pt x="681" y="681"/>
                </a:lnTo>
                <a:lnTo>
                  <a:pt x="593" y="681"/>
                </a:lnTo>
                <a:lnTo>
                  <a:pt x="505" y="681"/>
                </a:lnTo>
                <a:lnTo>
                  <a:pt x="418" y="703"/>
                </a:lnTo>
                <a:lnTo>
                  <a:pt x="330" y="703"/>
                </a:lnTo>
                <a:lnTo>
                  <a:pt x="264" y="703"/>
                </a:lnTo>
                <a:lnTo>
                  <a:pt x="198" y="681"/>
                </a:lnTo>
                <a:lnTo>
                  <a:pt x="154" y="659"/>
                </a:lnTo>
                <a:lnTo>
                  <a:pt x="132" y="637"/>
                </a:lnTo>
                <a:lnTo>
                  <a:pt x="110" y="615"/>
                </a:lnTo>
                <a:lnTo>
                  <a:pt x="66" y="571"/>
                </a:lnTo>
                <a:lnTo>
                  <a:pt x="22" y="483"/>
                </a:lnTo>
                <a:lnTo>
                  <a:pt x="0" y="417"/>
                </a:lnTo>
                <a:lnTo>
                  <a:pt x="0" y="351"/>
                </a:lnTo>
                <a:lnTo>
                  <a:pt x="0" y="286"/>
                </a:lnTo>
                <a:lnTo>
                  <a:pt x="22" y="220"/>
                </a:lnTo>
                <a:lnTo>
                  <a:pt x="44" y="176"/>
                </a:lnTo>
                <a:lnTo>
                  <a:pt x="44" y="176"/>
                </a:lnTo>
                <a:close/>
              </a:path>
            </a:pathLst>
          </a:custGeom>
          <a:solidFill>
            <a:srgbClr val="ffdc99"/>
          </a:solidFill>
          <a:ln w="507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6960" y="3282840"/>
            <a:ext cx="979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-time ordering of ev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2760" y="1654200"/>
            <a:ext cx="8029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3:14:43Z</dcterms:modified>
  <cp:revision>54</cp:revision>
  <dc:subject/>
  <dc:title>Figure 15.1 A distributed multimedia system</dc:title>
</cp:coreProperties>
</file>