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ct" ContentType="image/x-pict"/>
  <Override PartName="/ppt/media/image3.pct" ContentType="image/x-pict"/>
  <Override PartName="/ppt/media/image6.png" ContentType="image/png"/>
  <Override PartName="/ppt/media/image4.pct" ContentType="image/x-pict"/>
  <Override PartName="/ppt/media/image5.pct" ContentType="image/x-pict"/>
  <Override PartName="/ppt/media/image10.pct" ContentType="image/x-pict"/>
  <Override PartName="/ppt/media/image7.pct" ContentType="image/x-pict"/>
  <Override PartName="/ppt/media/image12.pct" ContentType="image/x-pict"/>
  <Override PartName="/ppt/media/image8.pct" ContentType="image/x-pict"/>
  <Override PartName="/ppt/media/image13.pct" ContentType="image/x-pict"/>
  <Override PartName="/ppt/media/image9.pct" ContentType="image/x-pict"/>
  <Override PartName="/ppt/media/image11.pct" ContentType="image/x-pi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5893-11E8-4866-98C3-151ACD501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5360" y="39549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92AC-A54F-4DAB-9A69-0FFE01BB6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3532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B617-047B-4ACC-A0CB-5E385BFFF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9092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8684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536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9092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8684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5C55-AAB1-4F14-8110-5EDB632BC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BA2FF-29E4-4B41-95A4-CED8B00F1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0AC2A-A938-42B4-9A19-6260A8636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F3DFF-24FE-4705-851D-A5355DFDD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11E3E-B160-4284-B17A-7CD0093A1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D9D23-EEC5-4F5C-B546-294E55ABD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39200" y="228240"/>
            <a:ext cx="88887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90B69-15A1-46C2-9C3C-782E19A02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AEE7B-CEE5-424A-ABFF-7B9F2A118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8F71-0486-4BFB-8A49-F71258D60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3532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114F8-9D8B-4500-AC56-E43C59AA6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1E4DD-232D-4C6A-BE1A-CE7C601BF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5360" y="39549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67992-55AA-4265-8EB2-51CC6C4AE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3532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40F2C-B048-43FA-A606-41CDD808F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49092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48684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536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49092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48684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AF803-223A-450C-B5E2-F6B59286D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32CD-117F-4F90-98D6-152B5F0EB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FF06-053E-4519-A61D-927DF0865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7EE3-F047-493C-A30C-CE9F79EED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39200" y="228240"/>
            <a:ext cx="88887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394B-C0B5-4530-B4E9-38F61BA1A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9A69-F099-4F57-9176-A1C3088F8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3532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E81B-7624-4C04-A300-893B69EAC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5A83-D968-4EB9-BB26-26E807BB0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360" y="6400800"/>
            <a:ext cx="15955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145960" y="6400800"/>
            <a:ext cx="602604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Instructor’s Guide for  Coulouris, Dollimore and Kindberg   Distributed Systems: Concepts and Design   Edn. 4   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©  Pearson Education 2005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254800" y="6400800"/>
            <a:ext cx="109980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50EC8-9881-4C0D-896A-0A085219EB3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95360" y="1143000"/>
            <a:ext cx="8832960" cy="0"/>
          </a:xfrm>
          <a:prstGeom prst="line">
            <a:avLst/>
          </a:prstGeom>
          <a:ln w="127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720" y="685440"/>
            <a:ext cx="8364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70040" y="6229080"/>
            <a:ext cx="2092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411360" y="6229080"/>
            <a:ext cx="308304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7154640" y="6229080"/>
            <a:ext cx="198108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998E4-AA97-4CDF-96B3-0C7621BE77B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95360" y="2590920"/>
            <a:ext cx="8832960" cy="0"/>
          </a:xfrm>
          <a:prstGeom prst="line">
            <a:avLst/>
          </a:prstGeom>
          <a:ln w="127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cc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cc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image" Target="../media/image11.pct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ct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685440"/>
            <a:ext cx="8364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Slides for Chapter 10: </a:t>
            </a:r>
            <a:br>
              <a:rPr sz="3200"/>
            </a:b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Peer-to-Peer Systems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641320" y="2895480"/>
            <a:ext cx="693396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From</a:t>
            </a:r>
            <a:r>
              <a:rPr b="0" lang="en-GB" sz="2400" spc="-1" strike="noStrike">
                <a:solidFill>
                  <a:srgbClr val="663300"/>
                </a:solidFill>
                <a:latin typeface="Arial Black"/>
              </a:rPr>
              <a:t> Coulouris, Dollimore and Kindberg</a:t>
            </a:r>
            <a:br>
              <a:rPr sz="2400"/>
            </a:br>
            <a:r>
              <a:rPr b="0" lang="en-GB" sz="2800" spc="-1" strike="noStrike">
                <a:solidFill>
                  <a:srgbClr val="663300"/>
                </a:solidFill>
                <a:latin typeface="Arial Black"/>
              </a:rPr>
              <a:t>Distributed Systems: </a:t>
            </a:r>
            <a:br>
              <a:rPr sz="2800"/>
            </a:br>
            <a:r>
              <a:rPr b="0" lang="en-GB" sz="2800" spc="-1" strike="noStrike">
                <a:solidFill>
                  <a:srgbClr val="663300"/>
                </a:solidFill>
                <a:latin typeface="Arial Black"/>
              </a:rPr>
              <a:t>	</a:t>
            </a:r>
            <a:r>
              <a:rPr b="0" lang="en-GB" sz="2800" spc="-1" strike="noStrike">
                <a:solidFill>
                  <a:srgbClr val="663300"/>
                </a:solidFill>
                <a:latin typeface="Arial Black"/>
              </a:rPr>
              <a:t>	</a:t>
            </a:r>
            <a:r>
              <a:rPr b="0" lang="en-GB" sz="2800" spc="-1" strike="noStrike">
                <a:solidFill>
                  <a:srgbClr val="663300"/>
                </a:solidFill>
                <a:latin typeface="Arial Black"/>
              </a:rPr>
              <a:t>Concepts and Design</a:t>
            </a: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Edition 4, © Addison-Wesley 2005</a:t>
            </a:r>
            <a:endParaRPr b="0" lang="en-US" sz="2400" spc="-1" strike="noStrike">
              <a:solidFill>
                <a:srgbClr val="663300"/>
              </a:solidFill>
              <a:latin typeface="Arial Black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95440" y="3095640"/>
            <a:ext cx="1869840" cy="23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0.9: Pastry’s routing algorithm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95440" y="1386000"/>
            <a:ext cx="8772480" cy="48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0.10: Tapestry routing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[Zhao et al. 2004]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79600" y="1363680"/>
            <a:ext cx="8740440" cy="41562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528480" y="5521320"/>
            <a:ext cx="875844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0.11: Storage organization of OceanStore object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81560" y="2425680"/>
            <a:ext cx="4387680" cy="1587600"/>
          </a:xfrm>
          <a:prstGeom prst="rect">
            <a:avLst/>
          </a:prstGeom>
          <a:noFill/>
          <a:ln w="41400">
            <a:solidFill>
              <a:srgbClr val="cf92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381560" y="4138560"/>
            <a:ext cx="4387680" cy="1589040"/>
          </a:xfrm>
          <a:prstGeom prst="rect">
            <a:avLst/>
          </a:prstGeom>
          <a:noFill/>
          <a:ln w="41400">
            <a:solidFill>
              <a:srgbClr val="cf92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50120" y="5329080"/>
            <a:ext cx="312480" cy="25092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50120" y="5329080"/>
            <a:ext cx="334800" cy="273240"/>
          </a:xfrm>
          <a:prstGeom prst="rect">
            <a:avLst/>
          </a:prstGeom>
          <a:noFill/>
          <a:ln w="20520">
            <a:solidFill>
              <a:srgbClr val="ffd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539040" y="538164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88240" y="5329080"/>
            <a:ext cx="314280" cy="25092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88240" y="5329080"/>
            <a:ext cx="334800" cy="273240"/>
          </a:xfrm>
          <a:prstGeom prst="rect">
            <a:avLst/>
          </a:prstGeom>
          <a:noFill/>
          <a:ln w="20520">
            <a:solidFill>
              <a:srgbClr val="ffd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86880" y="538164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327800" y="5329080"/>
            <a:ext cx="333360" cy="25092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27800" y="5329080"/>
            <a:ext cx="355680" cy="273240"/>
          </a:xfrm>
          <a:prstGeom prst="rect">
            <a:avLst/>
          </a:prstGeom>
          <a:noFill/>
          <a:ln w="20520">
            <a:solidFill>
              <a:srgbClr val="ffd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434360" y="538164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226360" y="5329080"/>
            <a:ext cx="335160" cy="25092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226360" y="5329080"/>
            <a:ext cx="355680" cy="273240"/>
          </a:xfrm>
          <a:prstGeom prst="rect">
            <a:avLst/>
          </a:prstGeom>
          <a:noFill/>
          <a:ln w="20520">
            <a:solidFill>
              <a:srgbClr val="ffd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329680" y="538164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786800" y="5329080"/>
            <a:ext cx="314280" cy="25092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86800" y="5329080"/>
            <a:ext cx="334800" cy="273240"/>
          </a:xfrm>
          <a:prstGeom prst="rect">
            <a:avLst/>
          </a:prstGeom>
          <a:noFill/>
          <a:ln w="20520">
            <a:solidFill>
              <a:srgbClr val="ffd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882200" y="538164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4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384880" y="4368960"/>
            <a:ext cx="2340000" cy="23004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543200" y="4398840"/>
            <a:ext cx="832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oot bloc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576600" y="4857840"/>
            <a:ext cx="811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 Helvetica Condensed"/>
              </a:rPr>
              <a:t>version 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867360" y="4870440"/>
            <a:ext cx="690840" cy="23004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829640" y="4870440"/>
            <a:ext cx="709560" cy="23004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559480" y="4900680"/>
            <a:ext cx="1474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ndirection block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931080" y="4786200"/>
            <a:ext cx="104760" cy="63720"/>
          </a:xfrm>
          <a:custGeom>
            <a:avLst/>
            <a:gdLst/>
            <a:ahLst/>
            <a:rect l="l" t="t" r="r" b="b"/>
            <a:pathLst>
              <a:path w="66" h="40">
                <a:moveTo>
                  <a:pt x="39" y="0"/>
                </a:moveTo>
                <a:lnTo>
                  <a:pt x="66" y="0"/>
                </a:lnTo>
                <a:lnTo>
                  <a:pt x="39" y="40"/>
                </a:lnTo>
                <a:lnTo>
                  <a:pt x="0" y="0"/>
                </a:lnTo>
                <a:lnTo>
                  <a:pt x="39" y="0"/>
                </a:lnTo>
                <a:close/>
              </a:path>
            </a:pathLst>
          </a:custGeom>
          <a:solidFill>
            <a:srgbClr val="000000"/>
          </a:solidFill>
          <a:ln w="20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993000" y="4514760"/>
            <a:ext cx="1440" cy="25092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870680" y="4786200"/>
            <a:ext cx="104760" cy="84240"/>
          </a:xfrm>
          <a:custGeom>
            <a:avLst/>
            <a:gdLst/>
            <a:ahLst/>
            <a:rect l="l" t="t" r="r" b="b"/>
            <a:pathLst>
              <a:path w="66" h="53">
                <a:moveTo>
                  <a:pt x="40" y="0"/>
                </a:moveTo>
                <a:lnTo>
                  <a:pt x="66" y="0"/>
                </a:lnTo>
                <a:lnTo>
                  <a:pt x="40" y="53"/>
                </a:lnTo>
                <a:lnTo>
                  <a:pt x="0" y="0"/>
                </a:lnTo>
                <a:lnTo>
                  <a:pt x="40" y="0"/>
                </a:lnTo>
                <a:close/>
              </a:path>
            </a:pathLst>
          </a:custGeom>
          <a:solidFill>
            <a:srgbClr val="000000"/>
          </a:solidFill>
          <a:ln w="20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223040" y="4514760"/>
            <a:ext cx="711360" cy="271440"/>
          </a:xfrm>
          <a:custGeom>
            <a:avLst/>
            <a:gdLst/>
            <a:ahLst/>
            <a:rect l="l" t="t" r="r" b="b"/>
            <a:pathLst>
              <a:path w="448" h="171">
                <a:moveTo>
                  <a:pt x="0" y="0"/>
                </a:moveTo>
                <a:lnTo>
                  <a:pt x="0" y="132"/>
                </a:lnTo>
                <a:lnTo>
                  <a:pt x="448" y="132"/>
                </a:lnTo>
                <a:lnTo>
                  <a:pt x="448" y="171"/>
                </a:lnTo>
              </a:path>
            </a:pathLst>
          </a:custGeom>
          <a:noFill/>
          <a:ln w="20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575400" y="5246640"/>
            <a:ext cx="84240" cy="82440"/>
          </a:xfrm>
          <a:custGeom>
            <a:avLst/>
            <a:gdLst/>
            <a:ahLst/>
            <a:rect l="l" t="t" r="r" b="b"/>
            <a:pathLst>
              <a:path w="53" h="52">
                <a:moveTo>
                  <a:pt x="26" y="0"/>
                </a:moveTo>
                <a:lnTo>
                  <a:pt x="53" y="0"/>
                </a:lnTo>
                <a:lnTo>
                  <a:pt x="26" y="52"/>
                </a:lnTo>
                <a:lnTo>
                  <a:pt x="0" y="0"/>
                </a:lnTo>
                <a:lnTo>
                  <a:pt x="26" y="0"/>
                </a:lnTo>
                <a:close/>
              </a:path>
            </a:pathLst>
          </a:custGeom>
          <a:solidFill>
            <a:srgbClr val="000000"/>
          </a:solidFill>
          <a:ln w="20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16800" y="4995720"/>
            <a:ext cx="376200" cy="250920"/>
          </a:xfrm>
          <a:custGeom>
            <a:avLst/>
            <a:gdLst/>
            <a:ahLst/>
            <a:rect l="l" t="t" r="r" b="b"/>
            <a:pathLst>
              <a:path w="237" h="158">
                <a:moveTo>
                  <a:pt x="237" y="0"/>
                </a:moveTo>
                <a:lnTo>
                  <a:pt x="237" y="118"/>
                </a:lnTo>
                <a:lnTo>
                  <a:pt x="0" y="118"/>
                </a:lnTo>
                <a:lnTo>
                  <a:pt x="0" y="158"/>
                </a:lnTo>
              </a:path>
            </a:pathLst>
          </a:custGeom>
          <a:noFill/>
          <a:ln w="20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453440" y="5246640"/>
            <a:ext cx="83880" cy="82440"/>
          </a:xfrm>
          <a:custGeom>
            <a:avLst/>
            <a:gdLst/>
            <a:ahLst/>
            <a:rect l="l" t="t" r="r" b="b"/>
            <a:pathLst>
              <a:path w="53" h="52">
                <a:moveTo>
                  <a:pt x="26" y="0"/>
                </a:moveTo>
                <a:lnTo>
                  <a:pt x="53" y="0"/>
                </a:lnTo>
                <a:lnTo>
                  <a:pt x="26" y="52"/>
                </a:lnTo>
                <a:lnTo>
                  <a:pt x="0" y="0"/>
                </a:lnTo>
                <a:lnTo>
                  <a:pt x="26" y="0"/>
                </a:lnTo>
                <a:close/>
              </a:path>
            </a:pathLst>
          </a:custGeom>
          <a:solidFill>
            <a:srgbClr val="000000"/>
          </a:solidFill>
          <a:ln w="20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89720" y="4995720"/>
            <a:ext cx="104760" cy="250920"/>
          </a:xfrm>
          <a:custGeom>
            <a:avLst/>
            <a:gdLst/>
            <a:ahLst/>
            <a:rect l="l" t="t" r="r" b="b"/>
            <a:pathLst>
              <a:path w="66" h="158">
                <a:moveTo>
                  <a:pt x="0" y="0"/>
                </a:moveTo>
                <a:lnTo>
                  <a:pt x="0" y="118"/>
                </a:lnTo>
                <a:lnTo>
                  <a:pt x="66" y="118"/>
                </a:lnTo>
                <a:lnTo>
                  <a:pt x="66" y="158"/>
                </a:lnTo>
              </a:path>
            </a:pathLst>
          </a:custGeom>
          <a:noFill/>
          <a:ln w="20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035840" y="5246640"/>
            <a:ext cx="82440" cy="82440"/>
          </a:xfrm>
          <a:custGeom>
            <a:avLst/>
            <a:gdLst/>
            <a:ahLst/>
            <a:rect l="l" t="t" r="r" b="b"/>
            <a:pathLst>
              <a:path w="52" h="52">
                <a:moveTo>
                  <a:pt x="26" y="0"/>
                </a:moveTo>
                <a:lnTo>
                  <a:pt x="52" y="0"/>
                </a:lnTo>
                <a:lnTo>
                  <a:pt x="26" y="52"/>
                </a:lnTo>
                <a:lnTo>
                  <a:pt x="0" y="0"/>
                </a:lnTo>
                <a:lnTo>
                  <a:pt x="26" y="0"/>
                </a:lnTo>
                <a:close/>
              </a:path>
            </a:pathLst>
          </a:custGeom>
          <a:solidFill>
            <a:srgbClr val="000000"/>
          </a:solidFill>
          <a:ln w="20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077240" y="4995720"/>
            <a:ext cx="125280" cy="250920"/>
          </a:xfrm>
          <a:custGeom>
            <a:avLst/>
            <a:gdLst/>
            <a:ahLst/>
            <a:rect l="l" t="t" r="r" b="b"/>
            <a:pathLst>
              <a:path w="79" h="158">
                <a:moveTo>
                  <a:pt x="79" y="0"/>
                </a:moveTo>
                <a:lnTo>
                  <a:pt x="79" y="118"/>
                </a:lnTo>
                <a:lnTo>
                  <a:pt x="0" y="118"/>
                </a:lnTo>
                <a:lnTo>
                  <a:pt x="0" y="158"/>
                </a:lnTo>
              </a:path>
            </a:pathLst>
          </a:custGeom>
          <a:noFill/>
          <a:ln w="20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310600" y="5246640"/>
            <a:ext cx="82440" cy="82440"/>
          </a:xfrm>
          <a:custGeom>
            <a:avLst/>
            <a:gdLst/>
            <a:ahLst/>
            <a:rect l="l" t="t" r="r" b="b"/>
            <a:pathLst>
              <a:path w="52" h="52">
                <a:moveTo>
                  <a:pt x="26" y="0"/>
                </a:moveTo>
                <a:lnTo>
                  <a:pt x="52" y="0"/>
                </a:lnTo>
                <a:lnTo>
                  <a:pt x="26" y="52"/>
                </a:lnTo>
                <a:lnTo>
                  <a:pt x="0" y="0"/>
                </a:lnTo>
                <a:lnTo>
                  <a:pt x="26" y="0"/>
                </a:lnTo>
                <a:close/>
              </a:path>
            </a:pathLst>
          </a:custGeom>
          <a:solidFill>
            <a:srgbClr val="000000"/>
          </a:solidFill>
          <a:ln w="20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205840" y="4995720"/>
            <a:ext cx="146160" cy="250920"/>
          </a:xfrm>
          <a:custGeom>
            <a:avLst/>
            <a:gdLst/>
            <a:ahLst/>
            <a:rect l="l" t="t" r="r" b="b"/>
            <a:pathLst>
              <a:path w="92" h="158">
                <a:moveTo>
                  <a:pt x="0" y="0"/>
                </a:moveTo>
                <a:lnTo>
                  <a:pt x="0" y="118"/>
                </a:lnTo>
                <a:lnTo>
                  <a:pt x="92" y="118"/>
                </a:lnTo>
                <a:lnTo>
                  <a:pt x="92" y="158"/>
                </a:lnTo>
              </a:path>
            </a:pathLst>
          </a:custGeom>
          <a:noFill/>
          <a:ln w="20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891560" y="5246640"/>
            <a:ext cx="104760" cy="82440"/>
          </a:xfrm>
          <a:custGeom>
            <a:avLst/>
            <a:gdLst/>
            <a:ahLst/>
            <a:rect l="l" t="t" r="r" b="b"/>
            <a:pathLst>
              <a:path w="66" h="52">
                <a:moveTo>
                  <a:pt x="40" y="0"/>
                </a:moveTo>
                <a:lnTo>
                  <a:pt x="66" y="0"/>
                </a:lnTo>
                <a:lnTo>
                  <a:pt x="40" y="52"/>
                </a:lnTo>
                <a:lnTo>
                  <a:pt x="0" y="0"/>
                </a:lnTo>
                <a:lnTo>
                  <a:pt x="40" y="0"/>
                </a:lnTo>
                <a:close/>
              </a:path>
            </a:pathLst>
          </a:custGeom>
          <a:solidFill>
            <a:srgbClr val="000000"/>
          </a:solidFill>
          <a:ln w="20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954920" y="4995720"/>
            <a:ext cx="41400" cy="250920"/>
          </a:xfrm>
          <a:custGeom>
            <a:avLst/>
            <a:gdLst/>
            <a:ahLst/>
            <a:rect l="l" t="t" r="r" b="b"/>
            <a:pathLst>
              <a:path w="26" h="158">
                <a:moveTo>
                  <a:pt x="26" y="0"/>
                </a:moveTo>
                <a:lnTo>
                  <a:pt x="26" y="118"/>
                </a:lnTo>
                <a:lnTo>
                  <a:pt x="0" y="118"/>
                </a:lnTo>
                <a:lnTo>
                  <a:pt x="0" y="158"/>
                </a:lnTo>
              </a:path>
            </a:pathLst>
          </a:custGeom>
          <a:noFill/>
          <a:ln w="20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67360" y="3637080"/>
            <a:ext cx="314640" cy="25056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67360" y="3637080"/>
            <a:ext cx="335160" cy="271440"/>
          </a:xfrm>
          <a:prstGeom prst="rect">
            <a:avLst/>
          </a:prstGeom>
          <a:noFill/>
          <a:ln w="20520">
            <a:solidFill>
              <a:srgbClr val="ffd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954840" y="368928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826320" y="3176640"/>
            <a:ext cx="711000" cy="23004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910560" y="3094200"/>
            <a:ext cx="82440" cy="61920"/>
          </a:xfrm>
          <a:custGeom>
            <a:avLst/>
            <a:gdLst/>
            <a:ahLst/>
            <a:rect l="l" t="t" r="r" b="b"/>
            <a:pathLst>
              <a:path w="52" h="39">
                <a:moveTo>
                  <a:pt x="26" y="0"/>
                </a:moveTo>
                <a:lnTo>
                  <a:pt x="52" y="0"/>
                </a:lnTo>
                <a:lnTo>
                  <a:pt x="26" y="39"/>
                </a:lnTo>
                <a:lnTo>
                  <a:pt x="0" y="0"/>
                </a:lnTo>
                <a:lnTo>
                  <a:pt x="26" y="0"/>
                </a:lnTo>
                <a:close/>
              </a:path>
            </a:pathLst>
          </a:custGeom>
          <a:solidFill>
            <a:srgbClr val="000000"/>
          </a:solidFill>
          <a:ln w="20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951600" y="2822400"/>
            <a:ext cx="1800" cy="25092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993000" y="3552840"/>
            <a:ext cx="104760" cy="84240"/>
          </a:xfrm>
          <a:custGeom>
            <a:avLst/>
            <a:gdLst/>
            <a:ahLst/>
            <a:rect l="l" t="t" r="r" b="b"/>
            <a:pathLst>
              <a:path w="66" h="53">
                <a:moveTo>
                  <a:pt x="40" y="0"/>
                </a:moveTo>
                <a:lnTo>
                  <a:pt x="66" y="0"/>
                </a:lnTo>
                <a:lnTo>
                  <a:pt x="40" y="53"/>
                </a:lnTo>
                <a:lnTo>
                  <a:pt x="0" y="0"/>
                </a:lnTo>
                <a:lnTo>
                  <a:pt x="40" y="0"/>
                </a:lnTo>
                <a:close/>
              </a:path>
            </a:pathLst>
          </a:custGeom>
          <a:solidFill>
            <a:srgbClr val="000000"/>
          </a:solidFill>
          <a:ln w="20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056360" y="3301920"/>
            <a:ext cx="104760" cy="250920"/>
          </a:xfrm>
          <a:custGeom>
            <a:avLst/>
            <a:gdLst/>
            <a:ahLst/>
            <a:rect l="l" t="t" r="r" b="b"/>
            <a:pathLst>
              <a:path w="66" h="158">
                <a:moveTo>
                  <a:pt x="66" y="0"/>
                </a:moveTo>
                <a:lnTo>
                  <a:pt x="66" y="119"/>
                </a:lnTo>
                <a:lnTo>
                  <a:pt x="0" y="119"/>
                </a:lnTo>
                <a:lnTo>
                  <a:pt x="0" y="158"/>
                </a:lnTo>
              </a:path>
            </a:pathLst>
          </a:custGeom>
          <a:noFill/>
          <a:ln w="20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373200" y="3165480"/>
            <a:ext cx="1031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 Helvetica Condensed"/>
              </a:rPr>
              <a:t>version i+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425920" y="4264200"/>
            <a:ext cx="84240" cy="63360"/>
          </a:xfrm>
          <a:custGeom>
            <a:avLst/>
            <a:gdLst/>
            <a:ahLst/>
            <a:rect l="l" t="t" r="r" b="b"/>
            <a:pathLst>
              <a:path w="53" h="40">
                <a:moveTo>
                  <a:pt x="26" y="0"/>
                </a:moveTo>
                <a:lnTo>
                  <a:pt x="53" y="0"/>
                </a:lnTo>
                <a:lnTo>
                  <a:pt x="26" y="40"/>
                </a:lnTo>
                <a:lnTo>
                  <a:pt x="0" y="0"/>
                </a:lnTo>
                <a:lnTo>
                  <a:pt x="26" y="0"/>
                </a:lnTo>
                <a:close/>
              </a:path>
            </a:pathLst>
          </a:custGeom>
          <a:solidFill>
            <a:srgbClr val="000000"/>
          </a:solidFill>
          <a:ln w="20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467320" y="2801880"/>
            <a:ext cx="1440" cy="144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016840" y="4786200"/>
            <a:ext cx="104760" cy="63720"/>
          </a:xfrm>
          <a:custGeom>
            <a:avLst/>
            <a:gdLst/>
            <a:ahLst/>
            <a:rect l="l" t="t" r="r" b="b"/>
            <a:pathLst>
              <a:path w="66" h="40">
                <a:moveTo>
                  <a:pt x="40" y="0"/>
                </a:moveTo>
                <a:lnTo>
                  <a:pt x="66" y="0"/>
                </a:lnTo>
                <a:lnTo>
                  <a:pt x="40" y="40"/>
                </a:lnTo>
                <a:lnTo>
                  <a:pt x="0" y="0"/>
                </a:lnTo>
                <a:lnTo>
                  <a:pt x="40" y="0"/>
                </a:lnTo>
                <a:close/>
              </a:path>
            </a:pathLst>
          </a:custGeom>
          <a:solidFill>
            <a:srgbClr val="000000"/>
          </a:solidFill>
          <a:ln w="20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161120" y="2822400"/>
            <a:ext cx="919080" cy="1943280"/>
          </a:xfrm>
          <a:custGeom>
            <a:avLst/>
            <a:gdLst/>
            <a:ahLst/>
            <a:rect l="l" t="t" r="r" b="b"/>
            <a:pathLst>
              <a:path w="579" h="1224">
                <a:moveTo>
                  <a:pt x="0" y="0"/>
                </a:moveTo>
                <a:lnTo>
                  <a:pt x="0" y="131"/>
                </a:lnTo>
                <a:lnTo>
                  <a:pt x="579" y="131"/>
                </a:lnTo>
                <a:lnTo>
                  <a:pt x="579" y="1224"/>
                </a:lnTo>
              </a:path>
            </a:pathLst>
          </a:custGeom>
          <a:noFill/>
          <a:ln w="20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429240" y="3637080"/>
            <a:ext cx="312840" cy="25056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429240" y="3637080"/>
            <a:ext cx="333360" cy="271440"/>
          </a:xfrm>
          <a:prstGeom prst="rect">
            <a:avLst/>
          </a:prstGeom>
          <a:noFill/>
          <a:ln w="20520">
            <a:solidFill>
              <a:srgbClr val="ffd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518520" y="368928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307280" y="3637080"/>
            <a:ext cx="333360" cy="25056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307280" y="3637080"/>
            <a:ext cx="353880" cy="271440"/>
          </a:xfrm>
          <a:prstGeom prst="rect">
            <a:avLst/>
          </a:prstGeom>
          <a:noFill/>
          <a:ln w="20520">
            <a:solidFill>
              <a:srgbClr val="ffd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413840" y="368928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554880" y="3552840"/>
            <a:ext cx="82440" cy="84240"/>
          </a:xfrm>
          <a:custGeom>
            <a:avLst/>
            <a:gdLst/>
            <a:ahLst/>
            <a:rect l="l" t="t" r="r" b="b"/>
            <a:pathLst>
              <a:path w="52" h="53">
                <a:moveTo>
                  <a:pt x="26" y="0"/>
                </a:moveTo>
                <a:lnTo>
                  <a:pt x="52" y="0"/>
                </a:lnTo>
                <a:lnTo>
                  <a:pt x="26" y="53"/>
                </a:lnTo>
                <a:lnTo>
                  <a:pt x="0" y="0"/>
                </a:lnTo>
                <a:lnTo>
                  <a:pt x="26" y="0"/>
                </a:lnTo>
                <a:close/>
              </a:path>
            </a:pathLst>
          </a:custGeom>
          <a:solidFill>
            <a:srgbClr val="000000"/>
          </a:solidFill>
          <a:ln w="20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595920" y="3301920"/>
            <a:ext cx="376560" cy="250920"/>
          </a:xfrm>
          <a:custGeom>
            <a:avLst/>
            <a:gdLst/>
            <a:ahLst/>
            <a:rect l="l" t="t" r="r" b="b"/>
            <a:pathLst>
              <a:path w="237" h="158">
                <a:moveTo>
                  <a:pt x="237" y="0"/>
                </a:moveTo>
                <a:lnTo>
                  <a:pt x="237" y="119"/>
                </a:lnTo>
                <a:lnTo>
                  <a:pt x="0" y="119"/>
                </a:lnTo>
                <a:lnTo>
                  <a:pt x="0" y="158"/>
                </a:lnTo>
              </a:path>
            </a:pathLst>
          </a:custGeom>
          <a:noFill/>
          <a:ln w="20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432560" y="3552840"/>
            <a:ext cx="82800" cy="84240"/>
          </a:xfrm>
          <a:custGeom>
            <a:avLst/>
            <a:gdLst/>
            <a:ahLst/>
            <a:rect l="l" t="t" r="r" b="b"/>
            <a:pathLst>
              <a:path w="52" h="53">
                <a:moveTo>
                  <a:pt x="26" y="0"/>
                </a:moveTo>
                <a:lnTo>
                  <a:pt x="52" y="0"/>
                </a:lnTo>
                <a:lnTo>
                  <a:pt x="26" y="53"/>
                </a:lnTo>
                <a:lnTo>
                  <a:pt x="0" y="0"/>
                </a:lnTo>
                <a:lnTo>
                  <a:pt x="26" y="0"/>
                </a:lnTo>
                <a:close/>
              </a:path>
            </a:pathLst>
          </a:custGeom>
          <a:solidFill>
            <a:srgbClr val="000000"/>
          </a:solidFill>
          <a:ln w="20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69200" y="3301920"/>
            <a:ext cx="104760" cy="250920"/>
          </a:xfrm>
          <a:custGeom>
            <a:avLst/>
            <a:gdLst/>
            <a:ahLst/>
            <a:rect l="l" t="t" r="r" b="b"/>
            <a:pathLst>
              <a:path w="66" h="158">
                <a:moveTo>
                  <a:pt x="0" y="0"/>
                </a:moveTo>
                <a:lnTo>
                  <a:pt x="0" y="119"/>
                </a:lnTo>
                <a:lnTo>
                  <a:pt x="66" y="119"/>
                </a:lnTo>
                <a:lnTo>
                  <a:pt x="66" y="158"/>
                </a:lnTo>
              </a:path>
            </a:pathLst>
          </a:custGeom>
          <a:noFill/>
          <a:ln w="20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425920" y="5789520"/>
            <a:ext cx="84240" cy="84240"/>
          </a:xfrm>
          <a:custGeom>
            <a:avLst/>
            <a:gdLst/>
            <a:ahLst/>
            <a:rect l="l" t="t" r="r" b="b"/>
            <a:pathLst>
              <a:path w="53" h="53">
                <a:moveTo>
                  <a:pt x="26" y="0"/>
                </a:moveTo>
                <a:lnTo>
                  <a:pt x="53" y="0"/>
                </a:lnTo>
                <a:lnTo>
                  <a:pt x="26" y="53"/>
                </a:lnTo>
                <a:lnTo>
                  <a:pt x="0" y="0"/>
                </a:lnTo>
                <a:lnTo>
                  <a:pt x="26" y="0"/>
                </a:lnTo>
                <a:close/>
              </a:path>
            </a:pathLst>
          </a:custGeom>
          <a:solidFill>
            <a:srgbClr val="000000"/>
          </a:solidFill>
          <a:ln w="20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467320" y="4494240"/>
            <a:ext cx="1440" cy="129528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855880" y="1944720"/>
            <a:ext cx="1838520" cy="23004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986120" y="1974960"/>
            <a:ext cx="822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ertificat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25920" y="2550960"/>
            <a:ext cx="84240" cy="82800"/>
          </a:xfrm>
          <a:custGeom>
            <a:avLst/>
            <a:gdLst/>
            <a:ahLst/>
            <a:rect l="l" t="t" r="r" b="b"/>
            <a:pathLst>
              <a:path w="53" h="52">
                <a:moveTo>
                  <a:pt x="26" y="0"/>
                </a:moveTo>
                <a:lnTo>
                  <a:pt x="53" y="0"/>
                </a:lnTo>
                <a:lnTo>
                  <a:pt x="26" y="52"/>
                </a:lnTo>
                <a:lnTo>
                  <a:pt x="0" y="0"/>
                </a:lnTo>
                <a:lnTo>
                  <a:pt x="26" y="0"/>
                </a:lnTo>
                <a:close/>
              </a:path>
            </a:pathLst>
          </a:custGeom>
          <a:solidFill>
            <a:srgbClr val="000000"/>
          </a:solidFill>
          <a:ln w="20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506840" y="2049480"/>
            <a:ext cx="960480" cy="501480"/>
          </a:xfrm>
          <a:custGeom>
            <a:avLst/>
            <a:gdLst/>
            <a:ahLst/>
            <a:rect l="l" t="t" r="r" b="b"/>
            <a:pathLst>
              <a:path w="605" h="316">
                <a:moveTo>
                  <a:pt x="0" y="0"/>
                </a:moveTo>
                <a:lnTo>
                  <a:pt x="0" y="39"/>
                </a:lnTo>
                <a:lnTo>
                  <a:pt x="605" y="39"/>
                </a:lnTo>
                <a:lnTo>
                  <a:pt x="605" y="316"/>
                </a:lnTo>
              </a:path>
            </a:pathLst>
          </a:custGeom>
          <a:noFill/>
          <a:ln w="20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862880" y="1890720"/>
            <a:ext cx="1466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VGUID of curr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593320" y="2143080"/>
            <a:ext cx="619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vers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610880" y="3249720"/>
            <a:ext cx="816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VGUID of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731120" y="3438360"/>
            <a:ext cx="715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version 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267200" y="1384200"/>
            <a:ext cx="602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GUI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897280" y="1839960"/>
            <a:ext cx="104760" cy="61920"/>
          </a:xfrm>
          <a:custGeom>
            <a:avLst/>
            <a:gdLst/>
            <a:ahLst/>
            <a:rect l="l" t="t" r="r" b="b"/>
            <a:pathLst>
              <a:path w="66" h="39">
                <a:moveTo>
                  <a:pt x="40" y="0"/>
                </a:moveTo>
                <a:lnTo>
                  <a:pt x="66" y="0"/>
                </a:lnTo>
                <a:lnTo>
                  <a:pt x="40" y="39"/>
                </a:lnTo>
                <a:lnTo>
                  <a:pt x="0" y="0"/>
                </a:lnTo>
                <a:lnTo>
                  <a:pt x="40" y="0"/>
                </a:lnTo>
                <a:close/>
              </a:path>
            </a:pathLst>
          </a:custGeom>
          <a:solidFill>
            <a:srgbClr val="000000"/>
          </a:solidFill>
          <a:ln w="20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936800" y="1442880"/>
            <a:ext cx="1023840" cy="376560"/>
          </a:xfrm>
          <a:custGeom>
            <a:avLst/>
            <a:gdLst/>
            <a:ahLst/>
            <a:rect l="l" t="t" r="r" b="b"/>
            <a:pathLst>
              <a:path w="645" h="237">
                <a:moveTo>
                  <a:pt x="0" y="0"/>
                </a:moveTo>
                <a:lnTo>
                  <a:pt x="645" y="0"/>
                </a:lnTo>
                <a:lnTo>
                  <a:pt x="645" y="237"/>
                </a:lnTo>
              </a:path>
            </a:pathLst>
          </a:custGeom>
          <a:noFill/>
          <a:ln w="20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126400" y="5946840"/>
            <a:ext cx="1755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VGUID of version i-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342040" y="2676600"/>
            <a:ext cx="2341440" cy="22860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92240" y="5381640"/>
            <a:ext cx="832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ata block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rot="16200000">
            <a:off x="7298280" y="3666960"/>
            <a:ext cx="1913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BGUID (copy on write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384120" y="5259240"/>
            <a:ext cx="361152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515880" y="1719360"/>
            <a:ext cx="9023400" cy="57600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10.12: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ypes of identifier used in OceanStore 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04080" y="1747800"/>
            <a:ext cx="6238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180160" y="1747800"/>
            <a:ext cx="953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Meaning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04240" y="1747800"/>
            <a:ext cx="12639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Descripti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144880" y="1735200"/>
            <a:ext cx="2520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368960" y="1735200"/>
            <a:ext cx="2700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05160" y="2341440"/>
            <a:ext cx="843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BGUID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181600" y="2341440"/>
            <a:ext cx="13280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block GUID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401000" y="2341440"/>
            <a:ext cx="29376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Secure hash of a data block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05520" y="2911320"/>
            <a:ext cx="8571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VGUID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181600" y="2911320"/>
            <a:ext cx="1520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version GUID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400640" y="2911320"/>
            <a:ext cx="40194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BGUID of the root block of a versi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05520" y="3479760"/>
            <a:ext cx="8571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AGUID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181600" y="3479760"/>
            <a:ext cx="13723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active GUID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387680" y="3479760"/>
            <a:ext cx="50817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Uniquely identifies all the versions of an objec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144880" y="4064040"/>
            <a:ext cx="2520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368960" y="4064040"/>
            <a:ext cx="2700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512640" y="1709640"/>
            <a:ext cx="9029520" cy="2330640"/>
            <a:chOff x="512640" y="1709640"/>
            <a:chExt cx="9029520" cy="2330640"/>
          </a:xfrm>
        </p:grpSpPr>
        <p:sp>
          <p:nvSpPr>
            <p:cNvPr id="211" name=""/>
            <p:cNvSpPr/>
            <p:nvPr/>
          </p:nvSpPr>
          <p:spPr>
            <a:xfrm>
              <a:off x="512640" y="1709640"/>
              <a:ext cx="902952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12640" y="2305080"/>
              <a:ext cx="90295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12640" y="4038480"/>
              <a:ext cx="902952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265400" y="2009880"/>
            <a:ext cx="7421400" cy="80784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39200" y="18540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10.13: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Performance evaluation of the Pond prototype emulating NF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144880" y="1735200"/>
            <a:ext cx="2520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368960" y="1735200"/>
            <a:ext cx="2700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144880" y="4064040"/>
            <a:ext cx="2520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368960" y="4064040"/>
            <a:ext cx="2700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486160" y="2000160"/>
            <a:ext cx="3985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Times New Roman"/>
              </a:rPr>
              <a:t>LA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729680" y="2000160"/>
            <a:ext cx="4579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Times New Roman"/>
              </a:rPr>
              <a:t>WA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991560" y="2000160"/>
            <a:ext cx="11300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Times New Roman"/>
              </a:rPr>
              <a:t>Predominan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993000" y="2228760"/>
            <a:ext cx="11466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Times New Roman"/>
              </a:rPr>
              <a:t>operations i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977160" y="2476440"/>
            <a:ext cx="9622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Times New Roman"/>
              </a:rPr>
              <a:t>benchmark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457360" y="1557360"/>
            <a:ext cx="2088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699080" y="1557360"/>
            <a:ext cx="2052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962760" y="1557360"/>
            <a:ext cx="2052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468800" y="2479680"/>
            <a:ext cx="5295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Times New Roman"/>
              </a:rPr>
              <a:t>Phas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486160" y="2479680"/>
            <a:ext cx="9334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Times New Roman"/>
              </a:rPr>
              <a:t>Linux NF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07200" y="2479680"/>
            <a:ext cx="4579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Times New Roman"/>
              </a:rPr>
              <a:t>Pond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729320" y="2479680"/>
            <a:ext cx="9334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Times New Roman"/>
              </a:rPr>
              <a:t>Linux NF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850360" y="2479680"/>
            <a:ext cx="4579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Times New Roman"/>
              </a:rPr>
              <a:t>Pond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469520" y="2936880"/>
            <a:ext cx="109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486520" y="2936880"/>
            <a:ext cx="2721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607200" y="2936880"/>
            <a:ext cx="2721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1.9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729680" y="2936880"/>
            <a:ext cx="2721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0.9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850360" y="2936880"/>
            <a:ext cx="2721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2.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990480" y="2936880"/>
            <a:ext cx="13114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Read and writ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469520" y="3394080"/>
            <a:ext cx="109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486520" y="3394080"/>
            <a:ext cx="2721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607200" y="3394080"/>
            <a:ext cx="3801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11.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729680" y="3394080"/>
            <a:ext cx="2721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9.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850360" y="3394080"/>
            <a:ext cx="3801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16.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990480" y="3394080"/>
            <a:ext cx="13114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Read and writ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469520" y="3851280"/>
            <a:ext cx="109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486520" y="3851280"/>
            <a:ext cx="2721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1.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607200" y="3851280"/>
            <a:ext cx="2721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1.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729680" y="3851280"/>
            <a:ext cx="2721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8.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850360" y="3851280"/>
            <a:ext cx="2721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1.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991560" y="3851280"/>
            <a:ext cx="445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469520" y="4307040"/>
            <a:ext cx="109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486520" y="4307040"/>
            <a:ext cx="2721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607200" y="4307040"/>
            <a:ext cx="2721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1.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729680" y="4307040"/>
            <a:ext cx="2721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6.9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850360" y="4307040"/>
            <a:ext cx="2721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1.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991560" y="4307040"/>
            <a:ext cx="445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469520" y="4764240"/>
            <a:ext cx="109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486520" y="4764240"/>
            <a:ext cx="2721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2.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607200" y="4764240"/>
            <a:ext cx="3801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21.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729680" y="4764240"/>
            <a:ext cx="3801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21.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850360" y="4764240"/>
            <a:ext cx="3801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32.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990480" y="4764240"/>
            <a:ext cx="13114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Read and writ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469520" y="5221440"/>
            <a:ext cx="4564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486520" y="5221440"/>
            <a:ext cx="2721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4.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607200" y="5221440"/>
            <a:ext cx="3801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37.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729680" y="5221440"/>
            <a:ext cx="3801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47.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850360" y="5221440"/>
            <a:ext cx="3801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54.9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457360" y="5689440"/>
            <a:ext cx="2088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578400" y="5689440"/>
            <a:ext cx="2052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699080" y="5689440"/>
            <a:ext cx="2052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821200" y="5689440"/>
            <a:ext cx="2088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962760" y="5689440"/>
            <a:ext cx="2052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1239840" y="1984320"/>
            <a:ext cx="7444080" cy="3700080"/>
            <a:chOff x="1239840" y="1984320"/>
            <a:chExt cx="7444080" cy="3700080"/>
          </a:xfrm>
        </p:grpSpPr>
        <p:sp>
          <p:nvSpPr>
            <p:cNvPr id="274" name=""/>
            <p:cNvSpPr/>
            <p:nvPr/>
          </p:nvSpPr>
          <p:spPr>
            <a:xfrm>
              <a:off x="1239840" y="1984320"/>
              <a:ext cx="74440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239840" y="5682960"/>
              <a:ext cx="74440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39200" y="18540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10.14: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Ivy system architecture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144880" y="1735200"/>
            <a:ext cx="2520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368960" y="1735200"/>
            <a:ext cx="2700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144880" y="4064040"/>
            <a:ext cx="2520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368960" y="4064040"/>
            <a:ext cx="2700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457360" y="1557360"/>
            <a:ext cx="2088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699080" y="1557360"/>
            <a:ext cx="2052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962760" y="1557360"/>
            <a:ext cx="2052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457360" y="5689440"/>
            <a:ext cx="2088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578400" y="5689440"/>
            <a:ext cx="2052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699080" y="5689440"/>
            <a:ext cx="2052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821200" y="5689440"/>
            <a:ext cx="2088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962760" y="5689440"/>
            <a:ext cx="2052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790560" y="1217520"/>
            <a:ext cx="8015400" cy="484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585720" y="1481040"/>
            <a:ext cx="8582040" cy="2127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10.1: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Distinctions between IP and overlay routing for peer-to-peer application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590400" y="1457280"/>
          <a:ext cx="9085320" cy="7045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0400" y="1457280"/>
                    <a:ext cx="9085320" cy="704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"/>
          <p:cNvSpPr/>
          <p:nvPr/>
        </p:nvSpPr>
        <p:spPr>
          <a:xfrm>
            <a:off x="585720" y="5975280"/>
            <a:ext cx="8564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10.2: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Napster: peer-to-peer file sharing with a centralized, 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replicated index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700200" y="1592280"/>
            <a:ext cx="8665920" cy="45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10.3: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Distribution of information in a routing overlay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934920" y="1481040"/>
            <a:ext cx="8131320" cy="48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10.4: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Basic programming interface for a distributed hash table (DHT) as implemented by the PAST API over Pastry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84360" y="1789200"/>
            <a:ext cx="87818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ut(GUID, data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at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stored in replicas at all nodes responsible for the object identifi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U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emove(GUI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etes all reference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U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the associated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alue = get(GUI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ata associated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U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retrieved from one of the nodes responsible i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10.5: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Basic programming interface for distributed object location and routing (DOLR) as implemented by Tapestry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73040" y="1595520"/>
            <a:ext cx="91058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ublish(GUI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U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n be computed from the object (or some part of it, e.g. its name). This function makes the node performing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ubl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peration the host for the object corresponding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U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npublish(GUI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s the object corresponding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U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accessi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ndToObj(msg, GUID, [n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llowing the object-oriented paradigm, an invocation message is sent to an object in order to access it. This might be a request to open a TCP connection for data transfer or to return a message containing all or part of the object’s state. The final optional paramete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[n]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f present, requests the delivery of the same message to n replicas of the obje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10.6: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Circular routing alone is correct but inefficient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	</a:t>
            </a:r>
            <a:br>
              <a:rPr sz="20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sed on Rowstron and Druschel [2001]</a:t>
            </a:r>
            <a:endParaRPr b="0" lang="en-US" sz="1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994360" y="1422360"/>
            <a:ext cx="35560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ots depict live nodes. The space is considered as circular: node 0 is adjacent to node (2128-1). The diagram illustrates the routing of a message from node 65A1FC to D46A1C using leaf set information alone, assuming leaf sets of size 8 (l = 4). This is a degenerate type of routing that would scale very poorly; it is not used in practic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770040" y="1432080"/>
            <a:ext cx="4989240" cy="50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10.7: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rst four rows of a Pastry routing table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878040" y="1324080"/>
            <a:ext cx="801504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39560" y="228240"/>
            <a:ext cx="901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10.8: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Pastry routing exampl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d on Rowstron and Druschel [2001]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855720" y="1809720"/>
            <a:ext cx="4479840" cy="41799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460760" y="1327320"/>
            <a:ext cx="5445360" cy="83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8T21:59:47Z</dcterms:created>
  <dc:creator>George Coulouris</dc:creator>
  <dc:description/>
  <dc:language>en-US</dc:language>
  <cp:lastModifiedBy>George Coulouris</cp:lastModifiedBy>
  <cp:lastPrinted>2000-11-12T21:05:10Z</cp:lastPrinted>
  <dcterms:modified xsi:type="dcterms:W3CDTF">2005-05-06T17:04:24Z</dcterms:modified>
  <cp:revision>52</cp:revision>
  <dc:subject/>
  <dc:title>Figure 15.1 A distributed multimedia system</dc:title>
</cp:coreProperties>
</file>