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ct" ContentType="image/x-pi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FE03-6AF9-4B78-A22E-D7E181C9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1524-3853-452D-B6C1-9EA547C2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79A5-7191-4FC2-91B1-9292413D1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299F-A482-4225-AEAF-3C9C7BDC4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8147-C36A-4EDB-9BFF-FDB82B5AE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8560-01E2-41AF-A450-1BC6CDCB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BA59-B276-42BA-8289-4FFD0A00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43A9-1E1E-41C1-9741-6746A3F8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E004-CF74-422D-B8DF-A97C9625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4EF8-075D-416D-8911-D426CA3A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053F-11B8-42C9-AEAD-0C003C89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4276-CF63-44F0-BD78-4A0447D0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A834-1524-48D6-BFE4-1C3F12BB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E5E6-E140-4A89-897B-088CB094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FF23-B9BC-4AB9-A12E-46D547CB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E504-24B9-4F07-9117-E10CFDE75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F557-3460-4E45-BD82-AE0995FE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80AE-55D4-4AFE-989D-11C0145C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4CF3-06DB-4F8D-8997-3658971D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BEAE-EDAE-462E-8A59-05275AFD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F895-74B5-4388-AE84-20E9EC20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C27E-9A5E-44B8-B32F-9B3A730B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64E8-6599-4106-A4F7-AD648742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22B3-20B9-4F4D-B89E-6DAC30FE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400800"/>
            <a:ext cx="15955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45960" y="6400800"/>
            <a:ext cx="60260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. 4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Addison-Wesley Publishers 200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4800" y="6400800"/>
            <a:ext cx="1099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E971-8B80-474A-9CE0-6308E4FDE4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5360" y="114300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2F8E-2145-4A46-BDF1-FA63CE8CFD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360" y="259092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lides for Chapter 16: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Mobile and Ubiquitous Computing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1320" y="2895480"/>
            <a:ext cx="69339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24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24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8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Edition 4, © Addison-Wesley 2005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19200" y="3024360"/>
            <a:ext cx="1869840" cy="23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6.9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ocating an active bat within a room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835360" y="2276640"/>
            <a:ext cx="3627360" cy="18018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06880" y="3144960"/>
            <a:ext cx="109800" cy="8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06880" y="3144960"/>
            <a:ext cx="130320" cy="108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97600" y="2589120"/>
            <a:ext cx="225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3. Ultrasound receive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83400" y="3267000"/>
            <a:ext cx="1374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2. Active b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306120" y="1763640"/>
            <a:ext cx="339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1. Base station sends timing signal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137280" y="2256120"/>
            <a:ext cx="215640" cy="21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50183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50183"/>
              </a:path>
            </a:pathLst>
          </a:custGeom>
          <a:noFill/>
          <a:ln w="22320">
            <a:solidFill>
              <a:srgbClr val="cf92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72120" y="2278440"/>
            <a:ext cx="260280" cy="278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38843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38843"/>
              </a:path>
            </a:pathLst>
          </a:custGeom>
          <a:noFill/>
          <a:ln w="22320">
            <a:solidFill>
              <a:srgbClr val="cf92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985000" y="2321280"/>
            <a:ext cx="304200" cy="300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85" y="21599"/>
                </a:moveTo>
                <a:arcTo wR="10800" hR="10800" stAng="5436571" swAng="5399238"/>
                <a:lnTo>
                  <a:pt x="10800" y="10800"/>
                </a:lnTo>
                <a:close/>
              </a:path>
              <a:path fill="none" w="21600" h="21600">
                <a:moveTo>
                  <a:pt x="10685" y="21599"/>
                </a:moveTo>
                <a:arcTo wR="10800" hR="10800" stAng="5436571" swAng="5399238"/>
              </a:path>
            </a:pathLst>
          </a:custGeom>
          <a:noFill/>
          <a:ln w="22320">
            <a:solidFill>
              <a:srgbClr val="cf92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30520" y="2101680"/>
            <a:ext cx="273708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287760" y="1960560"/>
            <a:ext cx="344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to ultrasound receivers and rad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337080" y="2155680"/>
            <a:ext cx="294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signal to bat simultaneous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08200" y="2101680"/>
            <a:ext cx="1800" cy="217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573440" y="2101680"/>
            <a:ext cx="1800" cy="152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659560" y="2101680"/>
            <a:ext cx="1440" cy="174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443480" y="2276640"/>
            <a:ext cx="237960" cy="10764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443480" y="2276640"/>
            <a:ext cx="260280" cy="129960"/>
          </a:xfrm>
          <a:prstGeom prst="rect">
            <a:avLst/>
          </a:prstGeom>
          <a:noFill/>
          <a:ln w="2232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400560" y="2276640"/>
            <a:ext cx="237960" cy="10764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400560" y="2276640"/>
            <a:ext cx="260280" cy="129960"/>
          </a:xfrm>
          <a:prstGeom prst="rect">
            <a:avLst/>
          </a:prstGeom>
          <a:noFill/>
          <a:ln w="2232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529240" y="2276640"/>
            <a:ext cx="260280" cy="10764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529240" y="2276640"/>
            <a:ext cx="281160" cy="129960"/>
          </a:xfrm>
          <a:prstGeom prst="rect">
            <a:avLst/>
          </a:prstGeom>
          <a:noFill/>
          <a:ln w="2232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245280" y="2101680"/>
            <a:ext cx="195120" cy="15264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245280" y="2101680"/>
            <a:ext cx="217440" cy="174960"/>
          </a:xfrm>
          <a:prstGeom prst="rect">
            <a:avLst/>
          </a:prstGeom>
          <a:noFill/>
          <a:ln w="2232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38240" y="3462480"/>
            <a:ext cx="266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emits ultrasound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75320" y="3705120"/>
            <a:ext cx="280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on receipt of radio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10840" y="2855880"/>
            <a:ext cx="243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report times of flight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4600" y="3146400"/>
            <a:ext cx="1877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ultrasound pul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2597040" y="2406600"/>
            <a:ext cx="695520" cy="303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21200" y="3035160"/>
            <a:ext cx="215640" cy="21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42"/>
                </a:moveTo>
                <a:arcTo wR="10800" hR="10800" stAng="-10749817" swAng="5349817"/>
                <a:lnTo>
                  <a:pt x="10800" y="10800"/>
                </a:lnTo>
                <a:close/>
              </a:path>
              <a:path fill="none" w="21600" h="21600">
                <a:moveTo>
                  <a:pt x="1" y="10642"/>
                </a:moveTo>
                <a:arcTo wR="10800" hR="10800" stAng="-10749817" swAng="5349817"/>
              </a:path>
            </a:pathLst>
          </a:custGeom>
          <a:noFill/>
          <a:ln w="22320">
            <a:solidFill>
              <a:srgbClr val="ba6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834080" y="2949480"/>
            <a:ext cx="259560" cy="28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78"/>
                </a:moveTo>
                <a:arcTo wR="10800" hR="10800" stAng="-10761157" swAng="5361157"/>
                <a:lnTo>
                  <a:pt x="10800" y="10800"/>
                </a:lnTo>
                <a:close/>
              </a:path>
              <a:path fill="none" w="21600" h="21600">
                <a:moveTo>
                  <a:pt x="1" y="10678"/>
                </a:moveTo>
                <a:arcTo wR="10800" hR="10800" stAng="-10761157" swAng="5361157"/>
              </a:path>
            </a:pathLst>
          </a:custGeom>
          <a:noFill/>
          <a:ln w="22320">
            <a:solidFill>
              <a:srgbClr val="ba6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746600" y="2884320"/>
            <a:ext cx="30420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87"/>
                </a:moveTo>
                <a:arcTo wR="10800" hR="10800" stAng="-10764004" swAng="5364004"/>
                <a:lnTo>
                  <a:pt x="10800" y="10800"/>
                </a:lnTo>
                <a:close/>
              </a:path>
              <a:path fill="none" w="21600" h="21600">
                <a:moveTo>
                  <a:pt x="1" y="10687"/>
                </a:moveTo>
                <a:arcTo wR="10800" hR="10800" stAng="-10764004" swAng="5364004"/>
              </a:path>
            </a:pathLst>
          </a:custGeom>
          <a:noFill/>
          <a:ln w="22320">
            <a:solidFill>
              <a:srgbClr val="ba6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008680" y="3035160"/>
            <a:ext cx="215280" cy="21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3" y="1"/>
                </a:moveTo>
                <a:arcTo wR="10800" hR="10800" stAng="-5449819" swAng="5398513"/>
                <a:lnTo>
                  <a:pt x="10800" y="10800"/>
                </a:lnTo>
                <a:close/>
              </a:path>
              <a:path fill="none" w="21600" h="21600">
                <a:moveTo>
                  <a:pt x="10643" y="1"/>
                </a:moveTo>
                <a:arcTo wR="10800" hR="10800" stAng="-5449819" swAng="5398513"/>
              </a:path>
            </a:pathLst>
          </a:custGeom>
          <a:noFill/>
          <a:ln w="22320">
            <a:solidFill>
              <a:srgbClr val="ba6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051160" y="2949480"/>
            <a:ext cx="260280" cy="28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6115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61157"/>
              </a:path>
            </a:pathLst>
          </a:custGeom>
          <a:noFill/>
          <a:ln w="22320">
            <a:solidFill>
              <a:srgbClr val="ba6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94360" y="2884320"/>
            <a:ext cx="30420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6400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64004"/>
              </a:path>
            </a:pathLst>
          </a:custGeom>
          <a:noFill/>
          <a:ln w="22320">
            <a:solidFill>
              <a:srgbClr val="ba6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303240" y="2806560"/>
            <a:ext cx="344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4. Base station computes distanc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29520" y="3002040"/>
            <a:ext cx="299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to ultrasound receivers fr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307560" y="3197160"/>
            <a:ext cx="335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times of flight, and thus posi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504120" y="3392640"/>
            <a:ext cx="825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of ba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85040" y="2254320"/>
            <a:ext cx="237960" cy="542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6.10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ecure device association using physical contact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222640" y="2409840"/>
            <a:ext cx="257040" cy="25704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265480" y="2495520"/>
            <a:ext cx="42840" cy="2052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371680" y="2495520"/>
            <a:ext cx="42840" cy="2052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308320" y="2581200"/>
            <a:ext cx="6336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222640" y="2859120"/>
            <a:ext cx="257040" cy="25704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0" y="2944800"/>
            <a:ext cx="22320" cy="2052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71680" y="2944800"/>
            <a:ext cx="42840" cy="4284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308320" y="3051000"/>
            <a:ext cx="6336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800440" y="2687760"/>
            <a:ext cx="63360" cy="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800440" y="2687760"/>
            <a:ext cx="85680" cy="6480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800440" y="2838600"/>
            <a:ext cx="63360" cy="6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800440" y="2838600"/>
            <a:ext cx="85680" cy="856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6483240" y="2581200"/>
            <a:ext cx="385920" cy="363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334200" y="2238480"/>
            <a:ext cx="406440" cy="1062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51160" y="3382920"/>
            <a:ext cx="181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1. Fresh secret ke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50000" y="338292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 Helvetica Condensed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25080" y="3382920"/>
            <a:ext cx="2958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exchanged by physical cont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899600" y="3382920"/>
            <a:ext cx="4426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2. Devices communicate using secure chann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591240" y="2195640"/>
            <a:ext cx="1220760" cy="534960"/>
          </a:xfrm>
          <a:prstGeom prst="ellipse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714760" y="2430360"/>
            <a:ext cx="234720" cy="23652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14760" y="2430360"/>
            <a:ext cx="257040" cy="257400"/>
          </a:xfrm>
          <a:prstGeom prst="rect">
            <a:avLst/>
          </a:prstGeom>
          <a:noFill/>
          <a:ln w="2052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714760" y="2901960"/>
            <a:ext cx="234720" cy="25704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14760" y="2901960"/>
            <a:ext cx="257040" cy="277920"/>
          </a:xfrm>
          <a:prstGeom prst="rect">
            <a:avLst/>
          </a:prstGeom>
          <a:noFill/>
          <a:ln w="2052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183360" y="2281320"/>
            <a:ext cx="42840" cy="6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183360" y="2281320"/>
            <a:ext cx="65160" cy="856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440400" y="2795760"/>
            <a:ext cx="42840" cy="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440400" y="2795760"/>
            <a:ext cx="65160" cy="6336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097680" y="2044800"/>
            <a:ext cx="236520" cy="23652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97680" y="2044800"/>
            <a:ext cx="257040" cy="257040"/>
          </a:xfrm>
          <a:prstGeom prst="rect">
            <a:avLst/>
          </a:prstGeom>
          <a:noFill/>
          <a:ln w="2052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334200" y="2859120"/>
            <a:ext cx="234720" cy="2350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334200" y="2859120"/>
            <a:ext cx="257040" cy="257040"/>
          </a:xfrm>
          <a:prstGeom prst="rect">
            <a:avLst/>
          </a:prstGeom>
          <a:noFill/>
          <a:ln w="2052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129080" y="2354400"/>
            <a:ext cx="189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099040" y="3575160"/>
            <a:ext cx="1878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constructed ov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851520" y="357516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 Helvetica Condensed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014600" y="3575160"/>
            <a:ext cx="63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us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596720" y="357516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 Helvetica Condensed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670720" y="1981080"/>
            <a:ext cx="255240" cy="25740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734080" y="2066760"/>
            <a:ext cx="22320" cy="2088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1680" bIns="-31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840280" y="2066760"/>
            <a:ext cx="22320" cy="2088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1680" bIns="-31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776920" y="2152800"/>
            <a:ext cx="633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991120" y="2924280"/>
            <a:ext cx="257400" cy="25560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033960" y="2987640"/>
            <a:ext cx="42840" cy="4284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140520" y="3008160"/>
            <a:ext cx="42840" cy="2232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076800" y="3094200"/>
            <a:ext cx="637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301920" y="2654280"/>
            <a:ext cx="12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843280" y="2687760"/>
            <a:ext cx="1440" cy="193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2906640" y="2752560"/>
            <a:ext cx="343080" cy="208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629080" y="2602080"/>
            <a:ext cx="1440" cy="107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565360" y="2602080"/>
            <a:ext cx="106560" cy="107640"/>
          </a:xfrm>
          <a:custGeom>
            <a:avLst/>
            <a:gdLst/>
            <a:ahLst/>
            <a:rect l="l" t="t" r="r" b="b"/>
            <a:pathLst>
              <a:path w="67" h="68">
                <a:moveTo>
                  <a:pt x="67" y="0"/>
                </a:moveTo>
                <a:lnTo>
                  <a:pt x="40" y="68"/>
                </a:lnTo>
                <a:lnTo>
                  <a:pt x="0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629080" y="2538360"/>
            <a:ext cx="1440" cy="637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2629080" y="2881080"/>
            <a:ext cx="1440" cy="1062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565360" y="2881440"/>
            <a:ext cx="106560" cy="83880"/>
          </a:xfrm>
          <a:custGeom>
            <a:avLst/>
            <a:gdLst/>
            <a:ahLst/>
            <a:rect l="l" t="t" r="r" b="b"/>
            <a:pathLst>
              <a:path w="67" h="53">
                <a:moveTo>
                  <a:pt x="0" y="53"/>
                </a:moveTo>
                <a:lnTo>
                  <a:pt x="40" y="0"/>
                </a:lnTo>
                <a:lnTo>
                  <a:pt x="67" y="53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2629080" y="2987640"/>
            <a:ext cx="1440" cy="633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6.11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etecting a man-in-the-middle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725560" y="2692440"/>
            <a:ext cx="435240" cy="331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519280" y="2443320"/>
            <a:ext cx="22716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519280" y="2443320"/>
            <a:ext cx="247680" cy="26964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2725560" y="2152440"/>
            <a:ext cx="457200" cy="290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790000" y="2930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 Helvetica Condensed"/>
              </a:rPr>
              <a:t>K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790000" y="21002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 Helvetica Condensed"/>
              </a:rPr>
              <a:t>K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712240" y="2473200"/>
            <a:ext cx="1658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Man-in-the-midd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82760" y="1800360"/>
            <a:ext cx="1513080" cy="4348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182760" y="1800360"/>
            <a:ext cx="1533600" cy="455400"/>
          </a:xfrm>
          <a:prstGeom prst="rect">
            <a:avLst/>
          </a:prstGeom>
          <a:noFill/>
          <a:ln w="2052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86080" y="1862280"/>
            <a:ext cx="128592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286080" y="1862280"/>
            <a:ext cx="1306440" cy="311040"/>
          </a:xfrm>
          <a:prstGeom prst="rect">
            <a:avLst/>
          </a:prstGeom>
          <a:noFill/>
          <a:ln w="2052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357720" y="1935000"/>
            <a:ext cx="1206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sh=0x6F9E..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82760" y="2940120"/>
            <a:ext cx="1513080" cy="43632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82760" y="2940120"/>
            <a:ext cx="1533600" cy="457200"/>
          </a:xfrm>
          <a:prstGeom prst="rect">
            <a:avLst/>
          </a:prstGeom>
          <a:noFill/>
          <a:ln w="2052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86080" y="3003480"/>
            <a:ext cx="128592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286080" y="3003480"/>
            <a:ext cx="1306440" cy="311400"/>
          </a:xfrm>
          <a:prstGeom prst="rect">
            <a:avLst/>
          </a:prstGeom>
          <a:noFill/>
          <a:ln w="2052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337200" y="3075120"/>
            <a:ext cx="124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sh=0xD57C..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862520" y="1903320"/>
            <a:ext cx="227160" cy="24948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03920" y="1987560"/>
            <a:ext cx="41040" cy="2052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006880" y="1987560"/>
            <a:ext cx="20880" cy="2052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944960" y="2070000"/>
            <a:ext cx="619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840200" y="3044880"/>
            <a:ext cx="249480" cy="24912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903920" y="3127320"/>
            <a:ext cx="20520" cy="2052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06880" y="3127320"/>
            <a:ext cx="20880" cy="2052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924440" y="3209760"/>
            <a:ext cx="8244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927680" y="2162160"/>
            <a:ext cx="4235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2. User(s) compare hashes of keys displayed 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889520" y="2347920"/>
            <a:ext cx="4550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devices </a:t>
            </a:r>
            <a:r>
              <a:rPr b="0" lang="en-US" sz="1500" spc="-1" strike="noStrike">
                <a:solidFill>
                  <a:srgbClr val="000000"/>
                </a:solidFill>
                <a:latin typeface="C Helvetica Condensed"/>
                <a:ea typeface="ヒラギノ角ゴ Pro W3"/>
              </a:rPr>
              <a:t>–</a:t>
            </a: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by sight or with an integrated imaging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926960" y="2535120"/>
            <a:ext cx="413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device. Since they differ, they conclude that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896720" y="2720880"/>
            <a:ext cx="440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there is a man-in-the-middle or that accidental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9600" y="2409840"/>
            <a:ext cx="19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1. Keys exchanged b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3000" y="2597040"/>
            <a:ext cx="1488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Diffie-Hellm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58440" y="2784600"/>
            <a:ext cx="954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protoco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1979640" y="2214360"/>
            <a:ext cx="745920" cy="2077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938240" y="2774880"/>
            <a:ext cx="787320" cy="165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046120" y="2908440"/>
            <a:ext cx="285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mis-association has occurred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707920" y="3405240"/>
            <a:ext cx="262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 Helvetica Condensed"/>
              </a:rPr>
              <a:t>Device displaying hash of ke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6.12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oltown layers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652320" y="1519200"/>
            <a:ext cx="8389800" cy="3396960"/>
            <a:chOff x="652320" y="1519200"/>
            <a:chExt cx="8389800" cy="3396960"/>
          </a:xfrm>
        </p:grpSpPr>
        <p:sp>
          <p:nvSpPr>
            <p:cNvPr id="553" name=""/>
            <p:cNvSpPr/>
            <p:nvPr/>
          </p:nvSpPr>
          <p:spPr>
            <a:xfrm>
              <a:off x="803880" y="1673640"/>
              <a:ext cx="8115840" cy="29624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03880" y="1673640"/>
              <a:ext cx="8145360" cy="2986920"/>
            </a:xfrm>
            <a:prstGeom prst="rect">
              <a:avLst/>
            </a:prstGeom>
            <a:noFill/>
            <a:ln w="223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31560" y="1519200"/>
              <a:ext cx="2160" cy="9190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42680" y="3564000"/>
              <a:ext cx="5662800" cy="180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864960" y="2578680"/>
              <a:ext cx="1546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 Helvetica Condensed"/>
                </a:rPr>
                <a:t>Web presenc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2320" y="2438280"/>
              <a:ext cx="8328960" cy="180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166920" y="3564000"/>
              <a:ext cx="1800" cy="135216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405840" y="3104280"/>
              <a:ext cx="1800" cy="173592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79480" y="3957840"/>
              <a:ext cx="1913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 Helvetica Condensed"/>
                </a:rPr>
                <a:t>Direct URL sensin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166920" y="4124880"/>
              <a:ext cx="3238560" cy="144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001760" y="3702240"/>
              <a:ext cx="1325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 Helvetica Condensed"/>
                </a:rPr>
                <a:t>ID resolu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152960" y="4213440"/>
              <a:ext cx="1075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 Helvetica Condensed"/>
                </a:rPr>
                <a:t>ID sensin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677640" y="3601440"/>
              <a:ext cx="169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 Helvetica Condensed"/>
                </a:rPr>
                <a:t>Network service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069320" y="3857040"/>
              <a:ext cx="1041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 Helvetica Condensed"/>
                </a:rPr>
                <a:t>Discovery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588560" y="1914840"/>
              <a:ext cx="3795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 Helvetica Condensed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C Helvetica Condensed"/>
                </a:rPr>
                <a:t>Context (aggregated web presences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581840" y="1914840"/>
              <a:ext cx="2349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 Helvetica Condensed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C Helvetica Condensed"/>
                </a:rPr>
                <a:t>eSquirt: URL exchang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13160" y="3077640"/>
              <a:ext cx="8328960" cy="144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255400" y="3191040"/>
              <a:ext cx="192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 Helvetica Condensed"/>
                </a:rPr>
                <a:t>Physical hyperlink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6.13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apturing and printing the web presence of a painting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096920" y="2236680"/>
            <a:ext cx="206280" cy="206640"/>
          </a:xfrm>
          <a:prstGeom prst="ellipse">
            <a:avLst/>
          </a:prstGeom>
          <a:solidFill>
            <a:srgbClr val="ffdc99"/>
          </a:solidFill>
          <a:ln w="255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147680" y="2289240"/>
            <a:ext cx="27000" cy="25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225440" y="2289240"/>
            <a:ext cx="25560" cy="25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174680" y="2365200"/>
            <a:ext cx="50760" cy="1800"/>
          </a:xfrm>
          <a:prstGeom prst="line">
            <a:avLst/>
          </a:prstGeom>
          <a:ln w="255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044720" y="1901880"/>
            <a:ext cx="618840" cy="876240"/>
          </a:xfrm>
          <a:prstGeom prst="rect">
            <a:avLst/>
          </a:prstGeom>
          <a:noFill/>
          <a:ln w="2556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096920" y="2443320"/>
            <a:ext cx="360360" cy="231480"/>
          </a:xfrm>
          <a:custGeom>
            <a:avLst/>
            <a:gdLst/>
            <a:ahLst/>
            <a:rect l="l" t="t" r="r" b="b"/>
            <a:pathLst>
              <a:path w="227" h="146">
                <a:moveTo>
                  <a:pt x="0" y="81"/>
                </a:moveTo>
                <a:lnTo>
                  <a:pt x="114" y="0"/>
                </a:lnTo>
                <a:lnTo>
                  <a:pt x="227" y="49"/>
                </a:lnTo>
                <a:lnTo>
                  <a:pt x="81" y="146"/>
                </a:lnTo>
                <a:lnTo>
                  <a:pt x="0" y="81"/>
                </a:lnTo>
                <a:close/>
              </a:path>
            </a:pathLst>
          </a:custGeom>
          <a:solidFill>
            <a:srgbClr val="ffdc99"/>
          </a:solidFill>
          <a:ln w="25560">
            <a:solidFill>
              <a:srgbClr val="ffd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432080" y="1952640"/>
            <a:ext cx="102960" cy="522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432080" y="2211480"/>
            <a:ext cx="102960" cy="507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432080" y="2004840"/>
            <a:ext cx="102960" cy="20664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096920" y="2004840"/>
            <a:ext cx="50760" cy="1033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328760" y="2004840"/>
            <a:ext cx="52200" cy="1033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147680" y="2004840"/>
            <a:ext cx="181080" cy="1033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720880" y="2185920"/>
            <a:ext cx="309600" cy="309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798640" y="2289240"/>
            <a:ext cx="25560" cy="25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901960" y="2289240"/>
            <a:ext cx="50760" cy="25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24200" y="2392200"/>
            <a:ext cx="77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463840" y="2906640"/>
            <a:ext cx="103320" cy="20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463840" y="2906640"/>
            <a:ext cx="128520" cy="233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766880" y="2571840"/>
            <a:ext cx="128520" cy="12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766880" y="2571840"/>
            <a:ext cx="155520" cy="155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42040" y="3875040"/>
            <a:ext cx="2722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A. User captures URL of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973160" y="2700360"/>
            <a:ext cx="103320" cy="155520"/>
          </a:xfrm>
          <a:custGeom>
            <a:avLst/>
            <a:gdLst/>
            <a:ahLst/>
            <a:rect l="l" t="t" r="r" b="b"/>
            <a:pathLst>
              <a:path w="65" h="98">
                <a:moveTo>
                  <a:pt x="65" y="0"/>
                </a:moveTo>
                <a:lnTo>
                  <a:pt x="49" y="65"/>
                </a:lnTo>
                <a:lnTo>
                  <a:pt x="0" y="98"/>
                </a:lnTo>
              </a:path>
            </a:pathLst>
          </a:custGeom>
          <a:noFill/>
          <a:ln w="25560">
            <a:solidFill>
              <a:srgbClr val="ba6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076480" y="2752560"/>
            <a:ext cx="103320" cy="181080"/>
          </a:xfrm>
          <a:custGeom>
            <a:avLst/>
            <a:gdLst/>
            <a:ahLst/>
            <a:rect l="l" t="t" r="r" b="b"/>
            <a:pathLst>
              <a:path w="65" h="114">
                <a:moveTo>
                  <a:pt x="65" y="0"/>
                </a:moveTo>
                <a:lnTo>
                  <a:pt x="65" y="65"/>
                </a:lnTo>
                <a:lnTo>
                  <a:pt x="0" y="114"/>
                </a:lnTo>
              </a:path>
            </a:pathLst>
          </a:custGeom>
          <a:noFill/>
          <a:ln w="25560">
            <a:solidFill>
              <a:srgbClr val="ba6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179800" y="2803680"/>
            <a:ext cx="128520" cy="206280"/>
          </a:xfrm>
          <a:custGeom>
            <a:avLst/>
            <a:gdLst/>
            <a:ahLst/>
            <a:rect l="l" t="t" r="r" b="b"/>
            <a:pathLst>
              <a:path w="81" h="130">
                <a:moveTo>
                  <a:pt x="81" y="0"/>
                </a:moveTo>
                <a:lnTo>
                  <a:pt x="65" y="82"/>
                </a:lnTo>
                <a:lnTo>
                  <a:pt x="0" y="130"/>
                </a:lnTo>
              </a:path>
            </a:pathLst>
          </a:custGeom>
          <a:noFill/>
          <a:ln w="25560">
            <a:solidFill>
              <a:srgbClr val="ba6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01640" y="3281400"/>
            <a:ext cx="3770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&lt;link title=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  <a:ea typeface="ヒラギノ角ゴ Pro W3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C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hop Suey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  <a:ea typeface="ヒラギノ角ゴ Pro W3"/>
              </a:rPr>
              <a:t>”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href= 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  <a:ea typeface="ヒラギノ角ゴ Pro W3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h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ttp..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  <a:ea typeface="ヒラギノ角ゴ Pro W3"/>
              </a:rPr>
              <a:t>”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023840" y="4106880"/>
            <a:ext cx="2622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painting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  <a:ea typeface="ヒラギノ角ゴ Pro W3"/>
              </a:rPr>
              <a:t>’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s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 web presen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737000" y="2249640"/>
            <a:ext cx="831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beac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4560" y="2495520"/>
            <a:ext cx="362160" cy="411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330960" y="2778120"/>
            <a:ext cx="103320" cy="1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30960" y="2778120"/>
            <a:ext cx="130320" cy="206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19840" y="2185920"/>
            <a:ext cx="282600" cy="309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70600" y="2289240"/>
            <a:ext cx="50760" cy="25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99120" y="2289240"/>
            <a:ext cx="25560" cy="25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021360" y="2392200"/>
            <a:ext cx="77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718320" y="2752560"/>
            <a:ext cx="52200" cy="206640"/>
          </a:xfrm>
          <a:custGeom>
            <a:avLst/>
            <a:gdLst/>
            <a:ahLst/>
            <a:rect l="l" t="t" r="r" b="b"/>
            <a:pathLst>
              <a:path w="33" h="130">
                <a:moveTo>
                  <a:pt x="0" y="0"/>
                </a:moveTo>
                <a:lnTo>
                  <a:pt x="33" y="65"/>
                </a:lnTo>
                <a:lnTo>
                  <a:pt x="0" y="130"/>
                </a:lnTo>
              </a:path>
            </a:pathLst>
          </a:custGeom>
          <a:noFill/>
          <a:ln w="25560">
            <a:solidFill>
              <a:srgbClr val="ba6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46840" y="2752560"/>
            <a:ext cx="52560" cy="206640"/>
          </a:xfrm>
          <a:custGeom>
            <a:avLst/>
            <a:gdLst/>
            <a:ahLst/>
            <a:rect l="l" t="t" r="r" b="b"/>
            <a:pathLst>
              <a:path w="33" h="130">
                <a:moveTo>
                  <a:pt x="0" y="0"/>
                </a:moveTo>
                <a:lnTo>
                  <a:pt x="33" y="65"/>
                </a:lnTo>
                <a:lnTo>
                  <a:pt x="0" y="130"/>
                </a:lnTo>
              </a:path>
            </a:pathLst>
          </a:custGeom>
          <a:noFill/>
          <a:ln w="25560">
            <a:solidFill>
              <a:srgbClr val="ba6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950160" y="2727360"/>
            <a:ext cx="52200" cy="257040"/>
          </a:xfrm>
          <a:custGeom>
            <a:avLst/>
            <a:gdLst/>
            <a:ahLst/>
            <a:rect l="l" t="t" r="r" b="b"/>
            <a:pathLst>
              <a:path w="33" h="162">
                <a:moveTo>
                  <a:pt x="0" y="0"/>
                </a:moveTo>
                <a:lnTo>
                  <a:pt x="33" y="81"/>
                </a:lnTo>
                <a:lnTo>
                  <a:pt x="0" y="162"/>
                </a:lnTo>
              </a:path>
            </a:pathLst>
          </a:custGeom>
          <a:noFill/>
          <a:ln w="25560">
            <a:solidFill>
              <a:srgbClr val="ba6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959080" y="3875040"/>
            <a:ext cx="3188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B. User sends URL to print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984280" y="4106880"/>
            <a:ext cx="2844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using eSquirt, to print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511960" y="3281400"/>
            <a:ext cx="3768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&lt;link title=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  <a:ea typeface="ヒラギノ角ゴ Pro W3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C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hop Suey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  <a:ea typeface="ヒラギノ角ゴ Pro W3"/>
              </a:rPr>
              <a:t>”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href= 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  <a:ea typeface="ヒラギノ角ゴ Pro W3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h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ttp..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  <a:ea typeface="ヒラギノ角ゴ Pro W3"/>
              </a:rPr>
              <a:t>”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593800" y="2843280"/>
            <a:ext cx="157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PDA or ph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1766520" y="2984400"/>
            <a:ext cx="284040" cy="206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846840" y="3062160"/>
            <a:ext cx="27000" cy="257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960880" y="4338720"/>
            <a:ext cx="2983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painting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  <a:ea typeface="ヒラギノ角ゴ Pro W3"/>
              </a:rPr>
              <a:t>’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s</a:t>
            </a: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 web presen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990360" y="1579680"/>
            <a:ext cx="942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 Helvetica Condensed"/>
              </a:rPr>
              <a:t>paint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491240" y="2803680"/>
            <a:ext cx="594000" cy="155520"/>
          </a:xfrm>
          <a:prstGeom prst="roundRect">
            <a:avLst>
              <a:gd name="adj" fmla="val 33162"/>
            </a:avLst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466040" y="2778120"/>
            <a:ext cx="644400" cy="206280"/>
          </a:xfrm>
          <a:prstGeom prst="roundRect">
            <a:avLst>
              <a:gd name="adj" fmla="val 25000"/>
            </a:avLst>
          </a:prstGeom>
          <a:noFill/>
          <a:ln w="5076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380960" y="2314440"/>
            <a:ext cx="179640" cy="181080"/>
          </a:xfrm>
          <a:prstGeom prst="ellipse">
            <a:avLst/>
          </a:prstGeom>
          <a:solidFill>
            <a:srgbClr val="ffdc99"/>
          </a:solidFill>
          <a:ln w="255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32080" y="2365200"/>
            <a:ext cx="1440" cy="27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509840" y="2365200"/>
            <a:ext cx="1440" cy="27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457280" y="2443320"/>
            <a:ext cx="52560" cy="1440"/>
          </a:xfrm>
          <a:prstGeom prst="line">
            <a:avLst/>
          </a:prstGeom>
          <a:ln w="255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044720" y="2185920"/>
            <a:ext cx="309240" cy="309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122480" y="2262240"/>
            <a:ext cx="25200" cy="52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251000" y="2289240"/>
            <a:ext cx="27000" cy="25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174680" y="2392200"/>
            <a:ext cx="763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328760" y="2236680"/>
            <a:ext cx="309600" cy="309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06520" y="2340000"/>
            <a:ext cx="25560" cy="25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535040" y="2340000"/>
            <a:ext cx="25560" cy="25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57280" y="2443320"/>
            <a:ext cx="77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6.1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room responding to a user wearing an active badg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46240" y="1911240"/>
            <a:ext cx="3824280" cy="213840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14800" y="2719440"/>
            <a:ext cx="285840" cy="284040"/>
          </a:xfrm>
          <a:prstGeom prst="ellipse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86440" y="2814480"/>
            <a:ext cx="23760" cy="24120"/>
          </a:xfrm>
          <a:prstGeom prst="ellipse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05240" y="2814480"/>
            <a:ext cx="24120" cy="24120"/>
          </a:xfrm>
          <a:prstGeom prst="ellipse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33960" y="2908440"/>
            <a:ext cx="7128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19760" y="3075120"/>
            <a:ext cx="71280" cy="1666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19760" y="3075120"/>
            <a:ext cx="95040" cy="190440"/>
          </a:xfrm>
          <a:prstGeom prst="rect">
            <a:avLst/>
          </a:prstGeom>
          <a:noFill/>
          <a:ln w="2376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46760" y="2505240"/>
            <a:ext cx="760320" cy="152064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16640" y="3241800"/>
            <a:ext cx="95400" cy="95040"/>
          </a:xfrm>
          <a:prstGeom prst="ellipse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08360" y="1935000"/>
            <a:ext cx="262080" cy="11772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08360" y="1935000"/>
            <a:ext cx="285840" cy="141480"/>
          </a:xfrm>
          <a:prstGeom prst="rect">
            <a:avLst/>
          </a:prstGeom>
          <a:noFill/>
          <a:ln w="2376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1589040"/>
            <a:ext cx="3743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 Helvetica Condensed"/>
              </a:rPr>
              <a:t>2. Infrared sensor detects user</a:t>
            </a:r>
            <a:r>
              <a:rPr b="0" lang="en-US" sz="1700" spc="-1" strike="noStrike">
                <a:solidFill>
                  <a:srgbClr val="000000"/>
                </a:solidFill>
                <a:latin typeface="C Helvetica Condensed"/>
                <a:ea typeface="ヒラギノ角ゴ Pro W3"/>
              </a:rPr>
              <a:t>ﾕ</a:t>
            </a:r>
            <a:r>
              <a:rPr b="0" lang="en-US" sz="1700" spc="-1" strike="noStrike">
                <a:solidFill>
                  <a:srgbClr val="000000"/>
                </a:solidFill>
                <a:latin typeface="C Helvetica Condensed"/>
              </a:rPr>
              <a:t>s</a:t>
            </a:r>
            <a:r>
              <a:rPr b="0" lang="en-US" sz="1700" spc="-1" strike="noStrike">
                <a:solidFill>
                  <a:srgbClr val="000000"/>
                </a:solidFill>
                <a:latin typeface="C Helvetica Condensed"/>
              </a:rPr>
              <a:t> I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27480" y="2800440"/>
            <a:ext cx="893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C Helvetica Condensed"/>
              </a:rPr>
              <a:t>Hello Ro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43560" y="2790720"/>
            <a:ext cx="71280" cy="93600"/>
          </a:xfrm>
          <a:custGeom>
            <a:avLst/>
            <a:gdLst/>
            <a:ahLst/>
            <a:rect l="l" t="t" r="r" b="b"/>
            <a:pathLst>
              <a:path w="45" h="59">
                <a:moveTo>
                  <a:pt x="45" y="30"/>
                </a:moveTo>
                <a:lnTo>
                  <a:pt x="45" y="59"/>
                </a:lnTo>
                <a:lnTo>
                  <a:pt x="0" y="30"/>
                </a:lnTo>
                <a:lnTo>
                  <a:pt x="45" y="0"/>
                </a:lnTo>
                <a:lnTo>
                  <a:pt x="45" y="30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538960" y="2838600"/>
            <a:ext cx="144936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16960" y="2728800"/>
            <a:ext cx="2913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 Helvetica Condensed"/>
              </a:rPr>
              <a:t>1. User enters room wear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40080" y="2943360"/>
            <a:ext cx="1515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 Helvetica Condensed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 Helvetica Condensed"/>
              </a:rPr>
              <a:t>active badg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46680" y="2195640"/>
            <a:ext cx="95040" cy="118800"/>
          </a:xfrm>
          <a:custGeom>
            <a:avLst/>
            <a:gdLst/>
            <a:ahLst/>
            <a:rect l="l" t="t" r="r" b="b"/>
            <a:pathLst>
              <a:path w="60" h="75">
                <a:moveTo>
                  <a:pt x="45" y="45"/>
                </a:moveTo>
                <a:lnTo>
                  <a:pt x="15" y="75"/>
                </a:lnTo>
                <a:lnTo>
                  <a:pt x="0" y="0"/>
                </a:lnTo>
                <a:lnTo>
                  <a:pt x="60" y="30"/>
                </a:lnTo>
                <a:lnTo>
                  <a:pt x="45" y="45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4017600" y="2266560"/>
            <a:ext cx="855720" cy="9032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84640" y="3811680"/>
            <a:ext cx="93600" cy="95040"/>
          </a:xfrm>
          <a:custGeom>
            <a:avLst/>
            <a:gdLst/>
            <a:ahLst/>
            <a:rect l="l" t="t" r="r" b="b"/>
            <a:pathLst>
              <a:path w="59" h="60">
                <a:moveTo>
                  <a:pt x="44" y="15"/>
                </a:moveTo>
                <a:lnTo>
                  <a:pt x="59" y="45"/>
                </a:lnTo>
                <a:lnTo>
                  <a:pt x="0" y="60"/>
                </a:lnTo>
                <a:lnTo>
                  <a:pt x="14" y="0"/>
                </a:lnTo>
                <a:lnTo>
                  <a:pt x="44" y="15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254480" y="3170160"/>
            <a:ext cx="642960" cy="6652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13360" y="3122640"/>
            <a:ext cx="93600" cy="95400"/>
          </a:xfrm>
          <a:custGeom>
            <a:avLst/>
            <a:gdLst/>
            <a:ahLst/>
            <a:rect l="l" t="t" r="r" b="b"/>
            <a:pathLst>
              <a:path w="59" h="60">
                <a:moveTo>
                  <a:pt x="59" y="30"/>
                </a:moveTo>
                <a:lnTo>
                  <a:pt x="59" y="60"/>
                </a:lnTo>
                <a:lnTo>
                  <a:pt x="0" y="30"/>
                </a:lnTo>
                <a:lnTo>
                  <a:pt x="59" y="0"/>
                </a:lnTo>
                <a:lnTo>
                  <a:pt x="59" y="30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206960" y="3170160"/>
            <a:ext cx="69048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62040" y="2397240"/>
            <a:ext cx="1099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 Helvetica Condensed"/>
              </a:rPr>
              <a:t>User</a:t>
            </a:r>
            <a:r>
              <a:rPr b="0" lang="en-US" sz="1700" spc="-1" strike="noStrike">
                <a:solidFill>
                  <a:srgbClr val="000000"/>
                </a:solidFill>
                <a:latin typeface="C Helvetica Condensed"/>
                <a:ea typeface="ヒラギノ角ゴ Pro W3"/>
              </a:rPr>
              <a:t>ﾕ</a:t>
            </a:r>
            <a:r>
              <a:rPr b="0" lang="en-US" sz="1700" spc="-1" strike="noStrike">
                <a:solidFill>
                  <a:srgbClr val="000000"/>
                </a:solidFill>
                <a:latin typeface="C Helvetica Condensed"/>
              </a:rPr>
              <a:t>s</a:t>
            </a:r>
            <a:r>
              <a:rPr b="0" lang="en-US" sz="1700" spc="-1" strike="noStrike">
                <a:solidFill>
                  <a:srgbClr val="000000"/>
                </a:solidFill>
                <a:latin typeface="C Helvetica Condensed"/>
              </a:rPr>
              <a:t> I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31680" y="2752560"/>
            <a:ext cx="2039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 Helvetica Condensed"/>
              </a:rPr>
              <a:t>3. Display responds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4840" y="2967120"/>
            <a:ext cx="941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 Helvetica Condensed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 Helvetica Condensed"/>
              </a:rPr>
              <a:t>to us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87840" y="2838600"/>
            <a:ext cx="237960" cy="23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55"/>
                </a:moveTo>
                <a:arcTo wR="10800" hR="10800" stAng="-10753858" swAng="5353858"/>
                <a:lnTo>
                  <a:pt x="10800" y="10800"/>
                </a:lnTo>
                <a:close/>
              </a:path>
              <a:path fill="none" w="21600" h="21600">
                <a:moveTo>
                  <a:pt x="1" y="10655"/>
                </a:moveTo>
                <a:arcTo wR="10800" hR="10800" stAng="-10753858" swAng="5353858"/>
              </a:path>
            </a:pathLst>
          </a:custGeom>
          <a:noFill/>
          <a:ln w="23760">
            <a:solidFill>
              <a:srgbClr val="cf92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2800" y="2743200"/>
            <a:ext cx="28476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79"/>
                </a:moveTo>
                <a:arcTo wR="10800" hR="10800" stAng="-10761591" swAng="5361591"/>
                <a:lnTo>
                  <a:pt x="10800" y="10800"/>
                </a:lnTo>
                <a:close/>
              </a:path>
              <a:path fill="none" w="21600" h="21600">
                <a:moveTo>
                  <a:pt x="1" y="10679"/>
                </a:moveTo>
                <a:arcTo wR="10800" hR="10800" stAng="-10761591" swAng="5361591"/>
              </a:path>
            </a:pathLst>
          </a:custGeom>
          <a:noFill/>
          <a:ln w="23760">
            <a:solidFill>
              <a:srgbClr val="cf92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21160" y="2671920"/>
            <a:ext cx="333000" cy="33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697"/>
                </a:moveTo>
                <a:arcTo wR="10800" hR="10800" stAng="-10767104" swAng="5367104"/>
                <a:lnTo>
                  <a:pt x="10800" y="10800"/>
                </a:lnTo>
                <a:close/>
              </a:path>
              <a:path fill="none" w="21600" h="21600">
                <a:moveTo>
                  <a:pt x="0" y="10697"/>
                </a:moveTo>
                <a:arcTo wR="10800" hR="10800" stAng="-10767104" swAng="5367104"/>
              </a:path>
            </a:pathLst>
          </a:custGeom>
          <a:noFill/>
          <a:ln w="23760">
            <a:solidFill>
              <a:srgbClr val="cf92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87840" y="3241440"/>
            <a:ext cx="237960" cy="23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w="23760">
            <a:solidFill>
              <a:srgbClr val="cf92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2800" y="3289320"/>
            <a:ext cx="28476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w="23760">
            <a:solidFill>
              <a:srgbClr val="cf92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97400" y="3336840"/>
            <a:ext cx="333000" cy="33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w="23760">
            <a:solidFill>
              <a:srgbClr val="cf92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16560" y="3075120"/>
            <a:ext cx="47520" cy="166680"/>
          </a:xfrm>
          <a:custGeom>
            <a:avLst/>
            <a:gdLst/>
            <a:ahLst/>
            <a:rect l="l" t="t" r="r" b="b"/>
            <a:pathLst>
              <a:path w="30" h="105">
                <a:moveTo>
                  <a:pt x="30" y="105"/>
                </a:moveTo>
                <a:lnTo>
                  <a:pt x="0" y="60"/>
                </a:lnTo>
                <a:lnTo>
                  <a:pt x="30" y="0"/>
                </a:lnTo>
              </a:path>
            </a:pathLst>
          </a:custGeom>
          <a:noFill/>
          <a:ln w="23760">
            <a:solidFill>
              <a:srgbClr val="cf92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97400" y="3051000"/>
            <a:ext cx="47520" cy="214560"/>
          </a:xfrm>
          <a:custGeom>
            <a:avLst/>
            <a:gdLst/>
            <a:ahLst/>
            <a:rect l="l" t="t" r="r" b="b"/>
            <a:pathLst>
              <a:path w="30" h="135">
                <a:moveTo>
                  <a:pt x="30" y="135"/>
                </a:moveTo>
                <a:lnTo>
                  <a:pt x="0" y="75"/>
                </a:lnTo>
                <a:lnTo>
                  <a:pt x="30" y="0"/>
                </a:lnTo>
              </a:path>
            </a:pathLst>
          </a:custGeom>
          <a:noFill/>
          <a:ln w="23760">
            <a:solidFill>
              <a:srgbClr val="cf92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78240" y="3051000"/>
            <a:ext cx="47520" cy="238320"/>
          </a:xfrm>
          <a:custGeom>
            <a:avLst/>
            <a:gdLst/>
            <a:ahLst/>
            <a:rect l="l" t="t" r="r" b="b"/>
            <a:pathLst>
              <a:path w="30" h="150">
                <a:moveTo>
                  <a:pt x="30" y="150"/>
                </a:moveTo>
                <a:lnTo>
                  <a:pt x="0" y="75"/>
                </a:lnTo>
                <a:lnTo>
                  <a:pt x="30" y="0"/>
                </a:lnTo>
              </a:path>
            </a:pathLst>
          </a:custGeom>
          <a:noFill/>
          <a:ln w="23760">
            <a:solidFill>
              <a:srgbClr val="cf92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26720" y="3489480"/>
            <a:ext cx="838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 Helvetica Condensed"/>
              </a:rPr>
              <a:t>Infrar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60400" y="3051000"/>
            <a:ext cx="546120" cy="716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30280" y="2671920"/>
            <a:ext cx="1449720" cy="831600"/>
          </a:xfrm>
          <a:prstGeom prst="roundRect">
            <a:avLst>
              <a:gd name="adj" fmla="val 17176"/>
            </a:avLst>
          </a:prstGeom>
          <a:solidFill>
            <a:srgbClr val="d9aa73"/>
          </a:solidFill>
          <a:ln w="4752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6.2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xamples of pre-configured versus spontaneous association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743040" y="1677960"/>
          <a:ext cx="8699400" cy="4168800"/>
        </p:xfrm>
        <a:graphic>
          <a:graphicData uri="http://schemas.openxmlformats.org/drawingml/2006/table">
            <a:tbl>
              <a:tblPr/>
              <a:tblGrid>
                <a:gridCol w="4433760"/>
                <a:gridCol w="4265640"/>
              </a:tblGrid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-config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aa7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ntane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aa73"/>
                    </a:solidFill>
                  </a:tcPr>
                </a:tc>
              </a:tr>
              <a:tr h="361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ce-driven: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ail client and serv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man-driven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b browser and web serv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-driven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P file-sharing applic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sically-driven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bile and ubiquitous sys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6.3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interface to a discovery service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50800" y="1428840"/>
          <a:ext cx="8794800" cy="4724280"/>
        </p:xfrm>
        <a:graphic>
          <a:graphicData uri="http://schemas.openxmlformats.org/drawingml/2006/table">
            <a:tbl>
              <a:tblPr/>
              <a:tblGrid>
                <a:gridCol w="4434120"/>
                <a:gridCol w="4360680"/>
              </a:tblGrid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hods for service de/regist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aa7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la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aa73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ase := register(address, attribu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ster the service at the given address with the given attributes; a lease is retur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fresh(leas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fresh the lease returned at regist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register(leas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move the service record registered under the given l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hod invoked to look up a serv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aa7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aa73"/>
                    </a:solidFill>
                  </a:tcPr>
                </a:tc>
              </a:tr>
              <a:tr h="100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ceSet := query(attributeSpecifica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turn a set of registered services whose attributes match the given spec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6.4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ervice discovery in Jini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19200" y="2658960"/>
            <a:ext cx="1292400" cy="104148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19200" y="2658960"/>
            <a:ext cx="1314360" cy="1063800"/>
          </a:xfrm>
          <a:prstGeom prst="rect">
            <a:avLst/>
          </a:prstGeom>
          <a:noFill/>
          <a:ln w="223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55640" y="2840040"/>
            <a:ext cx="1041480" cy="70164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67320" y="1434960"/>
            <a:ext cx="1541520" cy="8845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67320" y="1434960"/>
            <a:ext cx="1563840" cy="906480"/>
          </a:xfrm>
          <a:prstGeom prst="rect">
            <a:avLst/>
          </a:prstGeom>
          <a:noFill/>
          <a:ln w="223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616800" y="1525680"/>
            <a:ext cx="1042920" cy="70164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65120" y="1625760"/>
            <a:ext cx="81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Print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31720" y="1852560"/>
            <a:ext cx="66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31320" y="3166920"/>
            <a:ext cx="71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35280" y="2940120"/>
            <a:ext cx="70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Look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342200" y="4086360"/>
            <a:ext cx="1268280" cy="10411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42200" y="4086360"/>
            <a:ext cx="1290600" cy="1063440"/>
          </a:xfrm>
          <a:prstGeom prst="rect">
            <a:avLst/>
          </a:prstGeom>
          <a:noFill/>
          <a:ln w="223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54880" y="4267080"/>
            <a:ext cx="1042920" cy="70164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33800" y="4594320"/>
            <a:ext cx="71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37760" y="4367160"/>
            <a:ext cx="70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Look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92560" y="4448160"/>
            <a:ext cx="1541520" cy="8827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92560" y="4448160"/>
            <a:ext cx="1563840" cy="906480"/>
          </a:xfrm>
          <a:prstGeom prst="rect">
            <a:avLst/>
          </a:prstGeom>
          <a:noFill/>
          <a:ln w="223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41680" y="4538520"/>
            <a:ext cx="1043280" cy="70164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82080" y="4616280"/>
            <a:ext cx="81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Print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47240" y="4865760"/>
            <a:ext cx="66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84160" y="2646360"/>
            <a:ext cx="65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 Helvetica Condensed"/>
              </a:rPr>
              <a:t>ad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905600" y="1468440"/>
            <a:ext cx="65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 Helvetica Condensed"/>
              </a:rPr>
              <a:t>ad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25360" y="3800520"/>
            <a:ext cx="1344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 Helvetica Condensed"/>
              </a:rPr>
              <a:t>admin, fi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31920" y="5116680"/>
            <a:ext cx="74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 Helvetica Condensed"/>
              </a:rPr>
              <a:t>fi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51840" y="2862360"/>
            <a:ext cx="430200" cy="3618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51840" y="2862360"/>
            <a:ext cx="452160" cy="385560"/>
          </a:xfrm>
          <a:prstGeom prst="rect">
            <a:avLst/>
          </a:prstGeom>
          <a:noFill/>
          <a:ln w="223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9880" y="2884320"/>
            <a:ext cx="316080" cy="3175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17320" y="2873520"/>
            <a:ext cx="61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 Helvetica Condensed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44840" y="1887480"/>
            <a:ext cx="453960" cy="3636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44840" y="1887480"/>
            <a:ext cx="476280" cy="385920"/>
          </a:xfrm>
          <a:prstGeom prst="rect">
            <a:avLst/>
          </a:prstGeom>
          <a:noFill/>
          <a:ln w="223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35200" y="1911240"/>
            <a:ext cx="295560" cy="31608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15200" y="1876320"/>
            <a:ext cx="61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 Helvetica Condensed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08680" y="3995640"/>
            <a:ext cx="112680" cy="520920"/>
          </a:xfrm>
          <a:custGeom>
            <a:avLst/>
            <a:gdLst/>
            <a:ahLst/>
            <a:rect l="l" t="t" r="r" b="b"/>
            <a:pathLst>
              <a:path w="71" h="328">
                <a:moveTo>
                  <a:pt x="71" y="0"/>
                </a:moveTo>
                <a:lnTo>
                  <a:pt x="57" y="128"/>
                </a:lnTo>
                <a:lnTo>
                  <a:pt x="28" y="228"/>
                </a:lnTo>
                <a:lnTo>
                  <a:pt x="14" y="299"/>
                </a:lnTo>
                <a:lnTo>
                  <a:pt x="0" y="328"/>
                </a:lnTo>
                <a:lnTo>
                  <a:pt x="0" y="313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17800" y="4425840"/>
            <a:ext cx="1539720" cy="8827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17800" y="4425840"/>
            <a:ext cx="1563480" cy="905040"/>
          </a:xfrm>
          <a:prstGeom prst="rect">
            <a:avLst/>
          </a:prstGeom>
          <a:noFill/>
          <a:ln w="223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66920" y="4516560"/>
            <a:ext cx="1042920" cy="70164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11200" y="4616280"/>
            <a:ext cx="1020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Corpor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94280" y="4843440"/>
            <a:ext cx="103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info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6208200" y="2114640"/>
            <a:ext cx="567000" cy="860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74800" y="3224160"/>
            <a:ext cx="747720" cy="114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195720" y="4130280"/>
            <a:ext cx="476280" cy="498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6322680" y="3089160"/>
            <a:ext cx="996840" cy="112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30760" y="2070000"/>
            <a:ext cx="1471320" cy="633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63760" y="2590920"/>
            <a:ext cx="3533760" cy="1744560"/>
          </a:xfrm>
          <a:custGeom>
            <a:avLst/>
            <a:gdLst/>
            <a:ahLst/>
            <a:rect l="l" t="t" r="r" b="b"/>
            <a:pathLst>
              <a:path w="2226" h="1099">
                <a:moveTo>
                  <a:pt x="71" y="257"/>
                </a:moveTo>
                <a:lnTo>
                  <a:pt x="100" y="200"/>
                </a:lnTo>
                <a:lnTo>
                  <a:pt x="228" y="114"/>
                </a:lnTo>
                <a:lnTo>
                  <a:pt x="357" y="85"/>
                </a:lnTo>
                <a:lnTo>
                  <a:pt x="442" y="85"/>
                </a:lnTo>
                <a:lnTo>
                  <a:pt x="528" y="71"/>
                </a:lnTo>
                <a:lnTo>
                  <a:pt x="656" y="85"/>
                </a:lnTo>
                <a:lnTo>
                  <a:pt x="828" y="85"/>
                </a:lnTo>
                <a:lnTo>
                  <a:pt x="999" y="100"/>
                </a:lnTo>
                <a:lnTo>
                  <a:pt x="1170" y="114"/>
                </a:lnTo>
                <a:lnTo>
                  <a:pt x="1256" y="71"/>
                </a:lnTo>
                <a:lnTo>
                  <a:pt x="1341" y="28"/>
                </a:lnTo>
                <a:lnTo>
                  <a:pt x="1470" y="14"/>
                </a:lnTo>
                <a:lnTo>
                  <a:pt x="1598" y="0"/>
                </a:lnTo>
                <a:lnTo>
                  <a:pt x="1698" y="14"/>
                </a:lnTo>
                <a:lnTo>
                  <a:pt x="1784" y="43"/>
                </a:lnTo>
                <a:lnTo>
                  <a:pt x="1841" y="71"/>
                </a:lnTo>
                <a:lnTo>
                  <a:pt x="1941" y="100"/>
                </a:lnTo>
                <a:lnTo>
                  <a:pt x="2055" y="200"/>
                </a:lnTo>
                <a:lnTo>
                  <a:pt x="2141" y="271"/>
                </a:lnTo>
                <a:lnTo>
                  <a:pt x="2183" y="357"/>
                </a:lnTo>
                <a:lnTo>
                  <a:pt x="2212" y="542"/>
                </a:lnTo>
                <a:lnTo>
                  <a:pt x="2226" y="670"/>
                </a:lnTo>
                <a:lnTo>
                  <a:pt x="2198" y="785"/>
                </a:lnTo>
                <a:lnTo>
                  <a:pt x="2141" y="956"/>
                </a:lnTo>
                <a:lnTo>
                  <a:pt x="2012" y="1056"/>
                </a:lnTo>
                <a:lnTo>
                  <a:pt x="1870" y="1099"/>
                </a:lnTo>
                <a:lnTo>
                  <a:pt x="1713" y="1070"/>
                </a:lnTo>
                <a:lnTo>
                  <a:pt x="1541" y="1056"/>
                </a:lnTo>
                <a:lnTo>
                  <a:pt x="1399" y="1027"/>
                </a:lnTo>
                <a:lnTo>
                  <a:pt x="1256" y="1013"/>
                </a:lnTo>
                <a:lnTo>
                  <a:pt x="1113" y="1013"/>
                </a:lnTo>
                <a:lnTo>
                  <a:pt x="970" y="1013"/>
                </a:lnTo>
                <a:lnTo>
                  <a:pt x="856" y="1027"/>
                </a:lnTo>
                <a:lnTo>
                  <a:pt x="742" y="1041"/>
                </a:lnTo>
                <a:lnTo>
                  <a:pt x="642" y="1056"/>
                </a:lnTo>
                <a:lnTo>
                  <a:pt x="542" y="1070"/>
                </a:lnTo>
                <a:lnTo>
                  <a:pt x="428" y="1070"/>
                </a:lnTo>
                <a:lnTo>
                  <a:pt x="342" y="1056"/>
                </a:lnTo>
                <a:lnTo>
                  <a:pt x="257" y="1041"/>
                </a:lnTo>
                <a:lnTo>
                  <a:pt x="185" y="999"/>
                </a:lnTo>
                <a:lnTo>
                  <a:pt x="171" y="984"/>
                </a:lnTo>
                <a:lnTo>
                  <a:pt x="143" y="956"/>
                </a:lnTo>
                <a:lnTo>
                  <a:pt x="86" y="856"/>
                </a:lnTo>
                <a:lnTo>
                  <a:pt x="29" y="742"/>
                </a:lnTo>
                <a:lnTo>
                  <a:pt x="14" y="628"/>
                </a:lnTo>
                <a:lnTo>
                  <a:pt x="0" y="542"/>
                </a:lnTo>
                <a:lnTo>
                  <a:pt x="14" y="428"/>
                </a:lnTo>
                <a:lnTo>
                  <a:pt x="43" y="328"/>
                </a:lnTo>
                <a:lnTo>
                  <a:pt x="71" y="257"/>
                </a:lnTo>
                <a:lnTo>
                  <a:pt x="71" y="257"/>
                </a:lnTo>
                <a:close/>
              </a:path>
            </a:pathLst>
          </a:custGeom>
          <a:solidFill>
            <a:srgbClr val="ffdc99"/>
          </a:solidFill>
          <a:ln w="22320">
            <a:solidFill>
              <a:srgbClr val="ffd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69080" y="2749680"/>
            <a:ext cx="90360" cy="90360"/>
          </a:xfrm>
          <a:custGeom>
            <a:avLst/>
            <a:gdLst/>
            <a:ahLst/>
            <a:rect l="l" t="t" r="r" b="b"/>
            <a:pathLst>
              <a:path w="57" h="57">
                <a:moveTo>
                  <a:pt x="0" y="28"/>
                </a:moveTo>
                <a:lnTo>
                  <a:pt x="14" y="0"/>
                </a:lnTo>
                <a:lnTo>
                  <a:pt x="57" y="42"/>
                </a:lnTo>
                <a:lnTo>
                  <a:pt x="0" y="57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26200" y="2681280"/>
            <a:ext cx="542880" cy="112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73800" y="3484440"/>
            <a:ext cx="1549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2. Here I am: 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35480" y="2862360"/>
            <a:ext cx="90720" cy="90360"/>
          </a:xfrm>
          <a:custGeom>
            <a:avLst/>
            <a:gdLst/>
            <a:ahLst/>
            <a:rect l="l" t="t" r="r" b="b"/>
            <a:pathLst>
              <a:path w="57" h="57">
                <a:moveTo>
                  <a:pt x="28" y="0"/>
                </a:moveTo>
                <a:lnTo>
                  <a:pt x="57" y="0"/>
                </a:lnTo>
                <a:lnTo>
                  <a:pt x="28" y="57"/>
                </a:lnTo>
                <a:lnTo>
                  <a:pt x="0" y="0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5279760" y="2681280"/>
            <a:ext cx="21960" cy="158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80040" y="3529080"/>
            <a:ext cx="1398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4. Use prin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34040" y="3733920"/>
            <a:ext cx="87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 Helvetica Condensed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56400" y="3089160"/>
            <a:ext cx="112680" cy="90720"/>
          </a:xfrm>
          <a:custGeom>
            <a:avLst/>
            <a:gdLst/>
            <a:ahLst/>
            <a:rect l="l" t="t" r="r" b="b"/>
            <a:pathLst>
              <a:path w="71" h="57">
                <a:moveTo>
                  <a:pt x="28" y="28"/>
                </a:moveTo>
                <a:lnTo>
                  <a:pt x="43" y="0"/>
                </a:lnTo>
                <a:lnTo>
                  <a:pt x="71" y="57"/>
                </a:lnTo>
                <a:lnTo>
                  <a:pt x="0" y="57"/>
                </a:lnTo>
                <a:lnTo>
                  <a:pt x="28" y="28"/>
                </a:lnTo>
                <a:close/>
              </a:path>
            </a:pathLst>
          </a:custGeom>
          <a:solidFill>
            <a:srgbClr val="000000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02080" y="2703600"/>
            <a:ext cx="476280" cy="430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7000" y="2160720"/>
            <a:ext cx="91800" cy="66600"/>
          </a:xfrm>
          <a:custGeom>
            <a:avLst/>
            <a:gdLst/>
            <a:ahLst/>
            <a:rect l="l" t="t" r="r" b="b"/>
            <a:pathLst>
              <a:path w="58" h="42">
                <a:moveTo>
                  <a:pt x="43" y="28"/>
                </a:moveTo>
                <a:lnTo>
                  <a:pt x="29" y="42"/>
                </a:lnTo>
                <a:lnTo>
                  <a:pt x="0" y="0"/>
                </a:lnTo>
                <a:lnTo>
                  <a:pt x="58" y="0"/>
                </a:lnTo>
                <a:lnTo>
                  <a:pt x="43" y="28"/>
                </a:lnTo>
                <a:close/>
              </a:path>
            </a:pathLst>
          </a:custGeom>
          <a:solidFill>
            <a:srgbClr val="000000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3874680" y="2205000"/>
            <a:ext cx="3670200" cy="2152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42200" y="4448160"/>
            <a:ext cx="112680" cy="90360"/>
          </a:xfrm>
          <a:custGeom>
            <a:avLst/>
            <a:gdLst/>
            <a:ahLst/>
            <a:rect l="l" t="t" r="r" b="b"/>
            <a:pathLst>
              <a:path w="71" h="57">
                <a:moveTo>
                  <a:pt x="14" y="28"/>
                </a:moveTo>
                <a:lnTo>
                  <a:pt x="43" y="0"/>
                </a:lnTo>
                <a:lnTo>
                  <a:pt x="71" y="57"/>
                </a:lnTo>
                <a:lnTo>
                  <a:pt x="0" y="57"/>
                </a:lnTo>
                <a:lnTo>
                  <a:pt x="14" y="28"/>
                </a:lnTo>
                <a:close/>
              </a:path>
            </a:pathLst>
          </a:custGeom>
          <a:solidFill>
            <a:srgbClr val="000000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62360" y="2205000"/>
            <a:ext cx="3602160" cy="2287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08680" y="4062240"/>
            <a:ext cx="90360" cy="90720"/>
          </a:xfrm>
          <a:custGeom>
            <a:avLst/>
            <a:gdLst/>
            <a:ahLst/>
            <a:rect l="l" t="t" r="r" b="b"/>
            <a:pathLst>
              <a:path w="57" h="57">
                <a:moveTo>
                  <a:pt x="28" y="15"/>
                </a:moveTo>
                <a:lnTo>
                  <a:pt x="57" y="0"/>
                </a:lnTo>
                <a:lnTo>
                  <a:pt x="57" y="57"/>
                </a:lnTo>
                <a:lnTo>
                  <a:pt x="0" y="43"/>
                </a:lnTo>
                <a:lnTo>
                  <a:pt x="28" y="15"/>
                </a:lnTo>
                <a:close/>
              </a:path>
            </a:pathLst>
          </a:custGeom>
          <a:solidFill>
            <a:srgbClr val="000000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72000" y="2205000"/>
            <a:ext cx="1380960" cy="1881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95480" y="3394080"/>
            <a:ext cx="92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 Helvetica Condensed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11800" y="4451400"/>
            <a:ext cx="1306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Request ‘printing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32400" y="1442880"/>
            <a:ext cx="2157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. ‘finance’ lookup servi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6.5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IdentityPresence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widget class of the Context Toolkit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5800" y="1598760"/>
            <a:ext cx="4094280" cy="43812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3360" y="1681200"/>
            <a:ext cx="339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ttributes (accessible by poll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10080" y="1598760"/>
            <a:ext cx="4367160" cy="43812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44400" y="1681200"/>
            <a:ext cx="1232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pla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5800" y="2036880"/>
            <a:ext cx="4094280" cy="38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3840" y="2090880"/>
            <a:ext cx="907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10080" y="2036880"/>
            <a:ext cx="4367160" cy="38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8120" y="2090880"/>
            <a:ext cx="346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ocation the widget is monit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5800" y="2422440"/>
            <a:ext cx="4094280" cy="3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4920" y="2475000"/>
            <a:ext cx="777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de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10080" y="2422440"/>
            <a:ext cx="4367160" cy="3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9200" y="2475000"/>
            <a:ext cx="2571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D of the last user sen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5800" y="2808360"/>
            <a:ext cx="409428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3480" y="2867040"/>
            <a:ext cx="1119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imesta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10080" y="2808360"/>
            <a:ext cx="4367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81360" y="2867040"/>
            <a:ext cx="233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ime of the last arri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5800" y="3198960"/>
            <a:ext cx="4094280" cy="43164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21680" y="3274920"/>
            <a:ext cx="1003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ll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10080" y="3198960"/>
            <a:ext cx="4367160" cy="43164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5800" y="3630600"/>
            <a:ext cx="4094280" cy="6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1320" y="3691080"/>
            <a:ext cx="3345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ersonArrives(location, identit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3840" y="3983040"/>
            <a:ext cx="113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imestam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10080" y="3630600"/>
            <a:ext cx="4367160" cy="6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7400" y="3836880"/>
            <a:ext cx="3047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riggered when a user arr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5800" y="4314960"/>
            <a:ext cx="409428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80600" y="4367160"/>
            <a:ext cx="330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ersonLeaves(location, identit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3840" y="4659480"/>
            <a:ext cx="113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imestam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10080" y="4314960"/>
            <a:ext cx="436716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8480" y="4513320"/>
            <a:ext cx="2989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riggered when a user le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5800" y="1598760"/>
            <a:ext cx="8461440" cy="1440"/>
          </a:xfrm>
          <a:custGeom>
            <a:avLst/>
            <a:gdLst/>
            <a:ahLst/>
            <a:rect l="l" t="t" r="r" b="b"/>
            <a:pathLst>
              <a:path w="5330" h="0">
                <a:moveTo>
                  <a:pt x="0" y="0"/>
                </a:moveTo>
                <a:lnTo>
                  <a:pt x="533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5800" y="4992840"/>
            <a:ext cx="8461440" cy="1440"/>
          </a:xfrm>
          <a:custGeom>
            <a:avLst/>
            <a:gdLst/>
            <a:ahLst/>
            <a:rect l="l" t="t" r="r" b="b"/>
            <a:pathLst>
              <a:path w="5330" h="0">
                <a:moveTo>
                  <a:pt x="0" y="0"/>
                </a:moveTo>
                <a:lnTo>
                  <a:pt x="533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09680" y="1593720"/>
            <a:ext cx="84614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9680" y="4986360"/>
            <a:ext cx="84614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6.6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PersonFinder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widget constructed using IdentityPresence widget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73120" y="1609560"/>
            <a:ext cx="873900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6.7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irected diffusion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74840" y="2486160"/>
            <a:ext cx="92160" cy="115920"/>
          </a:xfrm>
          <a:custGeom>
            <a:avLst/>
            <a:gdLst/>
            <a:ahLst/>
            <a:rect l="l" t="t" r="r" b="b"/>
            <a:pathLst>
              <a:path w="58" h="73">
                <a:moveTo>
                  <a:pt x="29" y="29"/>
                </a:moveTo>
                <a:lnTo>
                  <a:pt x="58" y="0"/>
                </a:lnTo>
                <a:lnTo>
                  <a:pt x="58" y="73"/>
                </a:lnTo>
                <a:lnTo>
                  <a:pt x="0" y="43"/>
                </a:lnTo>
                <a:lnTo>
                  <a:pt x="29" y="29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2184480"/>
            <a:ext cx="22320" cy="223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35160" y="2300400"/>
            <a:ext cx="69840" cy="9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4840" y="2486160"/>
            <a:ext cx="46080" cy="219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2240" y="4073400"/>
            <a:ext cx="2372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 Helvetica Condensed"/>
              </a:rPr>
              <a:t>A. Interest propag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06960" y="2705040"/>
            <a:ext cx="685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 Helvetica Condensed"/>
              </a:rPr>
              <a:t>sour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84240" y="3343320"/>
            <a:ext cx="163800" cy="163440"/>
          </a:xfrm>
          <a:prstGeom prst="ellipse">
            <a:avLst/>
          </a:prstGeom>
          <a:solidFill>
            <a:srgbClr val="cf924c"/>
          </a:solidFill>
          <a:ln w="23760">
            <a:solidFill>
              <a:srgbClr val="cf92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57240" y="1998720"/>
            <a:ext cx="139680" cy="137880"/>
          </a:xfrm>
          <a:prstGeom prst="ellipse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143000" y="2949480"/>
            <a:ext cx="139680" cy="139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90760" y="2624040"/>
            <a:ext cx="139680" cy="139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023920" y="2763720"/>
            <a:ext cx="115920" cy="92160"/>
          </a:xfrm>
          <a:custGeom>
            <a:avLst/>
            <a:gdLst/>
            <a:ahLst/>
            <a:rect l="l" t="t" r="r" b="b"/>
            <a:pathLst>
              <a:path w="73" h="58">
                <a:moveTo>
                  <a:pt x="15" y="29"/>
                </a:moveTo>
                <a:lnTo>
                  <a:pt x="15" y="0"/>
                </a:lnTo>
                <a:lnTo>
                  <a:pt x="73" y="44"/>
                </a:lnTo>
                <a:lnTo>
                  <a:pt x="0" y="58"/>
                </a:lnTo>
                <a:lnTo>
                  <a:pt x="15" y="29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76520" y="2739960"/>
            <a:ext cx="4608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816200" y="2763720"/>
            <a:ext cx="68040" cy="237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001960" y="2787480"/>
            <a:ext cx="21960" cy="223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38160" y="3227400"/>
            <a:ext cx="69840" cy="93600"/>
          </a:xfrm>
          <a:custGeom>
            <a:avLst/>
            <a:gdLst/>
            <a:ahLst/>
            <a:rect l="l" t="t" r="r" b="b"/>
            <a:pathLst>
              <a:path w="44" h="59">
                <a:moveTo>
                  <a:pt x="29" y="15"/>
                </a:moveTo>
                <a:lnTo>
                  <a:pt x="44" y="0"/>
                </a:lnTo>
                <a:lnTo>
                  <a:pt x="44" y="59"/>
                </a:lnTo>
                <a:lnTo>
                  <a:pt x="0" y="29"/>
                </a:lnTo>
                <a:lnTo>
                  <a:pt x="29" y="15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82560" y="2763720"/>
            <a:ext cx="24120" cy="237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52760" y="2879640"/>
            <a:ext cx="47520" cy="698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46360" y="3041640"/>
            <a:ext cx="46080" cy="698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38160" y="3205080"/>
            <a:ext cx="24120" cy="223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143000" y="2809800"/>
            <a:ext cx="92160" cy="93600"/>
          </a:xfrm>
          <a:custGeom>
            <a:avLst/>
            <a:gdLst/>
            <a:ahLst/>
            <a:rect l="l" t="t" r="r" b="b"/>
            <a:pathLst>
              <a:path w="58" h="59">
                <a:moveTo>
                  <a:pt x="29" y="15"/>
                </a:moveTo>
                <a:lnTo>
                  <a:pt x="58" y="0"/>
                </a:lnTo>
                <a:lnTo>
                  <a:pt x="29" y="59"/>
                </a:lnTo>
                <a:lnTo>
                  <a:pt x="0" y="15"/>
                </a:lnTo>
                <a:lnTo>
                  <a:pt x="29" y="15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073160" y="2184480"/>
            <a:ext cx="1440" cy="460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96920" y="2346480"/>
            <a:ext cx="22320" cy="9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143000" y="2554200"/>
            <a:ext cx="1440" cy="936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165320" y="2763720"/>
            <a:ext cx="23760" cy="460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46360" y="3321000"/>
            <a:ext cx="91800" cy="68400"/>
          </a:xfrm>
          <a:custGeom>
            <a:avLst/>
            <a:gdLst/>
            <a:ahLst/>
            <a:rect l="l" t="t" r="r" b="b"/>
            <a:pathLst>
              <a:path w="58" h="43">
                <a:moveTo>
                  <a:pt x="14" y="14"/>
                </a:moveTo>
                <a:lnTo>
                  <a:pt x="29" y="0"/>
                </a:lnTo>
                <a:lnTo>
                  <a:pt x="58" y="43"/>
                </a:lnTo>
                <a:lnTo>
                  <a:pt x="0" y="43"/>
                </a:lnTo>
                <a:lnTo>
                  <a:pt x="14" y="14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28760" y="3089160"/>
            <a:ext cx="46080" cy="223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44680" y="3157560"/>
            <a:ext cx="69840" cy="475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82560" y="3227400"/>
            <a:ext cx="70200" cy="460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22600" y="3321000"/>
            <a:ext cx="45720" cy="223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63600" y="2763720"/>
            <a:ext cx="162000" cy="162000"/>
          </a:xfrm>
          <a:prstGeom prst="ellipse">
            <a:avLst/>
          </a:prstGeom>
          <a:solidFill>
            <a:srgbClr val="cf924c"/>
          </a:solidFill>
          <a:ln w="23760">
            <a:solidFill>
              <a:srgbClr val="cf92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20920" y="2739960"/>
            <a:ext cx="93600" cy="93600"/>
          </a:xfrm>
          <a:custGeom>
            <a:avLst/>
            <a:gdLst/>
            <a:ahLst/>
            <a:rect l="l" t="t" r="r" b="b"/>
            <a:pathLst>
              <a:path w="59" h="59">
                <a:moveTo>
                  <a:pt x="15" y="30"/>
                </a:moveTo>
                <a:lnTo>
                  <a:pt x="0" y="15"/>
                </a:lnTo>
                <a:lnTo>
                  <a:pt x="59" y="0"/>
                </a:lnTo>
                <a:lnTo>
                  <a:pt x="44" y="59"/>
                </a:lnTo>
                <a:lnTo>
                  <a:pt x="15" y="30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1305000" y="2925720"/>
            <a:ext cx="23760" cy="460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1420920" y="2809800"/>
            <a:ext cx="23760" cy="237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081520" y="3378240"/>
            <a:ext cx="685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 Helvetica Condensed"/>
              </a:rPr>
              <a:t>sour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139840" y="2971800"/>
            <a:ext cx="69840" cy="117360"/>
          </a:xfrm>
          <a:custGeom>
            <a:avLst/>
            <a:gdLst/>
            <a:ahLst/>
            <a:rect l="l" t="t" r="r" b="b"/>
            <a:pathLst>
              <a:path w="44" h="74">
                <a:moveTo>
                  <a:pt x="15" y="59"/>
                </a:moveTo>
                <a:lnTo>
                  <a:pt x="0" y="44"/>
                </a:lnTo>
                <a:lnTo>
                  <a:pt x="44" y="0"/>
                </a:lnTo>
                <a:lnTo>
                  <a:pt x="44" y="74"/>
                </a:lnTo>
                <a:lnTo>
                  <a:pt x="15" y="59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023920" y="3297240"/>
            <a:ext cx="24120" cy="460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2070000" y="3181320"/>
            <a:ext cx="47880" cy="460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139840" y="3065400"/>
            <a:ext cx="23760" cy="460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06760" y="1684440"/>
            <a:ext cx="41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 Helvetica Condensed"/>
              </a:rPr>
              <a:t>sin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43440" y="4051440"/>
            <a:ext cx="19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 Helvetica Condensed"/>
              </a:rPr>
              <a:t>B. Gradients set u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510680" y="4027320"/>
            <a:ext cx="1587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 Helvetica Condensed"/>
              </a:rPr>
              <a:t>C. Data delive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65480" y="2300400"/>
            <a:ext cx="92160" cy="9180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44"/>
                </a:moveTo>
                <a:lnTo>
                  <a:pt x="0" y="58"/>
                </a:lnTo>
                <a:lnTo>
                  <a:pt x="0" y="0"/>
                </a:lnTo>
                <a:lnTo>
                  <a:pt x="58" y="29"/>
                </a:lnTo>
                <a:lnTo>
                  <a:pt x="29" y="44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1560" y="2370240"/>
            <a:ext cx="301680" cy="3934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252040" y="2820960"/>
            <a:ext cx="685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 Helvetica Condensed"/>
              </a:rPr>
              <a:t>sour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784760" y="3459240"/>
            <a:ext cx="162000" cy="163440"/>
          </a:xfrm>
          <a:prstGeom prst="ellipse">
            <a:avLst/>
          </a:prstGeom>
          <a:solidFill>
            <a:srgbClr val="cf924c"/>
          </a:solidFill>
          <a:ln w="23760">
            <a:solidFill>
              <a:srgbClr val="cf92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55960" y="2136600"/>
            <a:ext cx="139680" cy="140040"/>
          </a:xfrm>
          <a:prstGeom prst="ellipse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041720" y="3065400"/>
            <a:ext cx="139680" cy="139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13240" y="2739960"/>
            <a:ext cx="139680" cy="139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99000" y="2787480"/>
            <a:ext cx="11592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59" y="29"/>
                </a:moveTo>
                <a:lnTo>
                  <a:pt x="59" y="73"/>
                </a:lnTo>
                <a:lnTo>
                  <a:pt x="0" y="29"/>
                </a:lnTo>
                <a:lnTo>
                  <a:pt x="73" y="0"/>
                </a:lnTo>
                <a:lnTo>
                  <a:pt x="59" y="29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714920" y="2855880"/>
            <a:ext cx="395280" cy="936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06840" y="290340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43"/>
                </a:moveTo>
                <a:lnTo>
                  <a:pt x="0" y="58"/>
                </a:lnTo>
                <a:lnTo>
                  <a:pt x="0" y="0"/>
                </a:lnTo>
                <a:lnTo>
                  <a:pt x="58" y="29"/>
                </a:lnTo>
                <a:lnTo>
                  <a:pt x="29" y="43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52920" y="2995560"/>
            <a:ext cx="301680" cy="4636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25800" y="2370240"/>
            <a:ext cx="93600" cy="91800"/>
          </a:xfrm>
          <a:custGeom>
            <a:avLst/>
            <a:gdLst/>
            <a:ahLst/>
            <a:rect l="l" t="t" r="r" b="b"/>
            <a:pathLst>
              <a:path w="59" h="58">
                <a:moveTo>
                  <a:pt x="30" y="43"/>
                </a:moveTo>
                <a:lnTo>
                  <a:pt x="0" y="58"/>
                </a:lnTo>
                <a:lnTo>
                  <a:pt x="15" y="0"/>
                </a:lnTo>
                <a:lnTo>
                  <a:pt x="59" y="43"/>
                </a:lnTo>
                <a:lnTo>
                  <a:pt x="30" y="43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973680" y="2462040"/>
            <a:ext cx="137880" cy="6033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205160" y="3227400"/>
            <a:ext cx="92160" cy="69840"/>
          </a:xfrm>
          <a:custGeom>
            <a:avLst/>
            <a:gdLst/>
            <a:ahLst/>
            <a:rect l="l" t="t" r="r" b="b"/>
            <a:pathLst>
              <a:path w="58" h="44">
                <a:moveTo>
                  <a:pt x="44" y="29"/>
                </a:moveTo>
                <a:lnTo>
                  <a:pt x="29" y="44"/>
                </a:lnTo>
                <a:lnTo>
                  <a:pt x="0" y="0"/>
                </a:lnTo>
                <a:lnTo>
                  <a:pt x="58" y="0"/>
                </a:lnTo>
                <a:lnTo>
                  <a:pt x="44" y="29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297320" y="3273480"/>
            <a:ext cx="463680" cy="2556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05160" y="2995560"/>
            <a:ext cx="92160" cy="115920"/>
          </a:xfrm>
          <a:custGeom>
            <a:avLst/>
            <a:gdLst/>
            <a:ahLst/>
            <a:rect l="l" t="t" r="r" b="b"/>
            <a:pathLst>
              <a:path w="58" h="73">
                <a:moveTo>
                  <a:pt x="44" y="29"/>
                </a:moveTo>
                <a:lnTo>
                  <a:pt x="58" y="44"/>
                </a:lnTo>
                <a:lnTo>
                  <a:pt x="0" y="73"/>
                </a:lnTo>
                <a:lnTo>
                  <a:pt x="14" y="0"/>
                </a:lnTo>
                <a:lnTo>
                  <a:pt x="44" y="29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275000" y="2879640"/>
            <a:ext cx="138240" cy="1396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88520" y="3516480"/>
            <a:ext cx="685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 Helvetica Condensed"/>
              </a:rPr>
              <a:t>sour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13400" y="1800360"/>
            <a:ext cx="41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 Helvetica Condensed"/>
              </a:rPr>
              <a:t>sin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405560" y="2254320"/>
            <a:ext cx="93960" cy="92160"/>
          </a:xfrm>
          <a:custGeom>
            <a:avLst/>
            <a:gdLst/>
            <a:ahLst/>
            <a:rect l="l" t="t" r="r" b="b"/>
            <a:pathLst>
              <a:path w="59" h="58">
                <a:moveTo>
                  <a:pt x="29" y="43"/>
                </a:moveTo>
                <a:lnTo>
                  <a:pt x="0" y="58"/>
                </a:lnTo>
                <a:lnTo>
                  <a:pt x="0" y="0"/>
                </a:lnTo>
                <a:lnTo>
                  <a:pt x="59" y="29"/>
                </a:lnTo>
                <a:lnTo>
                  <a:pt x="29" y="43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451640" y="2322360"/>
            <a:ext cx="349200" cy="4176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623800" y="2820960"/>
            <a:ext cx="685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 Helvetica Condensed"/>
              </a:rPr>
              <a:t>sour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148600" y="3459240"/>
            <a:ext cx="162000" cy="163440"/>
          </a:xfrm>
          <a:prstGeom prst="ellipse">
            <a:avLst/>
          </a:prstGeom>
          <a:solidFill>
            <a:srgbClr val="cf924c"/>
          </a:solidFill>
          <a:ln w="23760">
            <a:solidFill>
              <a:srgbClr val="cf92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43920" y="2114640"/>
            <a:ext cx="139680" cy="139680"/>
          </a:xfrm>
          <a:prstGeom prst="ellipse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29680" y="3065400"/>
            <a:ext cx="137880" cy="139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777080" y="2739960"/>
            <a:ext cx="139680" cy="139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962840" y="2809800"/>
            <a:ext cx="92160" cy="93600"/>
          </a:xfrm>
          <a:custGeom>
            <a:avLst/>
            <a:gdLst/>
            <a:ahLst/>
            <a:rect l="l" t="t" r="r" b="b"/>
            <a:pathLst>
              <a:path w="58" h="59">
                <a:moveTo>
                  <a:pt x="58" y="29"/>
                </a:moveTo>
                <a:lnTo>
                  <a:pt x="58" y="59"/>
                </a:lnTo>
                <a:lnTo>
                  <a:pt x="0" y="15"/>
                </a:lnTo>
                <a:lnTo>
                  <a:pt x="58" y="0"/>
                </a:lnTo>
                <a:lnTo>
                  <a:pt x="58" y="29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055000" y="2855880"/>
            <a:ext cx="417600" cy="698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69240" y="2879640"/>
            <a:ext cx="93600" cy="115920"/>
          </a:xfrm>
          <a:custGeom>
            <a:avLst/>
            <a:gdLst/>
            <a:ahLst/>
            <a:rect l="l" t="t" r="r" b="b"/>
            <a:pathLst>
              <a:path w="59" h="73">
                <a:moveTo>
                  <a:pt x="30" y="58"/>
                </a:moveTo>
                <a:lnTo>
                  <a:pt x="0" y="73"/>
                </a:lnTo>
                <a:lnTo>
                  <a:pt x="0" y="0"/>
                </a:lnTo>
                <a:lnTo>
                  <a:pt x="59" y="44"/>
                </a:lnTo>
                <a:lnTo>
                  <a:pt x="30" y="58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916760" y="2971800"/>
            <a:ext cx="277920" cy="5112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450280" y="2879640"/>
            <a:ext cx="162000" cy="162000"/>
          </a:xfrm>
          <a:prstGeom prst="ellipse">
            <a:avLst/>
          </a:prstGeom>
          <a:solidFill>
            <a:srgbClr val="cf924c"/>
          </a:solidFill>
          <a:ln w="23760">
            <a:solidFill>
              <a:srgbClr val="cf92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360280" y="3494160"/>
            <a:ext cx="685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 Helvetica Condensed"/>
              </a:rPr>
              <a:t>sour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085520" y="1800360"/>
            <a:ext cx="41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 Helvetica Condensed"/>
              </a:rPr>
              <a:t>sin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924440" y="332100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14"/>
                </a:moveTo>
                <a:lnTo>
                  <a:pt x="58" y="29"/>
                </a:lnTo>
                <a:lnTo>
                  <a:pt x="0" y="58"/>
                </a:lnTo>
                <a:lnTo>
                  <a:pt x="0" y="0"/>
                </a:lnTo>
                <a:lnTo>
                  <a:pt x="29" y="14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970520" y="3089160"/>
            <a:ext cx="139680" cy="2541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29280" y="2916360"/>
            <a:ext cx="162000" cy="163440"/>
          </a:xfrm>
          <a:prstGeom prst="ellipse">
            <a:avLst/>
          </a:prstGeom>
          <a:solidFill>
            <a:srgbClr val="cf924c"/>
          </a:solidFill>
          <a:ln w="23760">
            <a:solidFill>
              <a:srgbClr val="cf92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6.8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ome location-sensing technologi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102280" y="609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34880" y="1327320"/>
            <a:ext cx="1219320" cy="37908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37360" y="141912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yp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54200" y="1327320"/>
            <a:ext cx="1657440" cy="37908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994400" y="1419120"/>
            <a:ext cx="997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echanis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11640" y="1327320"/>
            <a:ext cx="1312920" cy="37908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87680" y="1419120"/>
            <a:ext cx="983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24560" y="1327320"/>
            <a:ext cx="1126800" cy="37908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91240" y="1419120"/>
            <a:ext cx="817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curac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51360" y="1327320"/>
            <a:ext cx="2062440" cy="37908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99320" y="1419120"/>
            <a:ext cx="184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ype of location da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813800" y="1327320"/>
            <a:ext cx="1112760" cy="37908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040240" y="1419120"/>
            <a:ext cx="672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ivac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64120" y="1806480"/>
            <a:ext cx="351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P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773000" y="1806480"/>
            <a:ext cx="114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ultilate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773360" y="1973160"/>
            <a:ext cx="1012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satelli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772640" y="2139840"/>
            <a:ext cx="1014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adio sourc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39440" y="1806480"/>
            <a:ext cx="71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utdoo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39440" y="1973160"/>
            <a:ext cx="104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nly (satelli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38720" y="2139840"/>
            <a:ext cx="747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isibility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748040" y="1806480"/>
            <a:ext cx="53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–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0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877360" y="1806480"/>
            <a:ext cx="1587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bsolute geographi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877720" y="1973160"/>
            <a:ext cx="161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ordinates (latitude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877000" y="2139840"/>
            <a:ext cx="1456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ongitude, altitud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940880" y="1806480"/>
            <a:ext cx="296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Y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64840" y="2425680"/>
            <a:ext cx="456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ad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63760" y="2597040"/>
            <a:ext cx="78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eacon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773720" y="2425680"/>
            <a:ext cx="1256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roadcasts fro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774080" y="2597040"/>
            <a:ext cx="101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ireless ba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773360" y="2763720"/>
            <a:ext cx="11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ations (GSM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771200" y="2930400"/>
            <a:ext cx="144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802.11, Bluetooth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441240" y="2425680"/>
            <a:ext cx="83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reas wit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40880" y="2597040"/>
            <a:ext cx="625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ireles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441600" y="2763720"/>
            <a:ext cx="687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vera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748400" y="2425680"/>
            <a:ext cx="7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m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–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k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875920" y="2425680"/>
            <a:ext cx="153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ximity to know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877360" y="2597040"/>
            <a:ext cx="1888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tity (usually semantic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940880" y="2425680"/>
            <a:ext cx="296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Y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5920" y="3200400"/>
            <a:ext cx="81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tive B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73000" y="3200400"/>
            <a:ext cx="114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ultilate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772640" y="3367080"/>
            <a:ext cx="113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radio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772280" y="3540240"/>
            <a:ext cx="810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ltrasou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440520" y="3200400"/>
            <a:ext cx="56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il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439800" y="3540240"/>
            <a:ext cx="56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nso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749480" y="3200400"/>
            <a:ext cx="424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c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78800" y="3200400"/>
            <a:ext cx="1213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lative (room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878440" y="3367080"/>
            <a:ext cx="9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ordinate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939080" y="3200400"/>
            <a:ext cx="89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at ident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939440" y="3367080"/>
            <a:ext cx="71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sclos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64480" y="3838680"/>
            <a:ext cx="8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ltra Wid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64480" y="4005360"/>
            <a:ext cx="403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773000" y="3838680"/>
            <a:ext cx="114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ultilate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73000" y="4005360"/>
            <a:ext cx="133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reception o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773000" y="4172040"/>
            <a:ext cx="919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adio puls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41960" y="3838680"/>
            <a:ext cx="872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ceiver 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40160" y="4005360"/>
            <a:ext cx="7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all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749480" y="3838680"/>
            <a:ext cx="424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5c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878800" y="3838680"/>
            <a:ext cx="1213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lative (room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78440" y="4005360"/>
            <a:ext cx="88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ordinat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939080" y="3838680"/>
            <a:ext cx="9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ag ident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939440" y="4005360"/>
            <a:ext cx="71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sclos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65200" y="4448160"/>
            <a:ext cx="50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tiv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64840" y="4614840"/>
            <a:ext cx="456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ad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771920" y="4448160"/>
            <a:ext cx="1238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frared sens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38720" y="4448160"/>
            <a:ext cx="85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unlight 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35120" y="4614840"/>
            <a:ext cx="849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luoresc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39800" y="4781520"/>
            <a:ext cx="352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gh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749840" y="4448160"/>
            <a:ext cx="810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oom siz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875920" y="4448160"/>
            <a:ext cx="153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ximity to know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877360" y="4614840"/>
            <a:ext cx="1888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tity (usually semantic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940880" y="4448160"/>
            <a:ext cx="48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ad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939080" y="4614840"/>
            <a:ext cx="586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dent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939440" y="4781520"/>
            <a:ext cx="71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sclos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65200" y="5070600"/>
            <a:ext cx="80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utomati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57640" y="5237280"/>
            <a:ext cx="1020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dentific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64840" y="5403960"/>
            <a:ext cx="23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a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774440" y="5070600"/>
            <a:ext cx="1338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FID, Near Fiel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773360" y="5237280"/>
            <a:ext cx="127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mmunication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773360" y="5403960"/>
            <a:ext cx="1123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isual tag (e.g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774080" y="5527800"/>
            <a:ext cx="668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arcod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42320" y="5070600"/>
            <a:ext cx="538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ad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439080" y="5237280"/>
            <a:ext cx="925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stall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749120" y="5070600"/>
            <a:ext cx="763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cm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–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0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875920" y="5070600"/>
            <a:ext cx="153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ximity to know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77360" y="5237280"/>
            <a:ext cx="1888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tity (usually semantic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939080" y="5070600"/>
            <a:ext cx="9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ag ident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939440" y="5237280"/>
            <a:ext cx="71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sclos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3760" y="5842080"/>
            <a:ext cx="9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asy Liv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773360" y="5842080"/>
            <a:ext cx="558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ision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771920" y="6013440"/>
            <a:ext cx="97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riangul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442320" y="5842080"/>
            <a:ext cx="59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me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439080" y="6013440"/>
            <a:ext cx="925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stall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749840" y="5842080"/>
            <a:ext cx="655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aria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878800" y="5842080"/>
            <a:ext cx="1213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lative (room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878440" y="6013440"/>
            <a:ext cx="88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ordinat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940520" y="5842080"/>
            <a:ext cx="23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34880" y="1327320"/>
            <a:ext cx="8491680" cy="1440"/>
          </a:xfrm>
          <a:custGeom>
            <a:avLst/>
            <a:gdLst/>
            <a:ahLst/>
            <a:rect l="l" t="t" r="r" b="b"/>
            <a:pathLst>
              <a:path w="5349" h="0">
                <a:moveTo>
                  <a:pt x="0" y="0"/>
                </a:moveTo>
                <a:lnTo>
                  <a:pt x="534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34880" y="6253200"/>
            <a:ext cx="8491680" cy="1440"/>
          </a:xfrm>
          <a:custGeom>
            <a:avLst/>
            <a:gdLst/>
            <a:ahLst/>
            <a:rect l="l" t="t" r="r" b="b"/>
            <a:pathLst>
              <a:path w="5349" h="0">
                <a:moveTo>
                  <a:pt x="0" y="0"/>
                </a:moveTo>
                <a:lnTo>
                  <a:pt x="534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30200" y="1322280"/>
            <a:ext cx="8489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30200" y="6248520"/>
            <a:ext cx="8489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41960" y="3384720"/>
            <a:ext cx="669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ount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Jean Dollimore</cp:lastModifiedBy>
  <cp:lastPrinted>2000-11-12T21:05:10Z</cp:lastPrinted>
  <dcterms:modified xsi:type="dcterms:W3CDTF">2005-05-20T16:37:18Z</dcterms:modified>
  <cp:revision>56</cp:revision>
  <dc:subject/>
  <dc:title>Figure 15.1 A distributed multimedia system</dc:title>
</cp:coreProperties>
</file>