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331-AB39-4298-B3D6-865999E3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4A1-446D-43D3-8060-627080C5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1B47-6C0E-4C6E-BC90-0CEE4321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79A-9023-4C9F-8891-22438F16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0C68-A0B5-40F6-B8FE-5495AAE5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A6DD-5E3B-41B2-A2E9-23EBD0EC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E605-CF0D-43F9-84D2-7719C021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9E76-7703-4C64-8176-2DE97DE5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2F5B-B655-4292-A80B-7C524A8A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4C62-8116-45CC-AACC-AB0902E8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0854-ABFA-4192-A43F-A7BD8B55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65A-A028-4211-A1DB-3F371C51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E5A8-C99F-4770-803E-29CA31F6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AA34-B865-4B37-83A8-538B83CB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C742-65D4-42F3-9E17-EF51C9D9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8901-7CD3-42D5-AC8F-EC638088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7732-2C2A-42D2-AE3B-A1BF82FB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057-5958-4143-9002-81E1657E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051D-FEDB-4389-9FEF-0D2C916B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585-6D09-41D5-826F-580762E0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020-FCCE-4308-9CAE-6A632747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447-7CEA-4FEA-A3B8-752AE784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526-C9A9-42EB-986F-FC230AA4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FC1-0919-4EDB-B635-AD2FC39D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92AF-66CC-4022-83C5-D3D5EDE854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8E9E-24D5-4378-8CAA-4EE1DFB18E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3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Transactions and Concurrency Contro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5440" y="3095640"/>
            <a:ext cx="18698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9</a:t>
            </a:r>
            <a:br>
              <a:rPr sz="2000"/>
            </a:b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peration conflict rul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28480" y="1949400"/>
            <a:ext cx="8879040" cy="3233880"/>
            <a:chOff x="528480" y="1949400"/>
            <a:chExt cx="8879040" cy="3233880"/>
          </a:xfrm>
        </p:grpSpPr>
        <p:sp>
          <p:nvSpPr>
            <p:cNvPr id="290" name=""/>
            <p:cNvSpPr/>
            <p:nvPr/>
          </p:nvSpPr>
          <p:spPr>
            <a:xfrm>
              <a:off x="528480" y="1969920"/>
              <a:ext cx="8785440" cy="65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3400" y="2039760"/>
              <a:ext cx="233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perations of diffe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75320" y="2308320"/>
              <a:ext cx="126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67920" y="2039760"/>
              <a:ext cx="81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nfl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38440" y="2039760"/>
              <a:ext cx="752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6440" y="27781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57040" y="27781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80520" y="2778120"/>
              <a:ext cx="31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23080" y="2778120"/>
              <a:ext cx="312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cause the effect of a pair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16640" y="27781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78880" y="2778120"/>
              <a:ext cx="112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16600" y="3119400"/>
              <a:ext cx="4786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es not depend on the order in which they 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27760" y="3459240"/>
              <a:ext cx="906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ec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6440" y="38005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58840" y="380052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80520" y="380052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25240" y="3800520"/>
              <a:ext cx="238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cause the effect of 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86200" y="38005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48080" y="3800520"/>
              <a:ext cx="67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56560" y="380052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290440" y="3800520"/>
              <a:ext cx="102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19120" y="4141800"/>
              <a:ext cx="399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ends on the order of their exec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20880" y="4141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8240" y="448164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448164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80520" y="448164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23080" y="4481640"/>
              <a:ext cx="312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cause the effect of a pair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18440" y="448164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51960" y="4481640"/>
              <a:ext cx="112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19120" y="4822920"/>
              <a:ext cx="399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ends on the order of their exec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20880" y="48229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440" y="1949400"/>
              <a:ext cx="876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2960" y="5183280"/>
              <a:ext cx="876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019240" y="2089080"/>
            <a:ext cx="5348520" cy="557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non-serially equivalent interleaving of operations of transaction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067840" y="2201760"/>
            <a:ext cx="1514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60840" y="22017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27520" y="22017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73040" y="2201760"/>
            <a:ext cx="1514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66040" y="220176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61160" y="2201760"/>
            <a:ext cx="9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91040" y="2789280"/>
            <a:ext cx="122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= read(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90320" y="3179880"/>
            <a:ext cx="1258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rite(i, 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74120" y="3378240"/>
            <a:ext cx="122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= read(j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73400" y="3770280"/>
            <a:ext cx="1258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rite(j, 3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90320" y="4352760"/>
            <a:ext cx="1258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rite(j, 2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73760" y="4552920"/>
            <a:ext cx="1282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 = read (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98720" y="2095560"/>
            <a:ext cx="538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8720" y="5016600"/>
            <a:ext cx="538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03760" y="2112840"/>
            <a:ext cx="0" cy="2905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65280" y="1743120"/>
            <a:ext cx="422892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65840" y="1743120"/>
            <a:ext cx="4279680" cy="4460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6200" y="2260440"/>
            <a:ext cx="4248000" cy="6796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48200" y="2243160"/>
            <a:ext cx="4299120" cy="692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dirty read when transaction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bor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65400" y="29480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05920" y="29480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5400" y="55166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64040" y="55166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55166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2680" y="1812960"/>
            <a:ext cx="13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57200" y="1812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5880" y="18129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80400" y="18129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56800" y="2225520"/>
            <a:ext cx="150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getBalanc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53560" y="2573280"/>
            <a:ext cx="284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setBalance(balance +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98040" y="1812960"/>
            <a:ext cx="13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1120" y="18129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95360" y="18129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6960" y="2225520"/>
            <a:ext cx="150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getBalanc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93720" y="2573280"/>
            <a:ext cx="284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setBalance(balance + 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23880" y="1708200"/>
            <a:ext cx="856440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4280" y="3087720"/>
            <a:ext cx="261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alance = a.getBalanc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99960" y="30877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3560" y="3511440"/>
            <a:ext cx="284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setBalance(balance +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99960" y="3511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94440" y="3865680"/>
            <a:ext cx="261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alance = a.getBalanc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340120" y="38656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93720" y="4376880"/>
            <a:ext cx="284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setBalance(balance + 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40120" y="43768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96960" y="4805280"/>
            <a:ext cx="197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it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56800" y="5229360"/>
            <a:ext cx="177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ort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58800" y="5705640"/>
            <a:ext cx="856440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716040" y="2370240"/>
            <a:ext cx="422892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16600" y="2370240"/>
            <a:ext cx="4279680" cy="4460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6960" y="2887560"/>
            <a:ext cx="4248000" cy="3970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98960" y="2870280"/>
            <a:ext cx="4299120" cy="4046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verwriting uncommitted valu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75440" y="2471760"/>
            <a:ext cx="13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30200" y="24717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82120" y="24717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03880" y="2905200"/>
            <a:ext cx="186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setBalance(1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36200" y="2471760"/>
            <a:ext cx="13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89520" y="24717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66640" y="24717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34400" y="2905200"/>
            <a:ext cx="186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setBalance(1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14360" y="33973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3880" y="3754440"/>
            <a:ext cx="186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setBalance(1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14360" y="37544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34400" y="4140360"/>
            <a:ext cx="186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.setBalance(1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444880" y="414036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7800" y="2384280"/>
            <a:ext cx="862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7800" y="4538520"/>
            <a:ext cx="862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sted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96960" y="1981080"/>
            <a:ext cx="8434440" cy="3083040"/>
            <a:chOff x="696960" y="1981080"/>
            <a:chExt cx="8434440" cy="3083040"/>
          </a:xfrm>
        </p:grpSpPr>
        <p:sp>
          <p:nvSpPr>
            <p:cNvPr id="395" name=""/>
            <p:cNvSpPr/>
            <p:nvPr/>
          </p:nvSpPr>
          <p:spPr>
            <a:xfrm>
              <a:off x="4352400" y="1981080"/>
              <a:ext cx="204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  : top-level 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060720" y="2484360"/>
              <a:ext cx="1006560" cy="5382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73800" y="2508120"/>
              <a:ext cx="677880" cy="514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46280" y="2273400"/>
              <a:ext cx="6365880" cy="234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46280" y="2273400"/>
              <a:ext cx="6388200" cy="25848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93760" y="2244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11120" y="232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86720" y="2244600"/>
              <a:ext cx="198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= 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90720" y="2268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07000" y="2352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584040" y="2268360"/>
              <a:ext cx="198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= 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0720" y="3046320"/>
              <a:ext cx="4610160" cy="233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0720" y="3046320"/>
              <a:ext cx="4633920" cy="2574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87920" y="3046320"/>
              <a:ext cx="3511440" cy="233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87920" y="3046320"/>
              <a:ext cx="3533760" cy="2574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04200" y="303372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42920" y="303372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96520" y="301140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6960" y="3795840"/>
              <a:ext cx="1755720" cy="257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6960" y="3795840"/>
              <a:ext cx="1778040" cy="2808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03320" y="3795840"/>
              <a:ext cx="1754280" cy="257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03320" y="3795840"/>
              <a:ext cx="1778040" cy="2808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05280" y="3795840"/>
              <a:ext cx="3183120" cy="257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05280" y="3795840"/>
              <a:ext cx="3206880" cy="2808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79280" y="378288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00880" y="4521240"/>
              <a:ext cx="1755720" cy="257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00880" y="4521240"/>
              <a:ext cx="1779480" cy="2808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515600" y="3327480"/>
              <a:ext cx="468360" cy="468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92520" y="3303720"/>
              <a:ext cx="233280" cy="514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99040" y="3303720"/>
              <a:ext cx="351000" cy="4921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56440" y="4076640"/>
              <a:ext cx="257040" cy="420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1640" y="2754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07920" y="2838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88560" y="2754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58840" y="2754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72960" y="28386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98600" y="2754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8280" y="352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6000" y="361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08720" y="3525840"/>
              <a:ext cx="1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02960" y="352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21040" y="361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83760" y="3525840"/>
              <a:ext cx="1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68480" y="42339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88360" y="4319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31720" y="4233960"/>
              <a:ext cx="1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52800" y="35146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870520" y="3598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33240" y="3584520"/>
              <a:ext cx="1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13320" y="4835520"/>
              <a:ext cx="104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69520" y="408780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 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693280" y="3338640"/>
              <a:ext cx="43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b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73640" y="408780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 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70160" y="408780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 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32520" y="333864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 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76400" y="2612880"/>
              <a:ext cx="61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862680" y="2503440"/>
            <a:ext cx="1316160" cy="3128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69840" y="2503440"/>
            <a:ext cx="2178000" cy="2970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89320" y="2503440"/>
            <a:ext cx="1316160" cy="3128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46600" y="2503440"/>
            <a:ext cx="2025720" cy="2952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69840" y="1317600"/>
            <a:ext cx="3703680" cy="3128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713120" y="1325520"/>
            <a:ext cx="3924360" cy="303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52560" y="1646280"/>
            <a:ext cx="3705120" cy="77796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1680" y="1662120"/>
            <a:ext cx="3925800" cy="7603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action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with exclusive lock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394080" y="251784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9440" y="251784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94080" y="280368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9440" y="280368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94080" y="598176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76760" y="598176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9440" y="598176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80600" y="1376280"/>
            <a:ext cx="110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71760" y="1376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87680" y="1376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44920" y="137628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13000" y="1649520"/>
            <a:ext cx="208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alance = b.getBalan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11920" y="191772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.setBalance(bal*1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411200" y="2168640"/>
            <a:ext cx="157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.withdraw(bal/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57480" y="1376280"/>
            <a:ext cx="110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949720" y="13762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83640" y="1376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40520" y="149076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57840" y="1701720"/>
            <a:ext cx="208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alance = b.getBalan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56760" y="190512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.setBalance(bal*1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56760" y="2173320"/>
            <a:ext cx="156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.withdraw(bal/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944640" y="1282680"/>
            <a:ext cx="772632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13000" y="256536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22520" y="256536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57840" y="256536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87880" y="256536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11200" y="2927520"/>
            <a:ext cx="138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open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13360" y="3195720"/>
            <a:ext cx="175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al =  b.getBalan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2160" y="31957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24280" y="3195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11920" y="357840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.setBalance(bal*1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56040" y="3508200"/>
            <a:ext cx="138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open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11200" y="3898800"/>
            <a:ext cx="157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.withdraw(bal/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2160" y="389880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24280" y="384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58200" y="3833640"/>
            <a:ext cx="175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al =  b.getBalan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88600" y="383364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ts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33800" y="3833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748280" y="38336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87520" y="411336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39120" y="411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11560" y="4368960"/>
            <a:ext cx="140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lose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421440" y="436896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016520" y="4368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30640" y="436896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45120" y="4368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57840" y="443880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935600" y="44388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87520" y="470700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89640" y="470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56760" y="508968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.setBalance(bal*1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88240" y="50324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945480" y="50324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22520" y="53578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79760" y="53578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56760" y="5392800"/>
            <a:ext cx="156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.withdraw(bal/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87520" y="539280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288920" y="53578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56400" y="5740560"/>
            <a:ext cx="140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lose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86800" y="575928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480440" y="5759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96360" y="575928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709760" y="57592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10120" y="4503600"/>
            <a:ext cx="777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62400" y="4503600"/>
            <a:ext cx="777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15040" y="4503600"/>
            <a:ext cx="777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944640" y="6141960"/>
            <a:ext cx="772632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202360" y="2801880"/>
            <a:ext cx="3720960" cy="3222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02360" y="2443320"/>
            <a:ext cx="3720960" cy="3222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87800" y="3121200"/>
            <a:ext cx="1977840" cy="13888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17560" y="3103560"/>
            <a:ext cx="2316240" cy="14050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compatibilit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34840" y="2511360"/>
            <a:ext cx="1501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 on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42360" y="2511360"/>
            <a:ext cx="155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k 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33520" y="2511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84280" y="2511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280980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13480" y="280980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35560" y="3137040"/>
            <a:ext cx="168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k already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3218040"/>
            <a:ext cx="497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89840" y="3218040"/>
            <a:ext cx="36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412400" y="3218040"/>
            <a:ext cx="36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52680" y="368136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89840" y="3681360"/>
            <a:ext cx="36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412760" y="368136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354480" y="414324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290560" y="414324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412760" y="414324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06400" y="2427120"/>
            <a:ext cx="817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6400" y="4514760"/>
            <a:ext cx="817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se of locks in strict two-phase lock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27040" y="1725480"/>
            <a:ext cx="8653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hen an operation accesses an object within a transa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bject is not already locked, it is locked and the operation proc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bject has a conflicting lock set by another transaction, the transaction must wait until it is unlo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bject has a non-conflicting lock set by another transaction, the lock is shared and the operation proc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bject has already been locked in the same transaction, the lock will be promoted if necessary and the operation proceeds. (Where promotion is prevented by a conflicting lock, rule (b) is use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en a transaction is committed or aborted, the server unlocks all objects it locked for the trans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7040" y="5205240"/>
            <a:ext cx="86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7</a:t>
            </a:r>
            <a:br>
              <a:rPr sz="2000"/>
            </a:b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Lock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clas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54120" y="1217520"/>
            <a:ext cx="86472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class Lock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ivate Object object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the object being protected by the 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ivate Vector holders;    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the TIDs of current 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ivate LockType lockType;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the current ty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synchronized void acquire(TransID trans,   LockType aLockType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/*another transaction holds the lock in conflicing mode*/)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wai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catch ( InterruptedException e){/*...*/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f(holders.isEmpty()) { // no TIDs  hold 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holders.addElement(tran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ckType  = aLockTyp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else i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/*another transaction holds the lock, share it*/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) ){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/* this transaction not a holder*/)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holders.addElement(trans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else if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/* this transaction is a holder but needs a more exclusive lock*/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ckType.promo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411960" y="589608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tinues on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92720" y="1884240"/>
            <a:ext cx="7782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ynchronized void release(TransID trans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olders.removeElement(trans);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/ remove this h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 set locktype to 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tifyAl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s of th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ccoun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interf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357200"/>
            <a:ext cx="551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eposit(am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posit amount in the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withdraw(am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thdraw amount from the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getBalance() -&gt;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turn the balance of the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tBalance(am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 the balance of the account to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30320" y="3741840"/>
            <a:ext cx="630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4237200"/>
            <a:ext cx="551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reate(name) -&gt;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eate a new account with a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okUp(name) -&gt; accoun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turn a reference to the account with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ranchTotal() -&gt;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turn the total of all the balances at the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30320" y="3914640"/>
            <a:ext cx="55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perations of the Branch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63800" y="6062760"/>
            <a:ext cx="623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3.18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LockManager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clas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724040" y="1339920"/>
            <a:ext cx="692784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class LockManag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rivate Hashtable theLock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 void setLock(Object object, TransID trans,  LockType lockTyp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ck foundLo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ynchronized(this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// find the lock associated with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// if there isn’t one, create it and add to the hash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oundLock.acquire(trans, lockTyp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// synchronize this one because we want to remove all ent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synchronized void unLock(TransID tran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numeration e = theLocks.elements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while(e.hasMoreElements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ck aLock = (Lock)(e.nextElemen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/* trans is a holder of this lock*/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) aLock.release(tran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919080" y="1644480"/>
            <a:ext cx="3959280" cy="4384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32360" y="1660680"/>
            <a:ext cx="395928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17640" y="2154240"/>
            <a:ext cx="3943440" cy="4888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65840" y="2154240"/>
            <a:ext cx="3943080" cy="4888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adlock with write lock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92400" y="232236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15120" y="232236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92400" y="267804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15120" y="267804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903680" y="1704960"/>
            <a:ext cx="1305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401640" y="1714680"/>
            <a:ext cx="14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98120" y="1681200"/>
            <a:ext cx="1305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81960" y="168120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731720" y="2228760"/>
            <a:ext cx="122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55720" y="1649520"/>
            <a:ext cx="8043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46520" y="2251080"/>
            <a:ext cx="1151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392280" y="2251080"/>
            <a:ext cx="614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67800" y="2251080"/>
            <a:ext cx="1151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515000" y="2251080"/>
            <a:ext cx="614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152200" y="2320920"/>
            <a:ext cx="122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68800" y="2154240"/>
            <a:ext cx="4284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46160" y="2854440"/>
            <a:ext cx="1480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.deposit(100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357360" y="2854440"/>
            <a:ext cx="1032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write lock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39880" y="2854440"/>
            <a:ext cx="14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478640" y="2855880"/>
            <a:ext cx="2376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67440" y="3271680"/>
            <a:ext cx="139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b.deposit(200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13560" y="3271680"/>
            <a:ext cx="1032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write lock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580240" y="3271680"/>
            <a:ext cx="14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78640" y="3159000"/>
            <a:ext cx="23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047600" y="3657600"/>
            <a:ext cx="1613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b.withdraw(100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478640" y="3660840"/>
            <a:ext cx="2376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90480" y="4024440"/>
            <a:ext cx="91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waits fo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14960" y="402444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81640" y="4024440"/>
            <a:ext cx="174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68160" y="4146480"/>
            <a:ext cx="1693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.withdraw(200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12840" y="4146480"/>
            <a:ext cx="973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waits for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508960" y="41464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50440" y="4146480"/>
            <a:ext cx="174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478640" y="4064040"/>
            <a:ext cx="2376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90840" y="4305240"/>
            <a:ext cx="777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ock 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96880" y="4305240"/>
            <a:ext cx="14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513560" y="4427640"/>
            <a:ext cx="777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ock 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18160" y="4427640"/>
            <a:ext cx="14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478640" y="4344840"/>
            <a:ext cx="2376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478640" y="4797360"/>
            <a:ext cx="2376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478640" y="5129280"/>
            <a:ext cx="23760" cy="33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006560" y="4216320"/>
            <a:ext cx="382320" cy="77760"/>
            <a:chOff x="1006560" y="4216320"/>
            <a:chExt cx="382320" cy="77760"/>
          </a:xfrm>
        </p:grpSpPr>
        <p:sp>
          <p:nvSpPr>
            <p:cNvPr id="607" name=""/>
            <p:cNvSpPr/>
            <p:nvPr/>
          </p:nvSpPr>
          <p:spPr>
            <a:xfrm>
              <a:off x="1006560" y="4216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58840" y="4216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11120" y="4216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1006560" y="4846680"/>
            <a:ext cx="382320" cy="77760"/>
            <a:chOff x="1006560" y="4846680"/>
            <a:chExt cx="382320" cy="77760"/>
          </a:xfrm>
        </p:grpSpPr>
        <p:sp>
          <p:nvSpPr>
            <p:cNvPr id="611" name=""/>
            <p:cNvSpPr/>
            <p:nvPr/>
          </p:nvSpPr>
          <p:spPr>
            <a:xfrm>
              <a:off x="1006560" y="4846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58840" y="4846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311120" y="4846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006560" y="5143680"/>
            <a:ext cx="382320" cy="77760"/>
            <a:chOff x="1006560" y="5143680"/>
            <a:chExt cx="382320" cy="77760"/>
          </a:xfrm>
        </p:grpSpPr>
        <p:sp>
          <p:nvSpPr>
            <p:cNvPr id="615" name=""/>
            <p:cNvSpPr/>
            <p:nvPr/>
          </p:nvSpPr>
          <p:spPr>
            <a:xfrm>
              <a:off x="1006560" y="5143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58840" y="5143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11120" y="5143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154480" y="4602240"/>
            <a:ext cx="382320" cy="77760"/>
            <a:chOff x="5154480" y="4602240"/>
            <a:chExt cx="382320" cy="77760"/>
          </a:xfrm>
        </p:grpSpPr>
        <p:sp>
          <p:nvSpPr>
            <p:cNvPr id="619" name=""/>
            <p:cNvSpPr/>
            <p:nvPr/>
          </p:nvSpPr>
          <p:spPr>
            <a:xfrm>
              <a:off x="5154480" y="460224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06760" y="460224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59040" y="460224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154480" y="4846680"/>
            <a:ext cx="382320" cy="77760"/>
            <a:chOff x="5154480" y="4846680"/>
            <a:chExt cx="382320" cy="77760"/>
          </a:xfrm>
        </p:grpSpPr>
        <p:sp>
          <p:nvSpPr>
            <p:cNvPr id="623" name=""/>
            <p:cNvSpPr/>
            <p:nvPr/>
          </p:nvSpPr>
          <p:spPr>
            <a:xfrm>
              <a:off x="5154480" y="4846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06760" y="4846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59040" y="4846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154480" y="5143680"/>
            <a:ext cx="382320" cy="77760"/>
            <a:chOff x="5154480" y="5143680"/>
            <a:chExt cx="382320" cy="77760"/>
          </a:xfrm>
        </p:grpSpPr>
        <p:sp>
          <p:nvSpPr>
            <p:cNvPr id="627" name=""/>
            <p:cNvSpPr/>
            <p:nvPr/>
          </p:nvSpPr>
          <p:spPr>
            <a:xfrm>
              <a:off x="5154480" y="5143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06760" y="5143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59040" y="514368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7180200" y="2136600"/>
            <a:ext cx="42840" cy="4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55800" y="5560920"/>
            <a:ext cx="8043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wait-for graph for Figure 13.19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069560" y="2340000"/>
            <a:ext cx="8214480" cy="2620800"/>
            <a:chOff x="1069560" y="2340000"/>
            <a:chExt cx="8214480" cy="2620800"/>
          </a:xfrm>
        </p:grpSpPr>
        <p:sp>
          <p:nvSpPr>
            <p:cNvPr id="634" name=""/>
            <p:cNvSpPr/>
            <p:nvPr/>
          </p:nvSpPr>
          <p:spPr>
            <a:xfrm>
              <a:off x="6778800" y="42433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65920" y="29034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415000" y="3467160"/>
              <a:ext cx="424800" cy="42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18" y="21390"/>
                  </a:moveTo>
                  <a:arcTo wR="10800" hR="10800" stAng="4721404" swAng="23766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18" y="21390"/>
                  </a:moveTo>
                  <a:arcTo wR="10800" hR="10800" stAng="4721404" swAng="2376641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36640" y="2644560"/>
              <a:ext cx="3290400" cy="207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69" y="12475"/>
                  </a:moveTo>
                  <a:arcTo wR="10800" hR="10800" stAng="535307" swAng="48680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69" y="12475"/>
                  </a:moveTo>
                  <a:arcTo wR="10800" hR="10800" stAng="535307" swAng="4868017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521240" y="4365720"/>
              <a:ext cx="100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773960" y="2467080"/>
              <a:ext cx="86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239320" y="4448160"/>
              <a:ext cx="86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9560" y="3040200"/>
              <a:ext cx="426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292" y="295"/>
                  </a:moveTo>
                  <a:arcTo wR="10800" hR="10800" stAng="-6205757" swAng="2392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8292" y="295"/>
                  </a:moveTo>
                  <a:arcTo wR="10800" hR="10800" stAng="-6205757" swAng="2392449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81600" y="2430360"/>
              <a:ext cx="2132640" cy="164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7" y="8550"/>
                  </a:moveTo>
                  <a:arcTo wR="10800" hR="10800" stAng="-10078381" swAng="10071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37" y="8550"/>
                  </a:moveTo>
                  <a:arcTo wR="10800" hR="10800" stAng="-10078381" swAng="10071752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40640" y="3436560"/>
              <a:ext cx="457920" cy="42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20" y="21325"/>
                  </a:moveTo>
                  <a:arcTo wR="10800" hR="10800" stAng="4623113" swAng="23986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20" y="21325"/>
                  </a:moveTo>
                  <a:arcTo wR="10800" hR="10800" stAng="4623113" swAng="2398682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11120" y="2887560"/>
              <a:ext cx="207360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28" y="13210"/>
                  </a:moveTo>
                  <a:arcTo wR="10800" hR="10800" stAng="773492" swAng="10026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28" y="13210"/>
                  </a:moveTo>
                  <a:arcTo wR="10800" hR="10800" stAng="773492" swAng="10026508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98720" y="325440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98720" y="3254400"/>
              <a:ext cx="487080" cy="487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30120" y="33210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83680" y="325440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83680" y="3254400"/>
              <a:ext cx="487440" cy="487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550000" y="3351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39920" y="3254400"/>
              <a:ext cx="489240" cy="42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39920" y="3254400"/>
              <a:ext cx="51912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03360" y="3321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91120" y="328464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91120" y="3284640"/>
              <a:ext cx="487440" cy="487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54200" y="3381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42320" y="2460600"/>
              <a:ext cx="30456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58"/>
                  </a:moveTo>
                  <a:lnTo>
                    <a:pt x="173" y="96"/>
                  </a:lnTo>
                  <a:lnTo>
                    <a:pt x="0" y="39"/>
                  </a:lnTo>
                  <a:lnTo>
                    <a:pt x="192" y="0"/>
                  </a:lnTo>
                  <a:lnTo>
                    <a:pt x="192" y="5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46880" y="2552760"/>
              <a:ext cx="1219320" cy="731880"/>
            </a:xfrm>
            <a:custGeom>
              <a:avLst/>
              <a:gdLst/>
              <a:ahLst/>
              <a:rect l="l" t="t" r="r" b="b"/>
              <a:pathLst>
                <a:path w="768" h="461">
                  <a:moveTo>
                    <a:pt x="0" y="0"/>
                  </a:moveTo>
                  <a:lnTo>
                    <a:pt x="307" y="38"/>
                  </a:lnTo>
                  <a:lnTo>
                    <a:pt x="557" y="154"/>
                  </a:lnTo>
                  <a:lnTo>
                    <a:pt x="710" y="288"/>
                  </a:lnTo>
                  <a:lnTo>
                    <a:pt x="768" y="461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278920" y="2467080"/>
              <a:ext cx="100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62720" y="4626000"/>
              <a:ext cx="274680" cy="182520"/>
            </a:xfrm>
            <a:custGeom>
              <a:avLst/>
              <a:gdLst/>
              <a:ahLst/>
              <a:rect l="l" t="t" r="r" b="b"/>
              <a:pathLst>
                <a:path w="173" h="115">
                  <a:moveTo>
                    <a:pt x="0" y="57"/>
                  </a:moveTo>
                  <a:lnTo>
                    <a:pt x="0" y="0"/>
                  </a:lnTo>
                  <a:lnTo>
                    <a:pt x="173" y="76"/>
                  </a:lnTo>
                  <a:lnTo>
                    <a:pt x="0" y="11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35560" y="3772080"/>
              <a:ext cx="1127160" cy="944280"/>
            </a:xfrm>
            <a:custGeom>
              <a:avLst/>
              <a:gdLst/>
              <a:ahLst/>
              <a:rect l="l" t="t" r="r" b="b"/>
              <a:pathLst>
                <a:path w="710" h="595">
                  <a:moveTo>
                    <a:pt x="710" y="595"/>
                  </a:moveTo>
                  <a:lnTo>
                    <a:pt x="422" y="518"/>
                  </a:lnTo>
                  <a:lnTo>
                    <a:pt x="192" y="384"/>
                  </a:lnTo>
                  <a:lnTo>
                    <a:pt x="38" y="211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35560" y="2949480"/>
              <a:ext cx="182520" cy="27324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57" y="19"/>
                  </a:moveTo>
                  <a:lnTo>
                    <a:pt x="115" y="38"/>
                  </a:lnTo>
                  <a:lnTo>
                    <a:pt x="0" y="172"/>
                  </a:lnTo>
                  <a:lnTo>
                    <a:pt x="19" y="0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7960" y="2552760"/>
              <a:ext cx="1309680" cy="396720"/>
            </a:xfrm>
            <a:custGeom>
              <a:avLst/>
              <a:gdLst/>
              <a:ahLst/>
              <a:rect l="l" t="t" r="r" b="b"/>
              <a:pathLst>
                <a:path w="825" h="250">
                  <a:moveTo>
                    <a:pt x="0" y="250"/>
                  </a:moveTo>
                  <a:lnTo>
                    <a:pt x="115" y="134"/>
                  </a:lnTo>
                  <a:lnTo>
                    <a:pt x="307" y="58"/>
                  </a:lnTo>
                  <a:lnTo>
                    <a:pt x="82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97520" y="4533840"/>
              <a:ext cx="244800" cy="397080"/>
            </a:xfrm>
            <a:custGeom>
              <a:avLst/>
              <a:gdLst>
                <a:gd name="textAreaLeft" fmla="*/ 35640 w 244800"/>
                <a:gd name="textAreaRight" fmla="*/ 209160 w 244800"/>
                <a:gd name="textAreaTop" fmla="*/ 35640 h 397080"/>
                <a:gd name="textAreaBottom" fmla="*/ 361440 h 397080"/>
              </a:gdLst>
              <a:ahLst/>
              <a:rect l="textAreaLeft" t="textAreaTop" r="textAreaRight" b="textAreaBottom"/>
              <a:pathLst>
                <a:path w="21600" h="35017">
                  <a:moveTo>
                    <a:pt x="10800" y="0"/>
                  </a:moveTo>
                  <a:arcTo wR="10800" hR="10800" stAng="16200000" swAng="-5400000"/>
                  <a:lnTo>
                    <a:pt x="0" y="24217"/>
                  </a:lnTo>
                  <a:arcTo wR="10800" hR="10800" stAng="10800000" swAng="-5400000"/>
                  <a:lnTo>
                    <a:pt x="10800" y="3501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97520" y="4533840"/>
              <a:ext cx="274680" cy="426960"/>
            </a:xfrm>
            <a:custGeom>
              <a:avLst/>
              <a:gdLst>
                <a:gd name="textAreaLeft" fmla="*/ 37800 w 274680"/>
                <a:gd name="textAreaRight" fmla="*/ 236880 w 274680"/>
                <a:gd name="textAreaTop" fmla="*/ 37800 h 426960"/>
                <a:gd name="textAreaBottom" fmla="*/ 389160 h 426960"/>
              </a:gdLst>
              <a:ahLst/>
              <a:rect l="textAreaLeft" t="textAreaTop" r="textAreaRight" b="textAreaBottom"/>
              <a:pathLst>
                <a:path w="21600" h="33559">
                  <a:moveTo>
                    <a:pt x="10176" y="0"/>
                  </a:moveTo>
                  <a:arcTo wR="10176" hR="10176" stAng="16200000" swAng="-5400000"/>
                  <a:lnTo>
                    <a:pt x="0" y="23383"/>
                  </a:lnTo>
                  <a:arcTo wR="10176" hR="10176" stAng="10800000" swAng="-5400000"/>
                  <a:lnTo>
                    <a:pt x="11424" y="33559"/>
                  </a:lnTo>
                  <a:arcTo wR="10176" hR="10176" stAng="5400000" swAng="-5400000"/>
                  <a:lnTo>
                    <a:pt x="21600" y="10176"/>
                  </a:lnTo>
                  <a:arcTo wR="10176" hR="10176" stAng="0" swAng="-5400000"/>
                  <a:close/>
                </a:path>
              </a:pathLst>
            </a:cu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797520" y="4533840"/>
              <a:ext cx="2448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97520" y="4533840"/>
              <a:ext cx="274680" cy="2444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797520" y="4533840"/>
              <a:ext cx="274680" cy="426960"/>
            </a:xfrm>
            <a:custGeom>
              <a:avLst/>
              <a:gdLst>
                <a:gd name="textAreaLeft" fmla="*/ 37800 w 274680"/>
                <a:gd name="textAreaRight" fmla="*/ 236880 w 274680"/>
                <a:gd name="textAreaTop" fmla="*/ 37800 h 426960"/>
                <a:gd name="textAreaBottom" fmla="*/ 389160 h 426960"/>
              </a:gdLst>
              <a:ahLst/>
              <a:rect l="textAreaLeft" t="textAreaTop" r="textAreaRight" b="textAreaBottom"/>
              <a:pathLst>
                <a:path w="21600" h="33559">
                  <a:moveTo>
                    <a:pt x="10176" y="0"/>
                  </a:moveTo>
                  <a:arcTo wR="10176" hR="10176" stAng="16200000" swAng="-5400000"/>
                  <a:lnTo>
                    <a:pt x="0" y="23383"/>
                  </a:lnTo>
                  <a:arcTo wR="10176" hR="10176" stAng="10800000" swAng="-5400000"/>
                  <a:lnTo>
                    <a:pt x="11424" y="33559"/>
                  </a:lnTo>
                  <a:arcTo wR="10176" hR="10176" stAng="5400000" swAng="-5400000"/>
                  <a:lnTo>
                    <a:pt x="21600" y="10176"/>
                  </a:lnTo>
                  <a:arcTo wR="10176" hR="10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797520" y="4746600"/>
              <a:ext cx="244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97520" y="2340000"/>
              <a:ext cx="244800" cy="395280"/>
            </a:xfrm>
            <a:custGeom>
              <a:avLst/>
              <a:gdLst>
                <a:gd name="textAreaLeft" fmla="*/ 35640 w 244800"/>
                <a:gd name="textAreaRight" fmla="*/ 209160 w 244800"/>
                <a:gd name="textAreaTop" fmla="*/ 35640 h 395280"/>
                <a:gd name="textAreaBottom" fmla="*/ 359640 h 395280"/>
              </a:gdLst>
              <a:ahLst/>
              <a:rect l="textAreaLeft" t="textAreaTop" r="textAreaRight" b="textAreaBottom"/>
              <a:pathLst>
                <a:path w="21600" h="34858">
                  <a:moveTo>
                    <a:pt x="10800" y="0"/>
                  </a:moveTo>
                  <a:arcTo wR="10800" hR="10800" stAng="16200000" swAng="-5400000"/>
                  <a:lnTo>
                    <a:pt x="0" y="24058"/>
                  </a:lnTo>
                  <a:arcTo wR="10800" hR="10800" stAng="10800000" swAng="-5400000"/>
                  <a:lnTo>
                    <a:pt x="10800" y="3485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97520" y="2340000"/>
              <a:ext cx="274680" cy="425520"/>
            </a:xfrm>
            <a:custGeom>
              <a:avLst/>
              <a:gdLst>
                <a:gd name="textAreaLeft" fmla="*/ 37800 w 274680"/>
                <a:gd name="textAreaRight" fmla="*/ 236880 w 274680"/>
                <a:gd name="textAreaTop" fmla="*/ 37800 h 425520"/>
                <a:gd name="textAreaBottom" fmla="*/ 387720 h 425520"/>
              </a:gdLst>
              <a:ahLst/>
              <a:rect l="textAreaLeft" t="textAreaTop" r="textAreaRight" b="textAreaBottom"/>
              <a:pathLst>
                <a:path w="21600" h="33446">
                  <a:moveTo>
                    <a:pt x="10176" y="0"/>
                  </a:moveTo>
                  <a:arcTo wR="10176" hR="10176" stAng="16200000" swAng="-5400000"/>
                  <a:lnTo>
                    <a:pt x="0" y="23270"/>
                  </a:lnTo>
                  <a:arcTo wR="10176" hR="10176" stAng="10800000" swAng="-5400000"/>
                  <a:lnTo>
                    <a:pt x="11424" y="33446"/>
                  </a:lnTo>
                  <a:arcTo wR="10176" hR="10176" stAng="5400000" swAng="-5400000"/>
                  <a:lnTo>
                    <a:pt x="21600" y="10176"/>
                  </a:lnTo>
                  <a:arcTo wR="10176" hR="10176" stAng="0" swAng="-5400000"/>
                  <a:close/>
                </a:path>
              </a:pathLst>
            </a:cu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97520" y="2340000"/>
              <a:ext cx="2448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97520" y="2340000"/>
              <a:ext cx="274680" cy="2430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97520" y="2340000"/>
              <a:ext cx="274680" cy="425520"/>
            </a:xfrm>
            <a:custGeom>
              <a:avLst/>
              <a:gdLst>
                <a:gd name="textAreaLeft" fmla="*/ 37800 w 274680"/>
                <a:gd name="textAreaRight" fmla="*/ 236880 w 274680"/>
                <a:gd name="textAreaTop" fmla="*/ 37800 h 425520"/>
                <a:gd name="textAreaBottom" fmla="*/ 387720 h 425520"/>
              </a:gdLst>
              <a:ahLst/>
              <a:rect l="textAreaLeft" t="textAreaTop" r="textAreaRight" b="textAreaBottom"/>
              <a:pathLst>
                <a:path w="21600" h="33446">
                  <a:moveTo>
                    <a:pt x="10176" y="0"/>
                  </a:moveTo>
                  <a:arcTo wR="10176" hR="10176" stAng="16200000" swAng="-5400000"/>
                  <a:lnTo>
                    <a:pt x="0" y="23270"/>
                  </a:lnTo>
                  <a:arcTo wR="10176" hR="10176" stAng="10800000" swAng="-5400000"/>
                  <a:lnTo>
                    <a:pt x="11424" y="33446"/>
                  </a:lnTo>
                  <a:arcTo wR="10176" hR="10176" stAng="5400000" swAng="-5400000"/>
                  <a:lnTo>
                    <a:pt x="21600" y="10176"/>
                  </a:lnTo>
                  <a:arcTo wR="10176" hR="10176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97520" y="2552760"/>
              <a:ext cx="244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cycle in a wait-for graph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123840" y="1921320"/>
            <a:ext cx="8693280" cy="2933280"/>
            <a:chOff x="123840" y="1921320"/>
            <a:chExt cx="8693280" cy="2933280"/>
          </a:xfrm>
        </p:grpSpPr>
        <p:sp>
          <p:nvSpPr>
            <p:cNvPr id="678" name=""/>
            <p:cNvSpPr/>
            <p:nvPr/>
          </p:nvSpPr>
          <p:spPr>
            <a:xfrm>
              <a:off x="4062240" y="1957320"/>
              <a:ext cx="51912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62240" y="1957320"/>
              <a:ext cx="557280" cy="52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29280" y="203688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84400" y="4335480"/>
              <a:ext cx="48276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84400" y="4335480"/>
              <a:ext cx="520920" cy="519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51080" y="44132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87440" y="2924280"/>
              <a:ext cx="52056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87440" y="2924280"/>
              <a:ext cx="557280" cy="519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588680" y="30020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801960" y="1921320"/>
              <a:ext cx="482760" cy="48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6" y="14451"/>
                  </a:moveTo>
                  <a:arcTo wR="10800" hR="10800" stAng="9614639" swAng="23707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36" y="14451"/>
                  </a:moveTo>
                  <a:arcTo wR="10800" hR="10800" stAng="9614639" swAng="2370721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58960" y="2180880"/>
              <a:ext cx="4568760" cy="155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161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161001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425960" y="3183120"/>
              <a:ext cx="481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646" y="20452"/>
                  </a:moveTo>
                  <a:arcTo wR="10800" hR="10800" stAng="3800457" swAng="23953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646" y="20452"/>
                  </a:moveTo>
                  <a:arcTo wR="10800" hR="10800" stAng="3800457" swAng="2395332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84800" y="2217960"/>
              <a:ext cx="259920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921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92193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22040" y="2813040"/>
              <a:ext cx="481680" cy="48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76" y="2863"/>
                  </a:moveTo>
                  <a:arcTo wR="10800" hR="10800" stAng="-7961804" swAng="2403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476" y="2863"/>
                  </a:moveTo>
                  <a:arcTo wR="10800" hR="10800" stAng="-7961804" swAng="2403079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2560" y="2181240"/>
              <a:ext cx="7836120" cy="17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6" y="0"/>
                  </a:moveTo>
                  <a:arcTo wR="10800" hR="10800" stAng="-5401391" swAng="47356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6" y="0"/>
                  </a:moveTo>
                  <a:arcTo wR="10800" hR="10800" stAng="-5401391" swAng="4735645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59880" y="4037040"/>
              <a:ext cx="482040" cy="4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64" y="7149"/>
                  </a:moveTo>
                  <a:arcTo wR="10800" hR="10800" stAng="-1185360" swAng="2370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64" y="7149"/>
                  </a:moveTo>
                  <a:arcTo wR="10800" hR="10800" stAng="-1185360" swAng="2370720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770800" y="2329560"/>
              <a:ext cx="2822040" cy="19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981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981057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45040" y="4335480"/>
              <a:ext cx="482040" cy="4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64" y="7149"/>
                  </a:moveTo>
                  <a:arcTo wR="10800" hR="10800" stAng="-1185360" swAng="2370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64" y="7149"/>
                  </a:moveTo>
                  <a:arcTo wR="10800" hR="10800" stAng="-1185360" swAng="2370720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23840" y="3593520"/>
              <a:ext cx="6797160" cy="10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6"/>
                  </a:moveTo>
                  <a:arcTo wR="10800" hR="10800" stAng="-10896" swAng="529155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6"/>
                  </a:moveTo>
                  <a:arcTo wR="10800" hR="10800" stAng="-10896" swAng="5291556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99240" y="4000680"/>
              <a:ext cx="51912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699240" y="4000680"/>
              <a:ext cx="557280" cy="518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259840" y="3071880"/>
              <a:ext cx="51912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259840" y="3071880"/>
              <a:ext cx="557280" cy="520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other wait-for graph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439560" y="1252440"/>
            <a:ext cx="8476560" cy="4550760"/>
            <a:chOff x="439560" y="1252440"/>
            <a:chExt cx="8476560" cy="4550760"/>
          </a:xfrm>
        </p:grpSpPr>
        <p:sp>
          <p:nvSpPr>
            <p:cNvPr id="703" name=""/>
            <p:cNvSpPr/>
            <p:nvPr/>
          </p:nvSpPr>
          <p:spPr>
            <a:xfrm>
              <a:off x="3711960" y="3240000"/>
              <a:ext cx="3345840" cy="130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05" y="2"/>
                  </a:moveTo>
                  <a:arcTo wR="10800" hR="10800" stAng="-5462085" swAng="46258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05" y="2"/>
                  </a:moveTo>
                  <a:arcTo wR="10800" hR="10800" stAng="-5462085" swAng="4625816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278320" y="2532960"/>
              <a:ext cx="1701720" cy="175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19" y="21435"/>
                  </a:moveTo>
                  <a:arcTo wR="10800" hR="10800" stAng="6001822" swAng="4798178"/>
                  <a:lnTo>
                    <a:pt x="10800" y="10800"/>
                  </a:lnTo>
                  <a:close/>
                </a:path>
                <a:path fill="none" w="21600" h="21600">
                  <a:moveTo>
                    <a:pt x="8919" y="21435"/>
                  </a:moveTo>
                  <a:arcTo wR="10800" hR="10800" stAng="6001822" swAng="4798178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931280" y="31748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586560" y="2193840"/>
              <a:ext cx="392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86560" y="2193840"/>
              <a:ext cx="419040" cy="392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03200" y="2266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926400" y="3867120"/>
              <a:ext cx="419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26400" y="3867120"/>
              <a:ext cx="444240" cy="392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6824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41960" y="4129200"/>
              <a:ext cx="39204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41960" y="4129200"/>
              <a:ext cx="419040" cy="392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59320" y="41767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404040" y="2169000"/>
              <a:ext cx="364320" cy="36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" y="14468"/>
                  </a:moveTo>
                  <a:arcTo wR="10800" hR="10800" stAng="9608687" swAng="2382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" y="14468"/>
                  </a:moveTo>
                  <a:arcTo wR="10800" hR="10800" stAng="9608687" swAng="2382627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54560" y="2351880"/>
              <a:ext cx="2692440" cy="14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270" swAng="509220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270" swAng="5092204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59440" y="4103640"/>
              <a:ext cx="364320" cy="36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8" y="13054"/>
                  </a:moveTo>
                  <a:arcTo wR="10800" hR="10800" stAng="10077363" swAng="23639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38" y="13054"/>
                  </a:moveTo>
                  <a:arcTo wR="10800" hR="10800" stAng="10077363" swAng="2363947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900840" y="3686040"/>
              <a:ext cx="365040" cy="36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81" y="2858"/>
                  </a:moveTo>
                  <a:arcTo wR="10800" hR="10800" stAng="-7959888" swAng="2379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481" y="2858"/>
                  </a:moveTo>
                  <a:arcTo wR="10800" hR="10800" stAng="-7959888" swAng="2379912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92680" y="238932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786640" y="300816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24560" y="374976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9560" y="3005280"/>
              <a:ext cx="3924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39560" y="3005280"/>
              <a:ext cx="419400" cy="417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6560" y="3078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95600" y="3344760"/>
              <a:ext cx="4190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95600" y="3344760"/>
              <a:ext cx="444240" cy="392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837440" y="34178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558880" y="2298600"/>
              <a:ext cx="3924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558880" y="2298600"/>
              <a:ext cx="417600" cy="417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674440" y="2371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401920" y="2299680"/>
              <a:ext cx="364320" cy="36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7" y="14371"/>
                  </a:moveTo>
                  <a:arcTo wR="10800" hR="10800" stAng="9641591" swAng="2372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607" y="14371"/>
                  </a:moveTo>
                  <a:arcTo wR="10800" hR="10800" stAng="9641591" swAng="2372949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2440" y="2480400"/>
              <a:ext cx="3898440" cy="107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1759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17592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081240" y="4129200"/>
              <a:ext cx="39204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081240" y="4129200"/>
              <a:ext cx="419040" cy="392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45680" y="420228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684920" y="2351160"/>
              <a:ext cx="3924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84920" y="2351160"/>
              <a:ext cx="419400" cy="417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774920" y="245124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283240" y="36720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867440" y="2324520"/>
              <a:ext cx="39348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71" y="10009"/>
                  </a:moveTo>
                  <a:arcTo wR="10800" hR="10800" stAng="-252108" swAng="2381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71" y="10009"/>
                  </a:moveTo>
                  <a:arcTo wR="10800" hR="10800" stAng="-252108" swAng="2381154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527600" y="2534760"/>
              <a:ext cx="1073160" cy="201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80" y="364"/>
                  </a:moveTo>
                  <a:arcTo wR="10800" hR="10800" stAng="-4504893" swAng="44994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80" y="364"/>
                  </a:moveTo>
                  <a:arcTo wR="10800" hR="10800" stAng="-4504893" swAng="4499475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48640" y="309564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393400" y="3711600"/>
              <a:ext cx="389880" cy="39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852" y="21423"/>
                  </a:moveTo>
                  <a:arcTo wR="10800" hR="10800" stAng="6023331" swAng="2413401"/>
                  <a:lnTo>
                    <a:pt x="10800" y="10800"/>
                  </a:lnTo>
                  <a:close/>
                </a:path>
                <a:path fill="none" w="21600" h="21600">
                  <a:moveTo>
                    <a:pt x="8852" y="21423"/>
                  </a:moveTo>
                  <a:arcTo wR="10800" hR="10800" stAng="6023331" swAng="2413401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519080" y="3396960"/>
              <a:ext cx="4029840" cy="10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32" y="13594"/>
                  </a:moveTo>
                  <a:arcTo wR="10800" hR="10800" stAng="899695" swAng="4500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32" y="13594"/>
                  </a:moveTo>
                  <a:arcTo wR="10800" hR="10800" stAng="899695" swAng="4500305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063640" y="4324320"/>
              <a:ext cx="85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42440" y="3187440"/>
              <a:ext cx="36324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13" y="19771"/>
                  </a:moveTo>
                  <a:arcTo wR="10800" hR="10800" stAng="3370170" swAng="24235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13" y="19771"/>
                  </a:moveTo>
                  <a:arcTo wR="10800" hR="10800" stAng="3370170" swAng="2423592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21720" y="2324160"/>
              <a:ext cx="4893480" cy="20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9814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981476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42120" y="2273400"/>
              <a:ext cx="366840" cy="36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77" y="14414"/>
                  </a:moveTo>
                  <a:arcTo wR="10800" hR="10800" stAng="1173119" swAng="2442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77" y="14414"/>
                  </a:moveTo>
                  <a:arcTo wR="10800" hR="10800" stAng="1173119" swAng="2442188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558880" y="2455200"/>
              <a:ext cx="758520" cy="334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57" y="568"/>
                  </a:moveTo>
                  <a:arcTo wR="10800" hR="10800" stAng="-4279814" swAng="42798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57" y="568"/>
                  </a:moveTo>
                  <a:arcTo wR="10800" hR="10800" stAng="-4279814" swAng="4279814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99800" y="3947400"/>
              <a:ext cx="391320" cy="36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" y="7132"/>
                  </a:moveTo>
                  <a:arcTo wR="10800" hR="10800" stAng="-9608851" swAng="2393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" y="7132"/>
                  </a:moveTo>
                  <a:arcTo wR="10800" hR="10800" stAng="-9608851" swAng="2393912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1760" y="1252440"/>
              <a:ext cx="707040" cy="287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94" y="20944"/>
                  </a:moveTo>
                  <a:arcTo wR="10800" hR="10800" stAng="6604235" swAng="4195765"/>
                  <a:lnTo>
                    <a:pt x="10800" y="10800"/>
                  </a:lnTo>
                  <a:close/>
                </a:path>
                <a:path fill="none" w="21600" h="21600">
                  <a:moveTo>
                    <a:pt x="7094" y="20944"/>
                  </a:moveTo>
                  <a:arcTo wR="10800" hR="10800" stAng="6604235" swAng="4195765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07960" y="3397320"/>
              <a:ext cx="235080" cy="129960"/>
            </a:xfrm>
            <a:custGeom>
              <a:avLst/>
              <a:gdLst/>
              <a:ahLst/>
              <a:rect l="l" t="t" r="r" b="b"/>
              <a:pathLst>
                <a:path w="148" h="82">
                  <a:moveTo>
                    <a:pt x="16" y="33"/>
                  </a:moveTo>
                  <a:lnTo>
                    <a:pt x="33" y="0"/>
                  </a:lnTo>
                  <a:lnTo>
                    <a:pt x="148" y="82"/>
                  </a:lnTo>
                  <a:lnTo>
                    <a:pt x="0" y="66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58960" y="3265560"/>
              <a:ext cx="54900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65400" y="3762360"/>
              <a:ext cx="209520" cy="157320"/>
            </a:xfrm>
            <a:custGeom>
              <a:avLst/>
              <a:gdLst/>
              <a:ahLst/>
              <a:rect l="l" t="t" r="r" b="b"/>
              <a:pathLst>
                <a:path w="132" h="99">
                  <a:moveTo>
                    <a:pt x="116" y="66"/>
                  </a:moveTo>
                  <a:lnTo>
                    <a:pt x="99" y="99"/>
                  </a:lnTo>
                  <a:lnTo>
                    <a:pt x="0" y="0"/>
                  </a:lnTo>
                  <a:lnTo>
                    <a:pt x="132" y="33"/>
                  </a:lnTo>
                  <a:lnTo>
                    <a:pt x="116" y="6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2374920" y="3867120"/>
              <a:ext cx="706320" cy="41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48360" y="3057480"/>
              <a:ext cx="234720" cy="339840"/>
            </a:xfrm>
            <a:custGeom>
              <a:avLst/>
              <a:gdLst>
                <a:gd name="textAreaLeft" fmla="*/ 32400 w 234720"/>
                <a:gd name="textAreaRight" fmla="*/ 202320 w 234720"/>
                <a:gd name="textAreaTop" fmla="*/ 32400 h 339840"/>
                <a:gd name="textAreaBottom" fmla="*/ 307440 h 339840"/>
              </a:gdLst>
              <a:ahLst/>
              <a:rect l="textAreaLeft" t="textAreaTop" r="textAreaRight" b="textAreaBottom"/>
              <a:pathLst>
                <a:path w="21600" h="31259">
                  <a:moveTo>
                    <a:pt x="10216" y="0"/>
                  </a:moveTo>
                  <a:arcTo wR="10216" hR="10216" stAng="16200000" swAng="-5400000"/>
                  <a:lnTo>
                    <a:pt x="0" y="21043"/>
                  </a:lnTo>
                  <a:arcTo wR="10216" hR="10216" stAng="10800000" swAng="-5400000"/>
                  <a:lnTo>
                    <a:pt x="11384" y="31259"/>
                  </a:lnTo>
                  <a:arcTo wR="10216" hR="10216" stAng="5400000" swAng="-5400000"/>
                  <a:lnTo>
                    <a:pt x="21600" y="10216"/>
                  </a:lnTo>
                  <a:arcTo wR="10216" hR="10216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48360" y="3057480"/>
              <a:ext cx="261720" cy="365040"/>
            </a:xfrm>
            <a:custGeom>
              <a:avLst/>
              <a:gdLst>
                <a:gd name="textAreaLeft" fmla="*/ 32400 w 261720"/>
                <a:gd name="textAreaRight" fmla="*/ 229320 w 261720"/>
                <a:gd name="textAreaTop" fmla="*/ 32400 h 365040"/>
                <a:gd name="textAreaBottom" fmla="*/ 332640 h 365040"/>
              </a:gdLst>
              <a:ahLst/>
              <a:rect l="textAreaLeft" t="textAreaTop" r="textAreaRight" b="textAreaBottom"/>
              <a:pathLst>
                <a:path w="21600" h="30115">
                  <a:moveTo>
                    <a:pt x="9164" y="0"/>
                  </a:moveTo>
                  <a:arcTo wR="9164" hR="9164" stAng="16200000" swAng="-5400000"/>
                  <a:lnTo>
                    <a:pt x="0" y="20951"/>
                  </a:lnTo>
                  <a:arcTo wR="9164" hR="9164" stAng="10800000" swAng="-5400000"/>
                  <a:lnTo>
                    <a:pt x="12436" y="30115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148360" y="3057480"/>
              <a:ext cx="2347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148360" y="3057480"/>
              <a:ext cx="261720" cy="208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48360" y="3057480"/>
              <a:ext cx="261720" cy="365040"/>
            </a:xfrm>
            <a:custGeom>
              <a:avLst/>
              <a:gdLst>
                <a:gd name="textAreaLeft" fmla="*/ 32400 w 261720"/>
                <a:gd name="textAreaRight" fmla="*/ 229320 w 261720"/>
                <a:gd name="textAreaTop" fmla="*/ 32400 h 365040"/>
                <a:gd name="textAreaBottom" fmla="*/ 332640 h 365040"/>
              </a:gdLst>
              <a:ahLst/>
              <a:rect l="textAreaLeft" t="textAreaTop" r="textAreaRight" b="textAreaBottom"/>
              <a:pathLst>
                <a:path w="21600" h="30115">
                  <a:moveTo>
                    <a:pt x="9164" y="0"/>
                  </a:moveTo>
                  <a:arcTo wR="9164" hR="9164" stAng="16200000" swAng="-5400000"/>
                  <a:lnTo>
                    <a:pt x="0" y="20951"/>
                  </a:lnTo>
                  <a:arcTo wR="9164" hR="9164" stAng="10800000" swAng="-5400000"/>
                  <a:lnTo>
                    <a:pt x="12436" y="30115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148360" y="3240000"/>
              <a:ext cx="234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9360" y="3554280"/>
              <a:ext cx="209520" cy="339840"/>
            </a:xfrm>
            <a:custGeom>
              <a:avLst/>
              <a:gdLst>
                <a:gd name="textAreaLeft" fmla="*/ 30600 w 209520"/>
                <a:gd name="textAreaRight" fmla="*/ 178920 w 209520"/>
                <a:gd name="textAreaTop" fmla="*/ 30600 h 339840"/>
                <a:gd name="textAreaBottom" fmla="*/ 309240 h 339840"/>
              </a:gdLst>
              <a:ahLst/>
              <a:rect l="textAreaLeft" t="textAreaTop" r="textAreaRight" b="textAreaBottom"/>
              <a:pathLst>
                <a:path w="21600" h="35012">
                  <a:moveTo>
                    <a:pt x="10800" y="0"/>
                  </a:moveTo>
                  <a:arcTo wR="10800" hR="10800" stAng="16200000" swAng="-5400000"/>
                  <a:lnTo>
                    <a:pt x="0" y="24212"/>
                  </a:lnTo>
                  <a:arcTo wR="10800" hR="10800" stAng="10800000" swAng="-5400000"/>
                  <a:lnTo>
                    <a:pt x="10800" y="3501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469360" y="3554280"/>
              <a:ext cx="236520" cy="365400"/>
            </a:xfrm>
            <a:custGeom>
              <a:avLst/>
              <a:gdLst>
                <a:gd name="textAreaLeft" fmla="*/ 32400 w 236520"/>
                <a:gd name="textAreaRight" fmla="*/ 204120 w 236520"/>
                <a:gd name="textAreaTop" fmla="*/ 32400 h 365400"/>
                <a:gd name="textAreaBottom" fmla="*/ 333000 h 365400"/>
              </a:gdLst>
              <a:ahLst/>
              <a:rect l="textAreaLeft" t="textAreaTop" r="textAreaRight" b="textAreaBottom"/>
              <a:pathLst>
                <a:path w="21600" h="33352">
                  <a:moveTo>
                    <a:pt x="10148" y="0"/>
                  </a:moveTo>
                  <a:arcTo wR="10148" hR="10148" stAng="16200000" swAng="-5400000"/>
                  <a:lnTo>
                    <a:pt x="0" y="23204"/>
                  </a:lnTo>
                  <a:arcTo wR="10148" hR="10148" stAng="10800000" swAng="-5400000"/>
                  <a:lnTo>
                    <a:pt x="11452" y="33352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469360" y="3554280"/>
              <a:ext cx="2095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469360" y="3554280"/>
              <a:ext cx="236520" cy="208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469360" y="3554280"/>
              <a:ext cx="236520" cy="365400"/>
            </a:xfrm>
            <a:custGeom>
              <a:avLst/>
              <a:gdLst>
                <a:gd name="textAreaLeft" fmla="*/ 32400 w 236520"/>
                <a:gd name="textAreaRight" fmla="*/ 204120 w 236520"/>
                <a:gd name="textAreaTop" fmla="*/ 32400 h 365400"/>
                <a:gd name="textAreaBottom" fmla="*/ 333000 h 365400"/>
              </a:gdLst>
              <a:ahLst/>
              <a:rect l="textAreaLeft" t="textAreaTop" r="textAreaRight" b="textAreaBottom"/>
              <a:pathLst>
                <a:path w="21600" h="33352">
                  <a:moveTo>
                    <a:pt x="10148" y="0"/>
                  </a:moveTo>
                  <a:arcTo wR="10148" hR="10148" stAng="16200000" swAng="-5400000"/>
                  <a:lnTo>
                    <a:pt x="0" y="23204"/>
                  </a:lnTo>
                  <a:arcTo wR="10148" hR="10148" stAng="10800000" swAng="-5400000"/>
                  <a:lnTo>
                    <a:pt x="11452" y="33352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469360" y="3736800"/>
              <a:ext cx="2095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884160" y="1531800"/>
            <a:ext cx="3959280" cy="3366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62520" y="1547640"/>
            <a:ext cx="3959280" cy="3366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82720" y="1901880"/>
            <a:ext cx="3960720" cy="3697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63960" y="1901880"/>
            <a:ext cx="3959280" cy="3697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solution of the deadlock in Figure 15.19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405240" y="19591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7440" y="19591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405240" y="228924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7440" y="228924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405240" y="57229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879800" y="57229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7440" y="57229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75760" y="1571760"/>
            <a:ext cx="139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tion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82920" y="1571760"/>
            <a:ext cx="140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tion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96920" y="17035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563520" y="17035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55720" y="1473120"/>
            <a:ext cx="797076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56760" y="196380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436920" y="1963800"/>
            <a:ext cx="58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87520" y="196380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269120" y="1963800"/>
            <a:ext cx="58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863840" y="20336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929000" y="20336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167600" y="1857240"/>
            <a:ext cx="4284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256400" y="2430360"/>
            <a:ext cx="140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.deposit(1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434760" y="2398680"/>
            <a:ext cx="98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427280" y="23637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237440" y="2289240"/>
            <a:ext cx="2232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86800" y="2805120"/>
            <a:ext cx="132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.deposit(2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267320" y="2773440"/>
            <a:ext cx="98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259480" y="27385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256400" y="317988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.withdraw(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35480" y="351468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295880" y="3487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449600" y="3540240"/>
            <a:ext cx="16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087160" y="3483000"/>
            <a:ext cx="160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.withdraw(2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268040" y="3510000"/>
            <a:ext cx="117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s for T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435480" y="3790800"/>
            <a:ext cx="73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186080" y="3790800"/>
            <a:ext cx="13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267680" y="3790800"/>
            <a:ext cx="73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018280" y="379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065600" y="4170240"/>
            <a:ext cx="354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imeout elap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77480" y="454824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427400" y="4548240"/>
            <a:ext cx="108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s lock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577600" y="45482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706120" y="4548240"/>
            <a:ext cx="19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omes vulnerab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259640" y="4856040"/>
            <a:ext cx="259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943080" y="48560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073040" y="4856040"/>
            <a:ext cx="78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bort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087160" y="5160960"/>
            <a:ext cx="160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.withdraw(2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267320" y="5187960"/>
            <a:ext cx="107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loc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348400" y="51879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268040" y="5468760"/>
            <a:ext cx="68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951320" y="54687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082360" y="546876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214840" y="54687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1316160" y="3613320"/>
            <a:ext cx="382320" cy="77760"/>
            <a:chOff x="1316160" y="3613320"/>
            <a:chExt cx="382320" cy="77760"/>
          </a:xfrm>
        </p:grpSpPr>
        <p:sp>
          <p:nvSpPr>
            <p:cNvPr id="825" name=""/>
            <p:cNvSpPr/>
            <p:nvPr/>
          </p:nvSpPr>
          <p:spPr>
            <a:xfrm>
              <a:off x="1316160" y="3613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68440" y="3613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620720" y="3613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121360" y="4081320"/>
            <a:ext cx="382320" cy="77760"/>
            <a:chOff x="5121360" y="4081320"/>
            <a:chExt cx="382320" cy="77760"/>
          </a:xfrm>
        </p:grpSpPr>
        <p:sp>
          <p:nvSpPr>
            <p:cNvPr id="829" name=""/>
            <p:cNvSpPr/>
            <p:nvPr/>
          </p:nvSpPr>
          <p:spPr>
            <a:xfrm>
              <a:off x="5121360" y="4081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73640" y="4081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25920" y="40813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121360" y="4548240"/>
            <a:ext cx="382320" cy="77760"/>
            <a:chOff x="5121360" y="4548240"/>
            <a:chExt cx="382320" cy="77760"/>
          </a:xfrm>
        </p:grpSpPr>
        <p:sp>
          <p:nvSpPr>
            <p:cNvPr id="833" name=""/>
            <p:cNvSpPr/>
            <p:nvPr/>
          </p:nvSpPr>
          <p:spPr>
            <a:xfrm>
              <a:off x="5121360" y="454824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73640" y="454824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25920" y="454824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341520" y="1892160"/>
            <a:ext cx="4320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88840" y="5931000"/>
            <a:ext cx="7920360" cy="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compatibility (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ommi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locks)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71400" y="26812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03680" y="268128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53040" y="268128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66200" y="268128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03680" y="441792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416480" y="441792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053040" y="4417920"/>
            <a:ext cx="255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666200" y="441792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71400" y="2087640"/>
            <a:ext cx="8439120" cy="2622600"/>
            <a:chOff x="671400" y="2087640"/>
            <a:chExt cx="8439120" cy="2622600"/>
          </a:xfrm>
        </p:grpSpPr>
        <p:sp>
          <p:nvSpPr>
            <p:cNvPr id="848" name=""/>
            <p:cNvSpPr/>
            <p:nvPr/>
          </p:nvSpPr>
          <p:spPr>
            <a:xfrm>
              <a:off x="2509920" y="2986200"/>
              <a:ext cx="1741320" cy="1690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70320" y="2529000"/>
              <a:ext cx="484020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237200" y="2089080"/>
              <a:ext cx="484020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98400" y="3003480"/>
              <a:ext cx="1774800" cy="1690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822320" y="2139840"/>
              <a:ext cx="150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or one 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67760" y="2139840"/>
              <a:ext cx="1409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to be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866560" y="21398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671400" y="2087640"/>
              <a:ext cx="842832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51040" y="25621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089760" y="256212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01120" y="2562120"/>
              <a:ext cx="75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mm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46320" y="2684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05600" y="2995560"/>
              <a:ext cx="168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already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36600" y="2995560"/>
              <a:ext cx="49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51760" y="29955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88320" y="29955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36800" y="2995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11320" y="2995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701480" y="29955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049600" y="2995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24120" y="2995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36600" y="344340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451760" y="34434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088320" y="34434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701840" y="344340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147880" y="34434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222760" y="34434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38400" y="388476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51760" y="38847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89040" y="3884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701480" y="394956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925760" y="3949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666200" y="3863880"/>
              <a:ext cx="252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036960" y="4305240"/>
              <a:ext cx="75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mm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452120" y="43052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089040" y="43052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701480" y="437184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925760" y="43718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666200" y="4286160"/>
              <a:ext cx="2520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671400" y="4694400"/>
              <a:ext cx="842832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hierarchy for the banking examp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708120" y="2236680"/>
            <a:ext cx="8348400" cy="1803600"/>
            <a:chOff x="708120" y="2236680"/>
            <a:chExt cx="8348400" cy="1803600"/>
          </a:xfrm>
        </p:grpSpPr>
        <p:sp>
          <p:nvSpPr>
            <p:cNvPr id="890" name=""/>
            <p:cNvSpPr/>
            <p:nvPr/>
          </p:nvSpPr>
          <p:spPr>
            <a:xfrm>
              <a:off x="4175280" y="2236680"/>
              <a:ext cx="72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032360" y="3765600"/>
              <a:ext cx="82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672080" y="2592360"/>
              <a:ext cx="0" cy="961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08120" y="3554280"/>
              <a:ext cx="834840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49160" y="37368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373040" y="37368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995480" y="3736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20800" y="3554280"/>
              <a:ext cx="1440" cy="112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44680" y="3554280"/>
              <a:ext cx="1440" cy="112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6760" y="3554280"/>
              <a:ext cx="1800" cy="112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hierarchy for a dia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547200" y="2687760"/>
            <a:ext cx="8733960" cy="1810440"/>
            <a:chOff x="547200" y="2687760"/>
            <a:chExt cx="8733960" cy="1810440"/>
          </a:xfrm>
        </p:grpSpPr>
        <p:sp>
          <p:nvSpPr>
            <p:cNvPr id="902" name=""/>
            <p:cNvSpPr/>
            <p:nvPr/>
          </p:nvSpPr>
          <p:spPr>
            <a:xfrm>
              <a:off x="2415600" y="268776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87240" y="3255840"/>
              <a:ext cx="5229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76480" y="3281400"/>
              <a:ext cx="1440" cy="10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90720" y="3281400"/>
              <a:ext cx="1440" cy="10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47200" y="34956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658880" y="349560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es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719440" y="3495600"/>
              <a:ext cx="1073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dnes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059720" y="3495600"/>
              <a:ext cx="84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urs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48520" y="34956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i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27720" y="3281400"/>
              <a:ext cx="1440" cy="10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613480" y="3281400"/>
              <a:ext cx="1440" cy="10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14880" y="3255840"/>
              <a:ext cx="1440" cy="1018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2733840" y="2927520"/>
              <a:ext cx="1440" cy="328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838080" y="4089240"/>
              <a:ext cx="80359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065240" y="4089240"/>
              <a:ext cx="144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18000" y="4089240"/>
              <a:ext cx="144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430360" y="4089240"/>
              <a:ext cx="180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97960" y="4254480"/>
              <a:ext cx="101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:00–10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145200" y="4089240"/>
              <a:ext cx="144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696160" y="4089240"/>
              <a:ext cx="1800" cy="51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432560" y="4089240"/>
              <a:ext cx="180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06800" y="4089240"/>
              <a:ext cx="180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49520" y="3849840"/>
              <a:ext cx="860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 sl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4527720" y="3735000"/>
              <a:ext cx="1440" cy="3538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6120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:00–11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9960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:00–12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36320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:00–13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2680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:00–14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89040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:00–15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5256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:00–16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compatibility table for hierarchic lock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423720" y="2017800"/>
            <a:ext cx="8585280" cy="2912760"/>
            <a:chOff x="423720" y="2017800"/>
            <a:chExt cx="8585280" cy="2912760"/>
          </a:xfrm>
        </p:grpSpPr>
        <p:sp>
          <p:nvSpPr>
            <p:cNvPr id="944" name=""/>
            <p:cNvSpPr/>
            <p:nvPr/>
          </p:nvSpPr>
          <p:spPr>
            <a:xfrm>
              <a:off x="2746440" y="2881440"/>
              <a:ext cx="1403280" cy="20304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6960" y="2863800"/>
              <a:ext cx="2249640" cy="2048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68800" y="2476440"/>
              <a:ext cx="484020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168800" y="2049480"/>
              <a:ext cx="484020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652400" y="2139840"/>
              <a:ext cx="150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or one 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828040" y="2104920"/>
              <a:ext cx="1409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to be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501800" y="246204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662440" y="246204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795360" y="2462040"/>
              <a:ext cx="63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-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955640" y="2462040"/>
              <a:ext cx="69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-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05520" y="2811600"/>
              <a:ext cx="168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already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73240" y="2854440"/>
              <a:ext cx="49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502520" y="28843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661360" y="28843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96440" y="28843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955280" y="28843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973240" y="327348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502520" y="33037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61720" y="330372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96440" y="33037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956000" y="330372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975040" y="369252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502880" y="3722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661720" y="3722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796800" y="3722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956000" y="3722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972880" y="4111560"/>
              <a:ext cx="63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-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02520" y="41418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61720" y="414180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796440" y="41418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955280" y="41418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973960" y="4530600"/>
              <a:ext cx="69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-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502880" y="45608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661720" y="45608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796440" y="456084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955280" y="456084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423720" y="2017800"/>
              <a:ext cx="858528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423720" y="4912920"/>
              <a:ext cx="858528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client’s banking transa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8280" y="2557440"/>
            <a:ext cx="232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nsaction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.withdraw(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.deposit(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withdraw(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.deposit(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647640" y="2082960"/>
            <a:ext cx="8734320" cy="38736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able on page 547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Serializability of transaction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with respect to transaction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50520" y="2116080"/>
            <a:ext cx="208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049840" y="211608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175920" y="2116080"/>
            <a:ext cx="466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9434520" y="2103480"/>
            <a:ext cx="25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41520" y="253368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046240" y="253368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175560" y="25336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845160" y="253368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63320" y="2533680"/>
            <a:ext cx="340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not read objects writt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648560" y="2533680"/>
            <a:ext cx="208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9434520" y="2436840"/>
            <a:ext cx="2556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39720" y="296244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48040" y="296244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75560" y="29624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46240" y="2962440"/>
            <a:ext cx="208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114080" y="2962440"/>
            <a:ext cx="340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not read objects writt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697880" y="296244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9434520" y="2909880"/>
            <a:ext cx="2556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1520" y="342756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048040" y="342756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175560" y="342756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845160" y="342756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064040" y="3427560"/>
            <a:ext cx="34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not write objects writt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619760" y="3427560"/>
            <a:ext cx="272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945560" y="3427560"/>
            <a:ext cx="43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063680" y="3800520"/>
            <a:ext cx="208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337280" y="3800520"/>
            <a:ext cx="560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929120" y="3800520"/>
            <a:ext cx="286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write objects writt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804440" y="380052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9434520" y="3382920"/>
            <a:ext cx="25560" cy="7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11280" y="2077920"/>
            <a:ext cx="879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11280" y="4152960"/>
            <a:ext cx="879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alidation of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605880" y="1960560"/>
            <a:ext cx="8444520" cy="3304440"/>
            <a:chOff x="605880" y="1960560"/>
            <a:chExt cx="8444520" cy="3304440"/>
          </a:xfrm>
        </p:grpSpPr>
        <p:sp>
          <p:nvSpPr>
            <p:cNvPr id="1038" name=""/>
            <p:cNvSpPr/>
            <p:nvPr/>
          </p:nvSpPr>
          <p:spPr>
            <a:xfrm>
              <a:off x="8291520" y="3925800"/>
              <a:ext cx="490680" cy="155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291520" y="3925800"/>
              <a:ext cx="512640" cy="17784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73800" y="3457440"/>
              <a:ext cx="512640" cy="1558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373800" y="3457440"/>
              <a:ext cx="534960" cy="17784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346720" y="3457440"/>
              <a:ext cx="1049400" cy="155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46720" y="3457440"/>
              <a:ext cx="1071720" cy="17784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526000" y="2989440"/>
              <a:ext cx="513000" cy="155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526000" y="2989440"/>
              <a:ext cx="534960" cy="1774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521240" y="2989440"/>
              <a:ext cx="1004760" cy="155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21240" y="2989440"/>
              <a:ext cx="1027080" cy="17748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18080" y="2475000"/>
              <a:ext cx="357120" cy="156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718080" y="2475000"/>
              <a:ext cx="379080" cy="1792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2960" y="2475000"/>
              <a:ext cx="735120" cy="156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82960" y="2475000"/>
              <a:ext cx="757080" cy="17928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62880" y="2552760"/>
              <a:ext cx="1389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arlier commit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562880" y="2754360"/>
              <a:ext cx="96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608840" y="196056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13040" y="1960560"/>
              <a:ext cx="78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72440" y="196056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930240" y="2452680"/>
              <a:ext cx="205272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30240" y="2452680"/>
              <a:ext cx="2075040" cy="2016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138480" y="2208240"/>
              <a:ext cx="1440" cy="2667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941640" y="2208240"/>
              <a:ext cx="1800" cy="2667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00360" y="2185920"/>
              <a:ext cx="1440" cy="289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05880" y="2451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15680" y="2532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191200" y="4951440"/>
              <a:ext cx="3836880" cy="1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191200" y="4951440"/>
              <a:ext cx="3859200" cy="17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847960" y="4572000"/>
              <a:ext cx="6180120" cy="1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47960" y="4572000"/>
              <a:ext cx="6202440" cy="17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21080" y="3925800"/>
              <a:ext cx="318924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321080" y="3925800"/>
              <a:ext cx="321156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65880" y="3925800"/>
              <a:ext cx="1025640" cy="155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265880" y="3925800"/>
              <a:ext cx="1047960" cy="17784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952440" y="3924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60800" y="39909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50120" y="3767040"/>
              <a:ext cx="93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049400" y="3990960"/>
              <a:ext cx="120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ing valid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78040" y="2989440"/>
              <a:ext cx="274320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778040" y="2989440"/>
              <a:ext cx="2765520" cy="1774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521240" y="2989440"/>
              <a:ext cx="1027080" cy="1774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526000" y="2989440"/>
              <a:ext cx="534960" cy="1774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431360" y="2919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541160" y="300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25640" y="3457440"/>
              <a:ext cx="2521080" cy="15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25640" y="3457440"/>
              <a:ext cx="254340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96120" y="3457440"/>
              <a:ext cx="51264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57000" y="3387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68240" y="347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581200" y="3992400"/>
              <a:ext cx="113688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969840" y="4829040"/>
              <a:ext cx="92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ter 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969840" y="5051520"/>
              <a:ext cx="96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57640" y="2565360"/>
              <a:ext cx="2430720" cy="1335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6797520" y="2832120"/>
              <a:ext cx="690840" cy="179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7578720" y="2965320"/>
              <a:ext cx="266760" cy="379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1933560" y="4818240"/>
              <a:ext cx="468360" cy="1555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2066760" y="5041440"/>
              <a:ext cx="2387880" cy="88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09680" y="4548240"/>
              <a:ext cx="4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79480" y="4664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530600" y="4927680"/>
              <a:ext cx="4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000400" y="504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982960" y="2452680"/>
              <a:ext cx="757080" cy="2016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718080" y="2452680"/>
              <a:ext cx="379080" cy="2016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324400" y="3457440"/>
              <a:ext cx="107172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65880" y="3925800"/>
              <a:ext cx="104796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91520" y="3925800"/>
              <a:ext cx="51264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ge 547-54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alidation of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48920" y="1461960"/>
            <a:ext cx="8812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ward validation of 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olean valid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(i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artT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1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inishT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(read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tersects write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valid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ward validation of 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olean valid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(i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ctive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ctiv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(write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tersects read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valid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 conflicts for timestamp order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03480" y="179856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994040" y="179856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782800" y="179856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03480" y="207000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94040" y="207000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782800" y="20700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8443800" y="28065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962840" y="4295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576360" y="2151000"/>
            <a:ext cx="8912520" cy="2630520"/>
            <a:chOff x="576360" y="2151000"/>
            <a:chExt cx="8912520" cy="2630520"/>
          </a:xfrm>
        </p:grpSpPr>
        <p:sp>
          <p:nvSpPr>
            <p:cNvPr id="1136" name=""/>
            <p:cNvSpPr/>
            <p:nvPr/>
          </p:nvSpPr>
          <p:spPr>
            <a:xfrm>
              <a:off x="595440" y="2168640"/>
              <a:ext cx="868356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03720" y="2217600"/>
              <a:ext cx="42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034280" y="22874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080360" y="22874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244160" y="221760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036520" y="221760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04080" y="255744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81800" y="255744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875960" y="255744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744280" y="255744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987280" y="25574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st no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942720" y="255744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35920" y="2557440"/>
              <a:ext cx="22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 object that has bee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95640" y="255744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126200" y="255744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y an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900560" y="255744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101440" y="2557440"/>
              <a:ext cx="61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690640" y="2806560"/>
              <a:ext cx="164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requires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534920" y="280656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770720" y="2806560"/>
              <a:ext cx="418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≥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maximum read timestamp of the objec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049400" y="254808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844640" y="254808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04080" y="330192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081800" y="330192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875600" y="330192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44280" y="330192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987280" y="33019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st no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942720" y="330192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435920" y="3301920"/>
              <a:ext cx="22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 object that has bee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660000" y="330192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338960" y="330192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y an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116560" y="330192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316000" y="3301920"/>
              <a:ext cx="61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805600" y="256212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9006840" y="256212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146880" y="256212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646360" y="3551400"/>
              <a:ext cx="164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requires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377960" y="355140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615920" y="3551400"/>
              <a:ext cx="329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write timestamp of the commit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61040" y="3551400"/>
              <a:ext cx="61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049400" y="329256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844640" y="329256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706840" y="3292560"/>
              <a:ext cx="2196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04080" y="404640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082520" y="404640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75600" y="404640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744280" y="404640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987280" y="404640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st no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943080" y="404640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367520" y="4046400"/>
              <a:ext cx="22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 object that has bee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09240" y="404640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289640" y="40464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y an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065800" y="404640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264880" y="4046400"/>
              <a:ext cx="61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698560" y="4295880"/>
              <a:ext cx="164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requires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430160" y="429588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65960" y="4295880"/>
              <a:ext cx="4033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write timestamp of the committed objec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793960" y="403704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884800" y="403704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086040" y="403704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9226080" y="403704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961120" y="327672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162360" y="327672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9302400" y="327672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76360" y="2151000"/>
              <a:ext cx="871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9480" y="4691160"/>
              <a:ext cx="872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3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rite operations and timestamp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8796240" y="2873520"/>
            <a:ext cx="1296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758840" y="1311120"/>
            <a:ext cx="44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706920" y="1311120"/>
            <a:ext cx="1440" cy="154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383600" y="1311120"/>
            <a:ext cx="0" cy="469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95800" y="13111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b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432680" y="1311120"/>
            <a:ext cx="2232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579600" y="1330200"/>
            <a:ext cx="9233640" cy="4719600"/>
            <a:chOff x="579600" y="1330200"/>
            <a:chExt cx="9233640" cy="4719600"/>
          </a:xfrm>
        </p:grpSpPr>
        <p:sp>
          <p:nvSpPr>
            <p:cNvPr id="1220" name=""/>
            <p:cNvSpPr/>
            <p:nvPr/>
          </p:nvSpPr>
          <p:spPr>
            <a:xfrm>
              <a:off x="1479600" y="1425600"/>
              <a:ext cx="1260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796240" y="1425600"/>
              <a:ext cx="1296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479600" y="1616040"/>
              <a:ext cx="12600" cy="12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796240" y="1616040"/>
              <a:ext cx="12960" cy="12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479600" y="2886120"/>
              <a:ext cx="12600" cy="19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796240" y="2886120"/>
              <a:ext cx="12960" cy="19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79600" y="4816440"/>
              <a:ext cx="12600" cy="88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796240" y="4816440"/>
              <a:ext cx="12960" cy="88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79600" y="1330200"/>
              <a:ext cx="28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401480" y="13302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95520" y="3954600"/>
              <a:ext cx="22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189440" y="395460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593360" y="39546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95160" y="3833640"/>
              <a:ext cx="4727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435640" y="383364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151600" y="3833640"/>
              <a:ext cx="2232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05120" y="2860560"/>
              <a:ext cx="1800" cy="283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48800" y="3780000"/>
              <a:ext cx="135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 produc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y transaction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769240" y="4911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795880" y="4898880"/>
              <a:ext cx="30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700040" y="4268880"/>
              <a:ext cx="211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with write timestamp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03680" y="133020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77760" y="3954600"/>
              <a:ext cx="44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014720" y="3954600"/>
              <a:ext cx="28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d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251600" y="395460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119080" y="4562640"/>
              <a:ext cx="1254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442880" y="1824120"/>
              <a:ext cx="411480" cy="547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168360" y="3168720"/>
              <a:ext cx="42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22800" y="208440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4760" y="270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905200" y="3238560"/>
              <a:ext cx="137880" cy="92160"/>
            </a:xfrm>
            <a:custGeom>
              <a:avLst/>
              <a:gdLst/>
              <a:ahLst/>
              <a:rect l="l" t="t" r="r" b="b"/>
              <a:pathLst>
                <a:path w="87" h="58">
                  <a:moveTo>
                    <a:pt x="0" y="29"/>
                  </a:moveTo>
                  <a:lnTo>
                    <a:pt x="0" y="0"/>
                  </a:lnTo>
                  <a:lnTo>
                    <a:pt x="87" y="29"/>
                  </a:lnTo>
                  <a:lnTo>
                    <a:pt x="0" y="5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26920" y="3284640"/>
              <a:ext cx="20559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442880" y="2532240"/>
              <a:ext cx="411480" cy="547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128680" y="2532240"/>
              <a:ext cx="411480" cy="547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590480" y="2016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703160" y="210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557000" y="26780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671480" y="276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26960" y="26780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339640" y="276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757920" y="3156120"/>
              <a:ext cx="42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016880" y="209088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40280" y="271944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523200" y="3220920"/>
              <a:ext cx="139680" cy="92160"/>
            </a:xfrm>
            <a:custGeom>
              <a:avLst/>
              <a:gdLst/>
              <a:ahLst/>
              <a:rect l="l" t="t" r="r" b="b"/>
              <a:pathLst>
                <a:path w="88" h="58">
                  <a:moveTo>
                    <a:pt x="0" y="29"/>
                  </a:moveTo>
                  <a:lnTo>
                    <a:pt x="0" y="0"/>
                  </a:lnTo>
                  <a:lnTo>
                    <a:pt x="88" y="29"/>
                  </a:lnTo>
                  <a:lnTo>
                    <a:pt x="0" y="5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405320" y="3267000"/>
              <a:ext cx="20937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707000" y="1824120"/>
              <a:ext cx="419040" cy="534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707000" y="2522520"/>
              <a:ext cx="419040" cy="5587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381640" y="1824120"/>
              <a:ext cx="396720" cy="558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81640" y="2546280"/>
              <a:ext cx="396720" cy="534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033960" y="2546280"/>
              <a:ext cx="395280" cy="557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74880" y="20448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591160" y="21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490720" y="27194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607000" y="280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06680" y="27194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21160" y="280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27240" y="20448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1720" y="21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809600" y="27194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25880" y="280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192120" y="5821200"/>
              <a:ext cx="42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86160" y="467532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09920" y="528336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886120" y="5857920"/>
              <a:ext cx="139680" cy="9360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29"/>
                  </a:moveTo>
                  <a:lnTo>
                    <a:pt x="0" y="0"/>
                  </a:lnTo>
                  <a:lnTo>
                    <a:pt x="88" y="29"/>
                  </a:lnTo>
                  <a:lnTo>
                    <a:pt x="0" y="5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55640" y="5904000"/>
              <a:ext cx="21304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504800" y="4359240"/>
              <a:ext cx="420840" cy="561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504800" y="4359240"/>
              <a:ext cx="444600" cy="585720"/>
            </a:xfrm>
            <a:prstGeom prst="rect">
              <a:avLst/>
            </a:prstGeom>
            <a:noFill/>
            <a:ln w="3492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504800" y="5132520"/>
              <a:ext cx="420840" cy="561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136600" y="5108400"/>
              <a:ext cx="398520" cy="562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136600" y="4359240"/>
              <a:ext cx="398520" cy="561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768760" y="5132520"/>
              <a:ext cx="422280" cy="561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07760" y="4557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723680" y="46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625400" y="53308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741320" y="541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193480" y="4557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309760" y="46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42800" y="53308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58720" y="541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879280" y="53308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995560" y="541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473880" y="576252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07800" y="4368960"/>
              <a:ext cx="93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08520" y="459108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o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903840" y="470232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926520" y="530388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146640" y="5850000"/>
              <a:ext cx="133560" cy="8892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0" y="28"/>
                  </a:moveTo>
                  <a:lnTo>
                    <a:pt x="0" y="0"/>
                  </a:lnTo>
                  <a:lnTo>
                    <a:pt x="84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119480" y="5894280"/>
              <a:ext cx="200520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587840" y="4402080"/>
              <a:ext cx="444600" cy="57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610160" y="4424400"/>
              <a:ext cx="399960" cy="534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610160" y="4424400"/>
              <a:ext cx="422280" cy="5572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587840" y="5159520"/>
              <a:ext cx="444600" cy="57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610160" y="5181480"/>
              <a:ext cx="399960" cy="534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610160" y="5181480"/>
              <a:ext cx="422280" cy="5572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692240" y="4591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802040" y="4672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08080" y="53481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819320" y="542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636760" y="336060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entati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481600" y="2546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740800" y="1947960"/>
              <a:ext cx="345960" cy="4888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740800" y="2782800"/>
              <a:ext cx="345960" cy="466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826480" y="21193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923680" y="21956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815320" y="29336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912520" y="30099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869240" y="20178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Key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ge 55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stamp ordering write ru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98680" y="2279520"/>
            <a:ext cx="892836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≥ maximum read timestamp 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&amp;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&gt; write timestamp on committed vers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 write operation on tentative vers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 write timestamp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se /* write is too lat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ort transact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ge 55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stamp ordering read ru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97400" y="2193840"/>
            <a:ext cx="846648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( 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&gt; write timestamp on committed vers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e the vers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 the maximum write timestamp ≤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commit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peration on the vers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a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ntil the transaction that made vers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mmits or ab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eapply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 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ort transact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3.3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Read operations and timestamp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006800" y="1189080"/>
            <a:ext cx="116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189240" y="2989440"/>
            <a:ext cx="50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678320" y="1982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678680" y="2254320"/>
            <a:ext cx="93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26120" y="285444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895320" y="2568240"/>
            <a:ext cx="14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895320" y="2160360"/>
            <a:ext cx="14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800440" y="3086280"/>
            <a:ext cx="190440" cy="109440"/>
          </a:xfrm>
          <a:custGeom>
            <a:avLst/>
            <a:gdLst/>
            <a:ahLst/>
            <a:rect l="l" t="t" r="r" b="b"/>
            <a:pathLst>
              <a:path w="120" h="69">
                <a:moveTo>
                  <a:pt x="0" y="34"/>
                </a:moveTo>
                <a:lnTo>
                  <a:pt x="0" y="0"/>
                </a:lnTo>
                <a:lnTo>
                  <a:pt x="120" y="34"/>
                </a:lnTo>
                <a:lnTo>
                  <a:pt x="0" y="69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31880" y="3139920"/>
            <a:ext cx="2068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85880" y="1887480"/>
            <a:ext cx="463320" cy="654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20520" y="21193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051920" y="22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64400" y="3003480"/>
            <a:ext cx="149040" cy="98640"/>
          </a:xfrm>
          <a:custGeom>
            <a:avLst/>
            <a:gdLst/>
            <a:ahLst/>
            <a:rect l="l" t="t" r="r" b="b"/>
            <a:pathLst>
              <a:path w="94" h="62">
                <a:moveTo>
                  <a:pt x="0" y="31"/>
                </a:moveTo>
                <a:lnTo>
                  <a:pt x="0" y="0"/>
                </a:lnTo>
                <a:lnTo>
                  <a:pt x="94" y="31"/>
                </a:lnTo>
                <a:lnTo>
                  <a:pt x="0" y="62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230720" y="3052800"/>
            <a:ext cx="2508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111800" y="29163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821200" y="1971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821560" y="2220840"/>
            <a:ext cx="83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281120" y="2792520"/>
            <a:ext cx="79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4454640" y="2481120"/>
            <a:ext cx="1440" cy="22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4454640" y="2282760"/>
            <a:ext cx="1440" cy="22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230720" y="1886040"/>
            <a:ext cx="447480" cy="5950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951440" y="1909800"/>
            <a:ext cx="422280" cy="5968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392720" y="2120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513320" y="2212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084640" y="2120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205240" y="2212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179880" y="5400720"/>
            <a:ext cx="149040" cy="74520"/>
          </a:xfrm>
          <a:custGeom>
            <a:avLst/>
            <a:gdLst/>
            <a:ahLst/>
            <a:rect l="l" t="t" r="r" b="b"/>
            <a:pathLst>
              <a:path w="94" h="47">
                <a:moveTo>
                  <a:pt x="0" y="16"/>
                </a:moveTo>
                <a:lnTo>
                  <a:pt x="0" y="0"/>
                </a:lnTo>
                <a:lnTo>
                  <a:pt x="94" y="16"/>
                </a:lnTo>
                <a:lnTo>
                  <a:pt x="0" y="47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42960" y="5425920"/>
            <a:ext cx="2511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82640" y="53132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203560" y="4343400"/>
            <a:ext cx="92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wa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382400" y="5178600"/>
            <a:ext cx="79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1587600" y="4929120"/>
            <a:ext cx="1440" cy="22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42960" y="4282920"/>
            <a:ext cx="447480" cy="5968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339920" y="4282920"/>
            <a:ext cx="447480" cy="5968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66800" y="4467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87400" y="4559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458720" y="4467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579680" y="4559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913440" y="525924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313240" y="4241880"/>
            <a:ext cx="1261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312520" y="4529160"/>
            <a:ext cx="671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or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491160" y="5367240"/>
            <a:ext cx="173160" cy="114480"/>
          </a:xfrm>
          <a:custGeom>
            <a:avLst/>
            <a:gdLst/>
            <a:ahLst/>
            <a:rect l="l" t="t" r="r" b="b"/>
            <a:pathLst>
              <a:path w="109" h="72">
                <a:moveTo>
                  <a:pt x="0" y="36"/>
                </a:moveTo>
                <a:lnTo>
                  <a:pt x="0" y="0"/>
                </a:lnTo>
                <a:lnTo>
                  <a:pt x="109" y="36"/>
                </a:lnTo>
                <a:lnTo>
                  <a:pt x="0" y="72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276800" y="5424480"/>
            <a:ext cx="218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248000" y="4199040"/>
            <a:ext cx="489240" cy="6904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81200" y="4414680"/>
            <a:ext cx="14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520880" y="45194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776080" y="155592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8605440" y="3967200"/>
            <a:ext cx="788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ntat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501040" y="2762280"/>
            <a:ext cx="92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mit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8818560" y="2060640"/>
            <a:ext cx="404640" cy="5713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8818560" y="2043000"/>
            <a:ext cx="428760" cy="595440"/>
          </a:xfrm>
          <a:prstGeom prst="rect">
            <a:avLst/>
          </a:prstGeom>
          <a:noFill/>
          <a:ln w="255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8827920" y="3289320"/>
            <a:ext cx="405000" cy="571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926200" y="22622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9044280" y="234936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927640" y="34671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9047520" y="35542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714840" y="257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776000" y="4286160"/>
            <a:ext cx="204588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 produ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transaction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ith write timestamp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&l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&lt; 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&lt; 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76000" y="131292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00120" y="367668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137120" y="3600360"/>
            <a:ext cx="116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)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976560" y="1189080"/>
            <a:ext cx="0" cy="447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777080" y="1227240"/>
            <a:ext cx="0" cy="447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3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stamps in transaction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529320" y="2546280"/>
            <a:ext cx="1440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1225440" y="1635120"/>
            <a:ext cx="7561440" cy="4443480"/>
            <a:chOff x="1225440" y="1635120"/>
            <a:chExt cx="7561440" cy="4443480"/>
          </a:xfrm>
        </p:grpSpPr>
        <p:sp>
          <p:nvSpPr>
            <p:cNvPr id="1428" name=""/>
            <p:cNvSpPr/>
            <p:nvPr/>
          </p:nvSpPr>
          <p:spPr>
            <a:xfrm>
              <a:off x="5367240" y="2065320"/>
              <a:ext cx="341964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84640" y="2065320"/>
              <a:ext cx="203040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235160" y="2065320"/>
              <a:ext cx="198108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335560" y="1655640"/>
              <a:ext cx="3419640" cy="387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407560" y="1738440"/>
              <a:ext cx="289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imestamps and versions of obje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846440" y="2170080"/>
              <a:ext cx="1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911400" y="2170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10400" y="21700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07240" y="21700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813080" y="2170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408280" y="25527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881320" y="255276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549840" y="25527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987960" y="255276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551360" y="25527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010360" y="255276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967440" y="2546280"/>
              <a:ext cx="1440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780320" y="2546280"/>
              <a:ext cx="1440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08280" y="2766960"/>
              <a:ext cx="19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881320" y="2766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49840" y="2766960"/>
              <a:ext cx="19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987960" y="2766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551360" y="2766960"/>
              <a:ext cx="19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{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010360" y="2766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967440" y="2760840"/>
              <a:ext cx="1440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225440" y="3011400"/>
              <a:ext cx="138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open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967440" y="2975040"/>
              <a:ext cx="1440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27240" y="3225960"/>
              <a:ext cx="169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al = b.getBalanc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532200" y="3225960"/>
              <a:ext cx="30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290760" y="3498840"/>
              <a:ext cx="138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open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226160" y="3706920"/>
              <a:ext cx="179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.setBalance(bal*1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292560" y="3986280"/>
              <a:ext cx="169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al = b.getBalanc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292200" y="4230720"/>
              <a:ext cx="80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ait for 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25800" y="4543560"/>
              <a:ext cx="162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a.withdraw(bal/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227240" y="479412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mm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881680" y="4794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988320" y="4794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292560" y="5072040"/>
              <a:ext cx="169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al = b.getBalanc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291480" y="5351400"/>
              <a:ext cx="179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.setBalance(bal*1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291480" y="5646600"/>
              <a:ext cx="156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.withdraw(bal/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011080" y="5646600"/>
              <a:ext cx="36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"/>
            <p:cNvGrpSpPr/>
            <p:nvPr/>
          </p:nvGrpSpPr>
          <p:grpSpPr>
            <a:xfrm>
              <a:off x="3316320" y="4581360"/>
              <a:ext cx="382320" cy="77760"/>
              <a:chOff x="3316320" y="4581360"/>
              <a:chExt cx="382320" cy="77760"/>
            </a:xfrm>
          </p:grpSpPr>
          <p:sp>
            <p:nvSpPr>
              <p:cNvPr id="1470" name=""/>
              <p:cNvSpPr/>
              <p:nvPr/>
            </p:nvSpPr>
            <p:spPr>
              <a:xfrm>
                <a:off x="3316320" y="458136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68600" y="458136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620880" y="458136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3316320" y="4848120"/>
              <a:ext cx="382320" cy="77760"/>
              <a:chOff x="3316320" y="4848120"/>
              <a:chExt cx="382320" cy="77760"/>
            </a:xfrm>
          </p:grpSpPr>
          <p:sp>
            <p:nvSpPr>
              <p:cNvPr id="1474" name=""/>
              <p:cNvSpPr/>
              <p:nvPr/>
            </p:nvSpPr>
            <p:spPr>
              <a:xfrm>
                <a:off x="3316320" y="48481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468600" y="48481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620880" y="48481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1244520" y="1635120"/>
              <a:ext cx="752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244520" y="2489040"/>
              <a:ext cx="752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244520" y="6078600"/>
              <a:ext cx="752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019280" y="5330880"/>
              <a:ext cx="421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, U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029360" y="371016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, 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859360" y="448452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, 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32200" y="5087880"/>
              <a:ext cx="34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3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at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peration would invalidate a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1482840" y="1911240"/>
            <a:ext cx="7899120" cy="4175640"/>
            <a:chOff x="1482840" y="1911240"/>
            <a:chExt cx="7899120" cy="4175640"/>
          </a:xfrm>
        </p:grpSpPr>
        <p:sp>
          <p:nvSpPr>
            <p:cNvPr id="1496" name=""/>
            <p:cNvSpPr/>
            <p:nvPr/>
          </p:nvSpPr>
          <p:spPr>
            <a:xfrm>
              <a:off x="5788080" y="3854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920560" y="1911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025680" y="199080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235200" y="191124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rite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687200" y="1911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818960" y="199080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001840" y="1911240"/>
              <a:ext cx="49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ad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374280" y="1911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506040" y="199080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690360" y="191124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rite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140920" y="1911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72680" y="199080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455560" y="1911240"/>
              <a:ext cx="49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ad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611440" y="2424240"/>
              <a:ext cx="1440" cy="34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3976560" y="2241360"/>
              <a:ext cx="112896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210280" y="3921120"/>
              <a:ext cx="25200" cy="27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235480" y="3868560"/>
              <a:ext cx="236520" cy="132120"/>
            </a:xfrm>
            <a:custGeom>
              <a:avLst/>
              <a:gdLst/>
              <a:ahLst/>
              <a:rect l="l" t="t" r="r" b="b"/>
              <a:pathLst>
                <a:path w="149" h="83">
                  <a:moveTo>
                    <a:pt x="0" y="50"/>
                  </a:moveTo>
                  <a:lnTo>
                    <a:pt x="0" y="0"/>
                  </a:lnTo>
                  <a:lnTo>
                    <a:pt x="149" y="50"/>
                  </a:lnTo>
                  <a:lnTo>
                    <a:pt x="0" y="83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28880" y="3948120"/>
              <a:ext cx="32814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401920" y="2924280"/>
              <a:ext cx="496800" cy="655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401920" y="2924280"/>
              <a:ext cx="498600" cy="655560"/>
            </a:xfrm>
            <a:prstGeom prst="rect">
              <a:avLst/>
            </a:prstGeom>
            <a:noFill/>
            <a:ln w="381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530520" y="2924280"/>
              <a:ext cx="523800" cy="65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556080" y="2949480"/>
              <a:ext cx="498240" cy="630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556080" y="2949480"/>
              <a:ext cx="498240" cy="63036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482840" y="2924280"/>
              <a:ext cx="525240" cy="68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509840" y="2949480"/>
              <a:ext cx="484200" cy="641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509840" y="2949480"/>
              <a:ext cx="498240" cy="657360"/>
            </a:xfrm>
            <a:prstGeom prst="rect">
              <a:avLst/>
            </a:prstGeom>
            <a:noFill/>
            <a:ln w="381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517120" y="29876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45640" y="3084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517120" y="3328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64564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698280" y="3328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826800" y="3425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29720" y="317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758240" y="3268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698280" y="30402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826800" y="3137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018520" y="41180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47400" y="4214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241360" y="4118040"/>
              <a:ext cx="3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&lt; 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609280" y="4214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703240" y="4118040"/>
              <a:ext cx="3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&lt; 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69720" y="4214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163680" y="4118040"/>
              <a:ext cx="3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&lt; 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30160" y="4214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623760" y="4118040"/>
              <a:ext cx="3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&lt; 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992040" y="4214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945520" y="514836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Key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213520" y="5767560"/>
              <a:ext cx="890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ntativ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792600" y="5767560"/>
              <a:ext cx="1046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118040" y="5032440"/>
              <a:ext cx="503280" cy="6300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130640" y="5057640"/>
              <a:ext cx="490680" cy="595440"/>
            </a:xfrm>
            <a:prstGeom prst="rect">
              <a:avLst/>
            </a:prstGeom>
            <a:noFill/>
            <a:ln w="381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435640" y="5032440"/>
              <a:ext cx="488880" cy="646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252320" y="50720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379400" y="5165640"/>
              <a:ext cx="37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562000" y="5122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688000" y="52243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226760" y="53560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353840" y="54579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544360" y="54054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671440" y="54831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485040" y="5162400"/>
              <a:ext cx="289692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produced by transaction T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(with write timestamp T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nd read timestamp T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s in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oordinator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interf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0920" y="1606680"/>
            <a:ext cx="8390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penTransaction() -&gt; tra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s a new transaction and delivers a unique TI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is identifier will be used in the other operations in the trans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loseTransaction(trans) -&gt; (commit, abor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s a transaction: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turn value indicates that the transaction has  committed;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turn value indicates that it has abo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bortTransaction(tran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orts the trans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81000" y="5299200"/>
            <a:ext cx="777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63400" y="1784520"/>
            <a:ext cx="226548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84320" y="1784520"/>
            <a:ext cx="214812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68800" y="1784520"/>
            <a:ext cx="4179960" cy="422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action life histor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47040" y="193032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Successf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4000" y="1930320"/>
            <a:ext cx="141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Aborted by 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96200" y="1930320"/>
            <a:ext cx="147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Aborted by ser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81640" y="19303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143560" y="193032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New Yor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0440" y="2479680"/>
            <a:ext cx="141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open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35160" y="2479680"/>
            <a:ext cx="141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open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4240" y="2479680"/>
            <a:ext cx="141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open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560" y="2814480"/>
            <a:ext cx="82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8280" y="2814480"/>
            <a:ext cx="82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07360" y="2814480"/>
            <a:ext cx="82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81800" y="2814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43720" y="2814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New Yor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3560" y="3098880"/>
            <a:ext cx="82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8280" y="3098880"/>
            <a:ext cx="82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07360" y="3098880"/>
            <a:ext cx="82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81800" y="30988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43720" y="30988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New Yor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53680" y="3346560"/>
            <a:ext cx="119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New York"/>
              </a:rPr>
              <a:t>server abo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53680" y="3608280"/>
            <a:ext cx="101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New York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560" y="3973680"/>
            <a:ext cx="82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8280" y="3973680"/>
            <a:ext cx="82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3880" y="4005360"/>
            <a:ext cx="1439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operation ERR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82240" y="4265640"/>
            <a:ext cx="145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New York"/>
              </a:rPr>
              <a:t>reported to 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19720" y="4497480"/>
            <a:ext cx="141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close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32640" y="4497480"/>
            <a:ext cx="14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abort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74600" y="3560760"/>
            <a:ext cx="74520" cy="239760"/>
            <a:chOff x="1074600" y="3560760"/>
            <a:chExt cx="74520" cy="239760"/>
          </a:xfrm>
        </p:grpSpPr>
        <p:sp>
          <p:nvSpPr>
            <p:cNvPr id="129" name=""/>
            <p:cNvSpPr/>
            <p:nvPr/>
          </p:nvSpPr>
          <p:spPr>
            <a:xfrm>
              <a:off x="1074600" y="35607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4600" y="3725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444840" y="3562200"/>
            <a:ext cx="74520" cy="239760"/>
            <a:chOff x="3444840" y="3562200"/>
            <a:chExt cx="74520" cy="239760"/>
          </a:xfrm>
        </p:grpSpPr>
        <p:sp>
          <p:nvSpPr>
            <p:cNvPr id="132" name=""/>
            <p:cNvSpPr/>
            <p:nvPr/>
          </p:nvSpPr>
          <p:spPr>
            <a:xfrm>
              <a:off x="3444840" y="35622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44840" y="372708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729560" y="3562200"/>
            <a:ext cx="74520" cy="239760"/>
            <a:chOff x="7729560" y="3562200"/>
            <a:chExt cx="74520" cy="239760"/>
          </a:xfrm>
        </p:grpSpPr>
        <p:sp>
          <p:nvSpPr>
            <p:cNvPr id="135" name=""/>
            <p:cNvSpPr/>
            <p:nvPr/>
          </p:nvSpPr>
          <p:spPr>
            <a:xfrm>
              <a:off x="7729560" y="35622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29560" y="372708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438960" y="3730680"/>
            <a:ext cx="592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680" y="1760400"/>
            <a:ext cx="862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4800" y="4976640"/>
            <a:ext cx="862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lost update probl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6800" y="1854360"/>
            <a:ext cx="8273880" cy="3956040"/>
            <a:chOff x="766800" y="1854360"/>
            <a:chExt cx="8273880" cy="3956040"/>
          </a:xfrm>
        </p:grpSpPr>
        <p:sp>
          <p:nvSpPr>
            <p:cNvPr id="142" name=""/>
            <p:cNvSpPr/>
            <p:nvPr/>
          </p:nvSpPr>
          <p:spPr>
            <a:xfrm>
              <a:off x="919080" y="1854360"/>
              <a:ext cx="3959280" cy="438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2360" y="1870200"/>
              <a:ext cx="3959280" cy="438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1800" y="2328840"/>
              <a:ext cx="3976560" cy="9460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32360" y="2328840"/>
              <a:ext cx="3976560" cy="9460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11600" y="1932120"/>
              <a:ext cx="1305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68080" y="1932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65360" y="193212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73840" y="19321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91800" y="2301840"/>
              <a:ext cx="2554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lance = b.getBalance(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93240" y="2635200"/>
              <a:ext cx="2664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.setBalance(balance*1.1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93960" y="2968560"/>
              <a:ext cx="2321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.withdraw(balance/1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39000" y="1932120"/>
              <a:ext cx="1305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96200" y="19321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62880" y="193212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38640" y="2373480"/>
              <a:ext cx="2554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lance = b.getBalance(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39720" y="2706840"/>
              <a:ext cx="2664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.setBalance(balance*1.1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40440" y="3040200"/>
              <a:ext cx="2307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c.withdraw(balance/1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1800" y="3468600"/>
              <a:ext cx="2615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lance =  b.getBalance(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94200" y="348624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38640" y="3875040"/>
              <a:ext cx="2554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lance = b.getBalance(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40680" y="38797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39720" y="4280040"/>
              <a:ext cx="2664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.setBalance(balance*1.1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40680" y="42973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2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93240" y="4684680"/>
              <a:ext cx="2664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.setBalance(balance*1.1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94200" y="47023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2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93960" y="5089680"/>
              <a:ext cx="2321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.withdraw(balance/1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93480" y="5106960"/>
              <a:ext cx="48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8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0440" y="5494320"/>
              <a:ext cx="2307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c.withdraw(balance/1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40680" y="551196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8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00" y="1860480"/>
              <a:ext cx="827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6800" y="5810400"/>
              <a:ext cx="827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73040" y="1785960"/>
            <a:ext cx="395928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86320" y="1801800"/>
            <a:ext cx="3959280" cy="4381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3040" y="2260440"/>
            <a:ext cx="3959280" cy="6750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03600" y="2260440"/>
            <a:ext cx="3959280" cy="6750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inconsistent retrievals probl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874880"/>
            <a:ext cx="13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21040" y="18748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4560" y="1874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69440" y="18748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0560" y="2230560"/>
            <a:ext cx="170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withdraw(1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0560" y="2581200"/>
            <a:ext cx="1483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.deposit(1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87200" y="1874880"/>
            <a:ext cx="13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6400" y="187488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41400" y="18684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2880" y="2376360"/>
            <a:ext cx="23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Branch.branchTota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9840" y="3102120"/>
            <a:ext cx="179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withdraw(1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58600" y="312912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5040" y="3527280"/>
            <a:ext cx="227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otal = a.getBalanc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45000" y="35416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3960" y="3954600"/>
            <a:ext cx="2914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otal = total+b.getBalanc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45000" y="39672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4320" y="4379760"/>
            <a:ext cx="289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otal = total+c.getBalanc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0560" y="4805280"/>
            <a:ext cx="1483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.deposit(1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58600" y="483228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770360" y="4867200"/>
            <a:ext cx="74520" cy="239760"/>
            <a:chOff x="4770360" y="4867200"/>
            <a:chExt cx="74520" cy="239760"/>
          </a:xfrm>
        </p:grpSpPr>
        <p:sp>
          <p:nvSpPr>
            <p:cNvPr id="198" name=""/>
            <p:cNvSpPr/>
            <p:nvPr/>
          </p:nvSpPr>
          <p:spPr>
            <a:xfrm>
              <a:off x="4770360" y="48672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70360" y="503208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90680" y="1760400"/>
            <a:ext cx="806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8040" y="5519880"/>
            <a:ext cx="806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erially equivalent interleaving of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26000" y="283212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72560" y="283212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26000" y="534528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02320" y="534528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72560" y="53452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09560" y="1676520"/>
            <a:ext cx="8213760" cy="4093920"/>
            <a:chOff x="709560" y="1676520"/>
            <a:chExt cx="8213760" cy="4093920"/>
          </a:xfrm>
        </p:grpSpPr>
        <p:sp>
          <p:nvSpPr>
            <p:cNvPr id="209" name=""/>
            <p:cNvSpPr/>
            <p:nvPr/>
          </p:nvSpPr>
          <p:spPr>
            <a:xfrm>
              <a:off x="919080" y="1700280"/>
              <a:ext cx="3959280" cy="438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32360" y="1716120"/>
              <a:ext cx="3959280" cy="438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01800" y="2195640"/>
              <a:ext cx="397656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32360" y="2195640"/>
              <a:ext cx="397656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97840" y="172548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92120" y="1725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37560" y="17254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0640" y="17254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79840" y="219240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79120" y="2533680"/>
              <a:ext cx="27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.setBalance(balance*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0560" y="2874960"/>
              <a:ext cx="2458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balance/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30000" y="172548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22840" y="17254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92040" y="17254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66560" y="17254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26400" y="219240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25680" y="2533680"/>
              <a:ext cx="27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.setBalance(balance*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27480" y="2874960"/>
              <a:ext cx="244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.withdraw(balance/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79480" y="3440160"/>
              <a:ext cx="2681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 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58560" y="344016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24360" y="3281400"/>
              <a:ext cx="2520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70920" y="3281400"/>
              <a:ext cx="2376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120" y="3854520"/>
              <a:ext cx="27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.setBalance(balance*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58560" y="38545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24360" y="3784680"/>
              <a:ext cx="25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70920" y="3697200"/>
              <a:ext cx="237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26400" y="416412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03680" y="41641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24360" y="4111560"/>
              <a:ext cx="25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70920" y="4111560"/>
              <a:ext cx="237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25680" y="4579920"/>
              <a:ext cx="27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.setBalance(balance*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03680" y="45799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4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24360" y="4525920"/>
              <a:ext cx="25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70920" y="4525920"/>
              <a:ext cx="237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80560" y="4940280"/>
              <a:ext cx="2458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balance/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58200" y="4940280"/>
              <a:ext cx="51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05120" y="50259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78200" y="50259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24360" y="4940280"/>
              <a:ext cx="25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0920" y="4940280"/>
              <a:ext cx="237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27480" y="5354640"/>
              <a:ext cx="244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.withdraw(balance/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03680" y="535464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7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24360" y="5354640"/>
              <a:ext cx="2520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70920" y="5354640"/>
              <a:ext cx="2376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96760" y="1676520"/>
              <a:ext cx="802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9560" y="5722920"/>
              <a:ext cx="802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erially equivalent interleaving of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9000" y="282240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37520" y="282240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99000" y="537696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16280" y="53769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237520" y="53769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92200" y="1574640"/>
            <a:ext cx="8215200" cy="3810240"/>
            <a:chOff x="592200" y="1574640"/>
            <a:chExt cx="8215200" cy="3810240"/>
          </a:xfrm>
        </p:grpSpPr>
        <p:sp>
          <p:nvSpPr>
            <p:cNvPr id="262" name=""/>
            <p:cNvSpPr/>
            <p:nvPr/>
          </p:nvSpPr>
          <p:spPr>
            <a:xfrm>
              <a:off x="631800" y="1577880"/>
              <a:ext cx="3959280" cy="438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45080" y="1593720"/>
              <a:ext cx="4143240" cy="438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4520" y="2087640"/>
              <a:ext cx="3976560" cy="6746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45080" y="2087640"/>
              <a:ext cx="4162320" cy="6746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65800" y="160956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81320" y="16095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53400" y="16095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7920" y="1609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04680" y="2066760"/>
              <a:ext cx="179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100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5400" y="2414520"/>
              <a:ext cx="148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.deposit(1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48840" y="160956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65440" y="160956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87200" y="16095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44880" y="2263680"/>
              <a:ext cx="23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Branch.branchTotal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04680" y="2982960"/>
              <a:ext cx="179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100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33200" y="290844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5400" y="3403440"/>
              <a:ext cx="148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.deposit(1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33200" y="33289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3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47040" y="3825720"/>
              <a:ext cx="227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a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71720" y="375120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45960" y="4246560"/>
              <a:ext cx="2914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total+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271720" y="417348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4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46320" y="4668840"/>
              <a:ext cx="2899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total+c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0280" y="498492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8800" y="1574640"/>
              <a:ext cx="809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2200" y="5384880"/>
              <a:ext cx="81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5-05-21T14:26:13Z</dcterms:modified>
  <cp:revision>132</cp:revision>
  <dc:subject/>
  <dc:title>Figure 15.1 A distributed multimedia system</dc:title>
</cp:coreProperties>
</file>