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CFA-881D-4FDC-A303-A6679409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464-CA92-443C-B5F2-19B39BEC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D88-5AD9-49E9-AD88-F029F95B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6C2-572A-43CA-87A9-BD1B3A16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442-1C81-458C-80B0-D5072240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1DD6-940C-41A6-93AA-90666022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DB64-220E-4292-9E6C-FA884BDA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8B38-58AE-4455-8C43-BF9F96BF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6819-747A-4E40-A314-02EAD69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1D54-6D5F-46AF-989E-04BB7320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203F-59BA-4105-9B4B-C7CF4F9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42C-8388-444F-B2D9-A43884C9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EAE-40F5-4403-8C1D-C04F6F1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040-518C-4E70-B5F2-F81246F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D62-3746-4D29-949F-7600AF96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CCB-723A-46FE-B293-6E9D9229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CA76-0E45-49CA-86FE-D802D784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E65-CBAD-4BA3-A34A-89F7EA7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7C5-8CD7-427B-92A7-1A9717F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1B4-5BB5-471D-9758-BDA415F5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092-34C6-4471-9202-13EB9809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A75-C468-4B54-A9FF-1A1C0F8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1C4-20F7-4012-B70C-7C8C57F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E23-A11C-4CD9-AD61-913ADE8A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312E-3162-4761-9E18-F4C18F9A2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514-5309-4127-9786-0680701D00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20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BA Case Stud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4, © Addison-Wesley 2005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600" y="2863800"/>
            <a:ext cx="186984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DL constructed types –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200" y="1631880"/>
            <a:ext cx="543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0320" y="1631880"/>
            <a:ext cx="108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23560" y="1631880"/>
            <a:ext cx="433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200" y="2068560"/>
            <a:ext cx="1023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5280" y="2068560"/>
            <a:ext cx="334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equence &lt;Shape, 100&gt; 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26000" y="2317680"/>
            <a:ext cx="28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equence &lt;Shape&gt;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6720" y="256860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unded and unbounded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29960" y="2819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720" y="281952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10240" y="206856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type for a variable-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231768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elements of a spe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60480" y="23176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8520" y="2568600"/>
            <a:ext cx="31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 type.  An upper bound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2400" y="2819520"/>
            <a:ext cx="224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 may be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4840" y="3282840"/>
            <a:ext cx="65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28880" y="328284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5920" y="35193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string&lt;8&gt; Small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50120" y="3784680"/>
            <a:ext cx="107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bou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2000" y="37846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b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6720" y="4035600"/>
            <a:ext cx="21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11320" y="3282840"/>
            <a:ext cx="31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sequences of characte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5280" y="3519360"/>
            <a:ext cx="331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ted by the null character.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8160" y="3784680"/>
            <a:ext cx="31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bound on the length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14920" y="403560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200" y="4494240"/>
            <a:ext cx="62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27080" y="4494240"/>
            <a:ext cx="25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octet uniqueId[1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28520" y="48150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ypedef GraphicalObject GO[10]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9880" y="4494240"/>
            <a:ext cx="35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fines a type for a multi-dim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9880" y="4745160"/>
            <a:ext cx="354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-length sequence of element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3480" y="4995720"/>
            <a:ext cx="177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d IDL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1720" y="4484520"/>
            <a:ext cx="223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7200" y="4484520"/>
            <a:ext cx="2376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00" y="158760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9120" y="200016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93720" y="536400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figure continues on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IDL constructed types –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5600" y="1560600"/>
            <a:ext cx="52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1560600"/>
            <a:ext cx="1040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8280" y="156060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5240" y="1984320"/>
            <a:ext cx="71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1480" y="1984320"/>
            <a:ext cx="228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3400" y="18972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2600" y="2222640"/>
            <a:ext cx="105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ing 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6400" y="222264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1160" y="2462040"/>
            <a:ext cx="192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ctangle enclos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6520" y="246204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1520" y="2701800"/>
            <a:ext cx="157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oolean isFill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07520" y="270180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87820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5320" y="1984320"/>
            <a:ext cx="363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s a type for a record containing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01800" y="2222640"/>
            <a:ext cx="333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up of related entities.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4320" y="2462040"/>
            <a:ext cx="308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ed by value in argume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7920" y="2701800"/>
            <a:ext cx="65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9720" y="2701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04880" y="27018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800" y="3389400"/>
            <a:ext cx="1263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enumerat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3280" y="33894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 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61760" y="3389400"/>
            <a:ext cx="29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2240" y="3627360"/>
            <a:ext cx="208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Exp, Number, 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160" y="3389400"/>
            <a:ext cx="331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umerated type in IDL map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1080" y="3627360"/>
            <a:ext cx="338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 name onto a small set of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07560" y="386712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" y="4253040"/>
            <a:ext cx="612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0040" y="4253040"/>
            <a:ext cx="248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union Exp switch (Rand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20800" y="4492800"/>
            <a:ext cx="206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se Exp: string vo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41680" y="44928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22240" y="4732200"/>
            <a:ext cx="19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se Number: long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76520" y="473220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05320" y="4986360"/>
            <a:ext cx="188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se Name: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03960" y="4253040"/>
            <a:ext cx="333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DL discriminated union al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2160" y="4492800"/>
            <a:ext cx="358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a given set of types to be pa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2520" y="4732200"/>
            <a:ext cx="27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argument. The header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03960" y="4970520"/>
            <a:ext cx="19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by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46520" y="49705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25320" y="49705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99960" y="497052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97480" y="5210280"/>
            <a:ext cx="30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es which member is in 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99960" y="52102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0360" y="52927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9320" y="155592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5320" y="191304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5320" y="6045120"/>
            <a:ext cx="835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84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interoperable object referen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548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5740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984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452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9116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37640" y="30114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381960" y="30114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4960" y="1716120"/>
            <a:ext cx="8839080" cy="1450800"/>
            <a:chOff x="534960" y="1716120"/>
            <a:chExt cx="8839080" cy="1450800"/>
          </a:xfrm>
        </p:grpSpPr>
        <p:sp>
          <p:nvSpPr>
            <p:cNvPr id="251" name=""/>
            <p:cNvSpPr/>
            <p:nvPr/>
          </p:nvSpPr>
          <p:spPr>
            <a:xfrm>
              <a:off x="902160" y="1716120"/>
              <a:ext cx="106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OR 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480" y="1967040"/>
              <a:ext cx="2232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3920" y="220968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L interface type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86200" y="2209680"/>
              <a:ext cx="256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ocol and address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2840" y="2209680"/>
              <a:ext cx="100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47040" y="226692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5360" y="2581200"/>
              <a:ext cx="178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reposi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0680" y="2825640"/>
              <a:ext cx="84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89440" y="25812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10080" y="2581200"/>
              <a:ext cx="112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ost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10440" y="282564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21640" y="275580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55840" y="2581200"/>
              <a:ext cx="118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2120" y="2581200"/>
              <a:ext cx="1230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apter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66440" y="2581200"/>
              <a:ext cx="117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" y="218268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400" y="250524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4960" y="3147840"/>
              <a:ext cx="883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6400" y="218124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221760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372600" y="218124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08840" y="250524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24400" y="2503440"/>
              <a:ext cx="0" cy="64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0960" y="2217600"/>
              <a:ext cx="0" cy="94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aming graph in CORBA Naming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376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6840" y="2705040"/>
            <a:ext cx="96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hape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94600" y="30891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3760" y="3349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36600" y="33498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5280" y="3754440"/>
            <a:ext cx="233280" cy="338040"/>
          </a:xfrm>
          <a:custGeom>
            <a:avLst/>
            <a:gdLst>
              <a:gd name="textAreaLeft" fmla="*/ 32040 w 233280"/>
              <a:gd name="textAreaRight" fmla="*/ 201240 w 23328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285">
                <a:moveTo>
                  <a:pt x="10212" y="0"/>
                </a:moveTo>
                <a:arcTo wR="10212" hR="10212" stAng="16200000" swAng="-5400000"/>
                <a:lnTo>
                  <a:pt x="0" y="21073"/>
                </a:lnTo>
                <a:arcTo wR="10212" hR="10212" stAng="10800000" swAng="-5400000"/>
                <a:lnTo>
                  <a:pt x="11388" y="31285"/>
                </a:lnTo>
                <a:arcTo wR="10212" hR="10212" stAng="5400000" swAng="-5400000"/>
                <a:lnTo>
                  <a:pt x="21600" y="10212"/>
                </a:lnTo>
                <a:arcTo wR="10212" hR="10212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0528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05280" y="3754440"/>
            <a:ext cx="2332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05280" y="3754440"/>
            <a:ext cx="2602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0528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05280" y="3909960"/>
            <a:ext cx="233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32040" y="3754440"/>
            <a:ext cx="234720" cy="338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093">
                <a:moveTo>
                  <a:pt x="10143" y="0"/>
                </a:moveTo>
                <a:arcTo wR="10143" hR="10143" stAng="16200000" swAng="-5400000"/>
                <a:lnTo>
                  <a:pt x="0" y="20950"/>
                </a:lnTo>
                <a:arcTo wR="10143" hR="10143" stAng="10800000" swAng="-5400000"/>
                <a:lnTo>
                  <a:pt x="11457" y="3109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204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57240" y="3754440"/>
            <a:ext cx="2095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7240" y="3754440"/>
            <a:ext cx="235080" cy="20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32040" y="375444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2040" y="3936960"/>
            <a:ext cx="23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1360" y="3494160"/>
            <a:ext cx="234720" cy="338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38040"/>
              <a:gd name="textAreaBottom" fmla="*/ 306000 h 338040"/>
            </a:gdLst>
            <a:ahLst/>
            <a:rect l="textAreaLeft" t="textAreaTop" r="textAreaRight" b="textAreaBottom"/>
            <a:pathLst>
              <a:path w="21600" h="31093">
                <a:moveTo>
                  <a:pt x="10143" y="0"/>
                </a:moveTo>
                <a:arcTo wR="10143" hR="10143" stAng="16200000" swAng="-5400000"/>
                <a:lnTo>
                  <a:pt x="0" y="20950"/>
                </a:lnTo>
                <a:arcTo wR="10143" hR="10143" stAng="10800000" swAng="-5400000"/>
                <a:lnTo>
                  <a:pt x="11457" y="3109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1360" y="34941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360" y="3494160"/>
            <a:ext cx="2077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8360" y="3494160"/>
            <a:ext cx="233280" cy="18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360" y="34941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360" y="3649680"/>
            <a:ext cx="23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93880" y="333684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49" y="33"/>
                </a:moveTo>
                <a:lnTo>
                  <a:pt x="66" y="66"/>
                </a:lnTo>
                <a:lnTo>
                  <a:pt x="0" y="66"/>
                </a:lnTo>
                <a:lnTo>
                  <a:pt x="16" y="0"/>
                </a:lnTo>
                <a:lnTo>
                  <a:pt x="49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971280" y="2608200"/>
            <a:ext cx="1068120" cy="78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9920" y="3129120"/>
            <a:ext cx="77760" cy="102960"/>
          </a:xfrm>
          <a:custGeom>
            <a:avLst/>
            <a:gdLst/>
            <a:ahLst/>
            <a:rect l="l" t="t" r="r" b="b"/>
            <a:pathLst>
              <a:path w="49" h="65">
                <a:moveTo>
                  <a:pt x="16" y="16"/>
                </a:moveTo>
                <a:lnTo>
                  <a:pt x="49" y="0"/>
                </a:lnTo>
                <a:lnTo>
                  <a:pt x="49" y="65"/>
                </a:lnTo>
                <a:lnTo>
                  <a:pt x="0" y="33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2640" y="2685960"/>
            <a:ext cx="312480" cy="44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62000" y="3624120"/>
            <a:ext cx="104760" cy="10332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0"/>
                </a:lnTo>
                <a:lnTo>
                  <a:pt x="33" y="65"/>
                </a:lnTo>
                <a:lnTo>
                  <a:pt x="0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014560" y="2711520"/>
            <a:ext cx="77760" cy="9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52720" y="362412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16" y="32"/>
                </a:moveTo>
                <a:lnTo>
                  <a:pt x="49" y="0"/>
                </a:lnTo>
                <a:lnTo>
                  <a:pt x="65" y="65"/>
                </a:lnTo>
                <a:lnTo>
                  <a:pt x="0" y="49"/>
                </a:lnTo>
                <a:lnTo>
                  <a:pt x="16" y="32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0200" y="3467160"/>
            <a:ext cx="208080" cy="18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87680" y="3206880"/>
            <a:ext cx="234720" cy="36504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3574">
                <a:moveTo>
                  <a:pt x="10143" y="0"/>
                </a:moveTo>
                <a:arcTo wR="10143" hR="10143" stAng="16200000" swAng="-5400000"/>
                <a:lnTo>
                  <a:pt x="0" y="23431"/>
                </a:lnTo>
                <a:arcTo wR="10143" hR="10143" stAng="10800000" swAng="-5400000"/>
                <a:lnTo>
                  <a:pt x="11457" y="33574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34760" y="26971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39760" y="2346480"/>
            <a:ext cx="260640" cy="392040"/>
          </a:xfrm>
          <a:custGeom>
            <a:avLst/>
            <a:gdLst>
              <a:gd name="textAreaLeft" fmla="*/ 32040 w 260640"/>
              <a:gd name="textAreaRight" fmla="*/ 228600 w 260640"/>
              <a:gd name="textAreaTop" fmla="*/ 32040 h 392040"/>
              <a:gd name="textAreaBottom" fmla="*/ 360000 h 392040"/>
            </a:gdLst>
            <a:ahLst/>
            <a:rect l="textAreaLeft" t="textAreaTop" r="textAreaRight" b="textAreaBottom"/>
            <a:pathLst>
              <a:path w="21600" h="32474">
                <a:moveTo>
                  <a:pt x="9154" y="0"/>
                </a:moveTo>
                <a:arcTo wR="9154" hR="9154" stAng="16200000" swAng="-5400000"/>
                <a:lnTo>
                  <a:pt x="0" y="23320"/>
                </a:lnTo>
                <a:arcTo wR="9154" hR="9154" stAng="10800000" swAng="-5400000"/>
                <a:lnTo>
                  <a:pt x="12446" y="32474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124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7760" y="28018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86760" y="3452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0920" y="34005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48000" y="33228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29400" y="27241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4920" y="318132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893080" y="3936960"/>
            <a:ext cx="235080" cy="363600"/>
          </a:xfrm>
          <a:custGeom>
            <a:avLst/>
            <a:gdLst>
              <a:gd name="textAreaLeft" fmla="*/ 32040 w 235080"/>
              <a:gd name="textAreaRight" fmla="*/ 203040 w 2350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391">
                <a:moveTo>
                  <a:pt x="10143" y="0"/>
                </a:moveTo>
                <a:arcTo wR="10143" hR="10143" stAng="16200000" swAng="-5400000"/>
                <a:lnTo>
                  <a:pt x="0" y="23248"/>
                </a:lnTo>
                <a:arcTo wR="10143" hR="10143" stAng="10800000" swAng="-5400000"/>
                <a:lnTo>
                  <a:pt x="11457" y="33391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93080" y="393696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93080" y="3962520"/>
            <a:ext cx="235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893080" y="3962520"/>
            <a:ext cx="2620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893080" y="393696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93080" y="4118040"/>
            <a:ext cx="235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12120" y="3936960"/>
            <a:ext cx="234720" cy="363600"/>
          </a:xfrm>
          <a:custGeom>
            <a:avLst/>
            <a:gdLst>
              <a:gd name="textAreaLeft" fmla="*/ 32040 w 234720"/>
              <a:gd name="textAreaRight" fmla="*/ 202680 w 23472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442">
                <a:moveTo>
                  <a:pt x="10143" y="0"/>
                </a:moveTo>
                <a:arcTo wR="10143" hR="10143" stAng="16200000" swAng="-5400000"/>
                <a:lnTo>
                  <a:pt x="0" y="23299"/>
                </a:lnTo>
                <a:arcTo wR="10143" hR="10143" stAng="10800000" swAng="-5400000"/>
                <a:lnTo>
                  <a:pt x="11457" y="33442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12120" y="3936960"/>
            <a:ext cx="261720" cy="390600"/>
          </a:xfrm>
          <a:custGeom>
            <a:avLst/>
            <a:gdLst>
              <a:gd name="textAreaLeft" fmla="*/ 32040 w 261720"/>
              <a:gd name="textAreaRight" fmla="*/ 229680 w 26172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222">
                <a:moveTo>
                  <a:pt x="9098" y="0"/>
                </a:moveTo>
                <a:arcTo wR="9098" hR="9098" stAng="16200000" swAng="-5400000"/>
                <a:lnTo>
                  <a:pt x="0" y="23124"/>
                </a:lnTo>
                <a:arcTo wR="9098" hR="9098" stAng="10800000" swAng="-5400000"/>
                <a:lnTo>
                  <a:pt x="12502" y="32222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12120" y="3962520"/>
            <a:ext cx="2347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12120" y="3962520"/>
            <a:ext cx="26172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12120" y="3936960"/>
            <a:ext cx="261720" cy="390600"/>
          </a:xfrm>
          <a:custGeom>
            <a:avLst/>
            <a:gdLst>
              <a:gd name="textAreaLeft" fmla="*/ 32040 w 261720"/>
              <a:gd name="textAreaRight" fmla="*/ 229680 w 26172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222">
                <a:moveTo>
                  <a:pt x="9098" y="0"/>
                </a:moveTo>
                <a:arcTo wR="9098" hR="9098" stAng="16200000" swAng="-5400000"/>
                <a:lnTo>
                  <a:pt x="0" y="23124"/>
                </a:lnTo>
                <a:arcTo wR="9098" hR="9098" stAng="10800000" swAng="-5400000"/>
                <a:lnTo>
                  <a:pt x="12502" y="32222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2120" y="4118040"/>
            <a:ext cx="234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17000" y="3936960"/>
            <a:ext cx="233280" cy="363600"/>
          </a:xfrm>
          <a:custGeom>
            <a:avLst/>
            <a:gdLst>
              <a:gd name="textAreaLeft" fmla="*/ 32040 w 233280"/>
              <a:gd name="textAreaRight" fmla="*/ 201240 w 233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3648">
                <a:moveTo>
                  <a:pt x="10212" y="0"/>
                </a:moveTo>
                <a:arcTo wR="10212" hR="10212" stAng="16200000" swAng="-5400000"/>
                <a:lnTo>
                  <a:pt x="0" y="23436"/>
                </a:lnTo>
                <a:arcTo wR="10212" hR="10212" stAng="10800000" swAng="-5400000"/>
                <a:lnTo>
                  <a:pt x="11388" y="33648"/>
                </a:lnTo>
                <a:arcTo wR="10212" hR="10212" stAng="5400000" swAng="-5400000"/>
                <a:lnTo>
                  <a:pt x="21600" y="10212"/>
                </a:lnTo>
                <a:arcTo wR="10212" hR="10212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17000" y="3936960"/>
            <a:ext cx="260280" cy="390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400">
                <a:moveTo>
                  <a:pt x="9154" y="0"/>
                </a:moveTo>
                <a:arcTo wR="9154" hR="9154" stAng="16200000" swAng="-5400000"/>
                <a:lnTo>
                  <a:pt x="0" y="23246"/>
                </a:lnTo>
                <a:arcTo wR="9154" hR="9154" stAng="10800000" swAng="-5400000"/>
                <a:lnTo>
                  <a:pt x="12446" y="32400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2200" y="3962520"/>
            <a:ext cx="208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3962520"/>
            <a:ext cx="235080" cy="18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17000" y="3936960"/>
            <a:ext cx="260280" cy="390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400">
                <a:moveTo>
                  <a:pt x="9154" y="0"/>
                </a:moveTo>
                <a:arcTo wR="9154" hR="9154" stAng="16200000" swAng="-5400000"/>
                <a:lnTo>
                  <a:pt x="0" y="23246"/>
                </a:lnTo>
                <a:arcTo wR="9154" hR="9154" stAng="10800000" swAng="-5400000"/>
                <a:lnTo>
                  <a:pt x="12446" y="32400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17000" y="4118040"/>
            <a:ext cx="233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32480" y="390996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17"/>
                </a:moveTo>
                <a:lnTo>
                  <a:pt x="66" y="0"/>
                </a:lnTo>
                <a:lnTo>
                  <a:pt x="66" y="66"/>
                </a:lnTo>
                <a:lnTo>
                  <a:pt x="0" y="49"/>
                </a:lnTo>
                <a:lnTo>
                  <a:pt x="33" y="17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72200" y="3494160"/>
            <a:ext cx="31248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68760" y="3780000"/>
            <a:ext cx="1033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49" y="16"/>
                </a:moveTo>
                <a:lnTo>
                  <a:pt x="65" y="49"/>
                </a:lnTo>
                <a:lnTo>
                  <a:pt x="0" y="66"/>
                </a:lnTo>
                <a:lnTo>
                  <a:pt x="16" y="0"/>
                </a:lnTo>
                <a:lnTo>
                  <a:pt x="49" y="1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46160" y="3494160"/>
            <a:ext cx="31284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93080" y="3780000"/>
            <a:ext cx="104760" cy="129960"/>
          </a:xfrm>
          <a:custGeom>
            <a:avLst/>
            <a:gdLst/>
            <a:ahLst/>
            <a:rect l="l" t="t" r="r" b="b"/>
            <a:pathLst>
              <a:path w="66" h="82">
                <a:moveTo>
                  <a:pt x="17" y="33"/>
                </a:moveTo>
                <a:lnTo>
                  <a:pt x="50" y="0"/>
                </a:lnTo>
                <a:lnTo>
                  <a:pt x="66" y="82"/>
                </a:lnTo>
                <a:lnTo>
                  <a:pt x="0" y="49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24720" y="3311640"/>
            <a:ext cx="495360" cy="52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90000" y="3076560"/>
            <a:ext cx="260280" cy="36504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282">
                <a:moveTo>
                  <a:pt x="9154" y="0"/>
                </a:moveTo>
                <a:arcTo wR="9154" hR="9154" stAng="16200000" swAng="-5400000"/>
                <a:lnTo>
                  <a:pt x="0" y="21128"/>
                </a:lnTo>
                <a:arcTo wR="9154" hR="9154" stAng="10800000" swAng="-5400000"/>
                <a:lnTo>
                  <a:pt x="12446" y="3028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37000" y="3909960"/>
            <a:ext cx="262080" cy="36504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074">
                <a:moveTo>
                  <a:pt x="9098" y="0"/>
                </a:moveTo>
                <a:arcTo wR="9098" hR="9098" stAng="16200000" swAng="-5400000"/>
                <a:lnTo>
                  <a:pt x="0" y="20976"/>
                </a:lnTo>
                <a:arcTo wR="9098" hR="9098" stAng="10800000" swAng="-5400000"/>
                <a:lnTo>
                  <a:pt x="12502" y="30074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52920" y="35053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64440" y="2216160"/>
            <a:ext cx="260280" cy="36504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0282">
                <a:moveTo>
                  <a:pt x="9154" y="0"/>
                </a:moveTo>
                <a:arcTo wR="9154" hR="9154" stAng="16200000" swAng="-5400000"/>
                <a:lnTo>
                  <a:pt x="0" y="21128"/>
                </a:lnTo>
                <a:arcTo wR="9154" hR="9154" stAng="10800000" swAng="-5400000"/>
                <a:lnTo>
                  <a:pt x="12446" y="3028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42080" y="380520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33"/>
                </a:moveTo>
                <a:lnTo>
                  <a:pt x="66" y="50"/>
                </a:lnTo>
                <a:lnTo>
                  <a:pt x="0" y="66"/>
                </a:lnTo>
                <a:lnTo>
                  <a:pt x="0" y="0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694640" y="3284640"/>
            <a:ext cx="495360" cy="5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4440" y="35575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92320" y="3701880"/>
            <a:ext cx="104760" cy="103320"/>
          </a:xfrm>
          <a:custGeom>
            <a:avLst/>
            <a:gdLst/>
            <a:ahLst/>
            <a:rect l="l" t="t" r="r" b="b"/>
            <a:pathLst>
              <a:path w="66" h="65">
                <a:moveTo>
                  <a:pt x="49" y="33"/>
                </a:moveTo>
                <a:lnTo>
                  <a:pt x="66" y="49"/>
                </a:lnTo>
                <a:lnTo>
                  <a:pt x="0" y="65"/>
                </a:lnTo>
                <a:lnTo>
                  <a:pt x="33" y="0"/>
                </a:lnTo>
                <a:lnTo>
                  <a:pt x="49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196720" y="3467160"/>
            <a:ext cx="39060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9360" y="2295360"/>
            <a:ext cx="260280" cy="363600"/>
          </a:xfrm>
          <a:custGeom>
            <a:avLst/>
            <a:gdLst>
              <a:gd name="textAreaLeft" fmla="*/ 32040 w 260280"/>
              <a:gd name="textAreaRight" fmla="*/ 228240 w 260280"/>
              <a:gd name="textAreaTop" fmla="*/ 32040 h 363600"/>
              <a:gd name="textAreaBottom" fmla="*/ 331560 h 363600"/>
            </a:gdLst>
            <a:ahLst/>
            <a:rect l="textAreaLeft" t="textAreaTop" r="textAreaRight" b="textAreaBottom"/>
            <a:pathLst>
              <a:path w="21600" h="30162">
                <a:moveTo>
                  <a:pt x="9154" y="0"/>
                </a:moveTo>
                <a:arcTo wR="9154" hR="9154" stAng="16200000" swAng="-5400000"/>
                <a:lnTo>
                  <a:pt x="0" y="21008"/>
                </a:lnTo>
                <a:arcTo wR="9154" hR="9154" stAng="10800000" swAng="-5400000"/>
                <a:lnTo>
                  <a:pt x="12446" y="30162"/>
                </a:lnTo>
                <a:arcTo wR="9154" hR="9154" stAng="5400000" swAng="-5400000"/>
                <a:lnTo>
                  <a:pt x="21600" y="9154"/>
                </a:lnTo>
                <a:arcTo wR="9154" hR="9154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7280" y="182880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 naming cont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59680" y="312912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17" y="33"/>
                </a:moveTo>
                <a:lnTo>
                  <a:pt x="17" y="0"/>
                </a:lnTo>
                <a:lnTo>
                  <a:pt x="66" y="49"/>
                </a:lnTo>
                <a:lnTo>
                  <a:pt x="0" y="65"/>
                </a:lnTo>
                <a:lnTo>
                  <a:pt x="17" y="33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67440" y="2556000"/>
            <a:ext cx="2892240" cy="62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17000" y="2946240"/>
            <a:ext cx="129960" cy="104760"/>
          </a:xfrm>
          <a:custGeom>
            <a:avLst/>
            <a:gdLst/>
            <a:ahLst/>
            <a:rect l="l" t="t" r="r" b="b"/>
            <a:pathLst>
              <a:path w="82" h="66">
                <a:moveTo>
                  <a:pt x="49" y="0"/>
                </a:moveTo>
                <a:lnTo>
                  <a:pt x="82" y="0"/>
                </a:lnTo>
                <a:lnTo>
                  <a:pt x="49" y="66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94760" y="2556000"/>
            <a:ext cx="1440" cy="36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42200" y="3884760"/>
            <a:ext cx="130320" cy="102960"/>
          </a:xfrm>
          <a:custGeom>
            <a:avLst/>
            <a:gdLst/>
            <a:ahLst/>
            <a:rect l="l" t="t" r="r" b="b"/>
            <a:pathLst>
              <a:path w="82" h="65">
                <a:moveTo>
                  <a:pt x="33" y="0"/>
                </a:moveTo>
                <a:lnTo>
                  <a:pt x="82" y="0"/>
                </a:lnTo>
                <a:lnTo>
                  <a:pt x="33" y="65"/>
                </a:lnTo>
                <a:lnTo>
                  <a:pt x="0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94760" y="338940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11560" y="3051000"/>
            <a:ext cx="130320" cy="103320"/>
          </a:xfrm>
          <a:custGeom>
            <a:avLst/>
            <a:gdLst/>
            <a:ahLst/>
            <a:rect l="l" t="t" r="r" b="b"/>
            <a:pathLst>
              <a:path w="82" h="65">
                <a:moveTo>
                  <a:pt x="32" y="0"/>
                </a:moveTo>
                <a:lnTo>
                  <a:pt x="82" y="0"/>
                </a:lnTo>
                <a:lnTo>
                  <a:pt x="32" y="65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62680" y="2658960"/>
            <a:ext cx="144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5480" y="4040280"/>
            <a:ext cx="235080" cy="365040"/>
          </a:xfrm>
          <a:custGeom>
            <a:avLst/>
            <a:gdLst>
              <a:gd name="textAreaLeft" fmla="*/ 32040 w 235080"/>
              <a:gd name="textAreaRight" fmla="*/ 203040 w 235080"/>
              <a:gd name="textAreaTop" fmla="*/ 32040 h 365040"/>
              <a:gd name="textAreaBottom" fmla="*/ 333000 h 365040"/>
            </a:gdLst>
            <a:ahLst/>
            <a:rect l="textAreaLeft" t="textAreaTop" r="textAreaRight" b="textAreaBottom"/>
            <a:pathLst>
              <a:path w="21600" h="33523">
                <a:moveTo>
                  <a:pt x="10143" y="0"/>
                </a:moveTo>
                <a:arcTo wR="10143" hR="10143" stAng="16200000" swAng="-5400000"/>
                <a:lnTo>
                  <a:pt x="0" y="23380"/>
                </a:lnTo>
                <a:arcTo wR="10143" hR="10143" stAng="10800000" swAng="-5400000"/>
                <a:lnTo>
                  <a:pt x="11457" y="33523"/>
                </a:lnTo>
                <a:arcTo wR="10143" hR="10143" stAng="5400000" swAng="-5400000"/>
                <a:lnTo>
                  <a:pt x="21600" y="10143"/>
                </a:lnTo>
                <a:arcTo wR="10143" hR="10143" stAng="0" swAng="-5400000"/>
                <a:close/>
              </a:path>
            </a:pathLst>
          </a:cu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05480" y="404028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05480" y="4067280"/>
            <a:ext cx="23508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05480" y="4067280"/>
            <a:ext cx="262080" cy="18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05480" y="4040280"/>
            <a:ext cx="262080" cy="390600"/>
          </a:xfrm>
          <a:custGeom>
            <a:avLst/>
            <a:gdLst>
              <a:gd name="textAreaLeft" fmla="*/ 32040 w 262080"/>
              <a:gd name="textAreaRight" fmla="*/ 230040 w 262080"/>
              <a:gd name="textAreaTop" fmla="*/ 32040 h 390600"/>
              <a:gd name="textAreaBottom" fmla="*/ 358560 h 390600"/>
            </a:gdLst>
            <a:ahLst/>
            <a:rect l="textAreaLeft" t="textAreaTop" r="textAreaRight" b="textAreaBottom"/>
            <a:pathLst>
              <a:path w="21600" h="32178">
                <a:moveTo>
                  <a:pt x="9098" y="0"/>
                </a:moveTo>
                <a:arcTo wR="9098" hR="9098" stAng="16200000" swAng="-5400000"/>
                <a:lnTo>
                  <a:pt x="0" y="23080"/>
                </a:lnTo>
                <a:arcTo wR="9098" hR="9098" stAng="10800000" swAng="-5400000"/>
                <a:lnTo>
                  <a:pt x="12502" y="32178"/>
                </a:lnTo>
                <a:arcTo wR="9098" hR="9098" stAng="5400000" swAng="-5400000"/>
                <a:lnTo>
                  <a:pt x="21600" y="9098"/>
                </a:lnTo>
                <a:arcTo wR="9098" hR="909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05480" y="4222800"/>
            <a:ext cx="235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81960" y="262728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67000" y="2138400"/>
            <a:ext cx="572760" cy="2350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114520" y="2138400"/>
            <a:ext cx="390600" cy="156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46840" y="2138400"/>
            <a:ext cx="417600" cy="2350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rt of the CORBA Naming Service NamingContext interface in ID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5360" y="1257480"/>
            <a:ext cx="9056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NameComponent { string id; string kind;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sequence &lt;NameComponent&gt; 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erface NamingContext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 (in Name n,  in Object  obj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nds the given name and remote object reference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unbind 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es an existing binding with the given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_new_context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es a new naming context and binds it to a given name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Object  resolve (in Name 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s up the name in my context and returns its remote object refer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list  (in unsigned long how_many, out BindingList bl, out BindingIterator b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turns the names in the bindings in my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event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91760" y="2506680"/>
            <a:ext cx="8837640" cy="1680480"/>
            <a:chOff x="491760" y="2506680"/>
            <a:chExt cx="8837640" cy="1680480"/>
          </a:xfrm>
        </p:grpSpPr>
        <p:sp>
          <p:nvSpPr>
            <p:cNvPr id="374" name=""/>
            <p:cNvSpPr/>
            <p:nvPr/>
          </p:nvSpPr>
          <p:spPr>
            <a:xfrm>
              <a:off x="3000240" y="2751120"/>
              <a:ext cx="3762360" cy="1138320"/>
            </a:xfrm>
            <a:prstGeom prst="roundRect">
              <a:avLst>
                <a:gd name="adj" fmla="val 42468"/>
              </a:avLst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00920" y="3227400"/>
              <a:ext cx="344160" cy="555480"/>
            </a:xfrm>
            <a:custGeom>
              <a:avLst/>
              <a:gdLst>
                <a:gd name="textAreaLeft" fmla="*/ 32760 w 344160"/>
                <a:gd name="textAreaRight" fmla="*/ 311400 w 34416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4849">
                  <a:moveTo>
                    <a:pt x="7018" y="0"/>
                  </a:moveTo>
                  <a:arcTo wR="7018" hR="7018" stAng="16200000" swAng="-5400000"/>
                  <a:lnTo>
                    <a:pt x="0" y="27831"/>
                  </a:lnTo>
                  <a:arcTo wR="7018" hR="7018" stAng="10800000" swAng="-5400000"/>
                  <a:lnTo>
                    <a:pt x="14582" y="34849"/>
                  </a:lnTo>
                  <a:arcTo wR="7018" hR="7018" stAng="5400000" swAng="-5400000"/>
                  <a:lnTo>
                    <a:pt x="21600" y="7018"/>
                  </a:lnTo>
                  <a:arcTo wR="7018" hR="70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00920" y="3227400"/>
              <a:ext cx="369720" cy="582480"/>
            </a:xfrm>
            <a:custGeom>
              <a:avLst/>
              <a:gdLst>
                <a:gd name="textAreaLeft" fmla="*/ 32760 w 369720"/>
                <a:gd name="textAreaRight" fmla="*/ 336960 w 3697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4018">
                  <a:moveTo>
                    <a:pt x="6536" y="0"/>
                  </a:moveTo>
                  <a:arcTo wR="6536" hR="6536" stAng="16200000" swAng="-5400000"/>
                  <a:lnTo>
                    <a:pt x="0" y="27482"/>
                  </a:lnTo>
                  <a:arcTo wR="6536" hR="6536" stAng="10800000" swAng="-5400000"/>
                  <a:lnTo>
                    <a:pt x="15064" y="34018"/>
                  </a:lnTo>
                  <a:arcTo wR="6536" hR="6536" stAng="5400000" swAng="-5400000"/>
                  <a:lnTo>
                    <a:pt x="21600" y="6536"/>
                  </a:lnTo>
                  <a:arcTo wR="6536" hR="6536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0920" y="3517920"/>
              <a:ext cx="34416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0920" y="3517920"/>
              <a:ext cx="3697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00920" y="3227400"/>
              <a:ext cx="369720" cy="582480"/>
            </a:xfrm>
            <a:custGeom>
              <a:avLst/>
              <a:gdLst>
                <a:gd name="textAreaLeft" fmla="*/ 32760 w 369720"/>
                <a:gd name="textAreaRight" fmla="*/ 336960 w 3697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4018">
                  <a:moveTo>
                    <a:pt x="6536" y="0"/>
                  </a:moveTo>
                  <a:arcTo wR="6536" hR="6536" stAng="16200000" swAng="-5400000"/>
                  <a:lnTo>
                    <a:pt x="0" y="27482"/>
                  </a:lnTo>
                  <a:arcTo wR="6536" hR="6536" stAng="10800000" swAng="-5400000"/>
                  <a:lnTo>
                    <a:pt x="15064" y="34018"/>
                  </a:lnTo>
                  <a:arcTo wR="6536" hR="6536" stAng="5400000" swAng="-5400000"/>
                  <a:lnTo>
                    <a:pt x="21600" y="6536"/>
                  </a:lnTo>
                  <a:arcTo wR="6536" hR="6536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00920" y="3517920"/>
              <a:ext cx="3441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97320" y="3227400"/>
              <a:ext cx="371520" cy="555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2285">
                  <a:moveTo>
                    <a:pt x="6508" y="0"/>
                  </a:moveTo>
                  <a:arcTo wR="6508" hR="6508" stAng="16200000" swAng="-5400000"/>
                  <a:lnTo>
                    <a:pt x="0" y="25777"/>
                  </a:lnTo>
                  <a:arcTo wR="6508" hR="6508" stAng="10800000" swAng="-5400000"/>
                  <a:lnTo>
                    <a:pt x="15092" y="32285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97320" y="3227400"/>
              <a:ext cx="398520" cy="582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1562">
                  <a:moveTo>
                    <a:pt x="6067" y="0"/>
                  </a:moveTo>
                  <a:arcTo wR="6067" hR="6067" stAng="16200000" swAng="-5400000"/>
                  <a:lnTo>
                    <a:pt x="0" y="25495"/>
                  </a:lnTo>
                  <a:arcTo wR="6067" hR="6067" stAng="10800000" swAng="-5400000"/>
                  <a:lnTo>
                    <a:pt x="15533" y="31562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24320" y="3517920"/>
              <a:ext cx="34452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4320" y="3517920"/>
              <a:ext cx="3715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97320" y="3227400"/>
              <a:ext cx="398520" cy="582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1562">
                  <a:moveTo>
                    <a:pt x="6067" y="0"/>
                  </a:moveTo>
                  <a:arcTo wR="6067" hR="6067" stAng="16200000" swAng="-5400000"/>
                  <a:lnTo>
                    <a:pt x="0" y="25495"/>
                  </a:lnTo>
                  <a:arcTo wR="6067" hR="6067" stAng="10800000" swAng="-5400000"/>
                  <a:lnTo>
                    <a:pt x="15533" y="31562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9732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79360" y="2975040"/>
              <a:ext cx="95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1760" y="2921040"/>
              <a:ext cx="759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6800" y="3413160"/>
              <a:ext cx="237960" cy="131760"/>
            </a:xfrm>
            <a:custGeom>
              <a:avLst/>
              <a:gdLst/>
              <a:ahLst/>
              <a:rect l="l" t="t" r="r" b="b"/>
              <a:pathLst>
                <a:path w="150" h="83">
                  <a:moveTo>
                    <a:pt x="0" y="33"/>
                  </a:moveTo>
                  <a:lnTo>
                    <a:pt x="0" y="0"/>
                  </a:lnTo>
                  <a:lnTo>
                    <a:pt x="150" y="33"/>
                  </a:lnTo>
                  <a:lnTo>
                    <a:pt x="0" y="8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066320" y="3465360"/>
              <a:ext cx="204012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66320" y="3927600"/>
              <a:ext cx="153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xy consum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304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92680" y="392760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xy 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35600" y="3413160"/>
              <a:ext cx="238320" cy="131760"/>
            </a:xfrm>
            <a:custGeom>
              <a:avLst/>
              <a:gdLst/>
              <a:ahLst/>
              <a:rect l="l" t="t" r="r" b="b"/>
              <a:pathLst>
                <a:path w="150" h="83">
                  <a:moveTo>
                    <a:pt x="0" y="50"/>
                  </a:moveTo>
                  <a:lnTo>
                    <a:pt x="0" y="0"/>
                  </a:lnTo>
                  <a:lnTo>
                    <a:pt x="150" y="50"/>
                  </a:lnTo>
                  <a:lnTo>
                    <a:pt x="0" y="8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95480" y="3492360"/>
              <a:ext cx="20127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85200" y="3386160"/>
              <a:ext cx="264960" cy="158760"/>
            </a:xfrm>
            <a:custGeom>
              <a:avLst/>
              <a:gdLst/>
              <a:ahLst/>
              <a:rect l="l" t="t" r="r" b="b"/>
              <a:pathLst>
                <a:path w="167" h="100">
                  <a:moveTo>
                    <a:pt x="0" y="50"/>
                  </a:moveTo>
                  <a:lnTo>
                    <a:pt x="0" y="0"/>
                  </a:lnTo>
                  <a:lnTo>
                    <a:pt x="167" y="50"/>
                  </a:lnTo>
                  <a:lnTo>
                    <a:pt x="0" y="10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470640" y="3465360"/>
              <a:ext cx="20145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07680" y="250668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vent cha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9972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5160" y="3254400"/>
              <a:ext cx="371520" cy="528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28480"/>
                <a:gd name="textAreaBottom" fmla="*/ 495720 h 528480"/>
              </a:gdLst>
              <a:ahLst/>
              <a:rect l="textAreaLeft" t="textAreaTop" r="textAreaRight" b="textAreaBottom"/>
              <a:pathLst>
                <a:path w="21600" h="30717">
                  <a:moveTo>
                    <a:pt x="6508" y="0"/>
                  </a:moveTo>
                  <a:arcTo wR="6508" hR="6508" stAng="16200000" swAng="-5400000"/>
                  <a:lnTo>
                    <a:pt x="0" y="24209"/>
                  </a:lnTo>
                  <a:arcTo wR="6508" hR="6508" stAng="10800000" swAng="-5400000"/>
                  <a:lnTo>
                    <a:pt x="15092" y="3071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5160" y="3254400"/>
              <a:ext cx="397080" cy="555480"/>
            </a:xfrm>
            <a:custGeom>
              <a:avLst/>
              <a:gdLst>
                <a:gd name="textAreaLeft" fmla="*/ 32760 w 397080"/>
                <a:gd name="textAreaRight" fmla="*/ 364320 w 39708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209">
                  <a:moveTo>
                    <a:pt x="6091" y="0"/>
                  </a:moveTo>
                  <a:arcTo wR="6091" hR="6091" stAng="16200000" swAng="-5400000"/>
                  <a:lnTo>
                    <a:pt x="0" y="24118"/>
                  </a:lnTo>
                  <a:arcTo wR="6091" hR="6091" stAng="10800000" swAng="-5400000"/>
                  <a:lnTo>
                    <a:pt x="15509" y="30209"/>
                  </a:lnTo>
                  <a:arcTo wR="6091" hR="6091" stAng="5400000" swAng="-5400000"/>
                  <a:lnTo>
                    <a:pt x="21600" y="6091"/>
                  </a:lnTo>
                  <a:arcTo wR="6091" hR="6091" stAng="0" swAng="-5400000"/>
                  <a:close/>
                </a:path>
              </a:pathLst>
            </a:cu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5160" y="3254400"/>
              <a:ext cx="37152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5160" y="3254400"/>
              <a:ext cx="397080" cy="29052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160" y="3254400"/>
              <a:ext cx="397080" cy="555480"/>
            </a:xfrm>
            <a:custGeom>
              <a:avLst/>
              <a:gdLst>
                <a:gd name="textAreaLeft" fmla="*/ 32760 w 397080"/>
                <a:gd name="textAreaRight" fmla="*/ 364320 w 39708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209">
                  <a:moveTo>
                    <a:pt x="6091" y="0"/>
                  </a:moveTo>
                  <a:arcTo wR="6091" hR="6091" stAng="16200000" swAng="-5400000"/>
                  <a:lnTo>
                    <a:pt x="0" y="24118"/>
                  </a:lnTo>
                  <a:arcTo wR="6091" hR="6091" stAng="10800000" swAng="-5400000"/>
                  <a:lnTo>
                    <a:pt x="15509" y="30209"/>
                  </a:lnTo>
                  <a:arcTo wR="6091" hR="6091" stAng="5400000" swAng="-5400000"/>
                  <a:lnTo>
                    <a:pt x="21600" y="6091"/>
                  </a:lnTo>
                  <a:arcTo wR="6091" hR="6091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516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75720" y="3254400"/>
              <a:ext cx="371520" cy="528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28480"/>
                <a:gd name="textAreaBottom" fmla="*/ 495720 h 528480"/>
              </a:gdLst>
              <a:ahLst/>
              <a:rect l="textAreaLeft" t="textAreaTop" r="textAreaRight" b="textAreaBottom"/>
              <a:pathLst>
                <a:path w="21600" h="30717">
                  <a:moveTo>
                    <a:pt x="6508" y="0"/>
                  </a:moveTo>
                  <a:arcTo wR="6508" hR="6508" stAng="16200000" swAng="-5400000"/>
                  <a:lnTo>
                    <a:pt x="0" y="24209"/>
                  </a:lnTo>
                  <a:arcTo wR="6508" hR="6508" stAng="10800000" swAng="-5400000"/>
                  <a:lnTo>
                    <a:pt x="15092" y="3071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75720" y="3254400"/>
              <a:ext cx="398520" cy="555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100">
                  <a:moveTo>
                    <a:pt x="6067" y="0"/>
                  </a:moveTo>
                  <a:arcTo wR="6067" hR="6067" stAng="16200000" swAng="-5400000"/>
                  <a:lnTo>
                    <a:pt x="0" y="24033"/>
                  </a:lnTo>
                  <a:arcTo wR="6067" hR="6067" stAng="10800000" swAng="-5400000"/>
                  <a:lnTo>
                    <a:pt x="15533" y="30100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5720" y="3254400"/>
              <a:ext cx="37152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75720" y="3254400"/>
              <a:ext cx="398520" cy="290520"/>
            </a:xfrm>
            <a:prstGeom prst="rect">
              <a:avLst/>
            </a:pr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5720" y="3254400"/>
              <a:ext cx="398520" cy="555480"/>
            </a:xfrm>
            <a:custGeom>
              <a:avLst/>
              <a:gdLst>
                <a:gd name="textAreaLeft" fmla="*/ 32760 w 398520"/>
                <a:gd name="textAreaRight" fmla="*/ 365760 w 398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0100">
                  <a:moveTo>
                    <a:pt x="6067" y="0"/>
                  </a:moveTo>
                  <a:arcTo wR="6067" hR="6067" stAng="16200000" swAng="-5400000"/>
                  <a:lnTo>
                    <a:pt x="0" y="24033"/>
                  </a:lnTo>
                  <a:arcTo wR="6067" hR="6067" stAng="10800000" swAng="-5400000"/>
                  <a:lnTo>
                    <a:pt x="15533" y="30100"/>
                  </a:lnTo>
                  <a:arcTo wR="6067" hR="6067" stAng="5400000" swAng="-5400000"/>
                  <a:lnTo>
                    <a:pt x="21600" y="6067"/>
                  </a:lnTo>
                  <a:arcTo wR="6067" hR="6067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75720" y="3517920"/>
              <a:ext cx="371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16280" y="2803680"/>
              <a:ext cx="344520" cy="555480"/>
            </a:xfrm>
            <a:custGeom>
              <a:avLst/>
              <a:gdLst>
                <a:gd name="textAreaLeft" fmla="*/ 32760 w 344520"/>
                <a:gd name="textAreaRight" fmla="*/ 311760 w 344520"/>
                <a:gd name="textAreaTop" fmla="*/ 32760 h 555480"/>
                <a:gd name="textAreaBottom" fmla="*/ 522720 h 555480"/>
              </a:gdLst>
              <a:ahLst/>
              <a:rect l="textAreaLeft" t="textAreaTop" r="textAreaRight" b="textAreaBottom"/>
              <a:pathLst>
                <a:path w="21600" h="34813">
                  <a:moveTo>
                    <a:pt x="7018" y="0"/>
                  </a:moveTo>
                  <a:arcTo wR="7018" hR="7018" stAng="16200000" swAng="-5400000"/>
                  <a:lnTo>
                    <a:pt x="0" y="27795"/>
                  </a:lnTo>
                  <a:arcTo wR="7018" hR="7018" stAng="10800000" swAng="-5400000"/>
                  <a:lnTo>
                    <a:pt x="14582" y="34813"/>
                  </a:lnTo>
                  <a:arcTo wR="7018" hR="7018" stAng="5400000" swAng="-5400000"/>
                  <a:lnTo>
                    <a:pt x="21600" y="7018"/>
                  </a:lnTo>
                  <a:arcTo wR="7018" hR="70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16280" y="2803680"/>
              <a:ext cx="371520" cy="582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3853">
                  <a:moveTo>
                    <a:pt x="6508" y="0"/>
                  </a:moveTo>
                  <a:arcTo wR="6508" hR="6508" stAng="16200000" swAng="-5400000"/>
                  <a:lnTo>
                    <a:pt x="0" y="27345"/>
                  </a:lnTo>
                  <a:arcTo wR="6508" hR="6508" stAng="10800000" swAng="-5400000"/>
                  <a:lnTo>
                    <a:pt x="15092" y="338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16280" y="3094200"/>
              <a:ext cx="344520" cy="26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16280" y="3094200"/>
              <a:ext cx="371520" cy="29196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16280" y="2803680"/>
              <a:ext cx="371520" cy="582480"/>
            </a:xfrm>
            <a:custGeom>
              <a:avLst/>
              <a:gdLst>
                <a:gd name="textAreaLeft" fmla="*/ 32760 w 371520"/>
                <a:gd name="textAreaRight" fmla="*/ 338760 w 371520"/>
                <a:gd name="textAreaTop" fmla="*/ 32760 h 582480"/>
                <a:gd name="textAreaBottom" fmla="*/ 549720 h 582480"/>
              </a:gdLst>
              <a:ahLst/>
              <a:rect l="textAreaLeft" t="textAreaTop" r="textAreaRight" b="textAreaBottom"/>
              <a:pathLst>
                <a:path w="21600" h="33853">
                  <a:moveTo>
                    <a:pt x="6508" y="0"/>
                  </a:moveTo>
                  <a:arcTo wR="6508" hR="6508" stAng="16200000" swAng="-5400000"/>
                  <a:lnTo>
                    <a:pt x="0" y="27345"/>
                  </a:lnTo>
                  <a:arcTo wR="6508" hR="6508" stAng="10800000" swAng="-5400000"/>
                  <a:lnTo>
                    <a:pt x="15092" y="338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16280" y="3094200"/>
              <a:ext cx="3445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5560" y="35845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DL interfaces Shape and 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7560" y="1263600"/>
            <a:ext cx="347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uct Rectangle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widt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75280" y="1300320"/>
            <a:ext cx="420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ing typ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Rectangle enclosing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oolean isFill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371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9000" y="2975040"/>
            <a:ext cx="851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face Shape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getVersion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raphicalObject getAllState() 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// returns state of the Graphical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4098960"/>
                <a:tab algn="l" pos="790884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9000" y="4272120"/>
            <a:ext cx="8468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ypedef sequence &lt;Shape, 100&gt; All;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face ShapeList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exception FullException{ };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hape newShape(in GraphicalObject g) raises (FullException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ll allShapes(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returns sequence of remote object references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ng getVersion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622520"/>
                <a:tab algn="l" pos="4187880"/>
                <a:tab algn="l" pos="818532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89560" y="130824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2</a:t>
            </a:r>
            <a:br>
              <a:rPr sz="2000"/>
            </a:b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Java interfaces generated by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idlj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from CORBA interfac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0840" y="1743120"/>
            <a:ext cx="8578080" cy="30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erface ShapeListOpera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 newShape(GraphicalObject g) throws ShapeListPackage.FullExcep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[] allShape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 getVers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interface ShapeList extends ShapeListOperations, org.omg.CORBA.Obje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g.omg.CORBA.portable.IDLEntity {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3</a:t>
            </a:r>
            <a:br>
              <a:rPr sz="2000"/>
            </a:b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class of the Java server program for CORBA interface </a:t>
            </a:r>
            <a:r>
              <a:rPr b="0" i="1" lang="en-GB" sz="18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520" y="1320840"/>
            <a:ext cx="884844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org.omg.CORBA.*;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org.omg.PortableServer.PO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 ShapeListServant extends ShapeListPO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POA theRootpoa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Shape theList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int version;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static 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ShapeListServant(POA rootpo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ootpoa = rootpoa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/  initialize the other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tinued on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3 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3000" y="1149480"/>
            <a:ext cx="82296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Shape newShape(GraphicalObject g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rows ShapeListPackage.FullException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ersion++;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hape s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hapeServant shapeRef = new ShapeServant( g, versio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rg.omg.CORBA.Object ref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Roopoa.servant_to_reference(shapeRef)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= ShapeHelper.narrow(re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 catch (Exception e) {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(n &gt;=100) throw new ShapeListPackage.FullException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List[n++] = 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 s;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 Shape[] allShapes()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blic int getVersion() {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7908840"/>
                <a:tab algn="l" pos="8699400"/>
                <a:tab algn="l" pos="9569520"/>
                <a:tab algn="l" pos="104392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4 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360" y="1255680"/>
            <a:ext cx="89726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org.omg.CosNaming.*;   import org.omg.CosNaming.NamingContextPackage.*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mport org.omg.CORBA.*;      import org.omg.PortableServer.*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ublic class ShapeListServer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B orb = ORB.init(args, null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OA rootpoa =  POAHelper.narrow(orb.resolve_initial_references("RootPOA"));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ootpoa.the_POAManager().activate(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peListServant SLSRef = new ShapeListServant(rootpoa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g.omg.CORBA.Object ref = rootpoa.servant_to_reference(SLSRef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peList SLRef = ShapeListHelper.narrow(ref)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g.omg.CORBA.Object objRef =orb.resolve_initial_references("NameService");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ingContext ncRef = NamingContextHelper.narrow(objRef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eComponent nc = new NameComponent("ShapeList", ""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meComponent path[] = {nc}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cRef.rebind(path, SLRef);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rb.run();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 catch (Exception e) { ...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4120"/>
                <a:tab algn="l" pos="766800"/>
                <a:tab algn="l" pos="1144440"/>
                <a:tab algn="l" pos="1521000"/>
                <a:tab algn="l" pos="1911240"/>
                <a:tab algn="l" pos="752004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20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ient program for CORBA interface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2640" y="1459080"/>
            <a:ext cx="810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sNaming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sNaming.NamingContextPackage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org.omg.CORBA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B orb = ORB.init(args, null);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g.omg.CORBA.Object objRef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b.resolve_initial_references("NameService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ingContext ncRef = NamingContextHelper.narrow(objRe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Component nc = new NameComponent("ShapeList", 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Component path [] = { nc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List shapeListRef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ListHelper.narrow(ncRef.resolve(path)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hape[] sList = shapeListRef.allShapes(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raphicalObject g = sList[0].getAllState(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catch(org.omg.CORBA.SystemException e) {.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7242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components of the CORBA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25320" y="2171880"/>
            <a:ext cx="8542440" cy="2595960"/>
            <a:chOff x="625320" y="2171880"/>
            <a:chExt cx="8542440" cy="2595960"/>
          </a:xfrm>
        </p:grpSpPr>
        <p:sp>
          <p:nvSpPr>
            <p:cNvPr id="105" name=""/>
            <p:cNvSpPr/>
            <p:nvPr/>
          </p:nvSpPr>
          <p:spPr>
            <a:xfrm>
              <a:off x="3094200" y="2171880"/>
              <a:ext cx="1376280" cy="11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9920" y="2171880"/>
              <a:ext cx="1179360" cy="11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10040" y="2214720"/>
              <a:ext cx="1326960" cy="1049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5320" y="2367000"/>
              <a:ext cx="2424240" cy="2360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3320" y="2498760"/>
              <a:ext cx="2206800" cy="1879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28840" y="3351240"/>
              <a:ext cx="458640" cy="611280"/>
            </a:xfrm>
            <a:custGeom>
              <a:avLst/>
              <a:gdLst>
                <a:gd name="textAreaLeft" fmla="*/ 66960 w 458640"/>
                <a:gd name="textAreaRight" fmla="*/ 391680 w 458640"/>
                <a:gd name="textAreaTop" fmla="*/ 66960 h 611280"/>
                <a:gd name="textAreaBottom" fmla="*/ 544320 h 611280"/>
              </a:gdLst>
              <a:ahLst/>
              <a:rect l="textAreaLeft" t="textAreaTop" r="textAreaRight" b="textAreaBottom"/>
              <a:pathLst>
                <a:path w="21600" h="28783">
                  <a:moveTo>
                    <a:pt x="10800" y="0"/>
                  </a:moveTo>
                  <a:arcTo wR="10800" hR="10800" stAng="16200000" swAng="-5400000"/>
                  <a:lnTo>
                    <a:pt x="0" y="17983"/>
                  </a:lnTo>
                  <a:arcTo wR="10800" hR="10800" stAng="10800000" swAng="-5400000"/>
                  <a:lnTo>
                    <a:pt x="10800" y="2878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8840" y="3351240"/>
              <a:ext cx="480960" cy="633240"/>
            </a:xfrm>
            <a:custGeom>
              <a:avLst/>
              <a:gdLst>
                <a:gd name="textAreaLeft" fmla="*/ 68400 w 480960"/>
                <a:gd name="textAreaRight" fmla="*/ 412560 w 480960"/>
                <a:gd name="textAreaTop" fmla="*/ 68400 h 633240"/>
                <a:gd name="textAreaBottom" fmla="*/ 564840 h 633240"/>
              </a:gdLst>
              <a:ahLst/>
              <a:rect l="textAreaLeft" t="textAreaTop" r="textAreaRight" b="textAreaBottom"/>
              <a:pathLst>
                <a:path w="21600" h="28434">
                  <a:moveTo>
                    <a:pt x="10515" y="0"/>
                  </a:moveTo>
                  <a:arcTo wR="10515" hR="10515" stAng="16200000" swAng="-5400000"/>
                  <a:lnTo>
                    <a:pt x="0" y="17919"/>
                  </a:lnTo>
                  <a:arcTo wR="10515" hR="10515" stAng="10800000" swAng="-5400000"/>
                  <a:lnTo>
                    <a:pt x="11085" y="28434"/>
                  </a:lnTo>
                  <a:arcTo wR="10515" hR="10515" stAng="5400000" swAng="-5400000"/>
                  <a:lnTo>
                    <a:pt x="21600" y="10515"/>
                  </a:lnTo>
                  <a:arcTo wR="10515" hR="1051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4440" y="2367000"/>
              <a:ext cx="3343320" cy="2382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9080" y="2476440"/>
              <a:ext cx="3189240" cy="20322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99040" y="3351240"/>
              <a:ext cx="480960" cy="611280"/>
            </a:xfrm>
            <a:custGeom>
              <a:avLst/>
              <a:gdLst>
                <a:gd name="textAreaLeft" fmla="*/ 70200 w 480960"/>
                <a:gd name="textAreaRight" fmla="*/ 410760 w 480960"/>
                <a:gd name="textAreaTop" fmla="*/ 70200 h 611280"/>
                <a:gd name="textAreaBottom" fmla="*/ 541080 h 611280"/>
              </a:gdLst>
              <a:ahLst/>
              <a:rect l="textAreaLeft" t="textAreaTop" r="textAreaRight" b="textAreaBottom"/>
              <a:pathLst>
                <a:path w="21600" h="27448">
                  <a:moveTo>
                    <a:pt x="10800" y="0"/>
                  </a:moveTo>
                  <a:arcTo wR="10800" hR="10800" stAng="16200000" swAng="-5400000"/>
                  <a:lnTo>
                    <a:pt x="0" y="16648"/>
                  </a:lnTo>
                  <a:arcTo wR="10800" hR="10800" stAng="10800000" swAng="-5400000"/>
                  <a:lnTo>
                    <a:pt x="10800" y="2744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9040" y="3351240"/>
              <a:ext cx="503280" cy="633240"/>
            </a:xfrm>
            <a:custGeom>
              <a:avLst/>
              <a:gdLst>
                <a:gd name="textAreaLeft" fmla="*/ 71640 w 503280"/>
                <a:gd name="textAreaRight" fmla="*/ 431640 w 503280"/>
                <a:gd name="textAreaTop" fmla="*/ 71640 h 633240"/>
                <a:gd name="textAreaBottom" fmla="*/ 561600 h 633240"/>
              </a:gdLst>
              <a:ahLst/>
              <a:rect l="textAreaLeft" t="textAreaTop" r="textAreaRight" b="textAreaBottom"/>
              <a:pathLst>
                <a:path w="21600" h="27174">
                  <a:moveTo>
                    <a:pt x="10527" y="0"/>
                  </a:moveTo>
                  <a:arcTo wR="10527" hR="10527" stAng="16200000" swAng="-5400000"/>
                  <a:lnTo>
                    <a:pt x="0" y="16647"/>
                  </a:lnTo>
                  <a:arcTo wR="10527" hR="10527" stAng="10800000" swAng="-5400000"/>
                  <a:lnTo>
                    <a:pt x="11073" y="27174"/>
                  </a:lnTo>
                  <a:arcTo wR="10527" hR="10527" stAng="5400000" swAng="-5400000"/>
                  <a:lnTo>
                    <a:pt x="21600" y="10527"/>
                  </a:lnTo>
                  <a:arcTo wR="10527" hR="10527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3280" y="3241800"/>
              <a:ext cx="503280" cy="830160"/>
            </a:xfrm>
            <a:custGeom>
              <a:avLst/>
              <a:gdLst>
                <a:gd name="textAreaLeft" fmla="*/ 73440 w 503280"/>
                <a:gd name="textAreaRight" fmla="*/ 429840 w 503280"/>
                <a:gd name="textAreaTop" fmla="*/ 73440 h 830160"/>
                <a:gd name="textAreaBottom" fmla="*/ 756720 h 830160"/>
              </a:gdLst>
              <a:ahLst/>
              <a:rect l="textAreaLeft" t="textAreaTop" r="textAreaRight" b="textAreaBottom"/>
              <a:pathLst>
                <a:path w="21600" h="35619">
                  <a:moveTo>
                    <a:pt x="10800" y="0"/>
                  </a:moveTo>
                  <a:arcTo wR="10800" hR="10800" stAng="16200000" swAng="-5400000"/>
                  <a:lnTo>
                    <a:pt x="0" y="24819"/>
                  </a:lnTo>
                  <a:arcTo wR="10800" hR="10800" stAng="10800000" swAng="-5400000"/>
                  <a:lnTo>
                    <a:pt x="10800" y="35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3280" y="3241800"/>
              <a:ext cx="523800" cy="852480"/>
            </a:xfrm>
            <a:custGeom>
              <a:avLst/>
              <a:gdLst>
                <a:gd name="textAreaLeft" fmla="*/ 74880 w 523800"/>
                <a:gd name="textAreaRight" fmla="*/ 448920 w 523800"/>
                <a:gd name="textAreaTop" fmla="*/ 74880 h 852480"/>
                <a:gd name="textAreaBottom" fmla="*/ 777600 h 852480"/>
              </a:gdLst>
              <a:ahLst/>
              <a:rect l="textAreaLeft" t="textAreaTop" r="textAreaRight" b="textAreaBottom"/>
              <a:pathLst>
                <a:path w="21600" h="35145">
                  <a:moveTo>
                    <a:pt x="10571" y="0"/>
                  </a:moveTo>
                  <a:arcTo wR="10571" hR="10571" stAng="16200000" swAng="-5400000"/>
                  <a:lnTo>
                    <a:pt x="0" y="24574"/>
                  </a:lnTo>
                  <a:arcTo wR="10571" hR="10571" stAng="10800000" swAng="-5400000"/>
                  <a:lnTo>
                    <a:pt x="11029" y="35145"/>
                  </a:lnTo>
                  <a:arcTo wR="10571" hR="10571" stAng="5400000" swAng="-5400000"/>
                  <a:lnTo>
                    <a:pt x="21600" y="10571"/>
                  </a:lnTo>
                  <a:arcTo wR="10571" hR="10571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19760" y="3263760"/>
              <a:ext cx="459000" cy="785880"/>
            </a:xfrm>
            <a:custGeom>
              <a:avLst/>
              <a:gdLst>
                <a:gd name="textAreaLeft" fmla="*/ 66960 w 459000"/>
                <a:gd name="textAreaRight" fmla="*/ 392040 w 459000"/>
                <a:gd name="textAreaTop" fmla="*/ 66960 h 785880"/>
                <a:gd name="textAreaBottom" fmla="*/ 718920 h 785880"/>
              </a:gdLst>
              <a:ahLst/>
              <a:rect l="textAreaLeft" t="textAreaTop" r="textAreaRight" b="textAreaBottom"/>
              <a:pathLst>
                <a:path w="21600" h="36971">
                  <a:moveTo>
                    <a:pt x="10800" y="0"/>
                  </a:moveTo>
                  <a:arcTo wR="10800" hR="10800" stAng="16200000" swAng="-5400000"/>
                  <a:lnTo>
                    <a:pt x="0" y="26171"/>
                  </a:lnTo>
                  <a:arcTo wR="10800" hR="10800" stAng="10800000" swAng="-5400000"/>
                  <a:lnTo>
                    <a:pt x="10800" y="369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19760" y="3263760"/>
              <a:ext cx="481320" cy="808200"/>
            </a:xfrm>
            <a:custGeom>
              <a:avLst/>
              <a:gdLst>
                <a:gd name="textAreaLeft" fmla="*/ 68400 w 481320"/>
                <a:gd name="textAreaRight" fmla="*/ 412920 w 481320"/>
                <a:gd name="textAreaTop" fmla="*/ 68400 h 808200"/>
                <a:gd name="textAreaBottom" fmla="*/ 739800 h 808200"/>
              </a:gdLst>
              <a:ahLst/>
              <a:rect l="textAreaLeft" t="textAreaTop" r="textAreaRight" b="textAreaBottom"/>
              <a:pathLst>
                <a:path w="21600" h="36258">
                  <a:moveTo>
                    <a:pt x="10515" y="0"/>
                  </a:moveTo>
                  <a:arcTo wR="10515" hR="10515" stAng="16200000" swAng="-5400000"/>
                  <a:lnTo>
                    <a:pt x="0" y="25743"/>
                  </a:lnTo>
                  <a:arcTo wR="10515" hR="10515" stAng="10800000" swAng="-5400000"/>
                  <a:lnTo>
                    <a:pt x="11085" y="36258"/>
                  </a:lnTo>
                  <a:arcTo wR="10515" hR="10515" stAng="5400000" swAng="-5400000"/>
                  <a:lnTo>
                    <a:pt x="21600" y="10515"/>
                  </a:lnTo>
                  <a:arcTo wR="10515" hR="1051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9560" y="25448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4800" y="266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14400" y="24573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5840" y="344484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7280" y="4532400"/>
              <a:ext cx="172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dynamic inv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3760" y="2549520"/>
              <a:ext cx="120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4600" y="2766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7320" y="2832120"/>
              <a:ext cx="47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4440" y="302904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ap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4200" y="342252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90040" y="34704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97640" y="3044880"/>
              <a:ext cx="327240" cy="1224000"/>
            </a:xfrm>
            <a:custGeom>
              <a:avLst/>
              <a:gdLst>
                <a:gd name="textAreaLeft" fmla="*/ 46080 w 327240"/>
                <a:gd name="textAreaRight" fmla="*/ 281160 w 327240"/>
                <a:gd name="textAreaTop" fmla="*/ 46080 h 1224000"/>
                <a:gd name="textAreaBottom" fmla="*/ 1177920 h 1224000"/>
              </a:gdLst>
              <a:ahLst/>
              <a:rect l="textAreaLeft" t="textAreaTop" r="textAreaRight" b="textAreaBottom"/>
              <a:pathLst>
                <a:path w="21600" h="80727">
                  <a:moveTo>
                    <a:pt x="10433" y="0"/>
                  </a:moveTo>
                  <a:arcTo wR="10433" hR="10433" stAng="16200000" swAng="-5400000"/>
                  <a:lnTo>
                    <a:pt x="0" y="70294"/>
                  </a:lnTo>
                  <a:arcTo wR="10433" hR="10433" stAng="10800000" swAng="-5400000"/>
                  <a:lnTo>
                    <a:pt x="11167" y="80727"/>
                  </a:lnTo>
                  <a:arcTo wR="10433" hR="10433" stAng="5400000" swAng="-5400000"/>
                  <a:lnTo>
                    <a:pt x="21600" y="10433"/>
                  </a:lnTo>
                  <a:arcTo wR="10433" hR="1043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7640" y="3044880"/>
              <a:ext cx="349200" cy="1245960"/>
            </a:xfrm>
            <a:custGeom>
              <a:avLst/>
              <a:gdLst>
                <a:gd name="textAreaLeft" fmla="*/ 46080 w 349200"/>
                <a:gd name="textAreaRight" fmla="*/ 303120 w 349200"/>
                <a:gd name="textAreaTop" fmla="*/ 46080 h 1245960"/>
                <a:gd name="textAreaBottom" fmla="*/ 1199880 h 1245960"/>
              </a:gdLst>
              <a:ahLst/>
              <a:rect l="textAreaLeft" t="textAreaTop" r="textAreaRight" b="textAreaBottom"/>
              <a:pathLst>
                <a:path w="21600" h="77013">
                  <a:moveTo>
                    <a:pt x="9769" y="0"/>
                  </a:moveTo>
                  <a:arcTo wR="9769" hR="9769" stAng="16200000" swAng="-5400000"/>
                  <a:lnTo>
                    <a:pt x="0" y="67244"/>
                  </a:lnTo>
                  <a:arcTo wR="9769" hR="9769" stAng="10800000" swAng="-5400000"/>
                  <a:lnTo>
                    <a:pt x="11831" y="77013"/>
                  </a:lnTo>
                  <a:arcTo wR="9769" hR="9769" stAng="5400000" swAng="-5400000"/>
                  <a:lnTo>
                    <a:pt x="21600" y="9769"/>
                  </a:lnTo>
                  <a:arcTo wR="9769" hR="9769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7200" y="281160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9080" y="4554360"/>
              <a:ext cx="159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dynamic skele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3120" y="3416400"/>
              <a:ext cx="787320" cy="480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3120" y="3416400"/>
              <a:ext cx="807840" cy="503280"/>
            </a:xfrm>
            <a:prstGeom prst="roundRect">
              <a:avLst>
                <a:gd name="adj" fmla="val 48736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5800" y="34322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7120" y="3629160"/>
              <a:ext cx="71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0440" y="2214720"/>
              <a:ext cx="1092240" cy="1049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6440" y="2549520"/>
              <a:ext cx="6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5040" y="2766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19760" y="33354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2000" y="37720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03680" y="3722760"/>
              <a:ext cx="153720" cy="87120"/>
            </a:xfrm>
            <a:custGeom>
              <a:avLst/>
              <a:gdLst/>
              <a:ahLst/>
              <a:rect l="l" t="t" r="r" b="b"/>
              <a:pathLst>
                <a:path w="97" h="55">
                  <a:moveTo>
                    <a:pt x="97" y="27"/>
                  </a:moveTo>
                  <a:lnTo>
                    <a:pt x="97" y="55"/>
                  </a:lnTo>
                  <a:lnTo>
                    <a:pt x="0" y="27"/>
                  </a:lnTo>
                  <a:lnTo>
                    <a:pt x="97" y="0"/>
                  </a:lnTo>
                  <a:lnTo>
                    <a:pt x="97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0120" y="3765600"/>
              <a:ext cx="305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63120" y="36417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3560" y="36892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31240" y="3351240"/>
              <a:ext cx="830160" cy="61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1240" y="3351240"/>
              <a:ext cx="852480" cy="633240"/>
            </a:xfrm>
            <a:prstGeom prst="roundRect">
              <a:avLst>
                <a:gd name="adj" fmla="val 49125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3800" y="3641760"/>
              <a:ext cx="42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935000" y="4006440"/>
              <a:ext cx="174960" cy="523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16320" y="4116240"/>
              <a:ext cx="655560" cy="459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350352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41"/>
                  </a:moveTo>
                  <a:lnTo>
                    <a:pt x="0" y="0"/>
                  </a:lnTo>
                  <a:lnTo>
                    <a:pt x="69" y="41"/>
                  </a:lnTo>
                  <a:lnTo>
                    <a:pt x="0" y="8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89280" y="3568680"/>
              <a:ext cx="310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1880" y="344484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32200" y="36640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0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DL module Whiteboar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7400" y="1604880"/>
            <a:ext cx="501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dule Whiteboard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Rectangl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ruct GraphicalObje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face Shap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ypedef sequence &lt;Shape, 100&gt; A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erface ShapeLi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.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07T16:47:51Z</dcterms:modified>
  <cp:revision>59</cp:revision>
  <dc:subject/>
  <dc:title>Figure 15.1 A distributed multimedia system</dc:title>
</cp:coreProperties>
</file>