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9DF4-C49C-4A46-B668-326ECB3E8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8CDD-AF8B-4C1F-850A-F7599532D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8ADD-1DF7-4388-8A8B-DD13ABBB6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9092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8684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36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9092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8684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77B4-D1FA-4096-B9E8-EC6D0ED0B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1DBC2-9C21-49E4-891B-E3A53BF76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72DFE-90F1-4C40-A8F2-DB7A2DF8F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48F95-C7B9-4739-8CED-658AB1785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680B5-3DCC-4EE8-8A1B-8B668A01C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9B011-6D79-4F19-B2DD-0741714D3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39200" y="228240"/>
            <a:ext cx="88887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48315-A577-41D4-AA63-E94A68343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975C7-DC7D-48C8-A9DF-5710195E7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C798-0521-4F39-B301-DFC4E7B7A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C6944-D350-47E1-A67A-CDC5D530A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37905-0B2E-41CE-BE6D-4C15961A0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97F7D-874C-4D1B-81E6-FD5C0F0B1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72155-BD31-4D80-A48A-F036EF67C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9092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8684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536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9092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8684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E08BF-FA17-47A0-9496-9A9B6C9F5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0A1E-A99F-4471-AC2C-7A343E2CA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7E14-1EB1-44CB-8B0A-DB0B99D50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DAF0-CAEB-414C-AA22-E20A4C835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39200" y="228240"/>
            <a:ext cx="88887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C78E-AAE0-4E42-98E8-A2654F056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DF81-E35A-4546-A863-9966CD0A7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6A8E-3D2C-44CE-8A36-3A1C11E55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FF2C-1832-4D61-BA6C-10B29A241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360" y="6400800"/>
            <a:ext cx="15955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45960" y="6400800"/>
            <a:ext cx="602604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Instructor’s Guide for  Coulouris, Dollimore and Kindberg   Distributed Systems: Concepts and Design   Edn. 4   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©  Addison-Wesley Publishers 2005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54800" y="6400800"/>
            <a:ext cx="109980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1C4DB-4DBC-4C6D-A944-AFC1A7C0535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95360" y="1143000"/>
            <a:ext cx="8832960" cy="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836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70040" y="6229080"/>
            <a:ext cx="2092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411360" y="6229080"/>
            <a:ext cx="308304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154640" y="6229080"/>
            <a:ext cx="19810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22C88-4BF0-4171-95B6-79EF4949A00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95360" y="2590920"/>
            <a:ext cx="8832960" cy="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836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Slides for Chapter 19 </a:t>
            </a:r>
            <a:br>
              <a:rPr sz="3200"/>
            </a:b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Web Services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641320" y="2895480"/>
            <a:ext cx="693396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From</a:t>
            </a:r>
            <a:r>
              <a:rPr b="0" lang="en-GB" sz="2400" spc="-1" strike="noStrike">
                <a:solidFill>
                  <a:srgbClr val="663300"/>
                </a:solidFill>
                <a:latin typeface="Arial Black"/>
              </a:rPr>
              <a:t> Coulouris, Dollimore and Kindberg</a:t>
            </a:r>
            <a:br>
              <a:rPr sz="2400"/>
            </a:br>
            <a:r>
              <a:rPr b="0" lang="en-GB" sz="2800" spc="-1" strike="noStrike">
                <a:solidFill>
                  <a:srgbClr val="663300"/>
                </a:solidFill>
                <a:latin typeface="Arial Black"/>
              </a:rPr>
              <a:t>Distributed Systems: </a:t>
            </a:r>
            <a:br>
              <a:rPr sz="2800"/>
            </a:br>
            <a:r>
              <a:rPr b="0" lang="en-GB" sz="2800" spc="-1" strike="noStrike">
                <a:solidFill>
                  <a:srgbClr val="663300"/>
                </a:solidFill>
                <a:latin typeface="Arial Black"/>
              </a:rPr>
              <a:t>	</a:t>
            </a:r>
            <a:r>
              <a:rPr b="0" lang="en-GB" sz="2800" spc="-1" strike="noStrike">
                <a:solidFill>
                  <a:srgbClr val="663300"/>
                </a:solidFill>
                <a:latin typeface="Arial Black"/>
              </a:rPr>
              <a:t>	</a:t>
            </a:r>
            <a:r>
              <a:rPr b="0" lang="en-GB" sz="2800" spc="-1" strike="noStrike">
                <a:solidFill>
                  <a:srgbClr val="663300"/>
                </a:solidFill>
                <a:latin typeface="Arial Black"/>
              </a:rPr>
              <a:t>Concepts and Design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Edition 4, © Addison-Wesley 2005</a:t>
            </a:r>
            <a:endParaRPr b="0" lang="en-US" sz="2400" spc="-1" strike="noStrike">
              <a:solidFill>
                <a:srgbClr val="663300"/>
              </a:solidFill>
              <a:latin typeface="Arial Black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95440" y="3095640"/>
            <a:ext cx="1869840" cy="23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9.9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Java implementation of the ShapeList clien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102280" y="6094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59160" y="1325520"/>
            <a:ext cx="7867440" cy="49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ackage staticstu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mport javax.xml.rpc.Stu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ublic class ShapeListCli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ublic static void main(String[] args) { /* pass URL of service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r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tub proxy = createProxy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roxy._setProper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javax.xml.rpc.Stub.ENDPOINT_ADDRESS_PROPERTY, args[0]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hapeList aShapeList = (ShapeList)prox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GraphicalObject g = aShapeList.getAllState(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} catch (Exception ex) { ex.printStackTrace()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}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rivate static Stub createProxy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etur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Stub) (new MyShapeListService_Impl().getShapeListPort(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9.10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e main elements in a WSDL description</a:t>
            </a:r>
            <a:br>
              <a:rPr sz="2000"/>
            </a:b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102280" y="6094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26960" y="1550880"/>
            <a:ext cx="9151920" cy="144648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99960" y="1523880"/>
            <a:ext cx="9204480" cy="1498680"/>
          </a:xfrm>
          <a:prstGeom prst="rect">
            <a:avLst/>
          </a:prstGeom>
          <a:noFill/>
          <a:ln w="52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57280" y="1996920"/>
            <a:ext cx="1552680" cy="60516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31720" y="1971720"/>
            <a:ext cx="1603440" cy="657360"/>
          </a:xfrm>
          <a:prstGeom prst="rect">
            <a:avLst/>
          </a:prstGeom>
          <a:noFill/>
          <a:ln w="52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669400" y="3560760"/>
            <a:ext cx="924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abstrac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320240" y="3535200"/>
            <a:ext cx="985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concret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386040" y="3112920"/>
            <a:ext cx="4852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how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328240" y="3112920"/>
            <a:ext cx="709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wher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86000" y="1614600"/>
            <a:ext cx="11192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C Helvetica Condensed"/>
              </a:rPr>
              <a:t>defini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210600" y="3627360"/>
            <a:ext cx="236520" cy="131760"/>
          </a:xfrm>
          <a:custGeom>
            <a:avLst/>
            <a:gdLst/>
            <a:ahLst/>
            <a:rect l="l" t="t" r="r" b="b"/>
            <a:pathLst>
              <a:path w="149" h="83">
                <a:moveTo>
                  <a:pt x="0" y="50"/>
                </a:moveTo>
                <a:lnTo>
                  <a:pt x="0" y="0"/>
                </a:lnTo>
                <a:lnTo>
                  <a:pt x="149" y="50"/>
                </a:lnTo>
                <a:lnTo>
                  <a:pt x="0" y="83"/>
                </a:lnTo>
                <a:lnTo>
                  <a:pt x="0" y="50"/>
                </a:lnTo>
                <a:close/>
              </a:path>
            </a:pathLst>
          </a:custGeom>
          <a:solidFill>
            <a:srgbClr val="0000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8553600" y="3706920"/>
            <a:ext cx="630000" cy="144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186600" y="3627360"/>
            <a:ext cx="236520" cy="131760"/>
          </a:xfrm>
          <a:custGeom>
            <a:avLst/>
            <a:gdLst/>
            <a:ahLst/>
            <a:rect l="l" t="t" r="r" b="b"/>
            <a:pathLst>
              <a:path w="149" h="83">
                <a:moveTo>
                  <a:pt x="149" y="50"/>
                </a:moveTo>
                <a:lnTo>
                  <a:pt x="149" y="83"/>
                </a:lnTo>
                <a:lnTo>
                  <a:pt x="0" y="50"/>
                </a:lnTo>
                <a:lnTo>
                  <a:pt x="149" y="0"/>
                </a:lnTo>
                <a:lnTo>
                  <a:pt x="149" y="50"/>
                </a:lnTo>
                <a:close/>
              </a:path>
            </a:pathLst>
          </a:custGeom>
          <a:solidFill>
            <a:srgbClr val="0000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6448320" y="3706920"/>
            <a:ext cx="657360" cy="144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91560" y="2087640"/>
            <a:ext cx="555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C Helvetica Condensed"/>
              </a:rPr>
              <a:t>typ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52800" y="3112920"/>
            <a:ext cx="2052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target namespac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627360"/>
            <a:ext cx="236520" cy="131760"/>
          </a:xfrm>
          <a:custGeom>
            <a:avLst/>
            <a:gdLst/>
            <a:ahLst/>
            <a:rect l="l" t="t" r="r" b="b"/>
            <a:pathLst>
              <a:path w="149" h="83">
                <a:moveTo>
                  <a:pt x="149" y="50"/>
                </a:moveTo>
                <a:lnTo>
                  <a:pt x="149" y="83"/>
                </a:lnTo>
                <a:lnTo>
                  <a:pt x="0" y="50"/>
                </a:lnTo>
                <a:lnTo>
                  <a:pt x="149" y="0"/>
                </a:lnTo>
                <a:lnTo>
                  <a:pt x="149" y="50"/>
                </a:lnTo>
                <a:close/>
              </a:path>
            </a:pathLst>
          </a:custGeom>
          <a:solidFill>
            <a:srgbClr val="0000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872640" y="3706920"/>
            <a:ext cx="1420920" cy="144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502240" y="3627360"/>
            <a:ext cx="236520" cy="131760"/>
          </a:xfrm>
          <a:custGeom>
            <a:avLst/>
            <a:gdLst/>
            <a:ahLst/>
            <a:rect l="l" t="t" r="r" b="b"/>
            <a:pathLst>
              <a:path w="149" h="83">
                <a:moveTo>
                  <a:pt x="0" y="50"/>
                </a:moveTo>
                <a:lnTo>
                  <a:pt x="0" y="0"/>
                </a:lnTo>
                <a:lnTo>
                  <a:pt x="149" y="50"/>
                </a:lnTo>
                <a:lnTo>
                  <a:pt x="0" y="83"/>
                </a:lnTo>
                <a:lnTo>
                  <a:pt x="0" y="50"/>
                </a:lnTo>
                <a:close/>
              </a:path>
            </a:pathLst>
          </a:custGeom>
          <a:solidFill>
            <a:srgbClr val="0000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3949200" y="3706920"/>
            <a:ext cx="1552680" cy="144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398680" y="1996920"/>
            <a:ext cx="1525680" cy="60516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371680" y="1971720"/>
            <a:ext cx="1577880" cy="657360"/>
          </a:xfrm>
          <a:prstGeom prst="rect">
            <a:avLst/>
          </a:prstGeom>
          <a:noFill/>
          <a:ln w="52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213080" y="1996920"/>
            <a:ext cx="1525680" cy="60516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187880" y="1971720"/>
            <a:ext cx="1577880" cy="657360"/>
          </a:xfrm>
          <a:prstGeom prst="rect">
            <a:avLst/>
          </a:prstGeom>
          <a:noFill/>
          <a:ln w="52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842240" y="1971720"/>
            <a:ext cx="1552680" cy="60480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816680" y="1944720"/>
            <a:ext cx="1603440" cy="657360"/>
          </a:xfrm>
          <a:prstGeom prst="rect">
            <a:avLst/>
          </a:prstGeom>
          <a:noFill/>
          <a:ln w="52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27840" y="1996920"/>
            <a:ext cx="1552320" cy="60516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02280" y="1971720"/>
            <a:ext cx="1603440" cy="657360"/>
          </a:xfrm>
          <a:prstGeom prst="rect">
            <a:avLst/>
          </a:prstGeom>
          <a:noFill/>
          <a:ln w="52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300920" y="2009880"/>
            <a:ext cx="941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C Helvetica Condensed"/>
              </a:rPr>
              <a:t>interfac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165720" y="2009880"/>
            <a:ext cx="922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C Helvetica Condensed"/>
              </a:rPr>
              <a:t>binding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963200" y="1982880"/>
            <a:ext cx="8298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C Helvetica Condensed"/>
              </a:rPr>
              <a:t>servic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77520" y="2087640"/>
            <a:ext cx="934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C Helvetica Condensed"/>
              </a:rPr>
              <a:t>messag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310840" y="3112920"/>
            <a:ext cx="1744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document styl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960000" y="3112920"/>
            <a:ext cx="21038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request-reply styl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 flipV="1">
            <a:off x="1504800" y="2602080"/>
            <a:ext cx="77760" cy="55224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3108240" y="2601720"/>
            <a:ext cx="1800" cy="50004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4976640" y="2629080"/>
            <a:ext cx="130320" cy="47304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6527880" y="2601720"/>
            <a:ext cx="131760" cy="50004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 flipV="1">
            <a:off x="8421480" y="2576160"/>
            <a:ext cx="168120" cy="54468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9.11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WSDL request and reply messages for the newShape operation</a:t>
            </a:r>
            <a:br>
              <a:rPr sz="2000"/>
            </a:b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102280" y="6094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968720" y="1706400"/>
            <a:ext cx="4307040" cy="139248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4200" y="1706400"/>
            <a:ext cx="4307040" cy="145440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61880" y="1684440"/>
            <a:ext cx="4351320" cy="1457280"/>
          </a:xfrm>
          <a:prstGeom prst="rect">
            <a:avLst/>
          </a:prstGeom>
          <a:noFill/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86800" y="1779480"/>
            <a:ext cx="785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 Helvetica Condensed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270800" y="1779480"/>
            <a:ext cx="819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name =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025000" y="1801800"/>
            <a:ext cx="96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73520" y="1779480"/>
            <a:ext cx="1998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ShapeList_newSha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799800" y="1801800"/>
            <a:ext cx="96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73280" y="2266920"/>
            <a:ext cx="3506760" cy="62064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50960" y="2143080"/>
            <a:ext cx="3551040" cy="766800"/>
          </a:xfrm>
          <a:prstGeom prst="rect">
            <a:avLst/>
          </a:prstGeom>
          <a:noFill/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116360" y="2521080"/>
            <a:ext cx="41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483920" y="2521080"/>
            <a:ext cx="223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=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94880" y="2543040"/>
            <a:ext cx="96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31160" y="2521080"/>
            <a:ext cx="1809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ns:Graphical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206160" y="2543040"/>
            <a:ext cx="96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84880" y="2235240"/>
            <a:ext cx="381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 Helvetica Condensed"/>
              </a:rPr>
              <a:t>p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180440" y="2235240"/>
            <a:ext cx="596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597320" y="2235240"/>
            <a:ext cx="1974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 Helvetica Condensed"/>
              </a:rPr>
              <a:t>="GraphicalObject_1"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496960" y="3306600"/>
            <a:ext cx="2350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tns </a:t>
            </a:r>
            <a:r>
              <a:rPr b="0" lang="en-US" sz="1600" spc="-1" strike="noStrike">
                <a:solidFill>
                  <a:srgbClr val="000000"/>
                </a:solidFill>
                <a:latin typeface="C Helvetica Condensed"/>
                <a:ea typeface="ヒラギノ角ゴ Pro W3"/>
              </a:rPr>
              <a:t>ﾐ</a:t>
            </a: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target name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773240" y="3328920"/>
            <a:ext cx="2917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xsd </a:t>
            </a:r>
            <a:r>
              <a:rPr b="0" lang="en-US" sz="1600" spc="-1" strike="noStrike">
                <a:solidFill>
                  <a:srgbClr val="000000"/>
                </a:solidFill>
                <a:latin typeface="C Helvetica Condensed"/>
                <a:ea typeface="ヒラギノ角ゴ Pro W3"/>
              </a:rPr>
              <a:t>ﾐ</a:t>
            </a: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XML schema defini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235480" y="2266920"/>
            <a:ext cx="3529080" cy="62064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13520" y="2124000"/>
            <a:ext cx="3573360" cy="785880"/>
          </a:xfrm>
          <a:prstGeom prst="rect">
            <a:avLst/>
          </a:prstGeom>
          <a:noFill/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993560" y="1779480"/>
            <a:ext cx="785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 Helvetica Condensed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677920" y="1779480"/>
            <a:ext cx="819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name =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430320" y="1801800"/>
            <a:ext cx="96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312240" y="1779480"/>
            <a:ext cx="2920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ShapeList_newShape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983080" y="1801800"/>
            <a:ext cx="96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363280" y="2235240"/>
            <a:ext cx="381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 Helvetica Condensed"/>
              </a:rPr>
              <a:t>p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650200" y="2235240"/>
            <a:ext cx="712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name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296760" y="2257560"/>
            <a:ext cx="96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338880" y="2235240"/>
            <a:ext cx="54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830280" y="2257560"/>
            <a:ext cx="96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918480" y="2235240"/>
            <a:ext cx="5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52080" y="2521080"/>
            <a:ext cx="41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119280" y="2521080"/>
            <a:ext cx="223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=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338160" y="2543040"/>
            <a:ext cx="96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378840" y="2521080"/>
            <a:ext cx="634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xsd: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954120" y="2543040"/>
            <a:ext cx="96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9.12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Message exchange patterns for WSDL operations</a:t>
            </a:r>
            <a:br>
              <a:rPr sz="2000"/>
            </a:b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102280" y="6094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370640" y="3016080"/>
            <a:ext cx="12960" cy="41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853400" y="3016080"/>
            <a:ext cx="12600" cy="41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4076360" y="3016080"/>
            <a:ext cx="12600" cy="41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4559120" y="3016080"/>
            <a:ext cx="12600" cy="41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370640" y="3435480"/>
            <a:ext cx="12960" cy="41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853400" y="3435480"/>
            <a:ext cx="12600" cy="41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4076360" y="3435480"/>
            <a:ext cx="12600" cy="41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559120" y="3435480"/>
            <a:ext cx="12600" cy="41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370640" y="3854520"/>
            <a:ext cx="12960" cy="55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853400" y="3854520"/>
            <a:ext cx="12600" cy="55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76360" y="3854520"/>
            <a:ext cx="12600" cy="55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4559120" y="3854520"/>
            <a:ext cx="12600" cy="55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370640" y="4413240"/>
            <a:ext cx="12960" cy="41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853400" y="4413240"/>
            <a:ext cx="12600" cy="41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4076360" y="4413240"/>
            <a:ext cx="12600" cy="41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4559120" y="4413240"/>
            <a:ext cx="12600" cy="41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147680" y="5403960"/>
            <a:ext cx="129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30440" y="5403960"/>
            <a:ext cx="126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112840" y="5403960"/>
            <a:ext cx="129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583000" y="5403960"/>
            <a:ext cx="126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370640" y="4832280"/>
            <a:ext cx="12960" cy="55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853400" y="4832280"/>
            <a:ext cx="12600" cy="55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4076360" y="4832280"/>
            <a:ext cx="12600" cy="55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4559120" y="4832280"/>
            <a:ext cx="12600" cy="55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089080" y="2114640"/>
            <a:ext cx="12600" cy="1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123920" y="2127240"/>
            <a:ext cx="12600" cy="27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089080" y="2127240"/>
            <a:ext cx="12600" cy="27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123920" y="2406600"/>
            <a:ext cx="12600" cy="27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089080" y="2406600"/>
            <a:ext cx="12600" cy="27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123920" y="2685960"/>
            <a:ext cx="12600" cy="27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089080" y="2685960"/>
            <a:ext cx="12600" cy="27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123920" y="2965320"/>
            <a:ext cx="12600" cy="27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089080" y="2965320"/>
            <a:ext cx="12600" cy="27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123920" y="3244680"/>
            <a:ext cx="12600" cy="27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089080" y="3244680"/>
            <a:ext cx="12600" cy="27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123920" y="3524400"/>
            <a:ext cx="12600" cy="27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089080" y="3524400"/>
            <a:ext cx="12600" cy="27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123920" y="3803760"/>
            <a:ext cx="12600" cy="27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089080" y="3803760"/>
            <a:ext cx="12600" cy="27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123920" y="4083120"/>
            <a:ext cx="12600" cy="27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992160" y="1825560"/>
            <a:ext cx="595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991800" y="3046320"/>
            <a:ext cx="681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-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1080" y="3505320"/>
            <a:ext cx="810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-On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989280" y="3963960"/>
            <a:ext cx="159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bust In-On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991800" y="4424400"/>
            <a:ext cx="681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-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990720" y="4883040"/>
            <a:ext cx="979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-On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989640" y="5343480"/>
            <a:ext cx="176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bust Out-On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942840" y="1793880"/>
            <a:ext cx="7602480" cy="3999960"/>
            <a:chOff x="942840" y="1793880"/>
            <a:chExt cx="7602480" cy="3999960"/>
          </a:xfrm>
        </p:grpSpPr>
        <p:sp>
          <p:nvSpPr>
            <p:cNvPr id="391" name=""/>
            <p:cNvSpPr/>
            <p:nvPr/>
          </p:nvSpPr>
          <p:spPr>
            <a:xfrm>
              <a:off x="942840" y="1793880"/>
              <a:ext cx="760248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942840" y="5790960"/>
              <a:ext cx="760248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3" name=""/>
          <p:cNvSpPr/>
          <p:nvPr/>
        </p:nvSpPr>
        <p:spPr>
          <a:xfrm>
            <a:off x="2089080" y="4083120"/>
            <a:ext cx="12600" cy="27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368520" y="2368440"/>
            <a:ext cx="1296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054320" y="2368440"/>
            <a:ext cx="1296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740120" y="2368440"/>
            <a:ext cx="1296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921280" y="2355840"/>
            <a:ext cx="12960" cy="1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695680" y="2368440"/>
            <a:ext cx="12600" cy="27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921280" y="2368440"/>
            <a:ext cx="12960" cy="27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695680" y="2647800"/>
            <a:ext cx="12600" cy="27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921280" y="2647800"/>
            <a:ext cx="12960" cy="27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695680" y="2927520"/>
            <a:ext cx="12600" cy="27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921280" y="2927520"/>
            <a:ext cx="12960" cy="27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695680" y="3206880"/>
            <a:ext cx="12600" cy="27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921280" y="3206880"/>
            <a:ext cx="12960" cy="27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695680" y="3486240"/>
            <a:ext cx="12600" cy="27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921280" y="3486240"/>
            <a:ext cx="12960" cy="27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695680" y="3765600"/>
            <a:ext cx="12600" cy="27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921280" y="3765600"/>
            <a:ext cx="12960" cy="27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695680" y="4044960"/>
            <a:ext cx="12600" cy="27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368520" y="4336920"/>
            <a:ext cx="1296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054320" y="4336920"/>
            <a:ext cx="1296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740120" y="4336920"/>
            <a:ext cx="1296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916360" y="2389320"/>
            <a:ext cx="621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264920" y="2389320"/>
            <a:ext cx="665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21120" y="2389320"/>
            <a:ext cx="875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eliv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318800" y="2449440"/>
            <a:ext cx="1480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ault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914560" y="2876400"/>
            <a:ext cx="80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264560" y="2876400"/>
            <a:ext cx="579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319160" y="2936880"/>
            <a:ext cx="1302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y repla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633520" y="2936880"/>
            <a:ext cx="579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914560" y="3365640"/>
            <a:ext cx="80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318080" y="3425760"/>
            <a:ext cx="1713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fault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914560" y="3852720"/>
            <a:ext cx="80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718960" y="3852720"/>
            <a:ext cx="1119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uarante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319160" y="3913200"/>
            <a:ext cx="1218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y be s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915280" y="4341960"/>
            <a:ext cx="579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263840" y="4341960"/>
            <a:ext cx="80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028480" y="434196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319160" y="4362480"/>
            <a:ext cx="1302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y repla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8650800" y="4362480"/>
            <a:ext cx="579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263840" y="4829040"/>
            <a:ext cx="80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318080" y="4849920"/>
            <a:ext cx="1713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fault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263840" y="5318280"/>
            <a:ext cx="80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718960" y="5318280"/>
            <a:ext cx="1119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uarante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318440" y="5318280"/>
            <a:ext cx="1501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y send fa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921120" y="5307120"/>
            <a:ext cx="23760" cy="48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921120" y="5794200"/>
            <a:ext cx="324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170320" y="5307120"/>
            <a:ext cx="24120" cy="48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170320" y="5794200"/>
            <a:ext cx="324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419880" y="5794200"/>
            <a:ext cx="324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921280" y="4044960"/>
            <a:ext cx="12960" cy="27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921280" y="4324320"/>
            <a:ext cx="127080" cy="1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664000" y="1825560"/>
            <a:ext cx="26827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Messages sent b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9.13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WSDL operation newShape</a:t>
            </a:r>
            <a:br>
              <a:rPr sz="2000"/>
            </a:b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102280" y="6094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200320" y="1695600"/>
            <a:ext cx="5789520" cy="186192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174760" y="1670040"/>
            <a:ext cx="5840640" cy="1913040"/>
          </a:xfrm>
          <a:prstGeom prst="rect">
            <a:avLst/>
          </a:prstGeom>
          <a:noFill/>
          <a:ln w="52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293920" y="1733400"/>
            <a:ext cx="10447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C Helvetica Condensed"/>
              </a:rPr>
              <a:t>oper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170880" y="1733400"/>
            <a:ext cx="9716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name =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044960" y="1758960"/>
            <a:ext cx="109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049280" y="1733400"/>
            <a:ext cx="1175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newShap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091120" y="1758960"/>
            <a:ext cx="109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381400" y="2446200"/>
            <a:ext cx="5322600" cy="36216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355840" y="2419200"/>
            <a:ext cx="5375160" cy="414360"/>
          </a:xfrm>
          <a:prstGeom prst="rect">
            <a:avLst/>
          </a:prstGeom>
          <a:noFill/>
          <a:ln w="52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408400" y="2482920"/>
            <a:ext cx="558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C Helvetica Condensed"/>
              </a:rPr>
              <a:t>inpu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825640" y="2482920"/>
            <a:ext cx="1270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 Helvetica Condensed"/>
              </a:rPr>
              <a:t>message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983040" y="2508120"/>
            <a:ext cx="109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886920" y="2482920"/>
            <a:ext cx="2791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tns:ShapeList_newShap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392880" y="2508120"/>
            <a:ext cx="109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381400" y="3014640"/>
            <a:ext cx="5297400" cy="36180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355840" y="2989440"/>
            <a:ext cx="5348160" cy="412560"/>
          </a:xfrm>
          <a:prstGeom prst="rect">
            <a:avLst/>
          </a:prstGeom>
          <a:noFill/>
          <a:ln w="52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435400" y="3025800"/>
            <a:ext cx="711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C Helvetica Condensed"/>
              </a:rPr>
              <a:t>outpu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990520" y="3025800"/>
            <a:ext cx="13374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message =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875760" y="3025800"/>
            <a:ext cx="4082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"tns:ShapeList_newShapeResponse"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516760" y="2043000"/>
            <a:ext cx="1837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pattern = In-Ou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219760" y="3781440"/>
            <a:ext cx="26492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tns </a:t>
            </a:r>
            <a:r>
              <a:rPr b="0" lang="en-US" sz="1900" spc="-1" strike="noStrike">
                <a:solidFill>
                  <a:srgbClr val="000000"/>
                </a:solidFill>
                <a:latin typeface="C Helvetica Condensed"/>
                <a:ea typeface="ヒラギノ角ゴ Pro W3"/>
              </a:rPr>
              <a:t>–</a:t>
            </a: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target namespac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775760" y="3781440"/>
            <a:ext cx="33278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xsd </a:t>
            </a:r>
            <a:r>
              <a:rPr b="0" lang="en-US" sz="1900" spc="-1" strike="noStrike">
                <a:solidFill>
                  <a:srgbClr val="000000"/>
                </a:solidFill>
                <a:latin typeface="C Helvetica Condensed"/>
                <a:ea typeface="ヒラギノ角ゴ Pro W3"/>
              </a:rPr>
              <a:t>–</a:t>
            </a: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XML schema defini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58080" y="4168800"/>
            <a:ext cx="13068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The names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747800" y="4168800"/>
            <a:ext cx="10447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C Helvetica Condensed"/>
              </a:rPr>
              <a:t>oper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607120" y="4168800"/>
            <a:ext cx="1095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, pattern,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540600" y="4168800"/>
            <a:ext cx="558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C Helvetica Condensed"/>
              </a:rPr>
              <a:t>inpu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004640" y="4168800"/>
            <a:ext cx="5587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and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454640" y="4168800"/>
            <a:ext cx="711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C Helvetica Condensed"/>
              </a:rPr>
              <a:t>outpu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768560" y="4168800"/>
            <a:ext cx="47282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are defined in the XML schema for WSDL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9.14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OAP binding and service definitions</a:t>
            </a:r>
            <a:br>
              <a:rPr sz="2000"/>
            </a:b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827600" y="1222200"/>
            <a:ext cx="3625920" cy="342612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1243080"/>
            <a:ext cx="3727440" cy="507672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271520" y="2111400"/>
            <a:ext cx="2619360" cy="68580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252440" y="2092320"/>
            <a:ext cx="2659320" cy="723960"/>
          </a:xfrm>
          <a:prstGeom prst="rect">
            <a:avLst/>
          </a:prstGeom>
          <a:noFill/>
          <a:ln w="39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294920" y="2120760"/>
            <a:ext cx="1102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C Helvetica Condensed"/>
              </a:rPr>
              <a:t>soap:bindi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188080" y="2120760"/>
            <a:ext cx="1477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 Helvetica Condensed"/>
              </a:rPr>
              <a:t>transport = URI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141200" y="1292400"/>
            <a:ext cx="691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 Helvetica Condensed"/>
              </a:rPr>
              <a:t>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479600" y="2503440"/>
            <a:ext cx="57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 Helvetica Condensed"/>
              </a:rPr>
              <a:t>style=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984320" y="2523960"/>
            <a:ext cx="982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063160" y="2503440"/>
            <a:ext cx="288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 Helvetica Condensed"/>
              </a:rPr>
              <a:t>rp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317680" y="2523960"/>
            <a:ext cx="982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189400" y="1973160"/>
            <a:ext cx="2921040" cy="2397240"/>
          </a:xfrm>
          <a:prstGeom prst="rect">
            <a:avLst/>
          </a:prstGeom>
          <a:noFill/>
          <a:ln w="39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258520" y="2125800"/>
            <a:ext cx="803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 Helvetica Condensed"/>
              </a:rPr>
              <a:t>endpo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070960" y="1292400"/>
            <a:ext cx="60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 Helvetica Condensed"/>
              </a:rPr>
              <a:t>serv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602320" y="1292400"/>
            <a:ext cx="5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443600" y="1494000"/>
            <a:ext cx="765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name =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403600" y="2792520"/>
            <a:ext cx="1005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binding =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237000" y="2813040"/>
            <a:ext cx="83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184440" y="2792520"/>
            <a:ext cx="20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tns:ShapeList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853040" y="2813040"/>
            <a:ext cx="83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451480" y="3516480"/>
            <a:ext cx="1954080" cy="52200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432400" y="3314880"/>
            <a:ext cx="2376360" cy="744480"/>
          </a:xfrm>
          <a:prstGeom prst="rect">
            <a:avLst/>
          </a:prstGeom>
          <a:noFill/>
          <a:ln w="39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544360" y="3462480"/>
            <a:ext cx="1192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 Helvetica Condensed"/>
              </a:rPr>
              <a:t>soap: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529600" y="3746520"/>
            <a:ext cx="209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location = service U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312520" y="1574640"/>
            <a:ext cx="765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name =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943240" y="1595520"/>
            <a:ext cx="83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914440" y="1574640"/>
            <a:ext cx="1884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MyShapeListServ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492680" y="1595520"/>
            <a:ext cx="83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396760" y="2470320"/>
            <a:ext cx="819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name =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073560" y="2490840"/>
            <a:ext cx="83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079680" y="2470320"/>
            <a:ext cx="1320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ShapeList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181640" y="2490840"/>
            <a:ext cx="83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425240" y="2322360"/>
            <a:ext cx="2332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 Helvetica Condensed"/>
              </a:rPr>
              <a:t>for schemas for soap/http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46000" y="5484960"/>
            <a:ext cx="210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the service URI i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271520" y="2938320"/>
            <a:ext cx="2619360" cy="296100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252440" y="2917800"/>
            <a:ext cx="2659320" cy="3324240"/>
          </a:xfrm>
          <a:prstGeom prst="rect">
            <a:avLst/>
          </a:prstGeom>
          <a:noFill/>
          <a:ln w="39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360800" y="2906640"/>
            <a:ext cx="5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344240" y="2906640"/>
            <a:ext cx="880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 Helvetica Condensed"/>
              </a:rPr>
              <a:t>op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413000" y="5624640"/>
            <a:ext cx="2276280" cy="46332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392120" y="5603760"/>
            <a:ext cx="2318040" cy="503280"/>
          </a:xfrm>
          <a:prstGeom prst="rect">
            <a:avLst/>
          </a:prstGeom>
          <a:noFill/>
          <a:ln w="39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454040" y="5613480"/>
            <a:ext cx="51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417680" y="5613480"/>
            <a:ext cx="12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C Helvetica Condensed"/>
              </a:rPr>
              <a:t>soap:oper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038320" y="5815080"/>
            <a:ext cx="995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 Helvetica Condensed"/>
              </a:rPr>
              <a:t>soapAc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107800" y="1514520"/>
            <a:ext cx="83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81160" y="1494000"/>
            <a:ext cx="165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ShapeList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455640" y="1514520"/>
            <a:ext cx="83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090880" y="1735200"/>
            <a:ext cx="982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098800" y="1714680"/>
            <a:ext cx="1270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tns:Shap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160800" y="1735200"/>
            <a:ext cx="982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457640" y="1714680"/>
            <a:ext cx="639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type =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771560" y="3170160"/>
            <a:ext cx="659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name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314440" y="3191040"/>
            <a:ext cx="83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30280" y="3170160"/>
            <a:ext cx="989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newSha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147840" y="3191040"/>
            <a:ext cx="83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413000" y="3546360"/>
            <a:ext cx="2276280" cy="84636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392120" y="3525840"/>
            <a:ext cx="2318040" cy="887400"/>
          </a:xfrm>
          <a:prstGeom prst="rect">
            <a:avLst/>
          </a:prstGeom>
          <a:noFill/>
          <a:ln w="39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362240" y="3556080"/>
            <a:ext cx="593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C Helvetica Condensed"/>
              </a:rPr>
              <a:t>   </a:t>
            </a:r>
            <a:r>
              <a:rPr b="0" i="1" lang="en-US" sz="1500" spc="-1" strike="noStrike">
                <a:solidFill>
                  <a:srgbClr val="000000"/>
                </a:solidFill>
                <a:latin typeface="C Helvetica Condensed"/>
              </a:rPr>
              <a:t>inpu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574640" y="3808440"/>
            <a:ext cx="1833840" cy="46368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554120" y="3787920"/>
            <a:ext cx="1873440" cy="504720"/>
          </a:xfrm>
          <a:prstGeom prst="rect">
            <a:avLst/>
          </a:prstGeom>
          <a:noFill/>
          <a:ln w="39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609200" y="3817800"/>
            <a:ext cx="870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C Helvetica Condensed"/>
              </a:rPr>
              <a:t>soap:bod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406600" y="3817800"/>
            <a:ext cx="51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483560" y="4019400"/>
            <a:ext cx="2112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 Helvetica Condensed"/>
              </a:rPr>
              <a:t>   </a:t>
            </a:r>
            <a:r>
              <a:rPr b="0" lang="en-US" sz="1500" spc="-1" strike="noStrike">
                <a:solidFill>
                  <a:srgbClr val="000000"/>
                </a:solidFill>
                <a:latin typeface="C Helvetica Condensed"/>
              </a:rPr>
              <a:t>encoding, namespac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413000" y="4657680"/>
            <a:ext cx="2276280" cy="82548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392120" y="4637160"/>
            <a:ext cx="2318040" cy="866880"/>
          </a:xfrm>
          <a:prstGeom prst="rect">
            <a:avLst/>
          </a:prstGeom>
          <a:noFill/>
          <a:ln w="39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533600" y="4919760"/>
            <a:ext cx="1833480" cy="44280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514520" y="4898880"/>
            <a:ext cx="1873080" cy="482760"/>
          </a:xfrm>
          <a:prstGeom prst="rect">
            <a:avLst/>
          </a:prstGeom>
          <a:noFill/>
          <a:ln w="39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609200" y="4927680"/>
            <a:ext cx="870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C Helvetica Condensed"/>
              </a:rPr>
              <a:t>soap:bod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406600" y="4927680"/>
            <a:ext cx="51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442520" y="5108400"/>
            <a:ext cx="2112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 Helvetica Condensed"/>
              </a:rPr>
              <a:t>   </a:t>
            </a:r>
            <a:r>
              <a:rPr b="0" lang="en-US" sz="1500" spc="-1" strike="noStrike">
                <a:solidFill>
                  <a:srgbClr val="000000"/>
                </a:solidFill>
                <a:latin typeface="C Helvetica Condensed"/>
              </a:rPr>
              <a:t>encoding, namespac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354680" y="4626000"/>
            <a:ext cx="715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C Helvetica Condensed"/>
              </a:rPr>
              <a:t>   </a:t>
            </a:r>
            <a:r>
              <a:rPr b="0" i="1" lang="en-US" sz="1500" spc="-1" strike="noStrike">
                <a:solidFill>
                  <a:srgbClr val="000000"/>
                </a:solidFill>
                <a:latin typeface="C Helvetica Condensed"/>
              </a:rPr>
              <a:t>outpu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800600" y="5765760"/>
            <a:ext cx="3963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“</a:t>
            </a:r>
            <a:r>
              <a:rPr b="0" lang="en-US" sz="1500" spc="-1" strike="noStrike">
                <a:solidFill>
                  <a:srgbClr val="000000"/>
                </a:solidFill>
                <a:latin typeface="C Helvetica Condensed"/>
              </a:rPr>
              <a:t>http://localhost:8080/ShapeList-jaxrpc/ShapeList”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9.15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e main UDDI data structures</a:t>
            </a:r>
            <a:br>
              <a:rPr sz="2000"/>
            </a:b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5102280" y="6094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296120" y="3186000"/>
            <a:ext cx="1795320" cy="88596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7273800" y="3164040"/>
            <a:ext cx="1862280" cy="952200"/>
          </a:xfrm>
          <a:prstGeom prst="rect">
            <a:avLst/>
          </a:prstGeom>
          <a:noFill/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884360" y="3262320"/>
            <a:ext cx="622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 Helvetica Condensed"/>
              </a:rPr>
              <a:t>t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47640" y="1523880"/>
            <a:ext cx="2747880" cy="334656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47640" y="1523880"/>
            <a:ext cx="2770200" cy="3368880"/>
          </a:xfrm>
          <a:prstGeom prst="rect">
            <a:avLst/>
          </a:prstGeom>
          <a:noFill/>
          <a:ln w="2232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774880" y="1657440"/>
            <a:ext cx="2017800" cy="113004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752560" y="1635120"/>
            <a:ext cx="2084400" cy="1197000"/>
          </a:xfrm>
          <a:prstGeom prst="rect">
            <a:avLst/>
          </a:prstGeom>
          <a:noFill/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878920" y="1711440"/>
            <a:ext cx="1474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 Helvetica Condensed"/>
              </a:rPr>
              <a:t>business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598840" y="2011320"/>
            <a:ext cx="2016000" cy="113040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576520" y="1989000"/>
            <a:ext cx="2082960" cy="1197000"/>
          </a:xfrm>
          <a:prstGeom prst="rect">
            <a:avLst/>
          </a:prstGeom>
          <a:noFill/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332080" y="2344680"/>
            <a:ext cx="2770200" cy="241452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309760" y="2322360"/>
            <a:ext cx="2836800" cy="2481480"/>
          </a:xfrm>
          <a:prstGeom prst="rect">
            <a:avLst/>
          </a:prstGeom>
          <a:noFill/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7184880" y="3540240"/>
            <a:ext cx="1751040" cy="88740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7162920" y="3517920"/>
            <a:ext cx="1817640" cy="954000"/>
          </a:xfrm>
          <a:prstGeom prst="rect">
            <a:avLst/>
          </a:prstGeom>
          <a:noFill/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7760520" y="3616200"/>
            <a:ext cx="622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 Helvetica Condensed"/>
              </a:rPr>
              <a:t>t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03080" y="1689120"/>
            <a:ext cx="1267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 Helvetica Condensed"/>
              </a:rPr>
              <a:t>businessEnt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53040" y="2309760"/>
            <a:ext cx="1181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inform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89680" y="2619360"/>
            <a:ext cx="1878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about the publis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075440" y="4006800"/>
            <a:ext cx="1751040" cy="75240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7053120" y="3984480"/>
            <a:ext cx="1816200" cy="819360"/>
          </a:xfrm>
          <a:prstGeom prst="rect">
            <a:avLst/>
          </a:prstGeom>
          <a:noFill/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650720" y="4060800"/>
            <a:ext cx="622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 Helvetica Condensed"/>
              </a:rPr>
              <a:t>t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612040" y="4214880"/>
            <a:ext cx="5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701440" y="2043000"/>
            <a:ext cx="1474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 Helvetica Condensed"/>
              </a:rPr>
              <a:t>business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07680" y="1998720"/>
            <a:ext cx="1628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human read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056000" y="4370400"/>
            <a:ext cx="1934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service descriptio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66800" y="4548240"/>
            <a:ext cx="36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 Helvetica Condensed"/>
              </a:rPr>
              <a:t>k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086120" y="4548240"/>
            <a:ext cx="5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451240" y="4437000"/>
            <a:ext cx="36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 Helvetica Condensed"/>
              </a:rPr>
              <a:t>k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770200" y="4437000"/>
            <a:ext cx="5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042240" y="4281480"/>
            <a:ext cx="403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 Helvetica Condensed"/>
              </a:rPr>
              <a:t>UR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417000" y="4281480"/>
            <a:ext cx="5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408720" y="3794040"/>
            <a:ext cx="403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 Helvetica Condensed"/>
              </a:rPr>
              <a:t>UR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783480" y="3794040"/>
            <a:ext cx="5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443640" y="3129120"/>
            <a:ext cx="403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 Helvetica Condensed"/>
              </a:rPr>
              <a:t>UR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818400" y="3129120"/>
            <a:ext cx="5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488680" y="2508120"/>
            <a:ext cx="1474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 Helvetica Condensed"/>
              </a:rPr>
              <a:t>business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429280" y="3040200"/>
            <a:ext cx="1181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inform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463120" y="3306600"/>
            <a:ext cx="780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about 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411280" y="3551400"/>
            <a:ext cx="1640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family of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383920" y="2774880"/>
            <a:ext cx="1628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human read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977640" y="3949560"/>
            <a:ext cx="1658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service interfa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481640" y="2454120"/>
            <a:ext cx="1728720" cy="110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481640" y="2454120"/>
            <a:ext cx="1751040" cy="1130400"/>
          </a:xfrm>
          <a:prstGeom prst="rect">
            <a:avLst/>
          </a:prstGeom>
          <a:noFill/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525920" y="2521080"/>
            <a:ext cx="1617840" cy="99684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525920" y="2521080"/>
            <a:ext cx="1639800" cy="1019160"/>
          </a:xfrm>
          <a:prstGeom prst="rect">
            <a:avLst/>
          </a:prstGeom>
          <a:noFill/>
          <a:ln w="2232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598640" y="2552760"/>
            <a:ext cx="1523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 Helvetica Condensed"/>
              </a:rPr>
              <a:t>bindingTemp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260960" y="2787480"/>
            <a:ext cx="1728720" cy="110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260960" y="2787480"/>
            <a:ext cx="1751040" cy="1130400"/>
          </a:xfrm>
          <a:prstGeom prst="rect">
            <a:avLst/>
          </a:prstGeom>
          <a:noFill/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305240" y="2854440"/>
            <a:ext cx="1617840" cy="97452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305240" y="2854440"/>
            <a:ext cx="1639800" cy="996840"/>
          </a:xfrm>
          <a:prstGeom prst="rect">
            <a:avLst/>
          </a:prstGeom>
          <a:noFill/>
          <a:ln w="2232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390920" y="2886120"/>
            <a:ext cx="1523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 Helvetica Condensed"/>
              </a:rPr>
              <a:t>bindingTemp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060800" y="3208320"/>
            <a:ext cx="1728720" cy="133020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038480" y="3186000"/>
            <a:ext cx="1795680" cy="1397160"/>
          </a:xfrm>
          <a:prstGeom prst="rect">
            <a:avLst/>
          </a:prstGeom>
          <a:noFill/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103280" y="3240000"/>
            <a:ext cx="1523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 Helvetica Condensed"/>
              </a:rPr>
              <a:t>bindingTemp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096440" y="3462480"/>
            <a:ext cx="1181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inform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110480" y="3672000"/>
            <a:ext cx="97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about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168800" y="4214880"/>
            <a:ext cx="36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 Helvetica Condensed"/>
              </a:rPr>
              <a:t>k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489560" y="4214880"/>
            <a:ext cx="5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7184880" y="3297240"/>
            <a:ext cx="88920" cy="111240"/>
          </a:xfrm>
          <a:custGeom>
            <a:avLst/>
            <a:gdLst/>
            <a:ahLst/>
            <a:rect l="l" t="t" r="r" b="b"/>
            <a:pathLst>
              <a:path w="56" h="70">
                <a:moveTo>
                  <a:pt x="0" y="28"/>
                </a:moveTo>
                <a:lnTo>
                  <a:pt x="0" y="0"/>
                </a:lnTo>
                <a:lnTo>
                  <a:pt x="56" y="28"/>
                </a:lnTo>
                <a:lnTo>
                  <a:pt x="14" y="70"/>
                </a:lnTo>
                <a:lnTo>
                  <a:pt x="0" y="28"/>
                </a:lnTo>
                <a:close/>
              </a:path>
            </a:pathLst>
          </a:custGeom>
          <a:solidFill>
            <a:srgbClr val="000000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5346720" y="3363480"/>
            <a:ext cx="1838160" cy="265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097760" y="3740040"/>
            <a:ext cx="87120" cy="111240"/>
          </a:xfrm>
          <a:custGeom>
            <a:avLst/>
            <a:gdLst/>
            <a:ahLst/>
            <a:rect l="l" t="t" r="r" b="b"/>
            <a:pathLst>
              <a:path w="55" h="70">
                <a:moveTo>
                  <a:pt x="0" y="28"/>
                </a:moveTo>
                <a:lnTo>
                  <a:pt x="0" y="0"/>
                </a:lnTo>
                <a:lnTo>
                  <a:pt x="55" y="28"/>
                </a:lnTo>
                <a:lnTo>
                  <a:pt x="0" y="70"/>
                </a:lnTo>
                <a:lnTo>
                  <a:pt x="0" y="28"/>
                </a:lnTo>
                <a:close/>
              </a:path>
            </a:pathLst>
          </a:custGeom>
          <a:solidFill>
            <a:srgbClr val="000000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346720" y="3784680"/>
            <a:ext cx="172872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964200" y="4405320"/>
            <a:ext cx="88920" cy="88920"/>
          </a:xfrm>
          <a:custGeom>
            <a:avLst/>
            <a:gdLst/>
            <a:ahLst/>
            <a:rect l="l" t="t" r="r" b="b"/>
            <a:pathLst>
              <a:path w="56" h="56">
                <a:moveTo>
                  <a:pt x="14" y="28"/>
                </a:moveTo>
                <a:lnTo>
                  <a:pt x="14" y="0"/>
                </a:lnTo>
                <a:lnTo>
                  <a:pt x="56" y="42"/>
                </a:lnTo>
                <a:lnTo>
                  <a:pt x="0" y="56"/>
                </a:lnTo>
                <a:lnTo>
                  <a:pt x="14" y="28"/>
                </a:lnTo>
                <a:close/>
              </a:path>
            </a:pathLst>
          </a:custGeom>
          <a:solidFill>
            <a:srgbClr val="000000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346720" y="3873600"/>
            <a:ext cx="1617480" cy="5540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066560" y="3916440"/>
            <a:ext cx="1658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service interfa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9.16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lgorithms required for XML signature</a:t>
            </a:r>
            <a:br>
              <a:rPr sz="2000"/>
            </a:b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102280" y="6094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914480" y="125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324160" y="1523880"/>
            <a:ext cx="2052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056120" y="1523880"/>
            <a:ext cx="1908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408640" y="1523880"/>
            <a:ext cx="2052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324160" y="4826160"/>
            <a:ext cx="2052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056120" y="4826160"/>
            <a:ext cx="1908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408640" y="4826160"/>
            <a:ext cx="2052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622440" y="1503360"/>
            <a:ext cx="8128080" cy="3639600"/>
            <a:chOff x="622440" y="1503360"/>
            <a:chExt cx="8128080" cy="3639600"/>
          </a:xfrm>
        </p:grpSpPr>
        <p:sp>
          <p:nvSpPr>
            <p:cNvPr id="625" name=""/>
            <p:cNvSpPr/>
            <p:nvPr/>
          </p:nvSpPr>
          <p:spPr>
            <a:xfrm>
              <a:off x="709920" y="1534680"/>
              <a:ext cx="1457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ype of algorith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573280" y="1534680"/>
              <a:ext cx="1536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Name of algorith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523400" y="1534680"/>
              <a:ext cx="74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equir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049800" y="1534680"/>
              <a:ext cx="767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efer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11360" y="2017440"/>
              <a:ext cx="1247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essage dige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575440" y="2017440"/>
              <a:ext cx="57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HA-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523400" y="2017440"/>
              <a:ext cx="74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quir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049800" y="2017440"/>
              <a:ext cx="1067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ection 7.4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09920" y="2500560"/>
              <a:ext cx="780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ncod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572920" y="2500560"/>
              <a:ext cx="566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se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523400" y="2500560"/>
              <a:ext cx="74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quir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049800" y="2500560"/>
              <a:ext cx="233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[Freed and Borenstein 1996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10640" y="2981160"/>
              <a:ext cx="779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ignat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575800" y="2981160"/>
              <a:ext cx="1442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SA with SHA-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523400" y="2981160"/>
              <a:ext cx="74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quir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051240" y="2981160"/>
              <a:ext cx="1043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[NIST 1994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12440" y="3463920"/>
              <a:ext cx="1079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asymmetri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75800" y="3463920"/>
              <a:ext cx="1431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SA with SHA-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525200" y="3463920"/>
              <a:ext cx="1218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commend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049800" y="3463920"/>
              <a:ext cx="1067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ection 7.3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11000" y="3946680"/>
              <a:ext cx="1258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AC signat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12800" y="4188240"/>
              <a:ext cx="989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symmetri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878480" y="4188240"/>
              <a:ext cx="10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576160" y="3946680"/>
              <a:ext cx="1250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HMAC-SHA-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523400" y="3946680"/>
              <a:ext cx="74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quir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051240" y="3946680"/>
              <a:ext cx="2295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ection 7.4.2 and Krawczy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050520" y="418824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et al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496920" y="4188240"/>
              <a:ext cx="593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[1997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09920" y="4669560"/>
              <a:ext cx="1378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nonicaliz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74360" y="4669560"/>
              <a:ext cx="1325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nonical XM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098600" y="4669560"/>
              <a:ext cx="10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523400" y="4669560"/>
              <a:ext cx="74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quir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049800" y="4669560"/>
              <a:ext cx="852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ge 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ヒラギノ角ゴ Pro W3"/>
                </a:rPr>
                <a:t>810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932600" y="4669560"/>
              <a:ext cx="10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9" name=""/>
            <p:cNvGrpSpPr/>
            <p:nvPr/>
          </p:nvGrpSpPr>
          <p:grpSpPr>
            <a:xfrm>
              <a:off x="622440" y="1503360"/>
              <a:ext cx="8128080" cy="3639600"/>
              <a:chOff x="622440" y="1503360"/>
              <a:chExt cx="8128080" cy="3639600"/>
            </a:xfrm>
          </p:grpSpPr>
          <p:sp>
            <p:nvSpPr>
              <p:cNvPr id="660" name=""/>
              <p:cNvSpPr/>
              <p:nvPr/>
            </p:nvSpPr>
            <p:spPr>
              <a:xfrm>
                <a:off x="622440" y="1503360"/>
                <a:ext cx="8128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622440" y="5141160"/>
                <a:ext cx="81280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9.17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lgorithms required for encryption(the algorithms in Figure 19.16 are also required)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102280" y="6094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189440" y="1322280"/>
            <a:ext cx="1550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Type of algorith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57400" y="1322280"/>
            <a:ext cx="1635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Name of algorith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5003280" y="1322280"/>
            <a:ext cx="793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Require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260400" y="1322280"/>
            <a:ext cx="816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referenc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927520" y="1312920"/>
            <a:ext cx="219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973760" y="1312920"/>
            <a:ext cx="2052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973760" y="1292400"/>
            <a:ext cx="144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230880" y="1312920"/>
            <a:ext cx="2052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973760" y="1312920"/>
            <a:ext cx="20520" cy="46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189800" y="1792440"/>
            <a:ext cx="1111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Block ciph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846520" y="1792440"/>
            <a:ext cx="12477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TRIPLEDES,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AES 12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003280" y="1792440"/>
            <a:ext cx="720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require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258960" y="1792440"/>
            <a:ext cx="1137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Section 7.3.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973760" y="1782720"/>
            <a:ext cx="2052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844720" y="2495520"/>
            <a:ext cx="806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AES-19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003640" y="2495520"/>
            <a:ext cx="707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optiona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973760" y="2486160"/>
            <a:ext cx="20520" cy="46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189440" y="2963880"/>
            <a:ext cx="829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Encodi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846160" y="2963880"/>
            <a:ext cx="601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base6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003280" y="2963880"/>
            <a:ext cx="720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require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258600" y="2963880"/>
            <a:ext cx="2481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[Freed and Borenstein 1996]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73760" y="2954160"/>
            <a:ext cx="20520" cy="4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189440" y="3433680"/>
            <a:ext cx="1183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Key transpor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843640" y="3433680"/>
            <a:ext cx="10612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RSA-v1.5,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RSA-OAEP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003280" y="3433680"/>
            <a:ext cx="720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require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258960" y="3433680"/>
            <a:ext cx="1137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Section 7.3.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258960" y="3666960"/>
            <a:ext cx="2385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[Kaliski and Staddon 1998]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973760" y="3422520"/>
            <a:ext cx="20520" cy="70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316880" y="4137120"/>
            <a:ext cx="1314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Symmetric ke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316880" y="4370400"/>
            <a:ext cx="1351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wrap (signatur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315080" y="4605480"/>
            <a:ext cx="1384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by   shared key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844000" y="4137120"/>
            <a:ext cx="1145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TRIPLED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844360" y="4370400"/>
            <a:ext cx="951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KeyWrap,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857680" y="4665600"/>
            <a:ext cx="1981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AES-128 KeyWrap,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843640" y="5002200"/>
            <a:ext cx="1631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AES 256KeyWrap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003280" y="4137120"/>
            <a:ext cx="720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require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259680" y="4137120"/>
            <a:ext cx="1352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[Housley 2002]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973760" y="4127400"/>
            <a:ext cx="20520" cy="11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843640" y="5308560"/>
            <a:ext cx="1703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AES-192 KeyWrap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5003640" y="5308560"/>
            <a:ext cx="707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optiona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973760" y="5299200"/>
            <a:ext cx="20520" cy="4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1189080" y="5776920"/>
            <a:ext cx="1315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Key agreemen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840400" y="5776920"/>
            <a:ext cx="13312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Diffie-Hellma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003640" y="5776920"/>
            <a:ext cx="707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optiona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6258960" y="5776920"/>
            <a:ext cx="1442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[Rescorla, 1999]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973760" y="5767560"/>
            <a:ext cx="20520" cy="46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973760" y="6257880"/>
            <a:ext cx="2052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973760" y="6237360"/>
            <a:ext cx="144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2" name=""/>
          <p:cNvGrpSpPr/>
          <p:nvPr/>
        </p:nvGrpSpPr>
        <p:grpSpPr>
          <a:xfrm>
            <a:off x="949320" y="1292400"/>
            <a:ext cx="7879320" cy="4946400"/>
            <a:chOff x="949320" y="1292400"/>
            <a:chExt cx="7879320" cy="4946400"/>
          </a:xfrm>
        </p:grpSpPr>
        <p:sp>
          <p:nvSpPr>
            <p:cNvPr id="713" name=""/>
            <p:cNvSpPr/>
            <p:nvPr/>
          </p:nvSpPr>
          <p:spPr>
            <a:xfrm>
              <a:off x="949320" y="1292400"/>
              <a:ext cx="78793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949320" y="6237360"/>
              <a:ext cx="78793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5" name=""/>
          <p:cNvSpPr/>
          <p:nvPr/>
        </p:nvSpPr>
        <p:spPr>
          <a:xfrm>
            <a:off x="2743560" y="2197080"/>
            <a:ext cx="9867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AES-25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9.18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ravel agent scenario</a:t>
            </a:r>
            <a:br>
              <a:rPr sz="2000"/>
            </a:b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102280" y="6094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466560" y="1359000"/>
            <a:ext cx="87109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tabLst>
                <a:tab algn="l" pos="0"/>
                <a:tab algn="l" pos="134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The client asks the travel agent service for information about a set of services; for example, flights, car hire and hotel booking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tabLst>
                <a:tab algn="l" pos="0"/>
                <a:tab algn="l" pos="134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The travel agent service collects prices and availability information and sends it to the client, which chooses one of the following on behalf of the user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77720">
              <a:lnSpc>
                <a:spcPct val="100000"/>
              </a:lnSpc>
              <a:tabLst>
                <a:tab algn="l" pos="0"/>
                <a:tab algn="l" pos="134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a) refine the query, possibly involving more providers to get more information, then repeat step 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77720">
              <a:lnSpc>
                <a:spcPct val="100000"/>
              </a:lnSpc>
              <a:tabLst>
                <a:tab algn="l" pos="0"/>
                <a:tab algn="l" pos="134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b) make reservation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77720">
              <a:lnSpc>
                <a:spcPct val="100000"/>
              </a:lnSpc>
              <a:tabLst>
                <a:tab algn="l" pos="0"/>
                <a:tab algn="l" pos="134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c) qui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tabLst>
                <a:tab algn="l" pos="0"/>
                <a:tab algn="l" pos="134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The client requests a reservation and the travel agent service checks availabilit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tabLst>
                <a:tab algn="l" pos="0"/>
                <a:tab algn="l" pos="134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Either all are availabl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tabLst>
                <a:tab algn="l" pos="0"/>
                <a:tab algn="l" pos="134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r for services that are not availabl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77720">
              <a:lnSpc>
                <a:spcPct val="100000"/>
              </a:lnSpc>
              <a:tabLst>
                <a:tab algn="l" pos="0"/>
                <a:tab algn="l" pos="134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ither alternatives are offered to the client who goes back to step 3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77720">
              <a:lnSpc>
                <a:spcPct val="100000"/>
              </a:lnSpc>
              <a:tabLst>
                <a:tab algn="l" pos="0"/>
                <a:tab algn="l" pos="134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r the client goes back to step 1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tabLst>
                <a:tab algn="l" pos="0"/>
                <a:tab algn="l" pos="134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Take deposi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tabLst>
                <a:tab algn="l" pos="0"/>
                <a:tab algn="l" pos="134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. Give the client a reservation number as a confirm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tabLst>
                <a:tab algn="l" pos="0"/>
                <a:tab algn="l" pos="134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. During the period until the final payment, the client may modify or cancel reserv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9.1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Web services infrastructure and components</a:t>
            </a:r>
            <a:br>
              <a:rPr sz="2000"/>
            </a:b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102280" y="6094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0600" y="1476360"/>
            <a:ext cx="8859600" cy="139716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61800" y="1447920"/>
            <a:ext cx="8915400" cy="1454040"/>
          </a:xfrm>
          <a:prstGeom prst="rect">
            <a:avLst/>
          </a:prstGeom>
          <a:noFill/>
          <a:ln w="55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14680" y="2174760"/>
            <a:ext cx="4835520" cy="69876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86240" y="2146320"/>
            <a:ext cx="4890960" cy="755640"/>
          </a:xfrm>
          <a:prstGeom prst="rect">
            <a:avLst/>
          </a:prstGeom>
          <a:noFill/>
          <a:ln w="55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90600" y="3627360"/>
            <a:ext cx="8859600" cy="70020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61800" y="3600360"/>
            <a:ext cx="8915400" cy="754200"/>
          </a:xfrm>
          <a:prstGeom prst="rect">
            <a:avLst/>
          </a:prstGeom>
          <a:noFill/>
          <a:ln w="55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90600" y="2901960"/>
            <a:ext cx="8859600" cy="69840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1800" y="2873520"/>
            <a:ext cx="8915400" cy="753840"/>
          </a:xfrm>
          <a:prstGeom prst="rect">
            <a:avLst/>
          </a:prstGeom>
          <a:noFill/>
          <a:ln w="55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430680" y="2382840"/>
            <a:ext cx="954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956480" y="3083040"/>
            <a:ext cx="3579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Service descriptions (in WSD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90600" y="4327560"/>
            <a:ext cx="8859600" cy="69840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61800" y="4299120"/>
            <a:ext cx="8915400" cy="753840"/>
          </a:xfrm>
          <a:prstGeom prst="rect">
            <a:avLst/>
          </a:prstGeom>
          <a:noFill/>
          <a:ln w="55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48560" y="1879560"/>
            <a:ext cx="1463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05320" y="2382840"/>
            <a:ext cx="1998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Directory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03440" y="3054240"/>
            <a:ext cx="1573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Web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131720" y="4479840"/>
            <a:ext cx="514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X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557120" y="2382840"/>
            <a:ext cx="1724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Choreograph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32400" y="3781440"/>
            <a:ext cx="655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SO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14680" y="4479840"/>
            <a:ext cx="2422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URIs (URLs or UR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94240" y="4479840"/>
            <a:ext cx="3659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HTTP, SMTP or other trans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9.19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Open grid services architecture</a:t>
            </a:r>
            <a:br>
              <a:rPr sz="2000"/>
            </a:b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5102280" y="6094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222960" y="1603440"/>
            <a:ext cx="331920" cy="895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6222960" y="3368520"/>
            <a:ext cx="331920" cy="5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44680" y="4059360"/>
            <a:ext cx="5883120" cy="51120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19120" y="4033800"/>
            <a:ext cx="5934240" cy="56196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44680" y="1552680"/>
            <a:ext cx="5883120" cy="248112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19120" y="1527120"/>
            <a:ext cx="5934240" cy="253224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44680" y="2549520"/>
            <a:ext cx="5883120" cy="74124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19120" y="2523960"/>
            <a:ext cx="5934240" cy="79380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899360" y="1692360"/>
            <a:ext cx="35942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Application specfic grid servic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779920" y="4148280"/>
            <a:ext cx="14378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web servic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832080" y="1820880"/>
            <a:ext cx="21542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application specifi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312920" y="3354480"/>
            <a:ext cx="592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 Helvetica Condensed"/>
              </a:rPr>
              <a:t>OGSI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476000" y="3354480"/>
            <a:ext cx="4801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services: naming, service data (metadata)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344600" y="2766960"/>
            <a:ext cx="6652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 Helvetica Condensed"/>
              </a:rPr>
              <a:t>OGS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566000" y="2766960"/>
            <a:ext cx="4777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services: directory, management, securit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414720" y="3635280"/>
            <a:ext cx="64702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service creation and deletion, fault model, service group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7427520" y="3610080"/>
            <a:ext cx="1204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C Helvetica Condensed"/>
              </a:rPr>
              <a:t>GridServic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8542440" y="3610080"/>
            <a:ext cx="63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529320" y="3521160"/>
            <a:ext cx="2811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529320" y="3751200"/>
            <a:ext cx="3063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7019640" y="3610080"/>
            <a:ext cx="412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e.g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7269480" y="2050920"/>
            <a:ext cx="1244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interfac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529320" y="1706400"/>
            <a:ext cx="2811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529320" y="1936800"/>
            <a:ext cx="2811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529320" y="2166840"/>
            <a:ext cx="3063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529320" y="2397240"/>
            <a:ext cx="3063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02240" y="2101680"/>
            <a:ext cx="68756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e.g. astronomy, biomedical informatics, high-energy physics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7520040" y="3892680"/>
            <a:ext cx="785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C Helvetica Condensed"/>
              </a:rPr>
              <a:t>Factor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8237520" y="3892680"/>
            <a:ext cx="63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847560" y="3278160"/>
            <a:ext cx="2487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grid service interfac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7428960" y="3048120"/>
            <a:ext cx="10188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standard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0" y="409680"/>
            <a:ext cx="963144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9.20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 selection of the grid projects presented in Foster &amp; Kesselman[2004]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2785680" y="1320840"/>
            <a:ext cx="209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escription of th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7609680" y="1341360"/>
            <a:ext cx="822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5311800" y="1292400"/>
            <a:ext cx="144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57360" y="1633680"/>
            <a:ext cx="4552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1. Aircraft engine maintenance using fault histories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896400" y="1792440"/>
            <a:ext cx="2741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ensors for predictive diagnos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7444080" y="1674720"/>
            <a:ext cx="2019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d4"/>
                </a:solidFill>
                <a:latin typeface="Times New Roman"/>
              </a:rPr>
              <a:t>www.cs.york.ac.uk/d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59520" y="2209680"/>
            <a:ext cx="352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2. Telepresence for predicting the effects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895320" y="2368440"/>
            <a:ext cx="4691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arthquakes on buildings, using simulations and test si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7443000" y="2251080"/>
            <a:ext cx="1492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d4"/>
                </a:solidFill>
                <a:latin typeface="Times New Roman"/>
              </a:rPr>
              <a:t>www.neesgrid.or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5311800" y="2119320"/>
            <a:ext cx="144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58080" y="2765520"/>
            <a:ext cx="3720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3. Bio-medical informatics network provi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898560" y="2924280"/>
            <a:ext cx="6105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esearchers with access to experiments and visualizations of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7443000" y="2806560"/>
            <a:ext cx="1119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d4"/>
                </a:solidFill>
                <a:latin typeface="Times New Roman"/>
              </a:rPr>
              <a:t>nbcr.sdsc.e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06520" y="2743200"/>
            <a:ext cx="3817800" cy="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58080" y="3417840"/>
            <a:ext cx="4403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4. Analysis of data from the CMS high energy partic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898560" y="3578400"/>
            <a:ext cx="4661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etector at CERN by physicists world-wide over 15 ye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7443360" y="3459240"/>
            <a:ext cx="1288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d4"/>
                </a:solidFill>
                <a:latin typeface="Times New Roman"/>
              </a:rPr>
              <a:t>www.uscms.or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06520" y="3395520"/>
            <a:ext cx="3817800" cy="1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79320" y="3932280"/>
            <a:ext cx="431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5. Testing the effects of candidate drug molecules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918720" y="4152960"/>
            <a:ext cx="5028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heir effect on the activity of a protein, by performing parall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081800" y="4313160"/>
            <a:ext cx="3515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mputations using idle desktop compu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7463880" y="3973680"/>
            <a:ext cx="166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[Taufer et al. 2003]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460280" y="4214880"/>
            <a:ext cx="1075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[Chien 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06520" y="3889440"/>
            <a:ext cx="3817800" cy="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58440" y="4605480"/>
            <a:ext cx="3917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6. Use of the Sun Grid Engine to enhance aer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895680" y="4786200"/>
            <a:ext cx="524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hotographs by using spare capacity on a cluster of web serv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7443360" y="4646520"/>
            <a:ext cx="1898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d4"/>
                </a:solidFill>
                <a:latin typeface="Times New Roman"/>
              </a:rPr>
              <a:t>www.globexplorer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506520" y="4605480"/>
            <a:ext cx="3817800" cy="1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52320" y="5181480"/>
            <a:ext cx="4280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7. The butterfly Grid supports multiplayer games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898200" y="5362560"/>
            <a:ext cx="559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very large numbers of players on the internet over the Globus toolk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7437960" y="5222880"/>
            <a:ext cx="1445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d4"/>
                </a:solidFill>
                <a:latin typeface="Times New Roman"/>
              </a:rPr>
              <a:t>www.butterfly.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494000" y="4892760"/>
            <a:ext cx="3817800" cy="1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658800" y="5815080"/>
            <a:ext cx="4347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8. The Access Grid supports the needs of small 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895680" y="5994360"/>
            <a:ext cx="4865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llaboration, for example by providing shared workspa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7442280" y="5856120"/>
            <a:ext cx="166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d4"/>
                </a:solidFill>
                <a:latin typeface="Times New Roman"/>
              </a:rPr>
              <a:t>www.accessgrid.or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506520" y="5813280"/>
            <a:ext cx="3817800" cy="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666720" y="1224000"/>
            <a:ext cx="7372080" cy="5084280"/>
            <a:chOff x="666720" y="1224000"/>
            <a:chExt cx="7372080" cy="5084280"/>
          </a:xfrm>
        </p:grpSpPr>
        <p:sp>
          <p:nvSpPr>
            <p:cNvPr id="790" name=""/>
            <p:cNvSpPr/>
            <p:nvPr/>
          </p:nvSpPr>
          <p:spPr>
            <a:xfrm>
              <a:off x="666720" y="1224000"/>
              <a:ext cx="73720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66720" y="6306840"/>
              <a:ext cx="73720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2" name=""/>
          <p:cNvSpPr/>
          <p:nvPr/>
        </p:nvSpPr>
        <p:spPr>
          <a:xfrm>
            <a:off x="5311800" y="6053040"/>
            <a:ext cx="1440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9.2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e ‘travel agent service’ combines other web services</a:t>
            </a:r>
            <a:br>
              <a:rPr sz="2000"/>
            </a:b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102280" y="6094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54640" y="3720960"/>
            <a:ext cx="1704960" cy="73368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54640" y="3720960"/>
            <a:ext cx="1727280" cy="755640"/>
          </a:xfrm>
          <a:prstGeom prst="rect">
            <a:avLst/>
          </a:prstGeom>
          <a:noFill/>
          <a:ln w="2232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42120" y="3828960"/>
            <a:ext cx="1509480" cy="49680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25680" y="3656160"/>
            <a:ext cx="1704960" cy="73476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325680" y="3656160"/>
            <a:ext cx="1727280" cy="755640"/>
          </a:xfrm>
          <a:prstGeom prst="rect">
            <a:avLst/>
          </a:prstGeom>
          <a:noFill/>
          <a:ln w="2232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3160" y="3786120"/>
            <a:ext cx="1509840" cy="49680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16440" y="1628640"/>
            <a:ext cx="1703520" cy="73368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816440" y="1628640"/>
            <a:ext cx="1725480" cy="754200"/>
          </a:xfrm>
          <a:prstGeom prst="rect">
            <a:avLst/>
          </a:prstGeom>
          <a:noFill/>
          <a:ln w="2232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902120" y="1736640"/>
            <a:ext cx="1511280" cy="49536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405560" y="1822320"/>
            <a:ext cx="1704960" cy="73368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405560" y="1822320"/>
            <a:ext cx="1725840" cy="755640"/>
          </a:xfrm>
          <a:prstGeom prst="rect">
            <a:avLst/>
          </a:prstGeom>
          <a:noFill/>
          <a:ln w="2232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534440" y="1930320"/>
            <a:ext cx="1511280" cy="49680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83600" y="3462480"/>
            <a:ext cx="1684080" cy="73332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383600" y="3462480"/>
            <a:ext cx="1704960" cy="755640"/>
          </a:xfrm>
          <a:prstGeom prst="rect">
            <a:avLst/>
          </a:prstGeom>
          <a:noFill/>
          <a:ln w="2232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36280" y="3903840"/>
            <a:ext cx="1319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hotel boo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744440" y="3962520"/>
            <a:ext cx="9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 Helvetica Condensed"/>
              </a:rPr>
              <a:t>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61120" y="2643120"/>
            <a:ext cx="1704960" cy="73332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261120" y="2643120"/>
            <a:ext cx="1727280" cy="754200"/>
          </a:xfrm>
          <a:prstGeom prst="rect">
            <a:avLst/>
          </a:prstGeom>
          <a:noFill/>
          <a:ln w="2232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369120" y="2749680"/>
            <a:ext cx="1511280" cy="51912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06680" y="1930320"/>
            <a:ext cx="1920960" cy="161784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06680" y="1930320"/>
            <a:ext cx="1941480" cy="1639800"/>
          </a:xfrm>
          <a:prstGeom prst="rect">
            <a:avLst/>
          </a:prstGeom>
          <a:noFill/>
          <a:ln w="2232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08360" y="2254320"/>
            <a:ext cx="1315800" cy="97164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876760" y="2457360"/>
            <a:ext cx="1201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Travel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11640" y="1820880"/>
            <a:ext cx="12812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flight boo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195240" y="1905120"/>
            <a:ext cx="9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 Helvetica Condensed"/>
              </a:rPr>
              <a:t>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52200" y="2846520"/>
            <a:ext cx="155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hire car boo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773480" y="2927520"/>
            <a:ext cx="9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 Helvetica Condensed"/>
              </a:rPr>
              <a:t>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112560" y="2760840"/>
            <a:ext cx="677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Serv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8040" y="2103480"/>
            <a:ext cx="1228680" cy="125100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8040" y="2103480"/>
            <a:ext cx="1251000" cy="1272960"/>
          </a:xfrm>
          <a:prstGeom prst="rect">
            <a:avLst/>
          </a:prstGeom>
          <a:noFill/>
          <a:ln w="2232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79400" y="2297160"/>
            <a:ext cx="863640" cy="86364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64440" y="2610000"/>
            <a:ext cx="544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614680" y="2685960"/>
            <a:ext cx="193680" cy="108000"/>
          </a:xfrm>
          <a:custGeom>
            <a:avLst/>
            <a:gdLst/>
            <a:ahLst/>
            <a:rect l="l" t="t" r="r" b="b"/>
            <a:pathLst>
              <a:path w="122" h="68">
                <a:moveTo>
                  <a:pt x="0" y="27"/>
                </a:moveTo>
                <a:lnTo>
                  <a:pt x="0" y="0"/>
                </a:lnTo>
                <a:lnTo>
                  <a:pt x="122" y="27"/>
                </a:lnTo>
                <a:lnTo>
                  <a:pt x="0" y="68"/>
                </a:lnTo>
                <a:lnTo>
                  <a:pt x="0" y="27"/>
                </a:lnTo>
                <a:close/>
              </a:path>
            </a:pathLst>
          </a:custGeom>
          <a:solidFill>
            <a:srgbClr val="000000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92200" y="2728800"/>
            <a:ext cx="110016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751280" y="2081160"/>
            <a:ext cx="216000" cy="108000"/>
          </a:xfrm>
          <a:custGeom>
            <a:avLst/>
            <a:gdLst/>
            <a:ahLst/>
            <a:rect l="l" t="t" r="r" b="b"/>
            <a:pathLst>
              <a:path w="136" h="68">
                <a:moveTo>
                  <a:pt x="13" y="41"/>
                </a:moveTo>
                <a:lnTo>
                  <a:pt x="0" y="0"/>
                </a:lnTo>
                <a:lnTo>
                  <a:pt x="136" y="0"/>
                </a:lnTo>
                <a:lnTo>
                  <a:pt x="27" y="68"/>
                </a:lnTo>
                <a:lnTo>
                  <a:pt x="13" y="41"/>
                </a:lnTo>
                <a:close/>
              </a:path>
            </a:pathLst>
          </a:custGeom>
          <a:solidFill>
            <a:srgbClr val="000000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3784680" y="2145960"/>
            <a:ext cx="987480" cy="244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132600" y="2901960"/>
            <a:ext cx="193680" cy="128520"/>
          </a:xfrm>
          <a:custGeom>
            <a:avLst/>
            <a:gdLst/>
            <a:ahLst/>
            <a:rect l="l" t="t" r="r" b="b"/>
            <a:pathLst>
              <a:path w="122" h="81">
                <a:moveTo>
                  <a:pt x="0" y="40"/>
                </a:moveTo>
                <a:lnTo>
                  <a:pt x="0" y="0"/>
                </a:lnTo>
                <a:lnTo>
                  <a:pt x="122" y="54"/>
                </a:lnTo>
                <a:lnTo>
                  <a:pt x="0" y="81"/>
                </a:lnTo>
                <a:lnTo>
                  <a:pt x="0" y="40"/>
                </a:lnTo>
                <a:close/>
              </a:path>
            </a:pathLst>
          </a:custGeom>
          <a:solidFill>
            <a:srgbClr val="000000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73680" y="2814480"/>
            <a:ext cx="2136600" cy="1508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00680" y="2014560"/>
            <a:ext cx="1329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flight boo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818920" y="2076480"/>
            <a:ext cx="101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 Helvetica Condensed"/>
              </a:rPr>
              <a:t>b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362720" y="2254320"/>
            <a:ext cx="193680" cy="128520"/>
          </a:xfrm>
          <a:custGeom>
            <a:avLst/>
            <a:gdLst/>
            <a:ahLst/>
            <a:rect l="l" t="t" r="r" b="b"/>
            <a:pathLst>
              <a:path w="122" h="81">
                <a:moveTo>
                  <a:pt x="0" y="41"/>
                </a:moveTo>
                <a:lnTo>
                  <a:pt x="0" y="0"/>
                </a:lnTo>
                <a:lnTo>
                  <a:pt x="122" y="27"/>
                </a:lnTo>
                <a:lnTo>
                  <a:pt x="0" y="81"/>
                </a:lnTo>
                <a:lnTo>
                  <a:pt x="0" y="41"/>
                </a:lnTo>
                <a:close/>
              </a:path>
            </a:pathLst>
          </a:custGeom>
          <a:solidFill>
            <a:srgbClr val="000000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3973680" y="2319480"/>
            <a:ext cx="3389040" cy="387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539680" y="3925800"/>
            <a:ext cx="1319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hotel boo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748560" y="3984480"/>
            <a:ext cx="101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 Helvetica Condensed"/>
              </a:rPr>
              <a:t>b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736800" y="3570120"/>
            <a:ext cx="108000" cy="216000"/>
          </a:xfrm>
          <a:custGeom>
            <a:avLst/>
            <a:gdLst/>
            <a:ahLst/>
            <a:rect l="l" t="t" r="r" b="b"/>
            <a:pathLst>
              <a:path w="68" h="136">
                <a:moveTo>
                  <a:pt x="41" y="14"/>
                </a:moveTo>
                <a:lnTo>
                  <a:pt x="68" y="0"/>
                </a:lnTo>
                <a:lnTo>
                  <a:pt x="68" y="136"/>
                </a:lnTo>
                <a:lnTo>
                  <a:pt x="0" y="14"/>
                </a:lnTo>
                <a:lnTo>
                  <a:pt x="41" y="14"/>
                </a:lnTo>
                <a:close/>
              </a:path>
            </a:pathLst>
          </a:custGeom>
          <a:solidFill>
            <a:srgbClr val="000000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672000" y="3117960"/>
            <a:ext cx="129960" cy="4521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254720" y="3656160"/>
            <a:ext cx="216000" cy="107640"/>
          </a:xfrm>
          <a:custGeom>
            <a:avLst/>
            <a:gdLst/>
            <a:ahLst/>
            <a:rect l="l" t="t" r="r" b="b"/>
            <a:pathLst>
              <a:path w="136" h="68">
                <a:moveTo>
                  <a:pt x="13" y="41"/>
                </a:moveTo>
                <a:lnTo>
                  <a:pt x="27" y="0"/>
                </a:lnTo>
                <a:lnTo>
                  <a:pt x="136" y="68"/>
                </a:lnTo>
                <a:lnTo>
                  <a:pt x="0" y="68"/>
                </a:lnTo>
                <a:lnTo>
                  <a:pt x="13" y="41"/>
                </a:lnTo>
                <a:close/>
              </a:path>
            </a:pathLst>
          </a:custGeom>
          <a:solidFill>
            <a:srgbClr val="000000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30480" y="2922480"/>
            <a:ext cx="3324240" cy="7984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527800" y="3743280"/>
            <a:ext cx="193680" cy="128520"/>
          </a:xfrm>
          <a:custGeom>
            <a:avLst/>
            <a:gdLst/>
            <a:ahLst/>
            <a:rect l="l" t="t" r="r" b="b"/>
            <a:pathLst>
              <a:path w="122" h="81">
                <a:moveTo>
                  <a:pt x="14" y="41"/>
                </a:moveTo>
                <a:lnTo>
                  <a:pt x="27" y="0"/>
                </a:lnTo>
                <a:lnTo>
                  <a:pt x="122" y="81"/>
                </a:lnTo>
                <a:lnTo>
                  <a:pt x="0" y="68"/>
                </a:lnTo>
                <a:lnTo>
                  <a:pt x="14" y="41"/>
                </a:lnTo>
                <a:close/>
              </a:path>
            </a:pathLst>
          </a:custGeom>
          <a:solidFill>
            <a:srgbClr val="000000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01960" y="3009960"/>
            <a:ext cx="1725840" cy="7761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470720" y="3570120"/>
            <a:ext cx="1590840" cy="51768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444440" y="3666960"/>
            <a:ext cx="155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hire car boo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866440" y="3746520"/>
            <a:ext cx="101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 Helvetica Condensed"/>
              </a:rPr>
              <a:t>b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9.3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OAP message in an envelope</a:t>
            </a:r>
            <a:br>
              <a:rPr sz="2000"/>
            </a:b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102280" y="6094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41320" y="1389240"/>
            <a:ext cx="8267760" cy="453996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12880" y="1360440"/>
            <a:ext cx="8323200" cy="4595760"/>
          </a:xfrm>
          <a:prstGeom prst="rect">
            <a:avLst/>
          </a:prstGeom>
          <a:noFill/>
          <a:ln w="55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512720" y="1976400"/>
            <a:ext cx="6978960" cy="159876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86080" y="1949400"/>
            <a:ext cx="7034040" cy="1652760"/>
          </a:xfrm>
          <a:prstGeom prst="rect">
            <a:avLst/>
          </a:prstGeom>
          <a:noFill/>
          <a:ln w="55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12760" y="1484280"/>
            <a:ext cx="1050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 Helvetica Condensed"/>
              </a:rPr>
              <a:t>envelop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751400" y="2046240"/>
            <a:ext cx="831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 Helvetica Condensed"/>
              </a:rPr>
              <a:t>heade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848120" y="2565360"/>
            <a:ext cx="2102040" cy="58896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821120" y="2536920"/>
            <a:ext cx="2157480" cy="645840"/>
          </a:xfrm>
          <a:prstGeom prst="rect">
            <a:avLst/>
          </a:prstGeom>
          <a:noFill/>
          <a:ln w="55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12720" y="3967200"/>
            <a:ext cx="6978960" cy="162540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86080" y="3938760"/>
            <a:ext cx="7034040" cy="1680840"/>
          </a:xfrm>
          <a:prstGeom prst="rect">
            <a:avLst/>
          </a:prstGeom>
          <a:noFill/>
          <a:ln w="55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94080" y="2565360"/>
            <a:ext cx="2074680" cy="58896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467080" y="2536920"/>
            <a:ext cx="2128680" cy="645840"/>
          </a:xfrm>
          <a:prstGeom prst="rect">
            <a:avLst/>
          </a:prstGeom>
          <a:noFill/>
          <a:ln w="55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494080" y="4414680"/>
            <a:ext cx="2074680" cy="58896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467080" y="4387680"/>
            <a:ext cx="2128680" cy="644760"/>
          </a:xfrm>
          <a:prstGeom prst="rect">
            <a:avLst/>
          </a:prstGeom>
          <a:noFill/>
          <a:ln w="55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48120" y="4414680"/>
            <a:ext cx="2102040" cy="58896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21120" y="4387680"/>
            <a:ext cx="2157480" cy="644760"/>
          </a:xfrm>
          <a:prstGeom prst="rect">
            <a:avLst/>
          </a:prstGeom>
          <a:noFill/>
          <a:ln w="55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824840" y="3979800"/>
            <a:ext cx="584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 Helvetica Condensed"/>
              </a:rPr>
              <a:t>bod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609640" y="2633760"/>
            <a:ext cx="1896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header 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648520" y="4511520"/>
            <a:ext cx="1645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body 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876560" y="2633760"/>
            <a:ext cx="1896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header 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934520" y="4511520"/>
            <a:ext cx="1645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body 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9.4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Example of a simple request without headers</a:t>
            </a: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102280" y="6094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95360" y="1460520"/>
            <a:ext cx="8493120" cy="315900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69800" y="1434960"/>
            <a:ext cx="8545680" cy="3211560"/>
          </a:xfrm>
          <a:prstGeom prst="rect">
            <a:avLst/>
          </a:prstGeom>
          <a:noFill/>
          <a:ln w="52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17440" y="1979640"/>
            <a:ext cx="7224840" cy="240804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090440" y="1952640"/>
            <a:ext cx="7277400" cy="2460600"/>
          </a:xfrm>
          <a:prstGeom prst="rect">
            <a:avLst/>
          </a:prstGeom>
          <a:noFill/>
          <a:ln w="52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712880" y="2470320"/>
            <a:ext cx="6059520" cy="163188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687680" y="2444760"/>
            <a:ext cx="6110280" cy="1682640"/>
          </a:xfrm>
          <a:prstGeom prst="rect">
            <a:avLst/>
          </a:prstGeom>
          <a:noFill/>
          <a:ln w="52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794240" y="2509920"/>
            <a:ext cx="1291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C Helvetica Condensed"/>
              </a:rPr>
              <a:t>m:exchang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87240" y="1550880"/>
            <a:ext cx="1383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C Helvetica Condensed"/>
              </a:rPr>
              <a:t>env:envelop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70320" y="1550880"/>
            <a:ext cx="5467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xmlns:env =namespace URI for SOAP envelop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282760" y="3273480"/>
            <a:ext cx="1941480" cy="62208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255760" y="3247920"/>
            <a:ext cx="1994040" cy="673200"/>
          </a:xfrm>
          <a:prstGeom prst="rect">
            <a:avLst/>
          </a:prstGeom>
          <a:noFill/>
          <a:ln w="52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393280" y="3286080"/>
            <a:ext cx="776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C Helvetica Condensed"/>
              </a:rPr>
              <a:t>m:arg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239480" y="2017800"/>
            <a:ext cx="9594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C Helvetica Condensed"/>
              </a:rPr>
              <a:t>env:bod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435680" y="2819520"/>
            <a:ext cx="5906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xmlns:m = namespace URI of the service descrip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831400" y="3544920"/>
            <a:ext cx="586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Hell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950000" y="3273480"/>
            <a:ext cx="1941480" cy="62208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924440" y="3247920"/>
            <a:ext cx="1992240" cy="673200"/>
          </a:xfrm>
          <a:prstGeom prst="rect">
            <a:avLst/>
          </a:prstGeom>
          <a:noFill/>
          <a:ln w="52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077440" y="3286080"/>
            <a:ext cx="776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C Helvetica Condensed"/>
              </a:rPr>
              <a:t>m:arg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405760" y="3544920"/>
            <a:ext cx="6804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World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55800" y="5027760"/>
            <a:ext cx="8372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figure and the next, each XML element is represented by a shaded box with its name in italic followed by any attributes and its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9.5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Example of a reply corresponding to the request in Figure 19.4</a:t>
            </a:r>
            <a:br>
              <a:rPr sz="2000"/>
            </a:b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102280" y="6094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2120" y="1484280"/>
            <a:ext cx="8566200" cy="324504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65120" y="1457280"/>
            <a:ext cx="8620200" cy="3299040"/>
          </a:xfrm>
          <a:prstGeom prst="rect">
            <a:avLst/>
          </a:prstGeom>
          <a:noFill/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130400" y="1936800"/>
            <a:ext cx="7477200" cy="244800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103400" y="1909800"/>
            <a:ext cx="7529400" cy="2500200"/>
          </a:xfrm>
          <a:prstGeom prst="rect">
            <a:avLst/>
          </a:prstGeom>
          <a:noFill/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741320" y="2441520"/>
            <a:ext cx="6201000" cy="162252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716120" y="2414520"/>
            <a:ext cx="6251400" cy="1676520"/>
          </a:xfrm>
          <a:prstGeom prst="rect">
            <a:avLst/>
          </a:prstGeom>
          <a:noFill/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89640" y="3186000"/>
            <a:ext cx="1968480" cy="63972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62640" y="3160800"/>
            <a:ext cx="2022480" cy="690480"/>
          </a:xfrm>
          <a:prstGeom prst="rect">
            <a:avLst/>
          </a:prstGeom>
          <a:noFill/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79320" y="1549440"/>
            <a:ext cx="138600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 Helvetica Condensed"/>
              </a:rPr>
              <a:t>env:envelo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773000" y="1549440"/>
            <a:ext cx="5414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xmlns:env = namespace URI for SOAP envelop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327400" y="3186000"/>
            <a:ext cx="1968480" cy="61272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300400" y="3160800"/>
            <a:ext cx="2022480" cy="664920"/>
          </a:xfrm>
          <a:prstGeom prst="rect">
            <a:avLst/>
          </a:prstGeom>
          <a:noFill/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452680" y="3198960"/>
            <a:ext cx="765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 Helvetica Condensed"/>
              </a:rPr>
              <a:t>m:re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278360" y="1974960"/>
            <a:ext cx="1017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 Helvetica Condensed"/>
              </a:rPr>
              <a:t>env:bo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510920" y="2746440"/>
            <a:ext cx="6005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xmlns:m = namespace URI for the service descrip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55960" y="3198960"/>
            <a:ext cx="765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 Helvetica Condensed"/>
              </a:rPr>
              <a:t>m:res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791440" y="3463920"/>
            <a:ext cx="6804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World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863360" y="2454120"/>
            <a:ext cx="242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 Helvetica Condensed"/>
              </a:rPr>
              <a:t>m:exchange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991760" y="3490920"/>
            <a:ext cx="586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Hell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9.6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Use of HTTP POST Request in SOAP client-server communication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102280" y="6094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87520" y="1574640"/>
            <a:ext cx="8081640" cy="284652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5200" y="1552680"/>
            <a:ext cx="8105760" cy="3009960"/>
          </a:xfrm>
          <a:prstGeom prst="rect">
            <a:avLst/>
          </a:prstGeom>
          <a:noFill/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826520" y="1741320"/>
            <a:ext cx="209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endpoint 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758000" y="2386080"/>
            <a:ext cx="733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78680" y="1741320"/>
            <a:ext cx="2568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OST /examples/strin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79400" y="1963800"/>
            <a:ext cx="2059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ost: www.cdk4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75800" y="2185920"/>
            <a:ext cx="3790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ntent-Type: application/soap+x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74720" y="2408400"/>
            <a:ext cx="5850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tion: http://www.cdk4.net/examples/stringer#ex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60680" y="3119400"/>
            <a:ext cx="2850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&lt;env:envelope xmlns:env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709440" y="3119400"/>
            <a:ext cx="3684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space URI for SOAP envelo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462000" y="3119400"/>
            <a:ext cx="172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9960" y="3363840"/>
            <a:ext cx="3118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&lt;env:header&gt; &lt;/env:heade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59960" y="3608280"/>
            <a:ext cx="2695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&lt;env:body&gt; &lt;/env:bod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63560" y="3852720"/>
            <a:ext cx="1802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&lt;/env:Envelop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459240" y="1819440"/>
            <a:ext cx="199800" cy="133200"/>
          </a:xfrm>
          <a:custGeom>
            <a:avLst/>
            <a:gdLst/>
            <a:ahLst/>
            <a:rect l="l" t="t" r="r" b="b"/>
            <a:pathLst>
              <a:path w="126" h="84">
                <a:moveTo>
                  <a:pt x="126" y="42"/>
                </a:moveTo>
                <a:lnTo>
                  <a:pt x="126" y="84"/>
                </a:lnTo>
                <a:lnTo>
                  <a:pt x="0" y="42"/>
                </a:lnTo>
                <a:lnTo>
                  <a:pt x="126" y="0"/>
                </a:lnTo>
                <a:lnTo>
                  <a:pt x="126" y="42"/>
                </a:lnTo>
                <a:close/>
              </a:path>
            </a:pathLst>
          </a:custGeom>
          <a:solidFill>
            <a:srgbClr val="000000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3658680" y="1886040"/>
            <a:ext cx="120204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37480" y="2486160"/>
            <a:ext cx="199800" cy="133200"/>
          </a:xfrm>
          <a:custGeom>
            <a:avLst/>
            <a:gdLst/>
            <a:ahLst/>
            <a:rect l="l" t="t" r="r" b="b"/>
            <a:pathLst>
              <a:path w="126" h="84">
                <a:moveTo>
                  <a:pt x="126" y="42"/>
                </a:moveTo>
                <a:lnTo>
                  <a:pt x="126" y="84"/>
                </a:lnTo>
                <a:lnTo>
                  <a:pt x="0" y="42"/>
                </a:lnTo>
                <a:lnTo>
                  <a:pt x="126" y="0"/>
                </a:lnTo>
                <a:lnTo>
                  <a:pt x="126" y="42"/>
                </a:lnTo>
                <a:close/>
              </a:path>
            </a:pathLst>
          </a:custGeom>
          <a:solidFill>
            <a:srgbClr val="000000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6875280" y="2530440"/>
            <a:ext cx="73332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rot="16217400">
            <a:off x="8422560" y="3464280"/>
            <a:ext cx="127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ap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rot="16200000">
            <a:off x="8482320" y="1807560"/>
            <a:ext cx="108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9.7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Java web service interface ShapeList</a:t>
            </a:r>
            <a:br>
              <a:rPr sz="2000"/>
            </a:b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102280" y="6094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79440" y="1596960"/>
            <a:ext cx="8928000" cy="30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ort java.rmi.*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ublic interface ShapeList extends Remot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t newShape(GraphicalObject g) throws RemoteException;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t numberOfShapes()throws RemoteExcep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t getVersion() throws RemoteExcep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t getGOVersion(int i)throws RemoteExcep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Object getAllState(int i) throws RemoteExcep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9.8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Java implementation of the ShapeList server</a:t>
            </a: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102280" y="6094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972720" y="1128600"/>
            <a:ext cx="7957800" cy="51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mport java.util.Vecto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ublic class ShapeListImpl implements ShapeLis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rivate Vector theList = new Vector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rivate int version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rivate Vector theVersions = new Vector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ublic int newShape(GraphicalObject g) throws RemoteException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ersion++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eList.addElement(g);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eVersions.addElement(new Integer(version));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turn theList.siz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ublic int numberOfShapes(){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ublic int getVersion() {}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ublic int getGOVersion(int i){ 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ublic GraphicalObject getAllState(int i) {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8T21:59:47Z</dcterms:created>
  <dc:creator>George Coulouris</dc:creator>
  <dc:description/>
  <dc:language>en-US</dc:language>
  <cp:lastModifiedBy>Jean Dollimore</cp:lastModifiedBy>
  <cp:lastPrinted>2000-11-12T21:05:10Z</cp:lastPrinted>
  <dcterms:modified xsi:type="dcterms:W3CDTF">2005-05-07T14:30:47Z</dcterms:modified>
  <cp:revision>59</cp:revision>
  <dc:subject/>
  <dc:title>Figure 15.1 A distributed multimedia system</dc:title>
</cp:coreProperties>
</file>