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6E7-EBFB-4AE5-917C-F6A35E1A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ADD-7B81-4441-8D25-CDDD2AA2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E10-50C9-4C4A-9956-D859A1C2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2ED-2D0B-4395-B5C4-A57A488F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79BC-0662-4525-9F24-FDE9024E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5A28-29DC-4F2D-8613-0F3C00F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A9E9-4B2D-42C4-B417-DDB124D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DF75-32B4-4296-BB86-950DE2E9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E2FF-8B3A-4954-9E29-16896366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B3F1-DD0F-4BEA-AF5D-2127E36E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90DC-F56F-4231-9A14-EDE24431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8A9-7923-4555-84B7-15739C56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15A4-872B-467F-9253-8BC575C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2CD-C63E-4ECE-875E-A3C15E98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66DB-3CF1-4D65-A972-69C3F32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7744-D9A5-4CFC-A3CE-DE481B8E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323A-04C6-4C79-9F22-1D81AD9F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ACE-B7CB-455B-8BD0-C1E72BA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E80-82F0-4065-B252-7827DBE6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8D3-F777-4C58-9BD9-2DCC174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57F-BADB-432D-A630-B7B61F1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2C7-B1A3-4B22-9564-D7B8BCD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6D9-A4A2-41C4-9193-C859EAB9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D90-106A-49EF-8277-B12A0FF8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5E5-CB90-4066-99F1-E096D07D1C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440C-1278-4C4D-89E1-6BF9E6DEE4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7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istributed Multimedia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t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02040" y="3102120"/>
            <a:ext cx="87120" cy="155520"/>
          </a:xfrm>
          <a:custGeom>
            <a:avLst/>
            <a:gdLst/>
            <a:ahLst/>
            <a:rect l="l" t="t" r="r" b="b"/>
            <a:pathLst>
              <a:path w="59" h="98">
                <a:moveTo>
                  <a:pt x="40" y="0"/>
                </a:moveTo>
                <a:lnTo>
                  <a:pt x="0" y="19"/>
                </a:lnTo>
                <a:lnTo>
                  <a:pt x="20" y="98"/>
                </a:lnTo>
                <a:lnTo>
                  <a:pt x="59" y="78"/>
                </a:lnTo>
                <a:lnTo>
                  <a:pt x="4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72280" y="1949400"/>
            <a:ext cx="85680" cy="123840"/>
          </a:xfrm>
          <a:custGeom>
            <a:avLst/>
            <a:gdLst/>
            <a:ahLst/>
            <a:rect l="l" t="t" r="r" b="b"/>
            <a:pathLst>
              <a:path w="59" h="78">
                <a:moveTo>
                  <a:pt x="0" y="0"/>
                </a:moveTo>
                <a:lnTo>
                  <a:pt x="39" y="0"/>
                </a:lnTo>
                <a:lnTo>
                  <a:pt x="59" y="78"/>
                </a:lnTo>
                <a:lnTo>
                  <a:pt x="20" y="7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60720" y="1949400"/>
            <a:ext cx="4140360" cy="1276560"/>
          </a:xfrm>
          <a:custGeom>
            <a:avLst/>
            <a:gdLst/>
            <a:ahLst/>
            <a:rect l="l" t="t" r="r" b="b"/>
            <a:pathLst>
              <a:path w="2825" h="804">
                <a:moveTo>
                  <a:pt x="0" y="726"/>
                </a:moveTo>
                <a:lnTo>
                  <a:pt x="19" y="804"/>
                </a:lnTo>
                <a:lnTo>
                  <a:pt x="2825" y="78"/>
                </a:lnTo>
                <a:lnTo>
                  <a:pt x="2805" y="0"/>
                </a:lnTo>
                <a:lnTo>
                  <a:pt x="0" y="72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27920" y="1887480"/>
            <a:ext cx="287280" cy="31104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68680" y="3600360"/>
            <a:ext cx="2760840" cy="777960"/>
          </a:xfrm>
          <a:prstGeom prst="line">
            <a:avLst/>
          </a:prstGeom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5880" y="3413160"/>
            <a:ext cx="260280" cy="28080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83000" y="3506760"/>
            <a:ext cx="8568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39" y="0"/>
                </a:moveTo>
                <a:lnTo>
                  <a:pt x="0" y="0"/>
                </a:lnTo>
                <a:lnTo>
                  <a:pt x="20" y="59"/>
                </a:lnTo>
                <a:lnTo>
                  <a:pt x="59" y="59"/>
                </a:lnTo>
                <a:lnTo>
                  <a:pt x="39" y="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19760" y="3195720"/>
            <a:ext cx="57240" cy="123840"/>
          </a:xfrm>
          <a:custGeom>
            <a:avLst/>
            <a:gdLst/>
            <a:ahLst/>
            <a:rect l="l" t="t" r="r" b="b"/>
            <a:pathLst>
              <a:path w="39" h="78">
                <a:moveTo>
                  <a:pt x="0" y="19"/>
                </a:moveTo>
                <a:lnTo>
                  <a:pt x="20" y="0"/>
                </a:lnTo>
                <a:lnTo>
                  <a:pt x="39" y="59"/>
                </a:lnTo>
                <a:lnTo>
                  <a:pt x="20" y="78"/>
                </a:lnTo>
                <a:lnTo>
                  <a:pt x="0" y="19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40240" y="3225960"/>
            <a:ext cx="1409760" cy="374400"/>
          </a:xfrm>
          <a:custGeom>
            <a:avLst/>
            <a:gdLst/>
            <a:ahLst/>
            <a:rect l="l" t="t" r="r" b="b"/>
            <a:pathLst>
              <a:path w="962" h="236">
                <a:moveTo>
                  <a:pt x="0" y="177"/>
                </a:moveTo>
                <a:lnTo>
                  <a:pt x="20" y="236"/>
                </a:lnTo>
                <a:lnTo>
                  <a:pt x="962" y="59"/>
                </a:lnTo>
                <a:lnTo>
                  <a:pt x="942" y="0"/>
                </a:lnTo>
                <a:lnTo>
                  <a:pt x="0" y="177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34080" y="2354400"/>
            <a:ext cx="85680" cy="123840"/>
          </a:xfrm>
          <a:custGeom>
            <a:avLst/>
            <a:gdLst/>
            <a:ahLst/>
            <a:rect l="l" t="t" r="r" b="b"/>
            <a:pathLst>
              <a:path w="59" h="78">
                <a:moveTo>
                  <a:pt x="59" y="20"/>
                </a:moveTo>
                <a:lnTo>
                  <a:pt x="20" y="0"/>
                </a:lnTo>
                <a:lnTo>
                  <a:pt x="0" y="59"/>
                </a:lnTo>
                <a:lnTo>
                  <a:pt x="39" y="78"/>
                </a:lnTo>
                <a:lnTo>
                  <a:pt x="59" y="2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01080" y="2697120"/>
            <a:ext cx="5688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9" y="0"/>
                </a:moveTo>
                <a:lnTo>
                  <a:pt x="39" y="0"/>
                </a:lnTo>
                <a:lnTo>
                  <a:pt x="19" y="59"/>
                </a:lnTo>
                <a:lnTo>
                  <a:pt x="0" y="59"/>
                </a:lnTo>
                <a:lnTo>
                  <a:pt x="19" y="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2386080"/>
            <a:ext cx="1438200" cy="404640"/>
          </a:xfrm>
          <a:custGeom>
            <a:avLst/>
            <a:gdLst/>
            <a:ahLst/>
            <a:rect l="l" t="t" r="r" b="b"/>
            <a:pathLst>
              <a:path w="981" h="255">
                <a:moveTo>
                  <a:pt x="20" y="0"/>
                </a:moveTo>
                <a:lnTo>
                  <a:pt x="0" y="58"/>
                </a:lnTo>
                <a:lnTo>
                  <a:pt x="962" y="255"/>
                </a:lnTo>
                <a:lnTo>
                  <a:pt x="981" y="196"/>
                </a:lnTo>
                <a:lnTo>
                  <a:pt x="20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5160" y="2603520"/>
            <a:ext cx="230040" cy="24912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02040" y="3102120"/>
            <a:ext cx="87120" cy="123840"/>
          </a:xfrm>
          <a:custGeom>
            <a:avLst/>
            <a:gdLst/>
            <a:ahLst/>
            <a:rect l="l" t="t" r="r" b="b"/>
            <a:pathLst>
              <a:path w="59" h="78">
                <a:moveTo>
                  <a:pt x="59" y="19"/>
                </a:moveTo>
                <a:lnTo>
                  <a:pt x="20" y="0"/>
                </a:lnTo>
                <a:lnTo>
                  <a:pt x="0" y="59"/>
                </a:lnTo>
                <a:lnTo>
                  <a:pt x="40" y="78"/>
                </a:lnTo>
                <a:lnTo>
                  <a:pt x="59" y="19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40240" y="3506760"/>
            <a:ext cx="58680" cy="93600"/>
          </a:xfrm>
          <a:custGeom>
            <a:avLst/>
            <a:gdLst/>
            <a:ahLst/>
            <a:rect l="l" t="t" r="r" b="b"/>
            <a:pathLst>
              <a:path w="40" h="59">
                <a:moveTo>
                  <a:pt x="20" y="0"/>
                </a:moveTo>
                <a:lnTo>
                  <a:pt x="40" y="0"/>
                </a:lnTo>
                <a:lnTo>
                  <a:pt x="20" y="59"/>
                </a:lnTo>
                <a:lnTo>
                  <a:pt x="0" y="59"/>
                </a:lnTo>
                <a:lnTo>
                  <a:pt x="20" y="0"/>
                </a:lnTo>
                <a:close/>
              </a:path>
            </a:pathLst>
          </a:cu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60720" y="3132000"/>
            <a:ext cx="1407960" cy="468360"/>
          </a:xfrm>
          <a:custGeom>
            <a:avLst/>
            <a:gdLst/>
            <a:ahLst/>
            <a:rect l="l" t="t" r="r" b="b"/>
            <a:pathLst>
              <a:path w="961" h="295">
                <a:moveTo>
                  <a:pt x="19" y="0"/>
                </a:moveTo>
                <a:lnTo>
                  <a:pt x="0" y="59"/>
                </a:lnTo>
                <a:lnTo>
                  <a:pt x="941" y="295"/>
                </a:lnTo>
                <a:lnTo>
                  <a:pt x="961" y="236"/>
                </a:lnTo>
                <a:lnTo>
                  <a:pt x="19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34080" y="3132000"/>
            <a:ext cx="230040" cy="24948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3879720"/>
            <a:ext cx="172800" cy="219240"/>
          </a:xfrm>
          <a:prstGeom prst="ellipse">
            <a:avLst/>
          </a:prstGeom>
          <a:solidFill>
            <a:srgbClr val="9999ff"/>
          </a:solidFill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42040" y="4286160"/>
            <a:ext cx="173160" cy="185760"/>
          </a:xfrm>
          <a:prstGeom prst="ellipse">
            <a:avLst/>
          </a:prstGeom>
          <a:solidFill>
            <a:srgbClr val="9999ff"/>
          </a:solidFill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17800" y="3008160"/>
            <a:ext cx="287280" cy="34308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19360" y="3022560"/>
            <a:ext cx="928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7480" y="324180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68880" y="2635200"/>
            <a:ext cx="287280" cy="31104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34080" y="2260440"/>
            <a:ext cx="287280" cy="31140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25920" y="4467240"/>
            <a:ext cx="58680" cy="12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51000" y="4467240"/>
            <a:ext cx="574920" cy="12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81560" y="4375080"/>
            <a:ext cx="287280" cy="311400"/>
          </a:xfrm>
          <a:prstGeom prst="ellipse">
            <a:avLst/>
          </a:prstGeom>
          <a:solidFill>
            <a:srgbClr val="0000ff"/>
          </a:solidFill>
          <a:ln w="46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25920" y="4935600"/>
            <a:ext cx="58680" cy="93600"/>
          </a:xfrm>
          <a:prstGeom prst="rect">
            <a:avLst/>
          </a:pr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51000" y="4935600"/>
            <a:ext cx="574920" cy="936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38440" y="4842000"/>
            <a:ext cx="230400" cy="279360"/>
          </a:xfrm>
          <a:prstGeom prst="ellipse">
            <a:avLst/>
          </a:prstGeom>
          <a:solidFill>
            <a:srgbClr val="3366ff"/>
          </a:solidFill>
          <a:ln w="46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5120" y="5433840"/>
            <a:ext cx="550800" cy="1800"/>
          </a:xfrm>
          <a:prstGeom prst="line">
            <a:avLst/>
          </a:prstGeom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68680" y="5340240"/>
            <a:ext cx="200160" cy="187560"/>
          </a:xfrm>
          <a:prstGeom prst="ellipse">
            <a:avLst/>
          </a:prstGeom>
          <a:solidFill>
            <a:srgbClr val="9999ff"/>
          </a:solidFill>
          <a:ln w="46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5680" y="4330800"/>
            <a:ext cx="604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63600" y="433080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1200" y="4330800"/>
            <a:ext cx="133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4960" y="4799160"/>
            <a:ext cx="1043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36560" y="47991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07120" y="4799160"/>
            <a:ext cx="133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760" y="5234040"/>
            <a:ext cx="538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06360" y="523404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62520" y="5234040"/>
            <a:ext cx="133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ger video file server hardware configu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05000" y="1744560"/>
            <a:ext cx="8325000" cy="3499920"/>
            <a:chOff x="405000" y="1744560"/>
            <a:chExt cx="8325000" cy="3499920"/>
          </a:xfrm>
        </p:grpSpPr>
        <p:sp>
          <p:nvSpPr>
            <p:cNvPr id="380" name=""/>
            <p:cNvSpPr/>
            <p:nvPr/>
          </p:nvSpPr>
          <p:spPr>
            <a:xfrm>
              <a:off x="1461960" y="2766960"/>
              <a:ext cx="3556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61960" y="2766960"/>
              <a:ext cx="3762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1960" y="2716200"/>
              <a:ext cx="3556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61960" y="2997360"/>
              <a:ext cx="3556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74920" y="2959200"/>
              <a:ext cx="331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2864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61960" y="3200400"/>
              <a:ext cx="808200" cy="2970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61960" y="3200400"/>
              <a:ext cx="81288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03440" y="3200400"/>
              <a:ext cx="816120" cy="3078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3440" y="3200400"/>
              <a:ext cx="81144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5440" y="3200400"/>
              <a:ext cx="814320" cy="298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65440" y="3200400"/>
              <a:ext cx="81144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26000" y="3200400"/>
              <a:ext cx="799920" cy="3096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6000" y="3200400"/>
              <a:ext cx="81288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29480" y="3200400"/>
              <a:ext cx="806400" cy="301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29480" y="3200400"/>
              <a:ext cx="811080" cy="30780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35440" y="1744560"/>
              <a:ext cx="1334880" cy="306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35440" y="1744560"/>
              <a:ext cx="1333440" cy="30636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27760" y="180648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6428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9424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5660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680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9120" y="32637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b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04800" y="3992400"/>
              <a:ext cx="6097680" cy="409680"/>
            </a:xfrm>
            <a:prstGeom prst="ellipse">
              <a:avLst/>
            </a:prstGeom>
            <a:solidFill>
              <a:srgbClr val="d9aa73"/>
            </a:solidFill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86400" y="4081320"/>
              <a:ext cx="208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M switch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51400" y="5000760"/>
              <a:ext cx="238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deo distribution to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68960" y="4376880"/>
              <a:ext cx="415800" cy="395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8800" y="4734000"/>
              <a:ext cx="812880" cy="179280"/>
            </a:xfrm>
            <a:custGeom>
              <a:avLst/>
              <a:gdLst/>
              <a:ahLst/>
              <a:rect l="l" t="t" r="r" b="b"/>
              <a:pathLst>
                <a:path w="554" h="113">
                  <a:moveTo>
                    <a:pt x="0" y="16"/>
                  </a:moveTo>
                  <a:lnTo>
                    <a:pt x="554" y="0"/>
                  </a:lnTo>
                  <a:lnTo>
                    <a:pt x="270" y="1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9aa73"/>
            </a:solidFill>
            <a:ln w="334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17640" y="3814920"/>
              <a:ext cx="6048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54280" y="3865680"/>
              <a:ext cx="18720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71" y="0"/>
                  </a:moveTo>
                  <a:lnTo>
                    <a:pt x="128" y="0"/>
                  </a:lnTo>
                  <a:lnTo>
                    <a:pt x="71" y="129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7640" y="3508200"/>
              <a:ext cx="60480" cy="33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98720" y="3736800"/>
              <a:ext cx="63720" cy="781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14" y="49"/>
                  </a:moveTo>
                  <a:lnTo>
                    <a:pt x="29" y="49"/>
                  </a:lnTo>
                  <a:lnTo>
                    <a:pt x="43" y="33"/>
                  </a:lnTo>
                  <a:lnTo>
                    <a:pt x="29" y="16"/>
                  </a:lnTo>
                  <a:lnTo>
                    <a:pt x="14" y="0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36800" y="3789360"/>
              <a:ext cx="185760" cy="203040"/>
            </a:xfrm>
            <a:custGeom>
              <a:avLst/>
              <a:gdLst/>
              <a:ahLst/>
              <a:rect l="l" t="t" r="r" b="b"/>
              <a:pathLst>
                <a:path w="127" h="128">
                  <a:moveTo>
                    <a:pt x="56" y="0"/>
                  </a:moveTo>
                  <a:lnTo>
                    <a:pt x="127" y="0"/>
                  </a:lnTo>
                  <a:lnTo>
                    <a:pt x="71" y="128"/>
                  </a:lnTo>
                  <a:lnTo>
                    <a:pt x="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98720" y="3508200"/>
              <a:ext cx="63720" cy="25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38760" y="3711600"/>
              <a:ext cx="6336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29" y="49"/>
                  </a:moveTo>
                  <a:lnTo>
                    <a:pt x="43" y="49"/>
                  </a:lnTo>
                  <a:lnTo>
                    <a:pt x="43" y="32"/>
                  </a:lnTo>
                  <a:lnTo>
                    <a:pt x="43" y="16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15" y="49"/>
                  </a:lnTo>
                  <a:lnTo>
                    <a:pt x="29" y="49"/>
                  </a:lnTo>
                  <a:lnTo>
                    <a:pt x="2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76840" y="3762360"/>
              <a:ext cx="18864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71" y="0"/>
                  </a:moveTo>
                  <a:lnTo>
                    <a:pt x="128" y="0"/>
                  </a:lnTo>
                  <a:lnTo>
                    <a:pt x="71" y="129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38760" y="3508200"/>
              <a:ext cx="6336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81680" y="3711600"/>
              <a:ext cx="60120" cy="77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17960" y="3762360"/>
              <a:ext cx="18756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71" y="0"/>
                  </a:moveTo>
                  <a:lnTo>
                    <a:pt x="128" y="0"/>
                  </a:lnTo>
                  <a:lnTo>
                    <a:pt x="71" y="129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81680" y="3508200"/>
              <a:ext cx="6012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04240" y="3814920"/>
              <a:ext cx="6156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40520" y="3865680"/>
              <a:ext cx="168480" cy="204840"/>
            </a:xfrm>
            <a:custGeom>
              <a:avLst/>
              <a:gdLst/>
              <a:ahLst/>
              <a:rect l="l" t="t" r="r" b="b"/>
              <a:pathLst>
                <a:path w="114" h="129">
                  <a:moveTo>
                    <a:pt x="57" y="0"/>
                  </a:moveTo>
                  <a:lnTo>
                    <a:pt x="114" y="0"/>
                  </a:lnTo>
                  <a:lnTo>
                    <a:pt x="57" y="129"/>
                  </a:lnTo>
                  <a:lnTo>
                    <a:pt x="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04240" y="3508200"/>
              <a:ext cx="61560" cy="33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8000" y="3278160"/>
              <a:ext cx="61920" cy="76320"/>
            </a:xfrm>
            <a:prstGeom prst="ellipse">
              <a:avLst/>
            </a:prstGeom>
            <a:noFill/>
            <a:ln w="77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37120" y="3278160"/>
              <a:ext cx="63720" cy="76320"/>
            </a:xfrm>
            <a:prstGeom prst="ellipse">
              <a:avLst/>
            </a:prstGeom>
            <a:noFill/>
            <a:ln w="77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08560" y="3278160"/>
              <a:ext cx="61920" cy="76320"/>
            </a:xfrm>
            <a:prstGeom prst="ellipse">
              <a:avLst/>
            </a:prstGeom>
            <a:noFill/>
            <a:ln w="77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22680" y="3303720"/>
              <a:ext cx="82800" cy="7596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6"/>
                  </a:moveTo>
                  <a:lnTo>
                    <a:pt x="0" y="0"/>
                  </a:lnTo>
                  <a:lnTo>
                    <a:pt x="57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02160" y="2050920"/>
              <a:ext cx="20520" cy="1278000"/>
            </a:xfrm>
            <a:custGeom>
              <a:avLst/>
              <a:gdLst/>
              <a:ahLst/>
              <a:rect l="l" t="t" r="r" b="b"/>
              <a:pathLst>
                <a:path w="14" h="805">
                  <a:moveTo>
                    <a:pt x="0" y="0"/>
                  </a:moveTo>
                  <a:lnTo>
                    <a:pt x="0" y="805"/>
                  </a:lnTo>
                  <a:lnTo>
                    <a:pt x="14" y="805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0680" y="3278160"/>
              <a:ext cx="6192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16"/>
                  </a:moveTo>
                  <a:lnTo>
                    <a:pt x="0" y="0"/>
                  </a:lnTo>
                  <a:lnTo>
                    <a:pt x="42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40160" y="2382840"/>
              <a:ext cx="1440" cy="920880"/>
            </a:xfrm>
            <a:custGeom>
              <a:avLst/>
              <a:gdLst/>
              <a:ahLst/>
              <a:rect l="l" t="t" r="r" b="b"/>
              <a:pathLst>
                <a:path w="0" h="580">
                  <a:moveTo>
                    <a:pt x="0" y="0"/>
                  </a:moveTo>
                  <a:lnTo>
                    <a:pt x="0" y="580"/>
                  </a:lnTo>
                  <a:lnTo>
                    <a:pt x="0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98680" y="3278160"/>
              <a:ext cx="84240" cy="7632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6"/>
                  </a:moveTo>
                  <a:lnTo>
                    <a:pt x="0" y="0"/>
                  </a:lnTo>
                  <a:lnTo>
                    <a:pt x="57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8160" y="2382840"/>
              <a:ext cx="20520" cy="920880"/>
            </a:xfrm>
            <a:custGeom>
              <a:avLst/>
              <a:gdLst/>
              <a:ahLst/>
              <a:rect l="l" t="t" r="r" b="b"/>
              <a:pathLst>
                <a:path w="14" h="580">
                  <a:moveTo>
                    <a:pt x="0" y="0"/>
                  </a:moveTo>
                  <a:lnTo>
                    <a:pt x="0" y="580"/>
                  </a:lnTo>
                  <a:lnTo>
                    <a:pt x="14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59000" y="3278160"/>
              <a:ext cx="82440" cy="7632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0" y="16"/>
                  </a:moveTo>
                  <a:lnTo>
                    <a:pt x="0" y="0"/>
                  </a:lnTo>
                  <a:lnTo>
                    <a:pt x="57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38120" y="2382840"/>
              <a:ext cx="20880" cy="920880"/>
            </a:xfrm>
            <a:custGeom>
              <a:avLst/>
              <a:gdLst/>
              <a:ahLst/>
              <a:rect l="l" t="t" r="r" b="b"/>
              <a:pathLst>
                <a:path w="14" h="580">
                  <a:moveTo>
                    <a:pt x="0" y="0"/>
                  </a:moveTo>
                  <a:lnTo>
                    <a:pt x="0" y="580"/>
                  </a:lnTo>
                  <a:lnTo>
                    <a:pt x="14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4720" y="3278160"/>
              <a:ext cx="6192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16"/>
                  </a:moveTo>
                  <a:lnTo>
                    <a:pt x="0" y="0"/>
                  </a:lnTo>
                  <a:lnTo>
                    <a:pt x="42" y="16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03840" y="2382840"/>
              <a:ext cx="1800" cy="920880"/>
            </a:xfrm>
            <a:custGeom>
              <a:avLst/>
              <a:gdLst/>
              <a:ahLst/>
              <a:rect l="l" t="t" r="r" b="b"/>
              <a:pathLst>
                <a:path w="0" h="580">
                  <a:moveTo>
                    <a:pt x="0" y="0"/>
                  </a:moveTo>
                  <a:lnTo>
                    <a:pt x="0" y="580"/>
                  </a:lnTo>
                  <a:lnTo>
                    <a:pt x="0" y="58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68880" y="1820880"/>
              <a:ext cx="8100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56" y="32"/>
                  </a:moveTo>
                  <a:lnTo>
                    <a:pt x="56" y="65"/>
                  </a:lnTo>
                  <a:lnTo>
                    <a:pt x="0" y="32"/>
                  </a:lnTo>
                  <a:lnTo>
                    <a:pt x="56" y="0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49880" y="1871640"/>
              <a:ext cx="2540160" cy="2786040"/>
            </a:xfrm>
            <a:custGeom>
              <a:avLst/>
              <a:gdLst/>
              <a:ahLst/>
              <a:rect l="l" t="t" r="r" b="b"/>
              <a:pathLst>
                <a:path w="1733" h="1755">
                  <a:moveTo>
                    <a:pt x="1733" y="1755"/>
                  </a:moveTo>
                  <a:lnTo>
                    <a:pt x="1733" y="0"/>
                  </a:lnTo>
                  <a:lnTo>
                    <a:pt x="0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337760" y="2392200"/>
              <a:ext cx="52657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59760" y="4719600"/>
              <a:ext cx="90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/St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54760" y="4950000"/>
              <a:ext cx="187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s from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06160" y="2114640"/>
              <a:ext cx="206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w-bandwidth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000" y="3608280"/>
              <a:ext cx="137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band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9804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20960" y="2766960"/>
              <a:ext cx="3538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766960"/>
              <a:ext cx="3744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20960" y="271620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20960" y="299736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28880" y="2954160"/>
              <a:ext cx="33156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8584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6344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3440" y="2766960"/>
              <a:ext cx="3542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344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03440" y="271620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3440" y="299736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9920" y="2955960"/>
              <a:ext cx="33480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7012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3772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2440" y="2766960"/>
              <a:ext cx="3524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2440" y="2766960"/>
              <a:ext cx="3744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2440" y="271620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62440" y="299736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68560" y="2963880"/>
              <a:ext cx="33336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2912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0312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65440" y="2766960"/>
              <a:ext cx="3524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65440" y="2766960"/>
              <a:ext cx="37332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271620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65440" y="299736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71920" y="2946240"/>
              <a:ext cx="333360" cy="10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068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01880" y="2854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22640" y="2766960"/>
              <a:ext cx="3542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2264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22640" y="271620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22640" y="2997360"/>
              <a:ext cx="3542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37040" y="2954160"/>
              <a:ext cx="33480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8932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6512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05480" y="2766960"/>
              <a:ext cx="3538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05480" y="2766960"/>
              <a:ext cx="3762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05480" y="271620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05480" y="299736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7216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62680" y="2766960"/>
              <a:ext cx="35532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2680" y="2766960"/>
              <a:ext cx="37620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62680" y="2716200"/>
              <a:ext cx="3553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2680" y="2997360"/>
              <a:ext cx="3553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92560" y="2921040"/>
              <a:ext cx="3114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2936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14520" y="2854440"/>
              <a:ext cx="3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29480" y="2766960"/>
              <a:ext cx="35244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2948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29480" y="271620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9480" y="2997360"/>
              <a:ext cx="35244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43880" y="2938320"/>
              <a:ext cx="3333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94360" y="3098880"/>
              <a:ext cx="1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6520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86680" y="2766960"/>
              <a:ext cx="3538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86680" y="2766960"/>
              <a:ext cx="374760" cy="30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86680" y="271620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6680" y="2997360"/>
              <a:ext cx="35388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9000" y="2954160"/>
              <a:ext cx="33336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53360" y="3098880"/>
              <a:ext cx="14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94600" y="28368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n+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22760" y="2971800"/>
              <a:ext cx="33516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52360" y="285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ger sched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14520" y="2487600"/>
            <a:ext cx="8083440" cy="2232000"/>
            <a:chOff x="614520" y="2487600"/>
            <a:chExt cx="8083440" cy="2232000"/>
          </a:xfrm>
        </p:grpSpPr>
        <p:sp>
          <p:nvSpPr>
            <p:cNvPr id="510" name=""/>
            <p:cNvSpPr/>
            <p:nvPr/>
          </p:nvSpPr>
          <p:spPr>
            <a:xfrm>
              <a:off x="614520" y="3648240"/>
              <a:ext cx="99504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4520" y="3648240"/>
              <a:ext cx="102060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80200" y="2784600"/>
              <a:ext cx="37944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0200" y="2784600"/>
              <a:ext cx="403200" cy="3268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80200" y="2725560"/>
              <a:ext cx="37944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80200" y="3070080"/>
              <a:ext cx="295200" cy="1018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80200" y="3052800"/>
              <a:ext cx="379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32760" y="3035160"/>
              <a:ext cx="301680" cy="59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21680" y="3529080"/>
              <a:ext cx="9504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32" y="0"/>
                  </a:moveTo>
                  <a:lnTo>
                    <a:pt x="63" y="0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70640" y="3141720"/>
              <a:ext cx="1800" cy="387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99360" y="285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54640" y="2784600"/>
              <a:ext cx="40320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4640" y="2784600"/>
              <a:ext cx="426960" cy="3268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54640" y="272556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54640" y="305280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4640" y="3052800"/>
              <a:ext cx="379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54640" y="3035160"/>
              <a:ext cx="403200" cy="59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97560" y="3529080"/>
              <a:ext cx="936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32" y="0"/>
                  </a:moveTo>
                  <a:lnTo>
                    <a:pt x="63" y="0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5080" y="3141720"/>
              <a:ext cx="1440" cy="387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73440" y="285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4120" y="2784600"/>
              <a:ext cx="40320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24120" y="2784600"/>
              <a:ext cx="426960" cy="3268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24120" y="272556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24120" y="3052800"/>
              <a:ext cx="403200" cy="119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46440" y="3052800"/>
              <a:ext cx="3553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63720" y="3033720"/>
              <a:ext cx="330120" cy="428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65240" y="3529080"/>
              <a:ext cx="119160" cy="1191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31" y="0"/>
                  </a:moveTo>
                  <a:lnTo>
                    <a:pt x="79" y="0"/>
                  </a:lnTo>
                  <a:lnTo>
                    <a:pt x="31" y="75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13120" y="3141720"/>
              <a:ext cx="1440" cy="387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57320" y="2852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4520" y="3648240"/>
              <a:ext cx="102060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656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372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44480" y="3648240"/>
              <a:ext cx="97632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3780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81720" y="404820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29080" y="3648240"/>
              <a:ext cx="102060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4436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89720" y="404820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24120" y="3648240"/>
              <a:ext cx="102096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24120" y="3648240"/>
              <a:ext cx="104328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24120" y="3648240"/>
              <a:ext cx="104328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4948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1664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45080" y="3648240"/>
              <a:ext cx="99360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45080" y="3648240"/>
              <a:ext cx="101736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45080" y="3648240"/>
              <a:ext cx="101736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748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2284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38680" y="3648240"/>
              <a:ext cx="102096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38680" y="3648240"/>
              <a:ext cx="104472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38680" y="3648240"/>
              <a:ext cx="104472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6404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3120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94560" y="3648240"/>
              <a:ext cx="98244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7348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18840" y="404820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55040" y="3648240"/>
              <a:ext cx="1019160" cy="1041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55040" y="3648240"/>
              <a:ext cx="1042920" cy="10713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5040" y="3648240"/>
              <a:ext cx="1042920" cy="1071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80040" y="3720960"/>
              <a:ext cx="48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ot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47200" y="4048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ew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45360" y="3097080"/>
              <a:ext cx="157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play 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2720" y="31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 Helvetica Condensed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60640" y="3321000"/>
              <a:ext cx="9504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3" y="37"/>
                  </a:moveTo>
                  <a:lnTo>
                    <a:pt x="63" y="75"/>
                  </a:lnTo>
                  <a:lnTo>
                    <a:pt x="0" y="37"/>
                  </a:lnTo>
                  <a:lnTo>
                    <a:pt x="63" y="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25920" y="33210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55680" y="3379680"/>
              <a:ext cx="23702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62440" y="33210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3" y="37"/>
                  </a:moveTo>
                  <a:lnTo>
                    <a:pt x="63" y="75"/>
                  </a:lnTo>
                  <a:lnTo>
                    <a:pt x="0" y="37"/>
                  </a:lnTo>
                  <a:lnTo>
                    <a:pt x="63" y="0"/>
                  </a:lnTo>
                  <a:lnTo>
                    <a:pt x="63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40480" y="33210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81600" y="3379680"/>
              <a:ext cx="758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638680" y="3260880"/>
              <a:ext cx="1800" cy="357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659640" y="3260880"/>
              <a:ext cx="1440" cy="357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90440" y="2798640"/>
              <a:ext cx="131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46480" y="306720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0440" y="30607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 Helvetica Condensed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692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388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784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7844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08840" y="43768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5680" y="24876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0360" y="2546280"/>
              <a:ext cx="3315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86200" y="2487600"/>
              <a:ext cx="9540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37"/>
                  </a:moveTo>
                  <a:lnTo>
                    <a:pt x="0" y="0"/>
                  </a:lnTo>
                  <a:lnTo>
                    <a:pt x="63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30880" y="2546280"/>
              <a:ext cx="355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12120" y="2487600"/>
              <a:ext cx="71280" cy="119160"/>
            </a:xfrm>
            <a:custGeom>
              <a:avLst/>
              <a:gdLst/>
              <a:ahLst/>
              <a:rect l="l" t="t" r="r" b="b"/>
              <a:pathLst>
                <a:path w="47" h="75">
                  <a:moveTo>
                    <a:pt x="0" y="37"/>
                  </a:moveTo>
                  <a:lnTo>
                    <a:pt x="0" y="0"/>
                  </a:lnTo>
                  <a:lnTo>
                    <a:pt x="47" y="37"/>
                  </a:lnTo>
                  <a:lnTo>
                    <a:pt x="0" y="7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32680" y="2546280"/>
              <a:ext cx="3556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multimedia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6440" y="1641600"/>
            <a:ext cx="78530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indow of scarcity for computing and communication resourc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58800" y="1592280"/>
            <a:ext cx="56991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haracteristics of typical multimedia stre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6880" y="202896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75200" y="2028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6880" y="5732640"/>
            <a:ext cx="21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75200" y="57326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56280" y="5732640"/>
            <a:ext cx="241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54200" y="1974960"/>
            <a:ext cx="7664040" cy="3849480"/>
            <a:chOff x="754200" y="1974960"/>
            <a:chExt cx="7664040" cy="3849480"/>
          </a:xfrm>
        </p:grpSpPr>
        <p:sp>
          <p:nvSpPr>
            <p:cNvPr id="98" name=""/>
            <p:cNvSpPr/>
            <p:nvPr/>
          </p:nvSpPr>
          <p:spPr>
            <a:xfrm>
              <a:off x="3703680" y="2039760"/>
              <a:ext cx="1033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Data rat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16840" y="2320920"/>
              <a:ext cx="153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(approximate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39000" y="2039760"/>
              <a:ext cx="178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ample or fram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64960" y="20397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34800" y="203976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36960" y="2320920"/>
              <a:ext cx="401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siz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34800" y="2320920"/>
              <a:ext cx="67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7160" y="2320920"/>
              <a:ext cx="71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4040" y="2325600"/>
              <a:ext cx="105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4600" y="2908440"/>
              <a:ext cx="192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elephone speec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56920" y="2908440"/>
              <a:ext cx="909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64  k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2400" y="2908440"/>
              <a:ext cx="588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8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5240" y="2908440"/>
              <a:ext cx="953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800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5680" y="3189240"/>
              <a:ext cx="191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D-quality soun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3680" y="3189240"/>
              <a:ext cx="1012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.4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04680" y="3189240"/>
              <a:ext cx="723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800" y="3189240"/>
              <a:ext cx="115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44,00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5680" y="3470400"/>
              <a:ext cx="203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tandard 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840" y="3751200"/>
              <a:ext cx="170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un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15800" y="3470400"/>
              <a:ext cx="1079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20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30600" y="3470400"/>
              <a:ext cx="1081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up to 640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23120" y="34704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0840" y="3470400"/>
              <a:ext cx="470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4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77760" y="3751200"/>
              <a:ext cx="707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ixel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7120" y="37512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33760" y="3751200"/>
              <a:ext cx="79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6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1760" y="3470400"/>
              <a:ext cx="68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5680" y="4032360"/>
              <a:ext cx="203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tandard 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8560" y="4313160"/>
              <a:ext cx="2536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MPEG-1 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3680" y="4032360"/>
              <a:ext cx="1012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.5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234120" y="4032360"/>
              <a:ext cx="863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01760" y="4032360"/>
              <a:ext cx="685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8200" y="4594320"/>
              <a:ext cx="1402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HD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840" y="4875120"/>
              <a:ext cx="170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un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6240" y="4594320"/>
              <a:ext cx="188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000–3000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93360" y="4594320"/>
              <a:ext cx="1215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up to 1920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760" y="45943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22400" y="4594320"/>
              <a:ext cx="60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0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7760" y="4875120"/>
              <a:ext cx="707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pixel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7120" y="48751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33760" y="4875120"/>
              <a:ext cx="79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 bi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46800" y="4594320"/>
              <a:ext cx="1087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–6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8200" y="5156280"/>
              <a:ext cx="1402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HDTV vide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9480" y="5437080"/>
              <a:ext cx="2381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PEG-2 compressed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77840" y="5156280"/>
              <a:ext cx="134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10–30 Mbp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34120" y="5156280"/>
              <a:ext cx="863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46800" y="5156280"/>
              <a:ext cx="1087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–60/se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82440" y="5707080"/>
              <a:ext cx="23580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200" y="1974960"/>
              <a:ext cx="74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280" y="2755800"/>
              <a:ext cx="74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120" y="5824440"/>
              <a:ext cx="74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ical infrastructure components for multimedia appli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9840" y="1414440"/>
            <a:ext cx="7183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7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QoS specifications for components of the application shown in Figure 17.4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8400" y="22096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51200" y="2209680"/>
            <a:ext cx="187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44920" y="22096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67400" y="220968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29320" y="220968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26080" y="220968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52320" y="1898640"/>
            <a:ext cx="7964640" cy="3370320"/>
            <a:chOff x="652320" y="1898640"/>
            <a:chExt cx="7964640" cy="3370320"/>
          </a:xfrm>
        </p:grpSpPr>
        <p:sp>
          <p:nvSpPr>
            <p:cNvPr id="159" name=""/>
            <p:cNvSpPr/>
            <p:nvPr/>
          </p:nvSpPr>
          <p:spPr>
            <a:xfrm>
              <a:off x="690120" y="1925640"/>
              <a:ext cx="93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8920" y="1925640"/>
              <a:ext cx="88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andwid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0" y="192564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a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7400" y="1925640"/>
              <a:ext cx="75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oss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57040" y="1925640"/>
              <a:ext cx="158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sources 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400" y="1916280"/>
              <a:ext cx="2052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00080" y="2263680"/>
              <a:ext cx="63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m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0000" y="221940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6600" y="2219400"/>
              <a:ext cx="202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frames/sec, raw 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71920" y="2440080"/>
              <a:ext cx="136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40x480x1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8120" y="2219400"/>
              <a:ext cx="38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400" y="220968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8760" y="220968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560" y="270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8280" y="27068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8920" y="2706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0000" y="297180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76600" y="2706840"/>
              <a:ext cx="202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frames/sec, raw 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76600" y="2971800"/>
              <a:ext cx="132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PEG-1 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98720" y="27068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57760" y="270684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58840" y="2706840"/>
              <a:ext cx="205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ms CPU each 100 m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7760" y="2971800"/>
              <a:ext cx="137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Mbytes 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400" y="2697120"/>
              <a:ext cx="2052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8760" y="2697120"/>
              <a:ext cx="20520" cy="5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0840" y="3236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9720" y="3236760"/>
              <a:ext cx="49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78920" y="3236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0000" y="350352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73000" y="3236760"/>
              <a:ext cx="1346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2  44 kbps 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73000" y="3503520"/>
              <a:ext cx="1346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  44 kbps 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98720" y="323676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8480" y="3236760"/>
              <a:ext cx="76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ry 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59200" y="3236760"/>
              <a:ext cx="195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ms CPU each 100 m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8120" y="350352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Mbytes 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2400" y="322740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8760" y="322740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1560" y="3768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8640" y="3768840"/>
              <a:ext cx="70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nd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00080" y="39895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8920" y="3768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0000" y="403380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74080" y="3768840"/>
              <a:ext cx="59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ri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7680" y="4033800"/>
              <a:ext cx="205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50 frame/sec frame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98720" y="37688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57760" y="376884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9200" y="3768840"/>
              <a:ext cx="195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 ms CPU each 100 m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77200" y="37688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8120" y="403380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 Mbytes 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400" y="375912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68760" y="3759120"/>
              <a:ext cx="205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560" y="430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0080" y="43005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8640" y="4521240"/>
              <a:ext cx="89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9280" y="4300560"/>
              <a:ext cx="5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/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76600" y="4300560"/>
              <a:ext cx="203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PEG-1 stream, appro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73720" y="4521240"/>
              <a:ext cx="76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.5 M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8720" y="430056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57760" y="43005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7400" y="4300560"/>
              <a:ext cx="155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.5 Mbps, low-l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7760" y="4521240"/>
              <a:ext cx="126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400" y="4290840"/>
              <a:ext cx="2052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68760" y="4290840"/>
              <a:ext cx="2052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560" y="4786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00080" y="478620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8640" y="5008680"/>
              <a:ext cx="89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9280" y="4786200"/>
              <a:ext cx="58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/Ou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2640" y="478620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udio 44 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98720" y="478620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58480" y="4786200"/>
              <a:ext cx="76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ery 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6320" y="478620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44 kbps, very low-l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7760" y="5008680"/>
              <a:ext cx="126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00" y="477684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68760" y="4776840"/>
              <a:ext cx="20520" cy="48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3920" y="1898640"/>
              <a:ext cx="789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7240" y="2189160"/>
              <a:ext cx="789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2320" y="5268960"/>
              <a:ext cx="789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7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QoS manager’s tas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73080" y="1506600"/>
            <a:ext cx="7209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ffic shaping algorith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76440" y="1719360"/>
            <a:ext cx="7830000" cy="3889440"/>
            <a:chOff x="676440" y="1719360"/>
            <a:chExt cx="7830000" cy="3889440"/>
          </a:xfrm>
        </p:grpSpPr>
        <p:sp>
          <p:nvSpPr>
            <p:cNvPr id="240" name=""/>
            <p:cNvSpPr/>
            <p:nvPr/>
          </p:nvSpPr>
          <p:spPr>
            <a:xfrm>
              <a:off x="4183200" y="5029200"/>
              <a:ext cx="8100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34" y="0"/>
                  </a:moveTo>
                  <a:lnTo>
                    <a:pt x="0" y="19"/>
                  </a:lnTo>
                  <a:lnTo>
                    <a:pt x="34" y="55"/>
                  </a:lnTo>
                  <a:lnTo>
                    <a:pt x="51" y="5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7200" y="4925880"/>
              <a:ext cx="160200" cy="173160"/>
            </a:xfrm>
            <a:custGeom>
              <a:avLst/>
              <a:gdLst/>
              <a:ahLst/>
              <a:rect l="l" t="t" r="r" b="b"/>
              <a:pathLst>
                <a:path w="101" h="109">
                  <a:moveTo>
                    <a:pt x="0" y="54"/>
                  </a:moveTo>
                  <a:lnTo>
                    <a:pt x="17" y="109"/>
                  </a:lnTo>
                  <a:lnTo>
                    <a:pt x="84" y="73"/>
                  </a:lnTo>
                  <a:lnTo>
                    <a:pt x="101" y="36"/>
                  </a:lnTo>
                  <a:lnTo>
                    <a:pt x="84" y="0"/>
                  </a:lnTo>
                  <a:lnTo>
                    <a:pt x="67" y="1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43400" y="5059440"/>
              <a:ext cx="81000" cy="572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0"/>
                  </a:moveTo>
                  <a:lnTo>
                    <a:pt x="51" y="18"/>
                  </a:lnTo>
                  <a:lnTo>
                    <a:pt x="17" y="36"/>
                  </a:lnTo>
                  <a:lnTo>
                    <a:pt x="0" y="1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6400" y="5000760"/>
              <a:ext cx="108000" cy="8712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51" y="0"/>
                  </a:moveTo>
                  <a:lnTo>
                    <a:pt x="0" y="18"/>
                  </a:lnTo>
                  <a:lnTo>
                    <a:pt x="17" y="55"/>
                  </a:lnTo>
                  <a:lnTo>
                    <a:pt x="68" y="3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5433840"/>
              <a:ext cx="54000" cy="87480"/>
            </a:xfrm>
            <a:custGeom>
              <a:avLst/>
              <a:gdLst/>
              <a:ahLst/>
              <a:rect l="l" t="t" r="r" b="b"/>
              <a:pathLst>
                <a:path w="34" h="55">
                  <a:moveTo>
                    <a:pt x="0" y="55"/>
                  </a:moveTo>
                  <a:lnTo>
                    <a:pt x="17" y="55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6200" y="5313240"/>
              <a:ext cx="453960" cy="173160"/>
            </a:xfrm>
            <a:custGeom>
              <a:avLst/>
              <a:gdLst/>
              <a:ahLst/>
              <a:rect l="l" t="t" r="r" b="b"/>
              <a:pathLst>
                <a:path w="286" h="109">
                  <a:moveTo>
                    <a:pt x="269" y="109"/>
                  </a:moveTo>
                  <a:lnTo>
                    <a:pt x="286" y="5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69" y="109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43440" y="543384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50" y="55"/>
                  </a:moveTo>
                  <a:lnTo>
                    <a:pt x="34" y="55"/>
                  </a:lnTo>
                  <a:lnTo>
                    <a:pt x="0" y="19"/>
                  </a:lnTo>
                  <a:lnTo>
                    <a:pt x="34" y="0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7440" y="534816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117" y="54"/>
                  </a:moveTo>
                  <a:lnTo>
                    <a:pt x="100" y="0"/>
                  </a:lnTo>
                  <a:lnTo>
                    <a:pt x="0" y="54"/>
                  </a:lnTo>
                  <a:lnTo>
                    <a:pt x="16" y="109"/>
                  </a:lnTo>
                  <a:lnTo>
                    <a:pt x="117" y="54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0440" y="4654440"/>
              <a:ext cx="27000" cy="85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7440" y="4591080"/>
              <a:ext cx="452160" cy="114120"/>
            </a:xfrm>
            <a:custGeom>
              <a:avLst/>
              <a:gdLst/>
              <a:ahLst/>
              <a:rect l="l" t="t" r="r" b="b"/>
              <a:pathLst>
                <a:path w="285" h="72">
                  <a:moveTo>
                    <a:pt x="0" y="18"/>
                  </a:moveTo>
                  <a:lnTo>
                    <a:pt x="0" y="72"/>
                  </a:lnTo>
                  <a:lnTo>
                    <a:pt x="269" y="54"/>
                  </a:lnTo>
                  <a:lnTo>
                    <a:pt x="285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83160" y="4654440"/>
              <a:ext cx="54000" cy="8568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17" y="0"/>
                  </a:moveTo>
                  <a:lnTo>
                    <a:pt x="34" y="0"/>
                  </a:lnTo>
                  <a:lnTo>
                    <a:pt x="34" y="54"/>
                  </a:lnTo>
                  <a:lnTo>
                    <a:pt x="0" y="5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24400" y="4626000"/>
              <a:ext cx="185760" cy="114120"/>
            </a:xfrm>
            <a:custGeom>
              <a:avLst/>
              <a:gdLst/>
              <a:ahLst/>
              <a:rect l="l" t="t" r="r" b="b"/>
              <a:pathLst>
                <a:path w="117" h="72">
                  <a:moveTo>
                    <a:pt x="16" y="0"/>
                  </a:moveTo>
                  <a:lnTo>
                    <a:pt x="0" y="54"/>
                  </a:lnTo>
                  <a:lnTo>
                    <a:pt x="100" y="72"/>
                  </a:lnTo>
                  <a:lnTo>
                    <a:pt x="117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689200"/>
              <a:ext cx="239760" cy="1589040"/>
            </a:xfrm>
            <a:custGeom>
              <a:avLst/>
              <a:gdLst/>
              <a:ahLst/>
              <a:rect l="l" t="t" r="r" b="b"/>
              <a:pathLst>
                <a:path w="151" h="1001">
                  <a:moveTo>
                    <a:pt x="118" y="1001"/>
                  </a:moveTo>
                  <a:lnTo>
                    <a:pt x="118" y="837"/>
                  </a:lnTo>
                  <a:lnTo>
                    <a:pt x="118" y="655"/>
                  </a:lnTo>
                  <a:lnTo>
                    <a:pt x="101" y="437"/>
                  </a:lnTo>
                  <a:lnTo>
                    <a:pt x="101" y="328"/>
                  </a:lnTo>
                  <a:lnTo>
                    <a:pt x="134" y="236"/>
                  </a:lnTo>
                  <a:lnTo>
                    <a:pt x="151" y="182"/>
                  </a:lnTo>
                  <a:lnTo>
                    <a:pt x="134" y="145"/>
                  </a:lnTo>
                  <a:lnTo>
                    <a:pt x="101" y="109"/>
                  </a:lnTo>
                  <a:lnTo>
                    <a:pt x="101" y="18"/>
                  </a:lnTo>
                  <a:lnTo>
                    <a:pt x="67" y="0"/>
                  </a:lnTo>
                  <a:lnTo>
                    <a:pt x="50" y="18"/>
                  </a:lnTo>
                  <a:lnTo>
                    <a:pt x="50" y="109"/>
                  </a:lnTo>
                  <a:lnTo>
                    <a:pt x="33" y="145"/>
                  </a:lnTo>
                  <a:lnTo>
                    <a:pt x="0" y="182"/>
                  </a:lnTo>
                  <a:lnTo>
                    <a:pt x="33" y="236"/>
                  </a:lnTo>
                  <a:lnTo>
                    <a:pt x="50" y="328"/>
                  </a:lnTo>
                  <a:lnTo>
                    <a:pt x="50" y="437"/>
                  </a:lnTo>
                  <a:lnTo>
                    <a:pt x="33" y="655"/>
                  </a:lnTo>
                  <a:lnTo>
                    <a:pt x="33" y="837"/>
                  </a:lnTo>
                  <a:lnTo>
                    <a:pt x="50" y="1001"/>
                  </a:lnTo>
                  <a:lnTo>
                    <a:pt x="84" y="1001"/>
                  </a:lnTo>
                  <a:lnTo>
                    <a:pt x="118" y="1001"/>
                  </a:lnTo>
                  <a:lnTo>
                    <a:pt x="118" y="1001"/>
                  </a:lnTo>
                  <a:close/>
                </a:path>
              </a:pathLst>
            </a:custGeom>
            <a:solidFill>
              <a:srgbClr val="0066ff"/>
            </a:solidFill>
            <a:ln w="270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840" y="2457360"/>
              <a:ext cx="720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9920" y="2371680"/>
              <a:ext cx="85392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2139840"/>
              <a:ext cx="1800" cy="490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53960" y="2689200"/>
              <a:ext cx="268560" cy="1589040"/>
            </a:xfrm>
            <a:custGeom>
              <a:avLst/>
              <a:gdLst/>
              <a:ahLst/>
              <a:rect l="l" t="t" r="r" b="b"/>
              <a:pathLst>
                <a:path w="169" h="1001">
                  <a:moveTo>
                    <a:pt x="118" y="1001"/>
                  </a:moveTo>
                  <a:lnTo>
                    <a:pt x="135" y="837"/>
                  </a:lnTo>
                  <a:lnTo>
                    <a:pt x="135" y="655"/>
                  </a:lnTo>
                  <a:lnTo>
                    <a:pt x="118" y="437"/>
                  </a:lnTo>
                  <a:lnTo>
                    <a:pt x="101" y="328"/>
                  </a:lnTo>
                  <a:lnTo>
                    <a:pt x="135" y="236"/>
                  </a:lnTo>
                  <a:lnTo>
                    <a:pt x="169" y="182"/>
                  </a:lnTo>
                  <a:lnTo>
                    <a:pt x="135" y="145"/>
                  </a:lnTo>
                  <a:lnTo>
                    <a:pt x="101" y="109"/>
                  </a:lnTo>
                  <a:lnTo>
                    <a:pt x="118" y="18"/>
                  </a:lnTo>
                  <a:lnTo>
                    <a:pt x="85" y="0"/>
                  </a:lnTo>
                  <a:lnTo>
                    <a:pt x="51" y="18"/>
                  </a:lnTo>
                  <a:lnTo>
                    <a:pt x="68" y="109"/>
                  </a:lnTo>
                  <a:lnTo>
                    <a:pt x="34" y="145"/>
                  </a:lnTo>
                  <a:lnTo>
                    <a:pt x="0" y="182"/>
                  </a:lnTo>
                  <a:lnTo>
                    <a:pt x="34" y="236"/>
                  </a:lnTo>
                  <a:lnTo>
                    <a:pt x="68" y="328"/>
                  </a:lnTo>
                  <a:lnTo>
                    <a:pt x="51" y="437"/>
                  </a:lnTo>
                  <a:lnTo>
                    <a:pt x="34" y="655"/>
                  </a:lnTo>
                  <a:lnTo>
                    <a:pt x="51" y="837"/>
                  </a:lnTo>
                  <a:lnTo>
                    <a:pt x="51" y="1001"/>
                  </a:lnTo>
                  <a:lnTo>
                    <a:pt x="101" y="1001"/>
                  </a:lnTo>
                  <a:lnTo>
                    <a:pt x="118" y="1001"/>
                  </a:lnTo>
                  <a:lnTo>
                    <a:pt x="118" y="1001"/>
                  </a:lnTo>
                  <a:close/>
                </a:path>
              </a:pathLst>
            </a:custGeom>
            <a:solidFill>
              <a:srgbClr val="0066ff"/>
            </a:solidFill>
            <a:ln w="270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03920" y="4538520"/>
              <a:ext cx="1041120" cy="954360"/>
            </a:xfrm>
            <a:custGeom>
              <a:avLst/>
              <a:gdLst/>
              <a:ahLst/>
              <a:rect l="l" t="t" r="r" b="b"/>
              <a:pathLst>
                <a:path w="656" h="601">
                  <a:moveTo>
                    <a:pt x="656" y="0"/>
                  </a:moveTo>
                  <a:lnTo>
                    <a:pt x="504" y="601"/>
                  </a:lnTo>
                  <a:lnTo>
                    <a:pt x="151" y="601"/>
                  </a:lnTo>
                  <a:lnTo>
                    <a:pt x="0" y="0"/>
                  </a:lnTo>
                  <a:lnTo>
                    <a:pt x="656" y="0"/>
                  </a:lnTo>
                  <a:close/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1600" y="2457360"/>
              <a:ext cx="720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7960" y="2371680"/>
              <a:ext cx="85320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7560" y="2139840"/>
              <a:ext cx="1440" cy="490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34960" y="4799160"/>
              <a:ext cx="106560" cy="722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34960" y="4799160"/>
              <a:ext cx="133560" cy="750600"/>
            </a:xfrm>
            <a:prstGeom prst="rect">
              <a:avLst/>
            </a:prstGeom>
            <a:solidFill>
              <a:srgbClr val="0066ff"/>
            </a:solidFill>
            <a:ln w="270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7560" y="4278240"/>
              <a:ext cx="801720" cy="520920"/>
            </a:xfrm>
            <a:custGeom>
              <a:avLst/>
              <a:gdLst/>
              <a:ahLst/>
              <a:rect l="l" t="t" r="r" b="b"/>
              <a:pathLst>
                <a:path w="505" h="328">
                  <a:moveTo>
                    <a:pt x="0" y="0"/>
                  </a:moveTo>
                  <a:lnTo>
                    <a:pt x="68" y="328"/>
                  </a:lnTo>
                  <a:lnTo>
                    <a:pt x="421" y="328"/>
                  </a:lnTo>
                  <a:lnTo>
                    <a:pt x="5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ff"/>
            </a:solidFill>
            <a:ln w="270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54000" y="3816360"/>
              <a:ext cx="1068480" cy="982800"/>
            </a:xfrm>
            <a:custGeom>
              <a:avLst/>
              <a:gdLst/>
              <a:ahLst/>
              <a:rect l="l" t="t" r="r" b="b"/>
              <a:pathLst>
                <a:path w="673" h="619">
                  <a:moveTo>
                    <a:pt x="0" y="0"/>
                  </a:moveTo>
                  <a:lnTo>
                    <a:pt x="152" y="619"/>
                  </a:lnTo>
                  <a:lnTo>
                    <a:pt x="505" y="619"/>
                  </a:lnTo>
                  <a:lnTo>
                    <a:pt x="67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1184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37080" y="5272200"/>
              <a:ext cx="266760" cy="2030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70320" y="5272200"/>
              <a:ext cx="266760" cy="2030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37080" y="5059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70320" y="5059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7080" y="48560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70320" y="48560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05600" y="4221000"/>
              <a:ext cx="612720" cy="28908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85120" y="4017960"/>
              <a:ext cx="880920" cy="665280"/>
            </a:xfrm>
            <a:prstGeom prst="roundRect">
              <a:avLst>
                <a:gd name="adj" fmla="val 441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85120" y="4017960"/>
              <a:ext cx="907920" cy="693720"/>
            </a:xfrm>
            <a:prstGeom prst="roundRect">
              <a:avLst>
                <a:gd name="adj" fmla="val 42333"/>
              </a:avLst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5760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640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3688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76640" y="427824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24400" y="465444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4400" y="4654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3440" y="465444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4654440"/>
              <a:ext cx="26676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83200" y="4654440"/>
              <a:ext cx="24120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83200" y="4654440"/>
              <a:ext cx="266400" cy="2016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83200" y="5029200"/>
              <a:ext cx="2412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83200" y="5029200"/>
              <a:ext cx="266400" cy="20304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24400" y="540540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24400" y="540540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43440" y="5405400"/>
              <a:ext cx="239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43440" y="5405400"/>
              <a:ext cx="26676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83200" y="5405400"/>
              <a:ext cx="24120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83200" y="5405400"/>
              <a:ext cx="266400" cy="20340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49920" y="4307040"/>
              <a:ext cx="108000" cy="11556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51" y="37"/>
                  </a:moveTo>
                  <a:lnTo>
                    <a:pt x="51" y="73"/>
                  </a:lnTo>
                  <a:lnTo>
                    <a:pt x="0" y="37"/>
                  </a:lnTo>
                  <a:lnTo>
                    <a:pt x="68" y="0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7920" y="4394160"/>
              <a:ext cx="318960" cy="433440"/>
            </a:xfrm>
            <a:custGeom>
              <a:avLst/>
              <a:gdLst/>
              <a:ahLst/>
              <a:rect l="l" t="t" r="r" b="b"/>
              <a:pathLst>
                <a:path w="201" h="273">
                  <a:moveTo>
                    <a:pt x="0" y="0"/>
                  </a:moveTo>
                  <a:lnTo>
                    <a:pt x="84" y="18"/>
                  </a:lnTo>
                  <a:lnTo>
                    <a:pt x="134" y="91"/>
                  </a:lnTo>
                  <a:lnTo>
                    <a:pt x="201" y="273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18080" y="471168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33" y="18"/>
                  </a:moveTo>
                  <a:lnTo>
                    <a:pt x="67" y="18"/>
                  </a:lnTo>
                  <a:lnTo>
                    <a:pt x="33" y="73"/>
                  </a:lnTo>
                  <a:lnTo>
                    <a:pt x="0" y="0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70640" y="4365720"/>
              <a:ext cx="241200" cy="345960"/>
            </a:xfrm>
            <a:custGeom>
              <a:avLst/>
              <a:gdLst/>
              <a:ahLst/>
              <a:rect l="l" t="t" r="r" b="b"/>
              <a:pathLst>
                <a:path w="152" h="218">
                  <a:moveTo>
                    <a:pt x="0" y="218"/>
                  </a:moveTo>
                  <a:lnTo>
                    <a:pt x="51" y="73"/>
                  </a:lnTo>
                  <a:lnTo>
                    <a:pt x="152" y="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4880" y="371304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ken generat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22520" y="543384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33" y="0"/>
                  </a:moveTo>
                  <a:lnTo>
                    <a:pt x="67" y="0"/>
                  </a:lnTo>
                  <a:lnTo>
                    <a:pt x="33" y="5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74720" y="5000760"/>
              <a:ext cx="1800" cy="404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3360" y="543384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34" y="0"/>
                  </a:moveTo>
                  <a:lnTo>
                    <a:pt x="67" y="0"/>
                  </a:lnTo>
                  <a:lnTo>
                    <a:pt x="34" y="73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97360" y="5029200"/>
              <a:ext cx="1800" cy="404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6440" y="1719360"/>
              <a:ext cx="1783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a) Leaky buck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65560" y="1719360"/>
              <a:ext cx="1811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(b) Token buck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7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RFC 1363 Flow Spec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78040" y="3395520"/>
            <a:ext cx="997200" cy="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171880" y="1695600"/>
            <a:ext cx="4995360" cy="4114440"/>
            <a:chOff x="2171880" y="1695600"/>
            <a:chExt cx="4995360" cy="4114440"/>
          </a:xfrm>
        </p:grpSpPr>
        <p:sp>
          <p:nvSpPr>
            <p:cNvPr id="307" name=""/>
            <p:cNvSpPr/>
            <p:nvPr/>
          </p:nvSpPr>
          <p:spPr>
            <a:xfrm>
              <a:off x="2171880" y="2071080"/>
              <a:ext cx="1541880" cy="332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28880" y="1703160"/>
              <a:ext cx="3438360" cy="410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961440" y="1695600"/>
              <a:ext cx="2664720" cy="4044600"/>
              <a:chOff x="3961440" y="1695600"/>
              <a:chExt cx="2664720" cy="4044600"/>
            </a:xfrm>
          </p:grpSpPr>
          <p:sp>
            <p:nvSpPr>
              <p:cNvPr id="310" name=""/>
              <p:cNvSpPr/>
              <p:nvPr/>
            </p:nvSpPr>
            <p:spPr>
              <a:xfrm>
                <a:off x="4528440" y="1695600"/>
                <a:ext cx="163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tocol ver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74400" y="2064960"/>
                <a:ext cx="264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ximum transmission uni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36640" y="2436480"/>
                <a:ext cx="1805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ken bucket 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9080" y="2807280"/>
                <a:ext cx="1819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ken bucket siz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1440" y="3176280"/>
                <a:ext cx="26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ximum transmission 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85000" y="3548160"/>
                <a:ext cx="225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inimum delay notic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91760" y="3921840"/>
                <a:ext cx="242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ximum delay var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73800" y="4291200"/>
                <a:ext cx="155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oss sensitiv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21800" y="4662000"/>
                <a:ext cx="201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urst loss sensitiv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05560" y="5031360"/>
                <a:ext cx="132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oss interv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23960" y="5402880"/>
                <a:ext cx="200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uality of guarante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713760" y="244260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13760" y="281592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13760" y="318960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13760" y="393516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13760" y="468036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13760" y="5053680"/>
              <a:ext cx="345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198520" y="2071080"/>
              <a:ext cx="4968360" cy="3355920"/>
              <a:chOff x="2198520" y="2071080"/>
              <a:chExt cx="4968360" cy="3355920"/>
            </a:xfrm>
          </p:grpSpPr>
          <p:sp>
            <p:nvSpPr>
              <p:cNvPr id="328" name=""/>
              <p:cNvSpPr/>
              <p:nvPr/>
            </p:nvSpPr>
            <p:spPr>
              <a:xfrm>
                <a:off x="2198520" y="207108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198520" y="356148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98520" y="430812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198520" y="5427000"/>
                <a:ext cx="49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313000" y="25930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width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85680" y="36838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a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85040" y="465624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s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11400" y="11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1T10:25:40Z</dcterms:modified>
  <cp:revision>30</cp:revision>
  <dc:subject/>
  <dc:title>Figure 15.1 A distributed multimedia system</dc:title>
</cp:coreProperties>
</file>