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20.png" ContentType="image/png"/>
  <Override PartName="/ppt/media/image19.png" ContentType="image/png"/>
  <Override PartName="/ppt/media/image16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141-8175-488A-B19A-C6408C98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58A-B7AC-4F4C-94B1-B867729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5C-C4F7-4E2F-942F-C86CCA7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E21-D238-4839-A4C5-EC13A299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333-061B-4005-B150-ACE62A5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BB69-E768-4F16-BE29-9CCAE53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4F14-7560-4BBB-8768-7FB6C2A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D87-8A4C-4B3C-BCF5-BFCE3C2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13D-016C-4843-968A-1BAECC6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0E5-611D-4481-8E18-E77B1FD3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8197-4AF5-410D-93CB-4700CBF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589-DC9B-40FB-8922-3E90B301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F9F4-1A25-449A-83F6-7A0FAED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C4B6-B98C-48E2-94EB-6B0C52B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7B17-729F-4142-90F0-5AD2E481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32C8-4F4F-431F-A79E-6C92325F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662-7A94-414F-A851-4B640A1C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20C-BC30-48D6-BF62-D02A889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E7C-9288-40E4-B344-E3A1C2C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45C-F0C5-43B7-9B39-B416903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7D3-4DF7-44C5-844D-FBE7ECD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E60-8015-441D-89BA-C1918C0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C21-8499-41E7-BB8D-694F421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DD7-4A17-40C3-868D-C6A910C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799F-78B0-44D3-98E2-F6FF98E8DF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64B-0332-4B38-B944-F5B89508F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7.pct"/><Relationship Id="rId12" Type="http://schemas.openxmlformats.org/officeDocument/2006/relationships/image" Target="../media/image8.pct"/><Relationship Id="rId13" Type="http://schemas.openxmlformats.org/officeDocument/2006/relationships/image" Target="../media/image9.pct"/><Relationship Id="rId14" Type="http://schemas.openxmlformats.org/officeDocument/2006/relationships/image" Target="../media/image10.pct"/><Relationship Id="rId15" Type="http://schemas.openxmlformats.org/officeDocument/2006/relationships/image" Target="../media/image10.pct"/><Relationship Id="rId16" Type="http://schemas.openxmlformats.org/officeDocument/2006/relationships/image" Target="../media/image11.pct"/><Relationship Id="rId17" Type="http://schemas.openxmlformats.org/officeDocument/2006/relationships/image" Target="../media/image12.pct"/><Relationship Id="rId18" Type="http://schemas.openxmlformats.org/officeDocument/2006/relationships/image" Target="../media/image13.pct"/><Relationship Id="rId19" Type="http://schemas.openxmlformats.org/officeDocument/2006/relationships/image" Target="../media/image5.pct"/><Relationship Id="rId2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3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etworking and Internetwork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seudo-code for RIP routing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71600"/>
            <a:ext cx="8153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nd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ac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econds or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s, se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each non-faulty outgoing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ceiv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never a routing tab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received on lin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ad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add new destination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destin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Rr.cos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r.cost &lt; Rl.cost : remote node has better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 = 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remote node is more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implified view of the QMW Computer Science network (in mid-2000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523880" y="1371600"/>
            <a:ext cx="6135840" cy="4959360"/>
            <a:chOff x="1523880" y="1371600"/>
            <a:chExt cx="6135840" cy="4959360"/>
          </a:xfrm>
        </p:grpSpPr>
        <p:sp>
          <p:nvSpPr>
            <p:cNvPr id="454" name=""/>
            <p:cNvSpPr/>
            <p:nvPr/>
          </p:nvSpPr>
          <p:spPr>
            <a:xfrm>
              <a:off x="2114640" y="5703840"/>
              <a:ext cx="2523960" cy="142920"/>
            </a:xfrm>
            <a:custGeom>
              <a:avLst/>
              <a:gdLst/>
              <a:ahLst/>
              <a:rect l="l" t="t" r="r" b="b"/>
              <a:pathLst>
                <a:path w="1590" h="90">
                  <a:moveTo>
                    <a:pt x="0" y="90"/>
                  </a:moveTo>
                  <a:lnTo>
                    <a:pt x="1590" y="90"/>
                  </a:lnTo>
                  <a:lnTo>
                    <a:pt x="159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31920" y="1639800"/>
              <a:ext cx="2506680" cy="142920"/>
            </a:xfrm>
            <a:custGeom>
              <a:avLst/>
              <a:gdLst/>
              <a:ahLst/>
              <a:rect l="l" t="t" r="r" b="b"/>
              <a:pathLst>
                <a:path w="1579" h="90">
                  <a:moveTo>
                    <a:pt x="0" y="0"/>
                  </a:moveTo>
                  <a:lnTo>
                    <a:pt x="1579" y="0"/>
                  </a:lnTo>
                  <a:lnTo>
                    <a:pt x="1579" y="9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6640" y="5686560"/>
              <a:ext cx="2143080" cy="64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8240" y="2427120"/>
              <a:ext cx="501480" cy="3079800"/>
            </a:xfrm>
            <a:custGeom>
              <a:avLst/>
              <a:gdLst/>
              <a:ahLst/>
              <a:rect l="l" t="t" r="r" b="b"/>
              <a:pathLst>
                <a:path w="316" h="1940">
                  <a:moveTo>
                    <a:pt x="316" y="0"/>
                  </a:moveTo>
                  <a:lnTo>
                    <a:pt x="0" y="0"/>
                  </a:lnTo>
                  <a:lnTo>
                    <a:pt x="0" y="194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3280" y="2427120"/>
              <a:ext cx="608040" cy="3062520"/>
            </a:xfrm>
            <a:custGeom>
              <a:avLst/>
              <a:gdLst/>
              <a:ahLst/>
              <a:rect l="l" t="t" r="r" b="b"/>
              <a:pathLst>
                <a:path w="383" h="1929">
                  <a:moveTo>
                    <a:pt x="0" y="0"/>
                  </a:moveTo>
                  <a:lnTo>
                    <a:pt x="383" y="0"/>
                  </a:lnTo>
                  <a:lnTo>
                    <a:pt x="383" y="192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81520" y="1855800"/>
              <a:ext cx="789120" cy="482760"/>
            </a:xfrm>
            <a:custGeom>
              <a:avLst/>
              <a:gdLst/>
              <a:ahLst/>
              <a:rect l="l" t="t" r="r" b="b"/>
              <a:pathLst>
                <a:path w="497" h="304">
                  <a:moveTo>
                    <a:pt x="0" y="0"/>
                  </a:moveTo>
                  <a:lnTo>
                    <a:pt x="0" y="191"/>
                  </a:lnTo>
                  <a:lnTo>
                    <a:pt x="497" y="191"/>
                  </a:lnTo>
                  <a:lnTo>
                    <a:pt x="497" y="30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80000" y="1836720"/>
              <a:ext cx="876240" cy="501840"/>
            </a:xfrm>
            <a:custGeom>
              <a:avLst/>
              <a:gdLst/>
              <a:ahLst/>
              <a:rect l="l" t="t" r="r" b="b"/>
              <a:pathLst>
                <a:path w="552" h="316">
                  <a:moveTo>
                    <a:pt x="552" y="0"/>
                  </a:moveTo>
                  <a:lnTo>
                    <a:pt x="552" y="203"/>
                  </a:lnTo>
                  <a:lnTo>
                    <a:pt x="0" y="203"/>
                  </a:lnTo>
                  <a:lnTo>
                    <a:pt x="0" y="3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930720" y="305424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56360" y="2946240"/>
              <a:ext cx="106560" cy="12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23080" y="2749680"/>
              <a:ext cx="108000" cy="1217520"/>
            </a:xfrm>
            <a:custGeom>
              <a:avLst/>
              <a:gdLst/>
              <a:ahLst/>
              <a:rect l="l" t="t" r="r" b="b"/>
              <a:pathLst>
                <a:path w="68" h="767">
                  <a:moveTo>
                    <a:pt x="0" y="0"/>
                  </a:moveTo>
                  <a:lnTo>
                    <a:pt x="68" y="0"/>
                  </a:lnTo>
                  <a:lnTo>
                    <a:pt x="68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05280" y="2535120"/>
              <a:ext cx="142920" cy="2238480"/>
            </a:xfrm>
            <a:custGeom>
              <a:avLst/>
              <a:gdLst/>
              <a:ahLst/>
              <a:rect l="l" t="t" r="r" b="b"/>
              <a:pathLst>
                <a:path w="90" h="1410">
                  <a:moveTo>
                    <a:pt x="90" y="0"/>
                  </a:moveTo>
                  <a:lnTo>
                    <a:pt x="90" y="1353"/>
                  </a:lnTo>
                  <a:lnTo>
                    <a:pt x="0" y="1353"/>
                  </a:lnTo>
                  <a:lnTo>
                    <a:pt x="0" y="14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5960" y="2535120"/>
              <a:ext cx="1003320" cy="2184480"/>
            </a:xfrm>
            <a:custGeom>
              <a:avLst/>
              <a:gdLst/>
              <a:ahLst/>
              <a:rect l="l" t="t" r="r" b="b"/>
              <a:pathLst>
                <a:path w="632" h="1376">
                  <a:moveTo>
                    <a:pt x="632" y="0"/>
                  </a:moveTo>
                  <a:lnTo>
                    <a:pt x="632" y="1263"/>
                  </a:lnTo>
                  <a:lnTo>
                    <a:pt x="0" y="1263"/>
                  </a:lnTo>
                  <a:lnTo>
                    <a:pt x="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70120" y="2535120"/>
              <a:ext cx="1181160" cy="1808280"/>
            </a:xfrm>
            <a:custGeom>
              <a:avLst/>
              <a:gdLst/>
              <a:ahLst/>
              <a:rect l="l" t="t" r="r" b="b"/>
              <a:pathLst>
                <a:path w="744" h="1139">
                  <a:moveTo>
                    <a:pt x="744" y="0"/>
                  </a:moveTo>
                  <a:lnTo>
                    <a:pt x="744" y="1139"/>
                  </a:lnTo>
                  <a:lnTo>
                    <a:pt x="0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5040" y="2535120"/>
              <a:ext cx="1057320" cy="1217880"/>
            </a:xfrm>
            <a:custGeom>
              <a:avLst/>
              <a:gdLst/>
              <a:ahLst/>
              <a:rect l="l" t="t" r="r" b="b"/>
              <a:pathLst>
                <a:path w="666" h="767">
                  <a:moveTo>
                    <a:pt x="666" y="0"/>
                  </a:moveTo>
                  <a:lnTo>
                    <a:pt x="666" y="767"/>
                  </a:lnTo>
                  <a:lnTo>
                    <a:pt x="0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87760" y="2463840"/>
              <a:ext cx="912600" cy="88920"/>
            </a:xfrm>
            <a:custGeom>
              <a:avLst/>
              <a:gdLst/>
              <a:ahLst/>
              <a:rect l="l" t="t" r="r" b="b"/>
              <a:pathLst>
                <a:path w="575" h="56">
                  <a:moveTo>
                    <a:pt x="0" y="56"/>
                  </a:moveTo>
                  <a:lnTo>
                    <a:pt x="361" y="56"/>
                  </a:lnTo>
                  <a:lnTo>
                    <a:pt x="361" y="0"/>
                  </a:lnTo>
                  <a:lnTo>
                    <a:pt x="57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87760" y="2535120"/>
              <a:ext cx="984240" cy="609840"/>
            </a:xfrm>
            <a:custGeom>
              <a:avLst/>
              <a:gdLst/>
              <a:ahLst/>
              <a:rect l="l" t="t" r="r" b="b"/>
              <a:pathLst>
                <a:path w="620" h="384">
                  <a:moveTo>
                    <a:pt x="620" y="0"/>
                  </a:moveTo>
                  <a:lnTo>
                    <a:pt x="620" y="384"/>
                  </a:lnTo>
                  <a:lnTo>
                    <a:pt x="0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988640" y="3162240"/>
              <a:ext cx="590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7160" y="35100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14360" y="225756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14720" y="290196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ial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63600" y="165888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a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84480" y="317988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en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43800" y="378936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ot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71520" y="3287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31560" y="389556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1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76920" y="2571840"/>
              <a:ext cx="34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bru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58560" y="26780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02760" y="57834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6840" y="563256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sick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47680" y="1496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44880" y="149688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0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47680" y="58658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62880" y="437976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o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9200" y="448632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80440" y="587376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84600" y="1693800"/>
              <a:ext cx="270000" cy="35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84600" y="1693800"/>
              <a:ext cx="287280" cy="376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00360" y="2338560"/>
              <a:ext cx="51912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00360" y="2338560"/>
              <a:ext cx="53676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41004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7920" y="570384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8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7160" y="42260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24120" y="384192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24120" y="382428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24120" y="380700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24120" y="378936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704680" y="382428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9760" y="364500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79760" y="364500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7204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9496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97440" y="162252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80040" y="582948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236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79760" y="3036960"/>
              <a:ext cx="12528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79760" y="303696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79760" y="2409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79760" y="2409840"/>
              <a:ext cx="144360" cy="287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484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07160" y="24004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07160" y="3027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07160" y="3635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9760" y="421812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79760" y="421812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4156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2598840" y="4773600"/>
              <a:ext cx="3031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43240" y="50594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33" y="0"/>
                  </a:lnTo>
                  <a:lnTo>
                    <a:pt x="3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5288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3524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52880" y="4987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2880" y="4987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7816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1"/>
            <a:stretch/>
          </p:blipFill>
          <p:spPr>
            <a:xfrm>
              <a:off x="3170160" y="4987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78160" y="5113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580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52880" y="5041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35240" y="505944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528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52880" y="5059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5288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89240" y="5078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3240" y="5078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06880" y="4987800"/>
              <a:ext cx="1728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06880" y="4987800"/>
              <a:ext cx="3636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9576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87760" y="5024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70120" y="5005440"/>
              <a:ext cx="1429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5040" y="5041800"/>
              <a:ext cx="907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0504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30680" y="5167440"/>
              <a:ext cx="1872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2705040" y="5041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8306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87760" y="509580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70120" y="511344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8776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05040" y="511344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87760" y="513072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2412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3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76680" y="5130720"/>
              <a:ext cx="19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4176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4176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14880" y="48448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6880" y="47563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89240" y="4737240"/>
              <a:ext cx="1605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24160" y="4773600"/>
              <a:ext cx="90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4160" y="47736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49800" y="4898880"/>
              <a:ext cx="1872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3"/>
            <a:stretch/>
          </p:blipFill>
          <p:spPr>
            <a:xfrm>
              <a:off x="32432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6852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24160" y="4827600"/>
              <a:ext cx="907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68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11" y="0"/>
                  </a:moveTo>
                  <a:lnTo>
                    <a:pt x="0" y="11"/>
                  </a:lnTo>
                  <a:lnTo>
                    <a:pt x="79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241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24160" y="486252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2416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3240" y="4862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3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1488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6088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6088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75868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5960" y="4844880"/>
              <a:ext cx="144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73240" y="4791240"/>
              <a:ext cx="16200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09960" y="4791240"/>
              <a:ext cx="2332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0196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27240" y="51847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38320" y="5095800"/>
              <a:ext cx="1080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2104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3832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38320" y="513072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3960" y="523872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4"/>
            <a:stretch/>
          </p:blipFill>
          <p:spPr>
            <a:xfrm>
              <a:off x="2955960" y="513072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06396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3832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21040" y="5202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3832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3832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3832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3240" y="520236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27240" y="520236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92320" y="511344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92320" y="511344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28720" y="4827600"/>
              <a:ext cx="32220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112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0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84560" y="502452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65480" y="5005440"/>
              <a:ext cx="1447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02200" y="5041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022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10200" y="5167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5"/>
            <a:stretch/>
          </p:blipFill>
          <p:spPr>
            <a:xfrm>
              <a:off x="4102200" y="5059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84560" y="509580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65480" y="5113440"/>
              <a:ext cx="144720" cy="3636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12" y="0"/>
                  </a:moveTo>
                  <a:lnTo>
                    <a:pt x="0" y="23"/>
                  </a:lnTo>
                  <a:lnTo>
                    <a:pt x="91" y="23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84560" y="513072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11" y="0"/>
                  </a:ln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84560" y="5130720"/>
              <a:ext cx="71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948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73480" y="5130720"/>
              <a:ext cx="17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37120" y="5041800"/>
              <a:ext cx="36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3712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6000" y="5167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3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18000" y="50785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00360" y="5059440"/>
              <a:ext cx="16200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37080" y="50958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37080" y="509580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2360" y="5221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6"/>
            <a:stretch/>
          </p:blipFill>
          <p:spPr>
            <a:xfrm>
              <a:off x="3654360" y="51134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8000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37080" y="5149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18000" y="5167440"/>
              <a:ext cx="125280" cy="34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12" y="0"/>
                  </a:moveTo>
                  <a:lnTo>
                    <a:pt x="0" y="22"/>
                  </a:lnTo>
                  <a:lnTo>
                    <a:pt x="79" y="22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3708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37080" y="5184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37080" y="5184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54360" y="5184720"/>
              <a:ext cx="88920" cy="180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4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2600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72000" y="5095800"/>
              <a:ext cx="363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2000" y="5095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4512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56200" y="4808520"/>
              <a:ext cx="106200" cy="90360"/>
            </a:xfrm>
            <a:prstGeom prst="roundRect">
              <a:avLst>
                <a:gd name="adj" fmla="val 43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37120" y="4791240"/>
              <a:ext cx="14436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73480" y="484488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3480" y="484488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8148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" descr=""/>
            <p:cNvPicPr/>
            <p:nvPr/>
          </p:nvPicPr>
          <p:blipFill>
            <a:blip r:embed="rId7"/>
            <a:stretch/>
          </p:blipFill>
          <p:spPr>
            <a:xfrm>
              <a:off x="4173480" y="4844880"/>
              <a:ext cx="71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28148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56200" y="4898880"/>
              <a:ext cx="1062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37120" y="4916520"/>
              <a:ext cx="144360" cy="172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6200" y="4916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11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5620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91120" y="4916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27480" y="4916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4512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0200" y="4827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10200" y="4827600"/>
              <a:ext cx="34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690720" y="487980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05280" y="4898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05280" y="484488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0200" y="4844880"/>
              <a:ext cx="23328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33640" y="4773600"/>
              <a:ext cx="12564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76560" y="52387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11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68560" y="516744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51280" y="514980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87640" y="5184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87640" y="518472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4200" y="52927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12" y="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8"/>
            <a:stretch/>
          </p:blipFill>
          <p:spPr>
            <a:xfrm>
              <a:off x="3887640" y="518472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68560" y="523872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51280" y="5256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68560" y="527544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87640" y="5256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68560" y="5256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05280" y="5275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59280" y="5256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59280" y="527544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22560" y="5167440"/>
              <a:ext cx="36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22560" y="5167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46360" y="493380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0"/>
                  </a:moveTo>
                  <a:lnTo>
                    <a:pt x="23" y="12"/>
                  </a:lnTo>
                  <a:lnTo>
                    <a:pt x="23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40160" y="48625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21080" y="4844880"/>
              <a:ext cx="14436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57440" y="4879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57440" y="4879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3080" y="498780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0"/>
                  </a:moveTo>
                  <a:lnTo>
                    <a:pt x="0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9"/>
            <a:stretch/>
          </p:blipFill>
          <p:spPr>
            <a:xfrm>
              <a:off x="3457440" y="4879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3583080" y="5005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40160" y="4933800"/>
              <a:ext cx="1062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21080" y="4952880"/>
              <a:ext cx="144360" cy="1764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4016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57440" y="4952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40160" y="4952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75080" y="4970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29080" y="495288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2908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2360" y="486252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92360" y="486252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54640" y="2535120"/>
              <a:ext cx="162000" cy="2184480"/>
            </a:xfrm>
            <a:custGeom>
              <a:avLst/>
              <a:gdLst/>
              <a:ahLst/>
              <a:rect l="l" t="t" r="r" b="b"/>
              <a:pathLst>
                <a:path w="102" h="1376">
                  <a:moveTo>
                    <a:pt x="0" y="0"/>
                  </a:moveTo>
                  <a:lnTo>
                    <a:pt x="0" y="1320"/>
                  </a:lnTo>
                  <a:lnTo>
                    <a:pt x="102" y="1320"/>
                  </a:lnTo>
                  <a:lnTo>
                    <a:pt x="102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62640" y="2535120"/>
              <a:ext cx="984240" cy="2184480"/>
            </a:xfrm>
            <a:custGeom>
              <a:avLst/>
              <a:gdLst/>
              <a:ahLst/>
              <a:rect l="l" t="t" r="r" b="b"/>
              <a:pathLst>
                <a:path w="620" h="1376">
                  <a:moveTo>
                    <a:pt x="0" y="0"/>
                  </a:moveTo>
                  <a:lnTo>
                    <a:pt x="0" y="1263"/>
                  </a:lnTo>
                  <a:lnTo>
                    <a:pt x="620" y="1263"/>
                  </a:lnTo>
                  <a:lnTo>
                    <a:pt x="62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67560" y="250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67560" y="251784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2" y="0"/>
                  </a:moveTo>
                  <a:lnTo>
                    <a:pt x="0" y="11"/>
                  </a:lnTo>
                  <a:lnTo>
                    <a:pt x="45" y="113"/>
                  </a:lnTo>
                  <a:lnTo>
                    <a:pt x="56" y="113"/>
                  </a:lnTo>
                  <a:lnTo>
                    <a:pt x="56" y="113"/>
                  </a:lnTo>
                  <a:lnTo>
                    <a:pt x="67" y="10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697800" y="2660760"/>
              <a:ext cx="172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6120" y="2660760"/>
              <a:ext cx="8416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24680" y="5059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4196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2468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61040" y="4987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61040" y="498780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0704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10"/>
            <a:stretch/>
          </p:blipFill>
          <p:spPr>
            <a:xfrm>
              <a:off x="6161040" y="4987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612468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07040" y="51134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1040" y="5041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41960" y="5059440"/>
              <a:ext cx="125640" cy="1908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68" y="0"/>
                  </a:moveTo>
                  <a:lnTo>
                    <a:pt x="79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2326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160680" y="505944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195960" y="5078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41960" y="507852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1416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8680" y="4987800"/>
              <a:ext cx="3636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8680" y="4987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5488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89800" y="5024520"/>
              <a:ext cx="903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72160" y="5005440"/>
              <a:ext cx="12564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800" y="5041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898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3724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8" name="" descr=""/>
            <p:cNvPicPr/>
            <p:nvPr/>
          </p:nvPicPr>
          <p:blipFill>
            <a:blip r:embed="rId11"/>
            <a:stretch/>
          </p:blipFill>
          <p:spPr>
            <a:xfrm>
              <a:off x="6589800" y="5041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65548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89800" y="5095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72160" y="5113440"/>
              <a:ext cx="125640" cy="1728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68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66288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589440" y="5113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62616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16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0888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0888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53040" y="484488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89760" y="47563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70680" y="4737240"/>
              <a:ext cx="1443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07040" y="477360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07040" y="477360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35760" y="4898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2"/>
            <a:stretch/>
          </p:blipFill>
          <p:spPr>
            <a:xfrm>
              <a:off x="61070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9760" y="4827600"/>
              <a:ext cx="889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706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160680" y="4862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08940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12468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89760" y="486252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08976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704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0704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131520" y="269712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ust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95640" y="28224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00640" y="2338560"/>
              <a:ext cx="52056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00640" y="2338560"/>
              <a:ext cx="53820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54880" y="2786040"/>
              <a:ext cx="125280" cy="1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54880" y="2749680"/>
              <a:ext cx="125280" cy="5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4880" y="2749680"/>
              <a:ext cx="12528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54880" y="2732040"/>
              <a:ext cx="125280" cy="3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80160" y="27687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15080" y="2571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15080" y="2571840"/>
              <a:ext cx="14436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8324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29240" y="4844880"/>
              <a:ext cx="180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267240" y="4791240"/>
              <a:ext cx="14436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160680" y="4791240"/>
              <a:ext cx="21420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7524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21600" y="518472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57960" y="5095800"/>
              <a:ext cx="1062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34032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5796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357960" y="513072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03960" y="5238720"/>
              <a:ext cx="3636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3"/>
            <a:stretch/>
          </p:blipFill>
          <p:spPr>
            <a:xfrm>
              <a:off x="6375240" y="5130720"/>
              <a:ext cx="5400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796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40320" y="5202360"/>
              <a:ext cx="123840" cy="19080"/>
            </a:xfrm>
            <a:custGeom>
              <a:avLst/>
              <a:gdLst/>
              <a:ahLst/>
              <a:rect l="l" t="t" r="r" b="b"/>
              <a:pathLst>
                <a:path w="78" h="12">
                  <a:moveTo>
                    <a:pt x="67" y="0"/>
                  </a:moveTo>
                  <a:lnTo>
                    <a:pt x="78" y="12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67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42888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35760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392880" y="520236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57960" y="520236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357960" y="5202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75240" y="511344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75240" y="5113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88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7408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032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70640" y="4791240"/>
              <a:ext cx="32220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94440" y="5059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2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29360" y="4970520"/>
              <a:ext cx="107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11720" y="4952880"/>
              <a:ext cx="142920" cy="12564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48440" y="5005440"/>
              <a:ext cx="71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48440" y="5005440"/>
              <a:ext cx="88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76800" y="5113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14"/>
            <a:stretch/>
          </p:blipFill>
          <p:spPr>
            <a:xfrm>
              <a:off x="5248440" y="5005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29360" y="5041800"/>
              <a:ext cx="10764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11720" y="5078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248440" y="5078520"/>
              <a:ext cx="8856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526572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248080" y="5078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229000" y="5078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2290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65720" y="4987800"/>
              <a:ext cx="1764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65720" y="49878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5956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76840" y="5024520"/>
              <a:ext cx="125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59560" y="5005440"/>
              <a:ext cx="16164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95920" y="50594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95920" y="505944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64192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15"/>
            <a:stretch/>
          </p:blipFill>
          <p:spPr>
            <a:xfrm>
              <a:off x="5695920" y="5059440"/>
              <a:ext cx="716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4192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95920" y="5095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76840" y="5130720"/>
              <a:ext cx="125640" cy="19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5767200" y="5130720"/>
              <a:ext cx="34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5695560" y="5130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573084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7684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13560" y="5041800"/>
              <a:ext cx="34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356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22800" y="4844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57720" y="477360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40440" y="4756320"/>
              <a:ext cx="142920" cy="10620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76800" y="47912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76800" y="4791240"/>
              <a:ext cx="106560" cy="5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22800" y="48988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16"/>
            <a:stretch/>
          </p:blipFill>
          <p:spPr>
            <a:xfrm>
              <a:off x="5176800" y="4791240"/>
              <a:ext cx="7164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044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76800" y="484488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40440" y="4862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248440" y="487980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17644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194440" y="4862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7720" y="4862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1573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94440" y="4773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94440" y="47736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70640" y="4827600"/>
              <a:ext cx="16020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16640" y="4844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354640" y="4808520"/>
              <a:ext cx="16200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248080" y="4791240"/>
              <a:ext cx="2314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62640" y="4737240"/>
              <a:ext cx="125280" cy="10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08640" y="518472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4" y="0"/>
                  </a:moveTo>
                  <a:lnTo>
                    <a:pt x="0" y="11"/>
                  </a:lnTo>
                  <a:lnTo>
                    <a:pt x="0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45000" y="511344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25920" y="5095800"/>
              <a:ext cx="1447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62640" y="5130720"/>
              <a:ext cx="712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62640" y="513072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91000" y="52387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3" name="" descr=""/>
            <p:cNvPicPr/>
            <p:nvPr/>
          </p:nvPicPr>
          <p:blipFill>
            <a:blip r:embed="rId17"/>
            <a:stretch/>
          </p:blipFill>
          <p:spPr>
            <a:xfrm>
              <a:off x="5462640" y="5130720"/>
              <a:ext cx="712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408640" y="525636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45000" y="518472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25920" y="5202360"/>
              <a:ext cx="14472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79" y="0"/>
                  </a:moveTo>
                  <a:lnTo>
                    <a:pt x="91" y="12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53356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5462640" y="520236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7956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62640" y="5221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5444640" y="52023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4464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79920" y="511344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79920" y="5113440"/>
              <a:ext cx="367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3884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7376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5612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92840" y="4827600"/>
              <a:ext cx="71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92840" y="4827600"/>
              <a:ext cx="88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21200" y="4952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" descr=""/>
            <p:cNvPicPr/>
            <p:nvPr/>
          </p:nvPicPr>
          <p:blipFill>
            <a:blip r:embed="rId18"/>
            <a:stretch/>
          </p:blipFill>
          <p:spPr>
            <a:xfrm>
              <a:off x="5892840" y="4827600"/>
              <a:ext cx="7128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838840" y="495288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73760" y="4879800"/>
              <a:ext cx="1080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5612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963760" y="4916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892840" y="4898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909760" y="491652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892480" y="4916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873400" y="4916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87340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10120" y="4827600"/>
              <a:ext cx="1764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1012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86320" y="4645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09960" y="4594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83960" y="187632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udent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25640" y="187632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aff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20000" y="3036960"/>
              <a:ext cx="179280" cy="34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20000" y="3036960"/>
              <a:ext cx="196920" cy="54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7976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9084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7320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90840" y="48276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90840" y="4827600"/>
              <a:ext cx="10800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1612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19"/>
            <a:stretch/>
          </p:blipFill>
          <p:spPr>
            <a:xfrm>
              <a:off x="2508120" y="4827600"/>
              <a:ext cx="7164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2616120" y="4952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33760" y="49528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90840" y="4879800"/>
              <a:ext cx="8892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7320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9084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90840" y="4898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9084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27200" y="4916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7976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44840" y="4827600"/>
              <a:ext cx="1728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484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930720" y="332280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56360" y="321624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20000" y="328788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020000" y="328788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930720" y="362736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56360" y="350208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020000" y="3591000"/>
              <a:ext cx="179280" cy="54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20000" y="3591000"/>
              <a:ext cx="196920" cy="73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930720" y="387828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56360" y="3770280"/>
              <a:ext cx="1065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20000" y="384192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20000" y="384192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51560" y="2552760"/>
              <a:ext cx="1003320" cy="1808280"/>
            </a:xfrm>
            <a:custGeom>
              <a:avLst/>
              <a:gdLst/>
              <a:ahLst/>
              <a:rect l="l" t="t" r="r" b="b"/>
              <a:pathLst>
                <a:path w="632" h="1139">
                  <a:moveTo>
                    <a:pt x="0" y="0"/>
                  </a:moveTo>
                  <a:lnTo>
                    <a:pt x="0" y="1139"/>
                  </a:lnTo>
                  <a:lnTo>
                    <a:pt x="632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41920" y="2535120"/>
              <a:ext cx="876240" cy="1235160"/>
            </a:xfrm>
            <a:custGeom>
              <a:avLst/>
              <a:gdLst/>
              <a:ahLst/>
              <a:rect l="l" t="t" r="r" b="b"/>
              <a:pathLst>
                <a:path w="552" h="778">
                  <a:moveTo>
                    <a:pt x="0" y="0"/>
                  </a:moveTo>
                  <a:lnTo>
                    <a:pt x="0" y="778"/>
                  </a:lnTo>
                  <a:lnTo>
                    <a:pt x="552" y="7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13560" y="2552760"/>
              <a:ext cx="823680" cy="609480"/>
            </a:xfrm>
            <a:custGeom>
              <a:avLst/>
              <a:gdLst/>
              <a:ahLst/>
              <a:rect l="l" t="t" r="r" b="b"/>
              <a:pathLst>
                <a:path w="519" h="384">
                  <a:moveTo>
                    <a:pt x="0" y="0"/>
                  </a:moveTo>
                  <a:lnTo>
                    <a:pt x="0" y="384"/>
                  </a:lnTo>
                  <a:lnTo>
                    <a:pt x="519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18160" y="3036960"/>
              <a:ext cx="10800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18160" y="3036960"/>
              <a:ext cx="12564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18160" y="4235400"/>
              <a:ext cx="10800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18160" y="4235400"/>
              <a:ext cx="125640" cy="270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18160" y="3645000"/>
              <a:ext cx="10800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18160" y="3645000"/>
              <a:ext cx="12564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41760" y="3330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48600" y="3456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06000" y="1413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3680" y="152100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3372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54720" y="3098880"/>
              <a:ext cx="16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05560" y="5829480"/>
              <a:ext cx="268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587920" y="5972040"/>
              <a:ext cx="176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73760" y="5972040"/>
              <a:ext cx="1908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05560" y="5972040"/>
              <a:ext cx="2682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158520" y="5945040"/>
              <a:ext cx="137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06280" y="6105600"/>
              <a:ext cx="169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witch:  Ethernet 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144120" y="5748480"/>
              <a:ext cx="129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84600" y="5400720"/>
              <a:ext cx="270000" cy="357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84600" y="5400720"/>
              <a:ext cx="287280" cy="37476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60640" y="1855800"/>
              <a:ext cx="2631960" cy="3741840"/>
            </a:xfrm>
            <a:custGeom>
              <a:avLst/>
              <a:gdLst>
                <a:gd name="textAreaLeft" fmla="*/ 95400 w 2631960"/>
                <a:gd name="textAreaRight" fmla="*/ 2536560 w 26319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0707">
                  <a:moveTo>
                    <a:pt x="2677" y="0"/>
                  </a:moveTo>
                  <a:arcTo wR="2677" hR="2677" stAng="16200000" swAng="-5400000"/>
                  <a:lnTo>
                    <a:pt x="0" y="28030"/>
                  </a:lnTo>
                  <a:arcTo wR="2677" hR="2677" stAng="10800000" swAng="-5400000"/>
                  <a:lnTo>
                    <a:pt x="18923" y="30707"/>
                  </a:lnTo>
                  <a:arcTo wR="2677" hR="2677" stAng="5400000" swAng="-5400000"/>
                  <a:lnTo>
                    <a:pt x="21600" y="2677"/>
                  </a:lnTo>
                  <a:arcTo wR="2677" hR="2677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29320" y="1855800"/>
              <a:ext cx="2039760" cy="3741840"/>
            </a:xfrm>
            <a:custGeom>
              <a:avLst/>
              <a:gdLst>
                <a:gd name="textAreaLeft" fmla="*/ 95400 w 2039760"/>
                <a:gd name="textAreaRight" fmla="*/ 1944360 w 20397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9621">
                  <a:moveTo>
                    <a:pt x="3454" y="0"/>
                  </a:moveTo>
                  <a:arcTo wR="3454" hR="3454" stAng="16200000" swAng="-5400000"/>
                  <a:lnTo>
                    <a:pt x="0" y="36167"/>
                  </a:lnTo>
                  <a:arcTo wR="3454" hR="3454" stAng="10800000" swAng="-5400000"/>
                  <a:lnTo>
                    <a:pt x="18146" y="39621"/>
                  </a:lnTo>
                  <a:arcTo wR="3454" hR="3454" stAng="5400000" swAng="-5400000"/>
                  <a:lnTo>
                    <a:pt x="21600" y="3454"/>
                  </a:lnTo>
                  <a:arcTo wR="3454" hR="3454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21360" y="2281320"/>
              <a:ext cx="70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 serv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8480" y="2406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786720" y="2571840"/>
              <a:ext cx="501480" cy="1646280"/>
            </a:xfrm>
            <a:custGeom>
              <a:avLst/>
              <a:gdLst>
                <a:gd name="textAreaLeft" fmla="*/ 69120 w 501480"/>
                <a:gd name="textAreaRight" fmla="*/ 432360 w 501480"/>
                <a:gd name="textAreaTop" fmla="*/ 69120 h 1646280"/>
                <a:gd name="textAreaBottom" fmla="*/ 1577160 h 1646280"/>
              </a:gdLst>
              <a:ahLst/>
              <a:rect l="textAreaLeft" t="textAreaTop" r="textAreaRight" b="textAreaBottom"/>
              <a:pathLst>
                <a:path w="21600" h="70874">
                  <a:moveTo>
                    <a:pt x="10185" y="0"/>
                  </a:moveTo>
                  <a:arcTo wR="10185" hR="10185" stAng="16200000" swAng="-5400000"/>
                  <a:lnTo>
                    <a:pt x="0" y="60689"/>
                  </a:lnTo>
                  <a:arcTo wR="10185" hR="10185" stAng="10800000" swAng="-5400000"/>
                  <a:lnTo>
                    <a:pt x="11415" y="70874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004520" y="27766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in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2800" y="1425600"/>
              <a:ext cx="311652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41520" y="1389240"/>
              <a:ext cx="28728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23880" y="1371600"/>
              <a:ext cx="322560" cy="5191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50600" y="15048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33680" y="164772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12800" y="5632560"/>
              <a:ext cx="313380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41520" y="5597640"/>
              <a:ext cx="304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41520" y="5597640"/>
              <a:ext cx="322200" cy="500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58600" y="56768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41680" y="58197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32880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unnelling for IPv6 mig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642240" y="2212920"/>
            <a:ext cx="8014320" cy="2439360"/>
            <a:chOff x="642240" y="2212920"/>
            <a:chExt cx="8014320" cy="2439360"/>
          </a:xfrm>
        </p:grpSpPr>
        <p:sp>
          <p:nvSpPr>
            <p:cNvPr id="972" name=""/>
            <p:cNvSpPr/>
            <p:nvPr/>
          </p:nvSpPr>
          <p:spPr>
            <a:xfrm>
              <a:off x="3781440" y="2411280"/>
              <a:ext cx="2262240" cy="1762200"/>
            </a:xfrm>
            <a:custGeom>
              <a:avLst/>
              <a:gdLst/>
              <a:ahLst/>
              <a:rect l="l" t="t" r="r" b="b"/>
              <a:pathLst>
                <a:path w="1425" h="1110">
                  <a:moveTo>
                    <a:pt x="37" y="259"/>
                  </a:moveTo>
                  <a:lnTo>
                    <a:pt x="74" y="185"/>
                  </a:lnTo>
                  <a:lnTo>
                    <a:pt x="148" y="111"/>
                  </a:lnTo>
                  <a:lnTo>
                    <a:pt x="222" y="74"/>
                  </a:lnTo>
                  <a:lnTo>
                    <a:pt x="278" y="74"/>
                  </a:lnTo>
                  <a:lnTo>
                    <a:pt x="333" y="74"/>
                  </a:lnTo>
                  <a:lnTo>
                    <a:pt x="426" y="74"/>
                  </a:lnTo>
                  <a:lnTo>
                    <a:pt x="537" y="92"/>
                  </a:lnTo>
                  <a:lnTo>
                    <a:pt x="648" y="92"/>
                  </a:lnTo>
                  <a:lnTo>
                    <a:pt x="740" y="111"/>
                  </a:lnTo>
                  <a:lnTo>
                    <a:pt x="814" y="55"/>
                  </a:lnTo>
                  <a:lnTo>
                    <a:pt x="851" y="18"/>
                  </a:lnTo>
                  <a:lnTo>
                    <a:pt x="944" y="0"/>
                  </a:lnTo>
                  <a:lnTo>
                    <a:pt x="1018" y="0"/>
                  </a:lnTo>
                  <a:lnTo>
                    <a:pt x="1092" y="0"/>
                  </a:lnTo>
                  <a:lnTo>
                    <a:pt x="1147" y="37"/>
                  </a:lnTo>
                  <a:lnTo>
                    <a:pt x="1184" y="74"/>
                  </a:lnTo>
                  <a:lnTo>
                    <a:pt x="1240" y="92"/>
                  </a:lnTo>
                  <a:lnTo>
                    <a:pt x="1314" y="185"/>
                  </a:lnTo>
                  <a:lnTo>
                    <a:pt x="1406" y="351"/>
                  </a:lnTo>
                  <a:lnTo>
                    <a:pt x="1425" y="536"/>
                  </a:lnTo>
                  <a:lnTo>
                    <a:pt x="1425" y="666"/>
                  </a:lnTo>
                  <a:lnTo>
                    <a:pt x="1406" y="777"/>
                  </a:lnTo>
                  <a:lnTo>
                    <a:pt x="1369" y="962"/>
                  </a:lnTo>
                  <a:lnTo>
                    <a:pt x="1295" y="1054"/>
                  </a:lnTo>
                  <a:lnTo>
                    <a:pt x="1203" y="1110"/>
                  </a:lnTo>
                  <a:lnTo>
                    <a:pt x="1092" y="1073"/>
                  </a:lnTo>
                  <a:lnTo>
                    <a:pt x="999" y="1054"/>
                  </a:lnTo>
                  <a:lnTo>
                    <a:pt x="907" y="1036"/>
                  </a:lnTo>
                  <a:lnTo>
                    <a:pt x="814" y="1017"/>
                  </a:lnTo>
                  <a:lnTo>
                    <a:pt x="722" y="1017"/>
                  </a:lnTo>
                  <a:lnTo>
                    <a:pt x="629" y="1017"/>
                  </a:lnTo>
                  <a:lnTo>
                    <a:pt x="555" y="1036"/>
                  </a:lnTo>
                  <a:lnTo>
                    <a:pt x="481" y="1054"/>
                  </a:lnTo>
                  <a:lnTo>
                    <a:pt x="407" y="1054"/>
                  </a:lnTo>
                  <a:lnTo>
                    <a:pt x="352" y="1073"/>
                  </a:lnTo>
                  <a:lnTo>
                    <a:pt x="278" y="1073"/>
                  </a:lnTo>
                  <a:lnTo>
                    <a:pt x="222" y="1073"/>
                  </a:lnTo>
                  <a:lnTo>
                    <a:pt x="167" y="1036"/>
                  </a:lnTo>
                  <a:lnTo>
                    <a:pt x="130" y="1017"/>
                  </a:lnTo>
                  <a:lnTo>
                    <a:pt x="111" y="999"/>
                  </a:lnTo>
                  <a:lnTo>
                    <a:pt x="93" y="962"/>
                  </a:lnTo>
                  <a:lnTo>
                    <a:pt x="56" y="869"/>
                  </a:lnTo>
                  <a:lnTo>
                    <a:pt x="19" y="740"/>
                  </a:lnTo>
                  <a:lnTo>
                    <a:pt x="19" y="629"/>
                  </a:lnTo>
                  <a:lnTo>
                    <a:pt x="0" y="536"/>
                  </a:lnTo>
                  <a:lnTo>
                    <a:pt x="19" y="425"/>
                  </a:lnTo>
                  <a:lnTo>
                    <a:pt x="19" y="314"/>
                  </a:lnTo>
                  <a:lnTo>
                    <a:pt x="37" y="259"/>
                  </a:lnTo>
                  <a:lnTo>
                    <a:pt x="37" y="259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24160" y="311616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24160" y="346860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55720" y="3262320"/>
              <a:ext cx="637236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38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9220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34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524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8944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39612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3508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6120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2240" y="2212920"/>
              <a:ext cx="368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 encapsulated in IPv4 packe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29000" y="2587680"/>
              <a:ext cx="264960" cy="6746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75360" y="4362480"/>
              <a:ext cx="1527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Encapsula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11640" y="3614760"/>
              <a:ext cx="176040" cy="14760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93" y="74"/>
                  </a:moveTo>
                  <a:lnTo>
                    <a:pt x="74" y="93"/>
                  </a:lnTo>
                  <a:lnTo>
                    <a:pt x="0" y="0"/>
                  </a:lnTo>
                  <a:lnTo>
                    <a:pt x="111" y="56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87680" y="3732120"/>
              <a:ext cx="676440" cy="5875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78400" y="3614760"/>
              <a:ext cx="17640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74"/>
                  </a:moveTo>
                  <a:lnTo>
                    <a:pt x="0" y="56"/>
                  </a:lnTo>
                  <a:lnTo>
                    <a:pt x="111" y="0"/>
                  </a:lnTo>
                  <a:lnTo>
                    <a:pt x="55" y="111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778000" y="3762360"/>
              <a:ext cx="528840" cy="557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20360" y="2746440"/>
              <a:ext cx="1393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4 networ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CP/IP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09480" y="1712880"/>
            <a:ext cx="7823160" cy="4184640"/>
            <a:chOff x="609480" y="1712880"/>
            <a:chExt cx="7823160" cy="4184640"/>
          </a:xfrm>
        </p:grpSpPr>
        <p:sp>
          <p:nvSpPr>
            <p:cNvPr id="994" name=""/>
            <p:cNvSpPr/>
            <p:nvPr/>
          </p:nvSpPr>
          <p:spPr>
            <a:xfrm>
              <a:off x="609480" y="4556160"/>
              <a:ext cx="7799400" cy="47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9480" y="455616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09480" y="5351400"/>
              <a:ext cx="7799400" cy="471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9480" y="535140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9480" y="378792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9480" y="3787920"/>
              <a:ext cx="7823160" cy="4950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9480" y="2992320"/>
              <a:ext cx="7799400" cy="471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9480" y="2992320"/>
              <a:ext cx="7823160" cy="4971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480" y="222264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480" y="2222640"/>
              <a:ext cx="7823160" cy="4968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473000" y="2755800"/>
              <a:ext cx="319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s (UDP) or Streams (TC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44800" y="2147760"/>
              <a:ext cx="793800" cy="3749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92560" y="2471760"/>
              <a:ext cx="48960" cy="305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0000" y="240840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1800" y="32036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1080" y="39481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71200" y="3525840"/>
              <a:ext cx="188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DP or TCP pack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470480" y="427032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data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70480" y="5089680"/>
              <a:ext cx="216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-specific fr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66400" y="17128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7320" y="19130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1440" y="5513400"/>
              <a:ext cx="173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derly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21800" y="4767120"/>
              <a:ext cx="163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 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90480" y="284328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67000" y="281772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3390480" y="361332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3390480" y="440856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67000" y="438300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3390480" y="5176800"/>
              <a:ext cx="99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67000" y="515304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67000" y="4756320"/>
              <a:ext cx="123840" cy="1234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7000" y="396072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67000" y="3165480"/>
              <a:ext cx="123840" cy="12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67000" y="237168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67000" y="356400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6320" y="1974960"/>
              <a:ext cx="50760" cy="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241800" y="2023920"/>
              <a:ext cx="174600" cy="247680"/>
            </a:xfrm>
            <a:custGeom>
              <a:avLst/>
              <a:gdLst/>
              <a:ahLst/>
              <a:rect l="l" t="t" r="r" b="b"/>
              <a:pathLst>
                <a:path w="110" h="156">
                  <a:moveTo>
                    <a:pt x="63" y="0"/>
                  </a:moveTo>
                  <a:lnTo>
                    <a:pt x="110" y="0"/>
                  </a:lnTo>
                  <a:lnTo>
                    <a:pt x="63" y="15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1360" y="5575320"/>
              <a:ext cx="49320" cy="4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00680" y="5524560"/>
              <a:ext cx="247680" cy="149040"/>
            </a:xfrm>
            <a:custGeom>
              <a:avLst/>
              <a:gdLst/>
              <a:ahLst/>
              <a:rect l="l" t="t" r="r" b="b"/>
              <a:pathLst>
                <a:path w="156" h="94">
                  <a:moveTo>
                    <a:pt x="0" y="47"/>
                  </a:moveTo>
                  <a:lnTo>
                    <a:pt x="0" y="0"/>
                  </a:lnTo>
                  <a:lnTo>
                    <a:pt x="156" y="47"/>
                  </a:lnTo>
                  <a:lnTo>
                    <a:pt x="0" y="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16320" y="5575320"/>
              <a:ext cx="24591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7000" y="554976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in a message transmitted via TCP over an Eth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711360" y="2114640"/>
            <a:ext cx="7848360" cy="2833560"/>
            <a:chOff x="711360" y="2114640"/>
            <a:chExt cx="7848360" cy="2833560"/>
          </a:xfrm>
        </p:grpSpPr>
        <p:sp>
          <p:nvSpPr>
            <p:cNvPr id="1037" name=""/>
            <p:cNvSpPr/>
            <p:nvPr/>
          </p:nvSpPr>
          <p:spPr>
            <a:xfrm>
              <a:off x="6027840" y="2114640"/>
              <a:ext cx="248112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27840" y="2114640"/>
              <a:ext cx="250668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1400" y="2201760"/>
              <a:ext cx="187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27840" y="2746440"/>
              <a:ext cx="2506680" cy="304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52880" y="2746440"/>
              <a:ext cx="19749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2880" y="2746440"/>
              <a:ext cx="2000160" cy="3045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171320" y="280836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C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708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27840" y="241776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27840" y="249408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027840" y="25956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45820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508960" y="241776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08960" y="24940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08960" y="25956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52880" y="3354480"/>
              <a:ext cx="4481640" cy="303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02120" y="32274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52880" y="302580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52880" y="31003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52880" y="3201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458200" y="325296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08960" y="30510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08960" y="31258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08960" y="32274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08120" y="3354480"/>
              <a:ext cx="154476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08120" y="3354480"/>
              <a:ext cx="157032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97400" y="34416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33680" y="4011480"/>
              <a:ext cx="6000840" cy="3049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45820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508960" y="365760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508960" y="373392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08960" y="383544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2120" y="4011480"/>
              <a:ext cx="17715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62120" y="4011480"/>
              <a:ext cx="1796760" cy="3049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2160" y="407340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8292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33680" y="365760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3680" y="373392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33680" y="383544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5820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508960" y="42908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508960" y="439092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508960" y="44672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2120" y="4619520"/>
              <a:ext cx="7772400" cy="328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136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2120" y="4290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43909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62120" y="44672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67040" y="4681440"/>
              <a:ext cx="134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9560" y="27828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521320" y="2771640"/>
              <a:ext cx="404640" cy="254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92440" y="3416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46360" y="3405240"/>
              <a:ext cx="430200" cy="226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2956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55760" y="4037040"/>
              <a:ext cx="252360" cy="253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programmer's conceptual view of a TCP/IP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 address structure, showing field sizes in bi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762120" y="1670040"/>
            <a:ext cx="7848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Decimal representation of Internet addr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470400" y="2013120"/>
            <a:ext cx="1081080" cy="29984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70400" y="2013120"/>
            <a:ext cx="110160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35440" y="2033640"/>
            <a:ext cx="1081080" cy="2977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5440" y="2033640"/>
            <a:ext cx="1101960" cy="299880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99040" y="2033640"/>
            <a:ext cx="1081080" cy="2998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99040" y="2033640"/>
            <a:ext cx="110196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06800" y="2013120"/>
            <a:ext cx="1081080" cy="2958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6800" y="2013120"/>
            <a:ext cx="1099800" cy="29779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7032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0728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97232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403640" y="245124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4184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1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5508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91868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24276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03640" y="30225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27040" y="30430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 to 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404000" y="36147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302560" y="36338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 to 22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302560" y="42051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 to 23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400" y="418464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D (multicast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50320" y="33685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61360" y="27781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13720" y="216540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14200" y="2778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47480" y="21654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69760" y="33685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0356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44880" y="2360520"/>
            <a:ext cx="610920" cy="81000"/>
          </a:xfrm>
          <a:custGeom>
            <a:avLst/>
            <a:gdLst/>
            <a:ahLst/>
            <a:rect l="l" t="t" r="r" b="b"/>
            <a:pathLst>
              <a:path w="385" h="51">
                <a:moveTo>
                  <a:pt x="0" y="51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736720" y="2360520"/>
            <a:ext cx="569880" cy="81000"/>
          </a:xfrm>
          <a:custGeom>
            <a:avLst/>
            <a:gdLst/>
            <a:ahLst/>
            <a:rect l="l" t="t" r="r" b="b"/>
            <a:pathLst>
              <a:path w="359" h="51">
                <a:moveTo>
                  <a:pt x="359" y="51"/>
                </a:moveTo>
                <a:lnTo>
                  <a:pt x="359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44880" y="2952720"/>
            <a:ext cx="1265040" cy="81000"/>
          </a:xfrm>
          <a:custGeom>
            <a:avLst/>
            <a:gdLst/>
            <a:ahLst/>
            <a:rect l="l" t="t" r="r" b="b"/>
            <a:pathLst>
              <a:path w="797" h="51">
                <a:moveTo>
                  <a:pt x="0" y="51"/>
                </a:moveTo>
                <a:lnTo>
                  <a:pt x="0" y="0"/>
                </a:lnTo>
                <a:lnTo>
                  <a:pt x="797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368520" y="2952720"/>
            <a:ext cx="118296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44880" y="3522600"/>
            <a:ext cx="1917360" cy="82440"/>
          </a:xfrm>
          <a:custGeom>
            <a:avLst/>
            <a:gdLst/>
            <a:ahLst/>
            <a:rect l="l" t="t" r="r" b="b"/>
            <a:pathLst>
              <a:path w="1208" h="52">
                <a:moveTo>
                  <a:pt x="0" y="52"/>
                </a:moveTo>
                <a:lnTo>
                  <a:pt x="0" y="0"/>
                </a:lnTo>
                <a:lnTo>
                  <a:pt x="120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21200" y="3522600"/>
            <a:ext cx="1816200" cy="82440"/>
          </a:xfrm>
          <a:custGeom>
            <a:avLst/>
            <a:gdLst/>
            <a:ahLst/>
            <a:rect l="l" t="t" r="r" b="b"/>
            <a:pathLst>
              <a:path w="1144" h="52">
                <a:moveTo>
                  <a:pt x="1144" y="52"/>
                </a:moveTo>
                <a:lnTo>
                  <a:pt x="1144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44880" y="4114800"/>
            <a:ext cx="2590560" cy="81000"/>
          </a:xfrm>
          <a:custGeom>
            <a:avLst/>
            <a:gdLst/>
            <a:ahLst/>
            <a:rect l="l" t="t" r="r" b="b"/>
            <a:pathLst>
              <a:path w="1632" h="51">
                <a:moveTo>
                  <a:pt x="0" y="51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53000" y="4114800"/>
            <a:ext cx="2448000" cy="81000"/>
          </a:xfrm>
          <a:custGeom>
            <a:avLst/>
            <a:gdLst/>
            <a:ahLst/>
            <a:rect l="l" t="t" r="r" b="b"/>
            <a:pathLst>
              <a:path w="1542" h="51">
                <a:moveTo>
                  <a:pt x="1542" y="51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429000" y="2360520"/>
            <a:ext cx="1754280" cy="81000"/>
          </a:xfrm>
          <a:custGeom>
            <a:avLst/>
            <a:gdLst/>
            <a:ahLst/>
            <a:rect l="l" t="t" r="r" b="b"/>
            <a:pathLst>
              <a:path w="1105" h="51">
                <a:moveTo>
                  <a:pt x="0" y="51"/>
                </a:moveTo>
                <a:lnTo>
                  <a:pt x="0" y="0"/>
                </a:lnTo>
                <a:lnTo>
                  <a:pt x="110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64200" y="2360520"/>
            <a:ext cx="1957320" cy="81000"/>
          </a:xfrm>
          <a:custGeom>
            <a:avLst/>
            <a:gdLst/>
            <a:ahLst/>
            <a:rect l="l" t="t" r="r" b="b"/>
            <a:pathLst>
              <a:path w="1233" h="51">
                <a:moveTo>
                  <a:pt x="1233" y="51"/>
                </a:moveTo>
                <a:lnTo>
                  <a:pt x="1233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94400" y="2952720"/>
            <a:ext cx="1285560" cy="81000"/>
          </a:xfrm>
          <a:custGeom>
            <a:avLst/>
            <a:gdLst/>
            <a:ahLst/>
            <a:rect l="l" t="t" r="r" b="b"/>
            <a:pathLst>
              <a:path w="810" h="51">
                <a:moveTo>
                  <a:pt x="0" y="51"/>
                </a:moveTo>
                <a:lnTo>
                  <a:pt x="0" y="0"/>
                </a:lnTo>
                <a:lnTo>
                  <a:pt x="81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938920" y="2952720"/>
            <a:ext cx="118260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959440" y="3522600"/>
            <a:ext cx="631800" cy="82440"/>
          </a:xfrm>
          <a:custGeom>
            <a:avLst/>
            <a:gdLst/>
            <a:ahLst/>
            <a:rect l="l" t="t" r="r" b="b"/>
            <a:pathLst>
              <a:path w="398" h="52">
                <a:moveTo>
                  <a:pt x="0" y="52"/>
                </a:moveTo>
                <a:lnTo>
                  <a:pt x="0" y="0"/>
                </a:lnTo>
                <a:lnTo>
                  <a:pt x="39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50200" y="3522600"/>
            <a:ext cx="571320" cy="82440"/>
          </a:xfrm>
          <a:custGeom>
            <a:avLst/>
            <a:gdLst/>
            <a:ahLst/>
            <a:rect l="l" t="t" r="r" b="b"/>
            <a:pathLst>
              <a:path w="360" h="52">
                <a:moveTo>
                  <a:pt x="360" y="52"/>
                </a:moveTo>
                <a:lnTo>
                  <a:pt x="360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65508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1868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24276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65508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91868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24276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6550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186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24276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0356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5508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1868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24276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02560" y="471492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 to 25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25680" y="4695840"/>
            <a:ext cx="140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E (reserved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44880" y="4624560"/>
            <a:ext cx="2590560" cy="82440"/>
          </a:xfrm>
          <a:custGeom>
            <a:avLst/>
            <a:gdLst/>
            <a:ahLst/>
            <a:rect l="l" t="t" r="r" b="b"/>
            <a:pathLst>
              <a:path w="1632" h="52">
                <a:moveTo>
                  <a:pt x="0" y="52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653000" y="4624560"/>
            <a:ext cx="2448000" cy="82440"/>
          </a:xfrm>
          <a:custGeom>
            <a:avLst/>
            <a:gdLst/>
            <a:ahLst/>
            <a:rect l="l" t="t" r="r" b="b"/>
            <a:pathLst>
              <a:path w="1542" h="52">
                <a:moveTo>
                  <a:pt x="1542" y="52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05400" y="2349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15840" y="25336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7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10080" y="2981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15840" y="31654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1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10080" y="35323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15840" y="37162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3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10080" y="4124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15840" y="43070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39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10080" y="46339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15840" y="48182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55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43120" y="18604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ange of addr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 packet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09480" y="2932200"/>
            <a:ext cx="80773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3.18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NAT-based home network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806400" y="1411200"/>
            <a:ext cx="70009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Network performa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440" y="1406520"/>
            <a:ext cx="6575760" cy="4657320"/>
            <a:chOff x="1522440" y="1406520"/>
            <a:chExt cx="6575760" cy="4657320"/>
          </a:xfrm>
        </p:grpSpPr>
        <p:sp>
          <p:nvSpPr>
            <p:cNvPr id="89" name=""/>
            <p:cNvSpPr/>
            <p:nvPr/>
          </p:nvSpPr>
          <p:spPr>
            <a:xfrm>
              <a:off x="2951640" y="1531800"/>
              <a:ext cx="80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79240" y="153180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72640" y="1531800"/>
              <a:ext cx="99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d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3720" y="17334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Mb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99720" y="1531800"/>
              <a:ext cx="72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00800" y="173340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6600" y="2036880"/>
              <a:ext cx="6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ire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6960" y="24415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51280" y="24415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79240" y="244152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2 k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73360" y="244152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-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0440" y="24415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6960" y="28432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52000" y="2843280"/>
              <a:ext cx="92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9600" y="284328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3000" y="284328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10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0440" y="28432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97320" y="324648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52720" y="324648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9240" y="3246480"/>
              <a:ext cx="78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0 k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73360" y="324648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-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0440" y="3246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95880" y="365112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1640" y="365112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79600" y="365112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3000" y="3651120"/>
              <a:ext cx="70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0440" y="365112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96600" y="4054320"/>
              <a:ext cx="864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irel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96960" y="445608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50200" y="4456080"/>
              <a:ext cx="1916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uetooth (802.15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8520" y="4456080"/>
              <a:ext cx="82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- 30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3000" y="44560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5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00440" y="4456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96600" y="4861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49480" y="4861080"/>
              <a:ext cx="1924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Fi (IEEE 802.1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8160" y="4861080"/>
              <a:ext cx="111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15-1.5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3360" y="4861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-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0440" y="48610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96960" y="5264280"/>
              <a:ext cx="74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51640" y="5264280"/>
              <a:ext cx="171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MAX (802.1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9240" y="52642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50 k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73000" y="5264280"/>
              <a:ext cx="59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0440" y="52642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-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6600" y="56656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600" y="56656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51280" y="5665680"/>
              <a:ext cx="193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SM, 3G phone n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79600" y="566568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ldw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3000" y="5665680"/>
              <a:ext cx="70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1-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440" y="5665680"/>
              <a:ext cx="76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22440" y="1406520"/>
              <a:ext cx="6575760" cy="4657320"/>
              <a:chOff x="1522440" y="1406520"/>
              <a:chExt cx="6575760" cy="465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1522440" y="1406520"/>
                <a:ext cx="657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22440" y="6062040"/>
                <a:ext cx="657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v6 header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06520" y="1758960"/>
            <a:ext cx="8099280" cy="3049560"/>
            <a:chOff x="506520" y="1758960"/>
            <a:chExt cx="8099280" cy="3049560"/>
          </a:xfrm>
        </p:grpSpPr>
        <p:sp>
          <p:nvSpPr>
            <p:cNvPr id="1174" name=""/>
            <p:cNvSpPr/>
            <p:nvPr/>
          </p:nvSpPr>
          <p:spPr>
            <a:xfrm>
              <a:off x="506520" y="2441520"/>
              <a:ext cx="8074080" cy="11718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20" y="2441520"/>
              <a:ext cx="8099280" cy="119556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79840" y="1758960"/>
              <a:ext cx="500076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9840" y="1758960"/>
              <a:ext cx="502596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6520" y="1758960"/>
              <a:ext cx="153648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6520" y="1758960"/>
              <a:ext cx="156204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043000" y="1758960"/>
              <a:ext cx="200052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043000" y="1758960"/>
              <a:ext cx="202572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06520" y="2100240"/>
              <a:ext cx="400032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520" y="2100240"/>
              <a:ext cx="402588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506840" y="2100240"/>
              <a:ext cx="212256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06840" y="2100240"/>
              <a:ext cx="214632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6520" y="3613320"/>
              <a:ext cx="8074080" cy="1171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6520" y="3613320"/>
              <a:ext cx="8099280" cy="119520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629400" y="2100240"/>
              <a:ext cx="1951200" cy="341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29400" y="2100240"/>
              <a:ext cx="1976400" cy="36684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57680" y="2770200"/>
              <a:ext cx="165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Source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20560" y="29894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(12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9280" y="3965400"/>
              <a:ext cx="215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Destination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76280" y="41846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(12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32080" y="1819440"/>
              <a:ext cx="159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Version (4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89080" y="1819440"/>
              <a:ext cx="203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Traffic class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102640" y="1819440"/>
              <a:ext cx="198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Flow label (20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1600" y="2135160"/>
              <a:ext cx="251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Payload length (16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44240" y="213516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Hop limit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625280" y="2135160"/>
              <a:ext cx="210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 Helvetica Condensed"/>
                </a:rPr>
                <a:t>Next header (8 bi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MobileIP routing mechani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041880" y="3189240"/>
            <a:ext cx="2151360" cy="180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87600" y="2728800"/>
            <a:ext cx="1440" cy="30816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333520" y="2664000"/>
            <a:ext cx="109800" cy="131760"/>
          </a:xfrm>
          <a:custGeom>
            <a:avLst/>
            <a:gdLst/>
            <a:ahLst/>
            <a:rect l="l" t="t" r="r" b="b"/>
            <a:pathLst>
              <a:path w="69" h="83">
                <a:moveTo>
                  <a:pt x="69" y="0"/>
                </a:moveTo>
                <a:lnTo>
                  <a:pt x="0" y="13"/>
                </a:lnTo>
                <a:lnTo>
                  <a:pt x="0" y="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421000" y="2465280"/>
            <a:ext cx="263520" cy="176400"/>
          </a:xfrm>
          <a:prstGeom prst="roundRect">
            <a:avLst>
              <a:gd name="adj" fmla="val 400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398680" y="2443320"/>
            <a:ext cx="308160" cy="220680"/>
          </a:xfrm>
          <a:prstGeom prst="roundRect">
            <a:avLst>
              <a:gd name="adj" fmla="val 32014"/>
            </a:avLst>
          </a:prstGeom>
          <a:noFill/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443320" y="2509920"/>
            <a:ext cx="218880" cy="8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43320" y="2509920"/>
            <a:ext cx="241200" cy="1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311560" y="2795760"/>
            <a:ext cx="44280" cy="64800"/>
          </a:xfrm>
          <a:custGeom>
            <a:avLst/>
            <a:gdLst/>
            <a:ahLst/>
            <a:rect l="l" t="t" r="r" b="b"/>
            <a:pathLst>
              <a:path w="28" h="41">
                <a:moveTo>
                  <a:pt x="14" y="0"/>
                </a:moveTo>
                <a:lnTo>
                  <a:pt x="0" y="0"/>
                </a:lnTo>
                <a:lnTo>
                  <a:pt x="0" y="13"/>
                </a:lnTo>
                <a:lnTo>
                  <a:pt x="0" y="27"/>
                </a:lnTo>
                <a:lnTo>
                  <a:pt x="0" y="41"/>
                </a:lnTo>
                <a:lnTo>
                  <a:pt x="14" y="41"/>
                </a:lnTo>
                <a:lnTo>
                  <a:pt x="28" y="27"/>
                </a:lnTo>
                <a:lnTo>
                  <a:pt x="28" y="13"/>
                </a:lnTo>
                <a:lnTo>
                  <a:pt x="28" y="0"/>
                </a:lnTo>
                <a:lnTo>
                  <a:pt x="14" y="0"/>
                </a:lnTo>
                <a:close/>
              </a:path>
            </a:pathLst>
          </a:custGeom>
          <a:solidFill>
            <a:srgbClr val="cf924c"/>
          </a:solidFill>
          <a:ln w="3168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2443320" y="2509920"/>
            <a:ext cx="196560" cy="8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10" name=""/>
          <p:cNvSpPr/>
          <p:nvPr/>
        </p:nvSpPr>
        <p:spPr>
          <a:xfrm>
            <a:off x="235584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33520" y="2795760"/>
            <a:ext cx="180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1156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421000" y="2641680"/>
            <a:ext cx="241200" cy="42840"/>
          </a:xfrm>
          <a:prstGeom prst="rect">
            <a:avLst/>
          </a:prstGeom>
          <a:solidFill>
            <a:srgbClr val="d9aa73"/>
          </a:solidFill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376360" y="2684520"/>
            <a:ext cx="330480" cy="44280"/>
          </a:xfrm>
          <a:custGeom>
            <a:avLst/>
            <a:gdLst/>
            <a:ahLst/>
            <a:rect l="l" t="t" r="r" b="b"/>
            <a:pathLst>
              <a:path w="208" h="28">
                <a:moveTo>
                  <a:pt x="194" y="0"/>
                </a:moveTo>
                <a:lnTo>
                  <a:pt x="208" y="28"/>
                </a:lnTo>
                <a:lnTo>
                  <a:pt x="0" y="28"/>
                </a:lnTo>
                <a:lnTo>
                  <a:pt x="28" y="0"/>
                </a:lnTo>
                <a:lnTo>
                  <a:pt x="194" y="0"/>
                </a:lnTo>
                <a:close/>
              </a:path>
            </a:pathLst>
          </a:custGeom>
          <a:noFill/>
          <a:ln w="12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617560" y="271620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443320" y="2684520"/>
            <a:ext cx="218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508120" y="2700360"/>
            <a:ext cx="154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2465280" y="2716200"/>
            <a:ext cx="13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420640" y="270036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398680" y="271620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87600" y="2487600"/>
            <a:ext cx="65160" cy="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487600" y="2487600"/>
            <a:ext cx="87480" cy="8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33520" y="3036960"/>
            <a:ext cx="153684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262600" y="22050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355840" y="4462560"/>
            <a:ext cx="155736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022480" y="396720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13200" y="4242960"/>
            <a:ext cx="1440" cy="219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591240" y="2158920"/>
            <a:ext cx="1997280" cy="2019240"/>
          </a:xfrm>
          <a:custGeom>
            <a:avLst/>
            <a:gdLst>
              <a:gd name="textAreaLeft" fmla="*/ 117000 w 1997280"/>
              <a:gd name="textAreaRight" fmla="*/ 1880280 w 1997280"/>
              <a:gd name="textAreaTop" fmla="*/ 117000 h 2019240"/>
              <a:gd name="textAreaBottom" fmla="*/ 1902240 h 2019240"/>
            </a:gdLst>
            <a:ahLst/>
            <a:rect l="textAreaLeft" t="textAreaTop" r="textAreaRight" b="textAreaBottom"/>
            <a:pathLst>
              <a:path w="21600" h="21837">
                <a:moveTo>
                  <a:pt x="4327" y="0"/>
                </a:moveTo>
                <a:arcTo wR="4327" hR="4327" stAng="16200000" swAng="-5400000"/>
                <a:lnTo>
                  <a:pt x="0" y="17510"/>
                </a:lnTo>
                <a:arcTo wR="4327" hR="4327" stAng="10800000" swAng="-5400000"/>
                <a:lnTo>
                  <a:pt x="17273" y="21837"/>
                </a:lnTo>
                <a:arcTo wR="4327" hR="4327" stAng="5400000" swAng="-5400000"/>
                <a:lnTo>
                  <a:pt x="21600" y="4327"/>
                </a:lnTo>
                <a:arcTo wR="4327" hR="4327" stAng="0" swAng="-5400000"/>
                <a:close/>
              </a:path>
            </a:pathLst>
          </a:cu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243200" y="2387520"/>
            <a:ext cx="123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bile host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51680" y="2992320"/>
            <a:ext cx="1800" cy="19692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710480" y="2860560"/>
            <a:ext cx="439920" cy="87480"/>
          </a:xfrm>
          <a:custGeom>
            <a:avLst/>
            <a:gdLst/>
            <a:ahLst/>
            <a:rect l="l" t="t" r="r" b="b"/>
            <a:pathLst>
              <a:path w="277" h="55">
                <a:moveTo>
                  <a:pt x="69" y="55"/>
                </a:moveTo>
                <a:lnTo>
                  <a:pt x="0" y="0"/>
                </a:lnTo>
                <a:lnTo>
                  <a:pt x="208" y="0"/>
                </a:lnTo>
                <a:lnTo>
                  <a:pt x="277" y="55"/>
                </a:lnTo>
                <a:lnTo>
                  <a:pt x="69" y="55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66200" y="2664000"/>
            <a:ext cx="352440" cy="174600"/>
          </a:xfrm>
          <a:custGeom>
            <a:avLst/>
            <a:gdLst/>
            <a:ahLst/>
            <a:rect l="l" t="t" r="r" b="b"/>
            <a:pathLst>
              <a:path w="222" h="110">
                <a:moveTo>
                  <a:pt x="194" y="0"/>
                </a:moveTo>
                <a:lnTo>
                  <a:pt x="222" y="110"/>
                </a:lnTo>
                <a:lnTo>
                  <a:pt x="28" y="110"/>
                </a:lnTo>
                <a:lnTo>
                  <a:pt x="0" y="0"/>
                </a:lnTo>
                <a:lnTo>
                  <a:pt x="194" y="0"/>
                </a:lnTo>
                <a:close/>
              </a:path>
            </a:pathLst>
          </a:custGeom>
          <a:noFill/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19920" y="2948040"/>
            <a:ext cx="351000" cy="44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819920" y="2948040"/>
            <a:ext cx="373320" cy="6660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710480" y="2838600"/>
            <a:ext cx="87480" cy="153720"/>
          </a:xfrm>
          <a:custGeom>
            <a:avLst/>
            <a:gdLst/>
            <a:ahLst/>
            <a:rect l="l" t="t" r="r" b="b"/>
            <a:pathLst>
              <a:path w="55" h="97">
                <a:moveTo>
                  <a:pt x="0" y="0"/>
                </a:moveTo>
                <a:lnTo>
                  <a:pt x="0" y="28"/>
                </a:lnTo>
                <a:lnTo>
                  <a:pt x="55" y="97"/>
                </a:lnTo>
                <a:lnTo>
                  <a:pt x="55" y="69"/>
                </a:lnTo>
                <a:lnTo>
                  <a:pt x="0" y="0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777080" y="2860560"/>
            <a:ext cx="284400" cy="44640"/>
          </a:xfrm>
          <a:custGeom>
            <a:avLst/>
            <a:gdLst/>
            <a:ahLst/>
            <a:rect l="l" t="t" r="r" b="b"/>
            <a:pathLst>
              <a:path w="179" h="28">
                <a:moveTo>
                  <a:pt x="13" y="28"/>
                </a:moveTo>
                <a:lnTo>
                  <a:pt x="0" y="0"/>
                </a:lnTo>
                <a:lnTo>
                  <a:pt x="138" y="0"/>
                </a:lnTo>
                <a:lnTo>
                  <a:pt x="179" y="28"/>
                </a:lnTo>
                <a:lnTo>
                  <a:pt x="13" y="28"/>
                </a:lnTo>
                <a:close/>
              </a:path>
            </a:pathLst>
          </a:custGeom>
          <a:solidFill>
            <a:srgbClr val="999999"/>
          </a:solidFill>
          <a:ln w="316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710480" y="2684520"/>
            <a:ext cx="154080" cy="111240"/>
          </a:xfrm>
          <a:custGeom>
            <a:avLst/>
            <a:gdLst/>
            <a:ahLst/>
            <a:rect l="l" t="t" r="r" b="b"/>
            <a:pathLst>
              <a:path w="97" h="70">
                <a:moveTo>
                  <a:pt x="83" y="0"/>
                </a:moveTo>
                <a:lnTo>
                  <a:pt x="97" y="70"/>
                </a:lnTo>
                <a:lnTo>
                  <a:pt x="14" y="70"/>
                </a:lnTo>
                <a:lnTo>
                  <a:pt x="0" y="0"/>
                </a:lnTo>
                <a:lnTo>
                  <a:pt x="8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886880" y="2684520"/>
            <a:ext cx="6480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7" y="0"/>
                </a:moveTo>
                <a:lnTo>
                  <a:pt x="41" y="56"/>
                </a:lnTo>
                <a:lnTo>
                  <a:pt x="0" y="56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7337520" y="3188880"/>
            <a:ext cx="1440" cy="22068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272360" y="3387600"/>
            <a:ext cx="13176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72360" y="3387600"/>
            <a:ext cx="152280" cy="3063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950880" y="379260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ign agent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93960" y="2684520"/>
            <a:ext cx="2502000" cy="1954080"/>
          </a:xfrm>
          <a:custGeom>
            <a:avLst/>
            <a:gdLst/>
            <a:ahLst/>
            <a:rect l="l" t="t" r="r" b="b"/>
            <a:pathLst>
              <a:path w="1576" h="1231">
                <a:moveTo>
                  <a:pt x="41" y="291"/>
                </a:moveTo>
                <a:lnTo>
                  <a:pt x="69" y="208"/>
                </a:lnTo>
                <a:lnTo>
                  <a:pt x="152" y="125"/>
                </a:lnTo>
                <a:lnTo>
                  <a:pt x="249" y="83"/>
                </a:lnTo>
                <a:lnTo>
                  <a:pt x="304" y="97"/>
                </a:lnTo>
                <a:lnTo>
                  <a:pt x="373" y="83"/>
                </a:lnTo>
                <a:lnTo>
                  <a:pt x="456" y="83"/>
                </a:lnTo>
                <a:lnTo>
                  <a:pt x="581" y="97"/>
                </a:lnTo>
                <a:lnTo>
                  <a:pt x="705" y="111"/>
                </a:lnTo>
                <a:lnTo>
                  <a:pt x="830" y="111"/>
                </a:lnTo>
                <a:lnTo>
                  <a:pt x="885" y="70"/>
                </a:lnTo>
                <a:lnTo>
                  <a:pt x="954" y="28"/>
                </a:lnTo>
                <a:lnTo>
                  <a:pt x="1037" y="0"/>
                </a:lnTo>
                <a:lnTo>
                  <a:pt x="1134" y="0"/>
                </a:lnTo>
                <a:lnTo>
                  <a:pt x="1203" y="14"/>
                </a:lnTo>
                <a:lnTo>
                  <a:pt x="1272" y="42"/>
                </a:lnTo>
                <a:lnTo>
                  <a:pt x="1313" y="70"/>
                </a:lnTo>
                <a:lnTo>
                  <a:pt x="1383" y="111"/>
                </a:lnTo>
                <a:lnTo>
                  <a:pt x="1466" y="208"/>
                </a:lnTo>
                <a:lnTo>
                  <a:pt x="1548" y="388"/>
                </a:lnTo>
                <a:lnTo>
                  <a:pt x="1576" y="609"/>
                </a:lnTo>
                <a:lnTo>
                  <a:pt x="1576" y="747"/>
                </a:lnTo>
                <a:lnTo>
                  <a:pt x="1562" y="871"/>
                </a:lnTo>
                <a:lnTo>
                  <a:pt x="1521" y="1079"/>
                </a:lnTo>
                <a:lnTo>
                  <a:pt x="1438" y="1176"/>
                </a:lnTo>
                <a:lnTo>
                  <a:pt x="1327" y="1231"/>
                </a:lnTo>
                <a:lnTo>
                  <a:pt x="1217" y="1203"/>
                </a:lnTo>
                <a:lnTo>
                  <a:pt x="1092" y="1176"/>
                </a:lnTo>
                <a:lnTo>
                  <a:pt x="995" y="1162"/>
                </a:lnTo>
                <a:lnTo>
                  <a:pt x="885" y="1134"/>
                </a:lnTo>
                <a:lnTo>
                  <a:pt x="788" y="1134"/>
                </a:lnTo>
                <a:lnTo>
                  <a:pt x="691" y="1134"/>
                </a:lnTo>
                <a:lnTo>
                  <a:pt x="608" y="1148"/>
                </a:lnTo>
                <a:lnTo>
                  <a:pt x="525" y="1162"/>
                </a:lnTo>
                <a:lnTo>
                  <a:pt x="456" y="1176"/>
                </a:lnTo>
                <a:lnTo>
                  <a:pt x="373" y="1189"/>
                </a:lnTo>
                <a:lnTo>
                  <a:pt x="304" y="1189"/>
                </a:lnTo>
                <a:lnTo>
                  <a:pt x="235" y="1189"/>
                </a:lnTo>
                <a:lnTo>
                  <a:pt x="180" y="1162"/>
                </a:lnTo>
                <a:lnTo>
                  <a:pt x="124" y="1120"/>
                </a:lnTo>
                <a:lnTo>
                  <a:pt x="111" y="1106"/>
                </a:lnTo>
                <a:lnTo>
                  <a:pt x="97" y="1065"/>
                </a:lnTo>
                <a:lnTo>
                  <a:pt x="55" y="954"/>
                </a:lnTo>
                <a:lnTo>
                  <a:pt x="14" y="816"/>
                </a:lnTo>
                <a:lnTo>
                  <a:pt x="0" y="706"/>
                </a:lnTo>
                <a:lnTo>
                  <a:pt x="0" y="609"/>
                </a:lnTo>
                <a:lnTo>
                  <a:pt x="0" y="484"/>
                </a:lnTo>
                <a:lnTo>
                  <a:pt x="14" y="360"/>
                </a:lnTo>
                <a:lnTo>
                  <a:pt x="41" y="291"/>
                </a:lnTo>
                <a:lnTo>
                  <a:pt x="41" y="291"/>
                </a:lnTo>
                <a:close/>
              </a:path>
            </a:pathLst>
          </a:custGeom>
          <a:solidFill>
            <a:srgbClr val="ffdc99"/>
          </a:solidFill>
          <a:ln w="3168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36720" y="357336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053080" y="41655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81040" y="3095640"/>
            <a:ext cx="119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87520" y="3314880"/>
            <a:ext cx="136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ed to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82880" y="3300480"/>
            <a:ext cx="52524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1520" y="2590920"/>
            <a:ext cx="113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of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7600" y="2789280"/>
            <a:ext cx="146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turned to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916280" y="2992320"/>
            <a:ext cx="74592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19360" y="3497400"/>
            <a:ext cx="1666800" cy="1228680"/>
          </a:xfrm>
          <a:prstGeom prst="roundRect">
            <a:avLst>
              <a:gd name="adj" fmla="val 32560"/>
            </a:avLst>
          </a:pr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487600" y="3782880"/>
            <a:ext cx="109440" cy="174600"/>
          </a:xfrm>
          <a:custGeom>
            <a:avLst/>
            <a:gdLst/>
            <a:ahLst/>
            <a:rect l="l" t="t" r="r" b="b"/>
            <a:pathLst>
              <a:path w="69" h="110">
                <a:moveTo>
                  <a:pt x="27" y="0"/>
                </a:moveTo>
                <a:lnTo>
                  <a:pt x="69" y="0"/>
                </a:lnTo>
                <a:lnTo>
                  <a:pt x="41" y="110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0440" y="2751120"/>
            <a:ext cx="44640" cy="1009800"/>
          </a:xfrm>
          <a:custGeom>
            <a:avLst/>
            <a:gdLst/>
            <a:ahLst/>
            <a:rect l="l" t="t" r="r" b="b"/>
            <a:pathLst>
              <a:path w="28" h="636">
                <a:moveTo>
                  <a:pt x="28" y="0"/>
                </a:moveTo>
                <a:lnTo>
                  <a:pt x="0" y="304"/>
                </a:lnTo>
                <a:lnTo>
                  <a:pt x="0" y="6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17920" y="2728800"/>
            <a:ext cx="110880" cy="198720"/>
          </a:xfrm>
          <a:custGeom>
            <a:avLst/>
            <a:gdLst/>
            <a:ahLst/>
            <a:rect l="l" t="t" r="r" b="b"/>
            <a:pathLst>
              <a:path w="70" h="125">
                <a:moveTo>
                  <a:pt x="42" y="111"/>
                </a:moveTo>
                <a:lnTo>
                  <a:pt x="0" y="125"/>
                </a:lnTo>
                <a:lnTo>
                  <a:pt x="14" y="0"/>
                </a:lnTo>
                <a:lnTo>
                  <a:pt x="70" y="111"/>
                </a:lnTo>
                <a:lnTo>
                  <a:pt x="42" y="111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17920" y="2927520"/>
            <a:ext cx="66600" cy="1074600"/>
          </a:xfrm>
          <a:custGeom>
            <a:avLst/>
            <a:gdLst/>
            <a:ahLst/>
            <a:rect l="l" t="t" r="r" b="b"/>
            <a:pathLst>
              <a:path w="42" h="677">
                <a:moveTo>
                  <a:pt x="0" y="677"/>
                </a:moveTo>
                <a:lnTo>
                  <a:pt x="42" y="345"/>
                </a:lnTo>
                <a:lnTo>
                  <a:pt x="4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17920" y="4243320"/>
            <a:ext cx="1440" cy="2192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52760" y="3979800"/>
            <a:ext cx="15408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52760" y="3979800"/>
            <a:ext cx="176040" cy="3081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031160" y="3562200"/>
            <a:ext cx="196560" cy="111240"/>
          </a:xfrm>
          <a:custGeom>
            <a:avLst/>
            <a:gdLst/>
            <a:ahLst/>
            <a:rect l="l" t="t" r="r" b="b"/>
            <a:pathLst>
              <a:path w="124" h="70">
                <a:moveTo>
                  <a:pt x="0" y="28"/>
                </a:moveTo>
                <a:lnTo>
                  <a:pt x="0" y="0"/>
                </a:lnTo>
                <a:lnTo>
                  <a:pt x="124" y="14"/>
                </a:lnTo>
                <a:lnTo>
                  <a:pt x="13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706840" y="3629160"/>
            <a:ext cx="4324320" cy="460080"/>
          </a:xfrm>
          <a:custGeom>
            <a:avLst/>
            <a:gdLst/>
            <a:ahLst/>
            <a:rect l="l" t="t" r="r" b="b"/>
            <a:pathLst>
              <a:path w="2724" h="290">
                <a:moveTo>
                  <a:pt x="0" y="290"/>
                </a:moveTo>
                <a:lnTo>
                  <a:pt x="663" y="276"/>
                </a:lnTo>
                <a:lnTo>
                  <a:pt x="1355" y="221"/>
                </a:lnTo>
                <a:lnTo>
                  <a:pt x="2060" y="124"/>
                </a:lnTo>
                <a:lnTo>
                  <a:pt x="272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413960" y="4083120"/>
            <a:ext cx="114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65360" y="428148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051680" y="3343320"/>
            <a:ext cx="198360" cy="109440"/>
          </a:xfrm>
          <a:custGeom>
            <a:avLst/>
            <a:gdLst/>
            <a:ahLst/>
            <a:rect l="l" t="t" r="r" b="b"/>
            <a:pathLst>
              <a:path w="125" h="69">
                <a:moveTo>
                  <a:pt x="0" y="42"/>
                </a:moveTo>
                <a:lnTo>
                  <a:pt x="14" y="0"/>
                </a:lnTo>
                <a:lnTo>
                  <a:pt x="125" y="56"/>
                </a:lnTo>
                <a:lnTo>
                  <a:pt x="0" y="6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706840" y="2575080"/>
            <a:ext cx="4344840" cy="834840"/>
          </a:xfrm>
          <a:custGeom>
            <a:avLst/>
            <a:gdLst/>
            <a:ahLst/>
            <a:rect l="l" t="t" r="r" b="b"/>
            <a:pathLst>
              <a:path w="2737" h="526">
                <a:moveTo>
                  <a:pt x="0" y="0"/>
                </a:moveTo>
                <a:lnTo>
                  <a:pt x="663" y="56"/>
                </a:lnTo>
                <a:lnTo>
                  <a:pt x="1369" y="194"/>
                </a:lnTo>
                <a:lnTo>
                  <a:pt x="2737" y="52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951720" y="2205000"/>
            <a:ext cx="18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P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25440" y="240336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706840" y="2509920"/>
            <a:ext cx="4586040" cy="877680"/>
          </a:xfrm>
          <a:custGeom>
            <a:avLst/>
            <a:gdLst/>
            <a:ahLst/>
            <a:rect l="l" t="t" r="r" b="b"/>
            <a:pathLst>
              <a:path w="2889" h="553">
                <a:moveTo>
                  <a:pt x="0" y="0"/>
                </a:moveTo>
                <a:lnTo>
                  <a:pt x="705" y="69"/>
                </a:lnTo>
                <a:lnTo>
                  <a:pt x="1465" y="221"/>
                </a:lnTo>
                <a:lnTo>
                  <a:pt x="2889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62200" y="2619360"/>
            <a:ext cx="4587840" cy="878040"/>
          </a:xfrm>
          <a:custGeom>
            <a:avLst/>
            <a:gdLst/>
            <a:ahLst/>
            <a:rect l="l" t="t" r="r" b="b"/>
            <a:pathLst>
              <a:path w="2890" h="553">
                <a:moveTo>
                  <a:pt x="0" y="0"/>
                </a:moveTo>
                <a:lnTo>
                  <a:pt x="705" y="69"/>
                </a:lnTo>
                <a:lnTo>
                  <a:pt x="1466" y="221"/>
                </a:lnTo>
                <a:lnTo>
                  <a:pt x="2890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06840" y="362916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04"/>
                </a:lnTo>
                <a:lnTo>
                  <a:pt x="1438" y="235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706840" y="349740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18"/>
                </a:lnTo>
                <a:lnTo>
                  <a:pt x="1438" y="249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ewall configu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2057400" y="1436760"/>
            <a:ext cx="5486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EEE 802 network standa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582480" y="1387440"/>
            <a:ext cx="8088120" cy="5000400"/>
            <a:chOff x="582480" y="1387440"/>
            <a:chExt cx="8088120" cy="5000400"/>
          </a:xfrm>
        </p:grpSpPr>
        <p:sp>
          <p:nvSpPr>
            <p:cNvPr id="1276" name=""/>
            <p:cNvSpPr/>
            <p:nvPr/>
          </p:nvSpPr>
          <p:spPr>
            <a:xfrm>
              <a:off x="739800" y="150732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EEE N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4320" y="150732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1000" y="150732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60600" y="150732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9080" y="204876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893600" y="2048760"/>
              <a:ext cx="86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045960" y="2048760"/>
              <a:ext cx="329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SMA/CD Networks (Etherne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57000" y="204876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9080" y="258804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45960" y="2588040"/>
              <a:ext cx="21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ken Bus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956640" y="2588040"/>
              <a:ext cx="14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9080" y="312948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45960" y="3129480"/>
              <a:ext cx="22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ken Ring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957000" y="312948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85c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39080" y="3670560"/>
              <a:ext cx="5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045960" y="3670560"/>
              <a:ext cx="294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tropolitan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56640" y="367056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94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9080" y="421200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95400" y="4212000"/>
              <a:ext cx="52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F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46320" y="4212000"/>
              <a:ext cx="314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Local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56640" y="421200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1999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8000" y="475092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894320" y="47509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5240" y="4750920"/>
              <a:ext cx="344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Personal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956640" y="475092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000" y="529236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.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94320" y="5292360"/>
              <a:ext cx="74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igB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5240" y="5292360"/>
              <a:ext cx="270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Sensor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956640" y="5292360"/>
              <a:ext cx="129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080" y="583344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93960" y="58334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5600" y="5833440"/>
              <a:ext cx="389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reless Metropolitan Area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57000" y="5833440"/>
              <a:ext cx="141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IEEE 2004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82480" y="1387440"/>
              <a:ext cx="7815600" cy="4893120"/>
              <a:chOff x="582480" y="1387440"/>
              <a:chExt cx="7815600" cy="4893120"/>
            </a:xfrm>
          </p:grpSpPr>
          <p:sp>
            <p:nvSpPr>
              <p:cNvPr id="1310" name=""/>
              <p:cNvSpPr/>
              <p:nvPr/>
            </p:nvSpPr>
            <p:spPr>
              <a:xfrm>
                <a:off x="582480" y="1387440"/>
                <a:ext cx="78156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2480" y="6279120"/>
                <a:ext cx="78156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8424720" y="6363720"/>
              <a:ext cx="245880" cy="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thernet ranges and spee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241880" y="237492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041800" y="237492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42080" y="2374920"/>
            <a:ext cx="126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42000" y="2374920"/>
            <a:ext cx="129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42000" y="2374920"/>
            <a:ext cx="129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642000" y="2806560"/>
            <a:ext cx="129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642000" y="308628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42000" y="336564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42000" y="364500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642000" y="392436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241880" y="449568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041800" y="449568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842080" y="4495680"/>
            <a:ext cx="126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642000" y="4203720"/>
            <a:ext cx="129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642000" y="4495680"/>
            <a:ext cx="12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79320" y="1527120"/>
            <a:ext cx="7743600" cy="3694680"/>
            <a:chOff x="679320" y="1527120"/>
            <a:chExt cx="7743600" cy="3694680"/>
          </a:xfrm>
        </p:grpSpPr>
        <p:sp>
          <p:nvSpPr>
            <p:cNvPr id="1330" name=""/>
            <p:cNvSpPr/>
            <p:nvPr/>
          </p:nvSpPr>
          <p:spPr>
            <a:xfrm>
              <a:off x="2905920" y="1659960"/>
              <a:ext cx="88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Base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299120" y="165996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693040" y="1659960"/>
              <a:ext cx="102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3720" y="1659960"/>
              <a:ext cx="114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00B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5520" y="2411280"/>
              <a:ext cx="92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07720" y="2411280"/>
              <a:ext cx="90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99480" y="2411280"/>
              <a:ext cx="90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93400" y="2411280"/>
              <a:ext cx="102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84440" y="2411280"/>
              <a:ext cx="115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1560" y="2897640"/>
              <a:ext cx="230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x. segment length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82640" y="3384000"/>
              <a:ext cx="205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wisted wire (UT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0664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9948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692680" y="338400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85520" y="3384000"/>
              <a:ext cx="51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83360" y="3870360"/>
              <a:ext cx="206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axial cable (ST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0664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9948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92680" y="387036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85520" y="3870360"/>
              <a:ext cx="51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77600" y="4356720"/>
              <a:ext cx="176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ti-mode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06280" y="43567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99120" y="435672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87080" y="4356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92680" y="435672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085160" y="4356720"/>
              <a:ext cx="64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75440" y="4843800"/>
              <a:ext cx="180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no-mode f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0556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9876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97600" y="484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691600" y="4843800"/>
              <a:ext cx="90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84800" y="4843800"/>
              <a:ext cx="77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79320" y="1527120"/>
              <a:ext cx="7743600" cy="3694680"/>
              <a:chOff x="679320" y="1527120"/>
              <a:chExt cx="7743600" cy="3694680"/>
            </a:xfrm>
          </p:grpSpPr>
          <p:sp>
            <p:nvSpPr>
              <p:cNvPr id="1363" name=""/>
              <p:cNvSpPr/>
              <p:nvPr/>
            </p:nvSpPr>
            <p:spPr>
              <a:xfrm>
                <a:off x="679320" y="1527120"/>
                <a:ext cx="77436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9320" y="5219640"/>
                <a:ext cx="77436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Wireless LAN configu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609480" y="1512720"/>
            <a:ext cx="77724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3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uetooth frame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17680" y="53085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 packets (e.g. for voice data) have a 240-bit payload containing 80 bits of data triplicated, filling exactly one time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584280" y="1335240"/>
            <a:ext cx="7936560" cy="3841560"/>
            <a:chOff x="584280" y="1335240"/>
            <a:chExt cx="7936560" cy="3841560"/>
          </a:xfrm>
        </p:grpSpPr>
        <p:grpSp>
          <p:nvGrpSpPr>
            <p:cNvPr id="1370" name=""/>
            <p:cNvGrpSpPr/>
            <p:nvPr/>
          </p:nvGrpSpPr>
          <p:grpSpPr>
            <a:xfrm>
              <a:off x="584280" y="1335240"/>
              <a:ext cx="7936560" cy="1193400"/>
              <a:chOff x="584280" y="1335240"/>
              <a:chExt cx="7936560" cy="1193400"/>
            </a:xfrm>
          </p:grpSpPr>
          <p:sp>
            <p:nvSpPr>
              <p:cNvPr id="1371" name=""/>
              <p:cNvSpPr/>
              <p:nvPr/>
            </p:nvSpPr>
            <p:spPr>
              <a:xfrm>
                <a:off x="666360" y="1335240"/>
                <a:ext cx="90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its:   7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66076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79224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948560" y="13352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77520" y="1335240"/>
                <a:ext cx="85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- 274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793200" y="13352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67800" y="1901160"/>
                <a:ext cx="1267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cess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659680" y="1901160"/>
                <a:ext cx="73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659680" y="2146320"/>
                <a:ext cx="689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792240" y="1901160"/>
                <a:ext cx="73692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47120" y="1901160"/>
                <a:ext cx="73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47120" y="2146320"/>
                <a:ext cx="689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py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077160" y="1901160"/>
                <a:ext cx="219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 for transmis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42280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55320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71024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40280" y="174492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584280" y="1757160"/>
                <a:ext cx="7928280" cy="766800"/>
                <a:chOff x="584280" y="1757160"/>
                <a:chExt cx="7928280" cy="76680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584280" y="1757160"/>
                  <a:ext cx="7924680" cy="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87880" y="2518200"/>
                  <a:ext cx="7924680" cy="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600480" y="1755000"/>
                <a:ext cx="216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519040" y="1755000"/>
                <a:ext cx="1800" cy="77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13080" y="3437280"/>
              <a:ext cx="7663680" cy="1739520"/>
              <a:chOff x="613080" y="3437280"/>
              <a:chExt cx="7663680" cy="1739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665640" y="3445200"/>
                <a:ext cx="837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its:   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31156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0992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9596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77108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18440" y="34452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2784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0650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92544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73652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381720" y="3437280"/>
                <a:ext cx="24480" cy="49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67080" y="4013640"/>
                <a:ext cx="117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tin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311560" y="4013640"/>
                <a:ext cx="52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lo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98880" y="4013640"/>
                <a:ext cx="425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959280" y="4013640"/>
                <a:ext cx="383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70360" y="4013640"/>
                <a:ext cx="52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5560" y="4013640"/>
                <a:ext cx="182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eader checks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074680" y="387972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86092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2132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533120" y="387972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17796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6360" y="4626720"/>
                <a:ext cx="1521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ddress with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67440" y="4871520"/>
                <a:ext cx="777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ico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68560" y="4624560"/>
                <a:ext cx="1377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 ACL, SCO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70000" y="487152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oll, 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613080" y="3873600"/>
                <a:ext cx="7663680" cy="614520"/>
                <a:chOff x="613080" y="3873600"/>
                <a:chExt cx="7663680" cy="6145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613080" y="3873600"/>
                  <a:ext cx="76636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13080" y="4486320"/>
                  <a:ext cx="76636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"/>
              <p:cNvSpPr/>
              <p:nvPr/>
            </p:nvSpPr>
            <p:spPr>
              <a:xfrm>
                <a:off x="624960" y="3879720"/>
                <a:ext cx="216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265600" y="3871080"/>
                <a:ext cx="1800" cy="60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603360" y="2540160"/>
            <a:ext cx="6468840" cy="911160"/>
          </a:xfrm>
          <a:custGeom>
            <a:avLst/>
            <a:gdLst/>
            <a:ahLst/>
            <a:rect l="l" t="t" r="r" b="b"/>
            <a:pathLst>
              <a:path w="3915" h="574">
                <a:moveTo>
                  <a:pt x="1073" y="0"/>
                </a:moveTo>
                <a:lnTo>
                  <a:pt x="0" y="574"/>
                </a:lnTo>
                <a:lnTo>
                  <a:pt x="3915" y="574"/>
                </a:lnTo>
                <a:lnTo>
                  <a:pt x="1788" y="4"/>
                </a:lnTo>
                <a:lnTo>
                  <a:pt x="1073" y="0"/>
                </a:lnTo>
                <a:close/>
              </a:path>
            </a:pathLst>
          </a:custGeom>
          <a:solidFill>
            <a:srgbClr val="ffcc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608560" y="2916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protocol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cell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762120" y="2949480"/>
            <a:ext cx="78483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witching virtual paths in an ATM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685800" y="1781280"/>
            <a:ext cx="7772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nceptual layering of protocol softwa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430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430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8940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940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2972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2972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675240"/>
            <a:ext cx="7873920" cy="30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675240"/>
            <a:ext cx="7899480" cy="32688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766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0766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0240" y="4076640"/>
            <a:ext cx="4503960" cy="301680"/>
          </a:xfrm>
          <a:prstGeom prst="ellipse">
            <a:avLst/>
          </a:prstGeom>
          <a:solidFill>
            <a:srgbClr val="d9aa73"/>
          </a:solidFill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9680" y="4152960"/>
            <a:ext cx="518148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9400" y="4051440"/>
            <a:ext cx="376200" cy="252360"/>
          </a:xfrm>
          <a:custGeom>
            <a:avLst/>
            <a:gdLst/>
            <a:ahLst/>
            <a:rect l="l" t="t" r="r" b="b"/>
            <a:pathLst>
              <a:path w="237" h="159">
                <a:moveTo>
                  <a:pt x="237" y="80"/>
                </a:moveTo>
                <a:lnTo>
                  <a:pt x="0" y="159"/>
                </a:lnTo>
                <a:lnTo>
                  <a:pt x="127" y="80"/>
                </a:lnTo>
                <a:lnTo>
                  <a:pt x="0" y="0"/>
                </a:lnTo>
                <a:lnTo>
                  <a:pt x="222" y="80"/>
                </a:lnTo>
                <a:lnTo>
                  <a:pt x="237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9680" y="4203720"/>
            <a:ext cx="2616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3280" y="26290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3280" y="3786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3280" y="4164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0160" y="2517840"/>
            <a:ext cx="80640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54160" y="20257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39000" y="200016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7200" y="4491000"/>
            <a:ext cx="141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4840" y="474336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08680" y="45417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40480" y="45417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29400" y="2517840"/>
            <a:ext cx="80496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056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056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056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56640" y="33735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56640" y="4127400"/>
            <a:ext cx="1508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56640" y="3749760"/>
            <a:ext cx="1508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6640" y="2970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56640" y="2592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51840" y="2239920"/>
            <a:ext cx="125280" cy="101520"/>
          </a:xfrm>
          <a:custGeom>
            <a:avLst/>
            <a:gdLst/>
            <a:ahLst/>
            <a:rect l="l" t="t" r="r" b="b"/>
            <a:pathLst>
              <a:path w="79" h="64">
                <a:moveTo>
                  <a:pt x="79" y="32"/>
                </a:moveTo>
                <a:lnTo>
                  <a:pt x="64" y="64"/>
                </a:lnTo>
                <a:lnTo>
                  <a:pt x="0" y="0"/>
                </a:lnTo>
                <a:lnTo>
                  <a:pt x="79" y="16"/>
                </a:lnTo>
                <a:lnTo>
                  <a:pt x="79" y="3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377120" y="2290680"/>
            <a:ext cx="479520" cy="27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3397320"/>
            <a:ext cx="1526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7040" y="415296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7040" y="37749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7040" y="29955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7040" y="261792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9680" y="2467080"/>
            <a:ext cx="125280" cy="100080"/>
          </a:xfrm>
          <a:custGeom>
            <a:avLst/>
            <a:gdLst/>
            <a:ahLst/>
            <a:rect l="l" t="t" r="r" b="b"/>
            <a:pathLst>
              <a:path w="79" h="63">
                <a:moveTo>
                  <a:pt x="63" y="16"/>
                </a:moveTo>
                <a:lnTo>
                  <a:pt x="79" y="32"/>
                </a:lnTo>
                <a:lnTo>
                  <a:pt x="0" y="63"/>
                </a:lnTo>
                <a:lnTo>
                  <a:pt x="47" y="0"/>
                </a:lnTo>
                <a:lnTo>
                  <a:pt x="63" y="1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874600" y="2265480"/>
            <a:ext cx="352440" cy="22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048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as it is applied in layered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2208240"/>
            <a:ext cx="8153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rotocol layers in the ISO Open Systems Interconnection (OSI) mod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SI protocol summ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68600" y="19000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97840" y="19000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80960" y="1579680"/>
            <a:ext cx="8306640" cy="4397400"/>
            <a:chOff x="480960" y="1579680"/>
            <a:chExt cx="8306640" cy="4397400"/>
          </a:xfrm>
        </p:grpSpPr>
        <p:sp>
          <p:nvSpPr>
            <p:cNvPr id="197" name=""/>
            <p:cNvSpPr/>
            <p:nvPr/>
          </p:nvSpPr>
          <p:spPr>
            <a:xfrm>
              <a:off x="1668600" y="1617840"/>
              <a:ext cx="172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99360" y="1617840"/>
              <a:ext cx="190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8600" y="5975280"/>
              <a:ext cx="172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99360" y="5975280"/>
              <a:ext cx="190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520" y="167328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2360" y="167328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24920" y="167328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68600" y="1579680"/>
              <a:ext cx="172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9360" y="1579680"/>
              <a:ext cx="190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1280" y="190980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7240" y="1909800"/>
              <a:ext cx="511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that are designed to meet the communication requirement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0120" y="2097000"/>
              <a:ext cx="440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pecific applications, often defining the interface to a servi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808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8624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26000" y="192888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TT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6320" y="190980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56520" y="19288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49400" y="1928880"/>
              <a:ext cx="50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MTP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6360" y="211608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RBA II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68600" y="1900080"/>
              <a:ext cx="172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99360" y="1900080"/>
              <a:ext cx="190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1640" y="234324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2343240"/>
              <a:ext cx="500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at this level transmit data in a network representation tha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5080" y="2532240"/>
              <a:ext cx="546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dependent of the representations used in individual computers, which 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8680" y="2720880"/>
              <a:ext cx="434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iffer. Encryption is also performed in this layer, if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3120" y="234324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cure Sock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25640" y="2532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83240" y="2532240"/>
              <a:ext cx="140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SL),CORBA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26000" y="27208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68600" y="233352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99360" y="233352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080" y="2946240"/>
              <a:ext cx="54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2946240"/>
              <a:ext cx="52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 this level reliability and adaptation are performed, such as detection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87680" y="3135240"/>
              <a:ext cx="230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ilures and automatic recover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68600" y="2938320"/>
              <a:ext cx="172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99360" y="2938320"/>
              <a:ext cx="19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2360" y="336240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80480" y="3362400"/>
              <a:ext cx="546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is is the lowest level at which messages (rather than packets) are handl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81560" y="3551400"/>
              <a:ext cx="506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ssages are addressed to communication ports attached to processe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160" y="3738600"/>
              <a:ext cx="495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in this layer may be connection-oriented or connectionles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0" y="336240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C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23080" y="3362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8600" y="335268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99360" y="335268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800" y="396540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84080" y="3965400"/>
              <a:ext cx="540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fers data packets between computers in a specific network. In a W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4000" y="4154400"/>
              <a:ext cx="526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an internetwork this involves the generation of a route passing 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83720" y="4343400"/>
              <a:ext cx="338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. In a single LAN no routing is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25640" y="39654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9720" y="3965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vir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480" y="415440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68600" y="395604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95604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3080" y="456876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8320" y="4568760"/>
              <a:ext cx="513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ponsible for transmission of packets between nodes that are direct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80840" y="4757760"/>
              <a:ext cx="521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nnected by a physical link. In a WAN transmission is between pair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79760" y="4946760"/>
              <a:ext cx="559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 or between routers and hosts. In a LAN it is between any pair of hos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24560" y="4568760"/>
              <a:ext cx="110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MAC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3840" y="4757760"/>
              <a:ext cx="133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cell transfe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4920" y="4946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8600" y="456084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99360" y="456084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2720" y="5173560"/>
              <a:ext cx="6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9040" y="5173560"/>
              <a:ext cx="534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e circuits and hardware that drive the network. It transmits sequenc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2200" y="5361120"/>
              <a:ext cx="55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inary data by analogue signalling, using amplitude or frequency mod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73640" y="5549760"/>
              <a:ext cx="53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f electrical signals (on cable circuits), light signals (on fibre optic circuit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8680" y="5738760"/>
              <a:ext cx="481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other electromagnetic signals (on radio and microwave circuits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21680" y="5173560"/>
              <a:ext cx="142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base-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2040" y="5361120"/>
              <a:ext cx="79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gnall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75240" y="536112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68600" y="5164200"/>
              <a:ext cx="17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99360" y="5164200"/>
              <a:ext cx="190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640" y="597708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8880" y="159696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960" y="189864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work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in a wide area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3400" y="1708200"/>
            <a:ext cx="6640200" cy="4143240"/>
            <a:chOff x="1373400" y="1708200"/>
            <a:chExt cx="6640200" cy="4143240"/>
          </a:xfrm>
        </p:grpSpPr>
        <p:sp>
          <p:nvSpPr>
            <p:cNvPr id="276" name=""/>
            <p:cNvSpPr/>
            <p:nvPr/>
          </p:nvSpPr>
          <p:spPr>
            <a:xfrm flipH="1" flipV="1">
              <a:off x="2990880" y="2868480"/>
              <a:ext cx="218880" cy="1602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59200" y="2868480"/>
              <a:ext cx="3547800" cy="879480"/>
            </a:xfrm>
            <a:custGeom>
              <a:avLst/>
              <a:gdLst/>
              <a:ahLst/>
              <a:rect l="l" t="t" r="r" b="b"/>
              <a:pathLst>
                <a:path w="2235" h="554">
                  <a:moveTo>
                    <a:pt x="0" y="0"/>
                  </a:moveTo>
                  <a:lnTo>
                    <a:pt x="1721" y="0"/>
                  </a:lnTo>
                  <a:lnTo>
                    <a:pt x="2235" y="554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79880" y="4406760"/>
              <a:ext cx="207144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19640" y="2838600"/>
              <a:ext cx="471600" cy="1631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19640" y="3747600"/>
              <a:ext cx="1319400" cy="6908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79880" y="4438800"/>
              <a:ext cx="61920" cy="9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87960" y="4406760"/>
              <a:ext cx="63360" cy="9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59200" y="2209680"/>
              <a:ext cx="63360" cy="56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9560" y="2084400"/>
              <a:ext cx="633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07000" y="3654360"/>
              <a:ext cx="6908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671480" y="2084400"/>
              <a:ext cx="911520" cy="11620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41600" y="4187880"/>
              <a:ext cx="1066680" cy="1224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5597640" y="4563720"/>
              <a:ext cx="627120" cy="1573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445080" y="3998880"/>
              <a:ext cx="1800" cy="6285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02240" y="2681280"/>
              <a:ext cx="40788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22560" y="4219560"/>
              <a:ext cx="43992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62680" y="4219560"/>
              <a:ext cx="40788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3497400"/>
              <a:ext cx="439560" cy="43956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7660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660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1640" y="2681280"/>
              <a:ext cx="43812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4480" y="327960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45080" y="3405240"/>
              <a:ext cx="59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74840" y="3562200"/>
              <a:ext cx="89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3400" y="3844800"/>
              <a:ext cx="102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3040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39560" y="4282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0320" y="42829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01880" y="5097600"/>
              <a:ext cx="879480" cy="753840"/>
            </a:xfrm>
            <a:custGeom>
              <a:avLst/>
              <a:gdLst/>
              <a:ahLst/>
              <a:rect l="l" t="t" r="r" b="b"/>
              <a:pathLst>
                <a:path w="554" h="475">
                  <a:moveTo>
                    <a:pt x="20" y="119"/>
                  </a:moveTo>
                  <a:lnTo>
                    <a:pt x="40" y="79"/>
                  </a:lnTo>
                  <a:lnTo>
                    <a:pt x="60" y="59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40"/>
                  </a:lnTo>
                  <a:lnTo>
                    <a:pt x="297" y="40"/>
                  </a:lnTo>
                  <a:lnTo>
                    <a:pt x="317" y="20"/>
                  </a:lnTo>
                  <a:lnTo>
                    <a:pt x="337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40"/>
                  </a:lnTo>
                  <a:lnTo>
                    <a:pt x="515" y="79"/>
                  </a:lnTo>
                  <a:lnTo>
                    <a:pt x="554" y="158"/>
                  </a:lnTo>
                  <a:lnTo>
                    <a:pt x="554" y="237"/>
                  </a:lnTo>
                  <a:lnTo>
                    <a:pt x="554" y="297"/>
                  </a:lnTo>
                  <a:lnTo>
                    <a:pt x="554" y="336"/>
                  </a:lnTo>
                  <a:lnTo>
                    <a:pt x="534" y="415"/>
                  </a:lnTo>
                  <a:lnTo>
                    <a:pt x="515" y="455"/>
                  </a:lnTo>
                  <a:lnTo>
                    <a:pt x="475" y="475"/>
                  </a:lnTo>
                  <a:lnTo>
                    <a:pt x="435" y="475"/>
                  </a:lnTo>
                  <a:lnTo>
                    <a:pt x="396" y="455"/>
                  </a:lnTo>
                  <a:lnTo>
                    <a:pt x="356" y="455"/>
                  </a:lnTo>
                  <a:lnTo>
                    <a:pt x="317" y="435"/>
                  </a:lnTo>
                  <a:lnTo>
                    <a:pt x="277" y="435"/>
                  </a:lnTo>
                  <a:lnTo>
                    <a:pt x="238" y="43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9" y="45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60" y="435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20" y="376"/>
                  </a:lnTo>
                  <a:lnTo>
                    <a:pt x="2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308400"/>
              <a:ext cx="877680" cy="753840"/>
            </a:xfrm>
            <a:custGeom>
              <a:avLst/>
              <a:gdLst/>
              <a:ahLst/>
              <a:rect l="l" t="t" r="r" b="b"/>
              <a:pathLst>
                <a:path w="553" h="475">
                  <a:moveTo>
                    <a:pt x="0" y="99"/>
                  </a:moveTo>
                  <a:lnTo>
                    <a:pt x="19" y="79"/>
                  </a:lnTo>
                  <a:lnTo>
                    <a:pt x="39" y="40"/>
                  </a:lnTo>
                  <a:lnTo>
                    <a:pt x="79" y="20"/>
                  </a:lnTo>
                  <a:lnTo>
                    <a:pt x="99" y="40"/>
                  </a:lnTo>
                  <a:lnTo>
                    <a:pt x="118" y="20"/>
                  </a:lnTo>
                  <a:lnTo>
                    <a:pt x="158" y="20"/>
                  </a:lnTo>
                  <a:lnTo>
                    <a:pt x="197" y="40"/>
                  </a:lnTo>
                  <a:lnTo>
                    <a:pt x="237" y="40"/>
                  </a:lnTo>
                  <a:lnTo>
                    <a:pt x="277" y="40"/>
                  </a:lnTo>
                  <a:lnTo>
                    <a:pt x="296" y="20"/>
                  </a:lnTo>
                  <a:lnTo>
                    <a:pt x="316" y="0"/>
                  </a:lnTo>
                  <a:lnTo>
                    <a:pt x="356" y="0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4" y="40"/>
                  </a:lnTo>
                  <a:lnTo>
                    <a:pt x="514" y="79"/>
                  </a:lnTo>
                  <a:lnTo>
                    <a:pt x="534" y="139"/>
                  </a:lnTo>
                  <a:lnTo>
                    <a:pt x="534" y="237"/>
                  </a:lnTo>
                  <a:lnTo>
                    <a:pt x="553" y="277"/>
                  </a:lnTo>
                  <a:lnTo>
                    <a:pt x="534" y="336"/>
                  </a:lnTo>
                  <a:lnTo>
                    <a:pt x="534" y="415"/>
                  </a:lnTo>
                  <a:lnTo>
                    <a:pt x="494" y="455"/>
                  </a:lnTo>
                  <a:lnTo>
                    <a:pt x="455" y="475"/>
                  </a:lnTo>
                  <a:lnTo>
                    <a:pt x="415" y="455"/>
                  </a:lnTo>
                  <a:lnTo>
                    <a:pt x="375" y="455"/>
                  </a:lnTo>
                  <a:lnTo>
                    <a:pt x="336" y="455"/>
                  </a:lnTo>
                  <a:lnTo>
                    <a:pt x="296" y="435"/>
                  </a:lnTo>
                  <a:lnTo>
                    <a:pt x="277" y="435"/>
                  </a:lnTo>
                  <a:lnTo>
                    <a:pt x="237" y="435"/>
                  </a:lnTo>
                  <a:lnTo>
                    <a:pt x="197" y="435"/>
                  </a:lnTo>
                  <a:lnTo>
                    <a:pt x="178" y="455"/>
                  </a:lnTo>
                  <a:lnTo>
                    <a:pt x="158" y="455"/>
                  </a:lnTo>
                  <a:lnTo>
                    <a:pt x="118" y="455"/>
                  </a:lnTo>
                  <a:lnTo>
                    <a:pt x="99" y="45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19" y="415"/>
                  </a:lnTo>
                  <a:lnTo>
                    <a:pt x="19" y="376"/>
                  </a:lnTo>
                  <a:lnTo>
                    <a:pt x="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78"/>
                  </a:lnTo>
                  <a:lnTo>
                    <a:pt x="0" y="13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1760" y="5065560"/>
              <a:ext cx="879480" cy="785880"/>
            </a:xfrm>
            <a:custGeom>
              <a:avLst/>
              <a:gdLst/>
              <a:ahLst/>
              <a:rect l="l" t="t" r="r" b="b"/>
              <a:pathLst>
                <a:path w="554" h="495">
                  <a:moveTo>
                    <a:pt x="20" y="119"/>
                  </a:moveTo>
                  <a:lnTo>
                    <a:pt x="40" y="99"/>
                  </a:lnTo>
                  <a:lnTo>
                    <a:pt x="59" y="60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60"/>
                  </a:lnTo>
                  <a:lnTo>
                    <a:pt x="297" y="60"/>
                  </a:lnTo>
                  <a:lnTo>
                    <a:pt x="317" y="40"/>
                  </a:lnTo>
                  <a:lnTo>
                    <a:pt x="336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60"/>
                  </a:lnTo>
                  <a:lnTo>
                    <a:pt x="514" y="99"/>
                  </a:lnTo>
                  <a:lnTo>
                    <a:pt x="554" y="159"/>
                  </a:lnTo>
                  <a:lnTo>
                    <a:pt x="554" y="238"/>
                  </a:lnTo>
                  <a:lnTo>
                    <a:pt x="554" y="297"/>
                  </a:lnTo>
                  <a:lnTo>
                    <a:pt x="554" y="356"/>
                  </a:lnTo>
                  <a:lnTo>
                    <a:pt x="534" y="435"/>
                  </a:lnTo>
                  <a:lnTo>
                    <a:pt x="514" y="475"/>
                  </a:lnTo>
                  <a:lnTo>
                    <a:pt x="475" y="495"/>
                  </a:lnTo>
                  <a:lnTo>
                    <a:pt x="435" y="475"/>
                  </a:lnTo>
                  <a:lnTo>
                    <a:pt x="396" y="475"/>
                  </a:lnTo>
                  <a:lnTo>
                    <a:pt x="356" y="455"/>
                  </a:lnTo>
                  <a:lnTo>
                    <a:pt x="317" y="455"/>
                  </a:lnTo>
                  <a:lnTo>
                    <a:pt x="277" y="455"/>
                  </a:lnTo>
                  <a:lnTo>
                    <a:pt x="237" y="45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8" y="47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40" y="435"/>
                  </a:lnTo>
                  <a:lnTo>
                    <a:pt x="40" y="416"/>
                  </a:lnTo>
                  <a:lnTo>
                    <a:pt x="20" y="376"/>
                  </a:lnTo>
                  <a:lnTo>
                    <a:pt x="20" y="337"/>
                  </a:lnTo>
                  <a:lnTo>
                    <a:pt x="0" y="277"/>
                  </a:lnTo>
                  <a:lnTo>
                    <a:pt x="0" y="238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7696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696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076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5120" y="35924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21280" y="2711520"/>
              <a:ext cx="34596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19200" y="27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10120" y="3121200"/>
              <a:ext cx="34632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19200" y="3154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22920" y="3936960"/>
              <a:ext cx="344520" cy="3445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32000" y="3970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1320" y="3465360"/>
              <a:ext cx="376200" cy="3463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70120" y="3498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7520" y="3497400"/>
              <a:ext cx="34596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3530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57560" y="4249800"/>
              <a:ext cx="37800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77800" y="4282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3080" y="472932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3179520" y="3402000"/>
              <a:ext cx="439560" cy="633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838680" y="2963520"/>
              <a:ext cx="1440" cy="407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tables for the network in Figure 3.7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1484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1348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636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1484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1348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085840" y="4249800"/>
            <a:ext cx="5226120" cy="1873080"/>
            <a:chOff x="2085840" y="4249800"/>
            <a:chExt cx="5226120" cy="1873080"/>
          </a:xfrm>
        </p:grpSpPr>
        <p:sp>
          <p:nvSpPr>
            <p:cNvPr id="336" name=""/>
            <p:cNvSpPr/>
            <p:nvPr/>
          </p:nvSpPr>
          <p:spPr>
            <a:xfrm>
              <a:off x="2568960" y="42800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67240" y="4280040"/>
              <a:ext cx="15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14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2552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25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3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2416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24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09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0488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15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09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100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34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34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4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68720" y="560376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3468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496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3496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3496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3496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3496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08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0352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14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08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0964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33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33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33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3368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67720" y="584820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60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360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360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360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3360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04920" y="424980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10040" y="4253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95560" y="4859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00680" y="486252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5840" y="6107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90960" y="6110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2120" y="1719360"/>
            <a:ext cx="8259840" cy="1951560"/>
            <a:chOff x="492120" y="1719360"/>
            <a:chExt cx="8259840" cy="1951560"/>
          </a:xfrm>
        </p:grpSpPr>
        <p:sp>
          <p:nvSpPr>
            <p:cNvPr id="381" name=""/>
            <p:cNvSpPr/>
            <p:nvPr/>
          </p:nvSpPr>
          <p:spPr>
            <a:xfrm>
              <a:off x="8082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368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64320" y="17301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620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8888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552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7336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1784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5448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0232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4536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8200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228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192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192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228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192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88160" y="23587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526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526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26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526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932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8932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8932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8932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932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1944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194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94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1944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1908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7984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17120" y="26143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7984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984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7984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31648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164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164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164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164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840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480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480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4840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804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0736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0736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44280" y="28699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0736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0736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4400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4400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24400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4400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4400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92120" y="1738080"/>
              <a:ext cx="2401920" cy="1918800"/>
              <a:chOff x="492120" y="1738080"/>
              <a:chExt cx="2401920" cy="1918800"/>
            </a:xfrm>
          </p:grpSpPr>
          <p:sp>
            <p:nvSpPr>
              <p:cNvPr id="439" name=""/>
              <p:cNvSpPr/>
              <p:nvPr/>
            </p:nvSpPr>
            <p:spPr>
              <a:xfrm>
                <a:off x="492120" y="17380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92120" y="234720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2120" y="36568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421080" y="1728720"/>
              <a:ext cx="2401920" cy="1918800"/>
              <a:chOff x="3421080" y="1728720"/>
              <a:chExt cx="2401920" cy="1918800"/>
            </a:xfrm>
          </p:grpSpPr>
          <p:sp>
            <p:nvSpPr>
              <p:cNvPr id="443" name=""/>
              <p:cNvSpPr/>
              <p:nvPr/>
            </p:nvSpPr>
            <p:spPr>
              <a:xfrm>
                <a:off x="3421080" y="17287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21080" y="233784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21080" y="36475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350040" y="1719360"/>
              <a:ext cx="2401920" cy="1918800"/>
              <a:chOff x="6350040" y="1719360"/>
              <a:chExt cx="2401920" cy="1918800"/>
            </a:xfrm>
          </p:grpSpPr>
          <p:sp>
            <p:nvSpPr>
              <p:cNvPr id="447" name=""/>
              <p:cNvSpPr/>
              <p:nvPr/>
            </p:nvSpPr>
            <p:spPr>
              <a:xfrm>
                <a:off x="6350040" y="17193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50040" y="23284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50040" y="36381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23:34:53Z</dcterms:created>
  <dc:creator>George Coulouris</dc:creator>
  <dc:description/>
  <dc:language>en-US</dc:language>
  <cp:lastModifiedBy>George Coulouris</cp:lastModifiedBy>
  <dcterms:modified xsi:type="dcterms:W3CDTF">2005-05-07T16:40:29Z</dcterms:modified>
  <cp:revision>51</cp:revision>
  <dc:subject/>
  <dc:title> Slides for Chapter 3:  Networking and Internetworking</dc:title>
</cp:coreProperties>
</file>