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6C8-CC9C-4E87-B09E-D8B11137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429-DCE6-49E5-98FD-FE112041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692-4190-4912-A2F1-F9EDED94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E00-2246-4232-990D-F199ABBE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DABD-E898-4F37-A35F-1C46F48F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783E-8F09-47CA-843F-B380DFFA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2111-8EB1-450B-BDA6-ECEDC74C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FB37-809B-44E1-BD7B-D4179E77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135C-4EED-44FA-AF08-F3866983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1398-A36B-4003-A059-3D242A35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BA87-2665-48AF-80AD-3D612352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822-7E05-4267-B8B6-1EDBCA39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DF9F-006D-412B-B79F-12CEFACD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0312-9063-4954-9D45-6A45FAF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A15E-82DB-4B3B-80A2-E550FCD8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0FCD-3704-4E84-959E-24308AA2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B63D-3E3B-4CD4-9A8E-44D7297B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888-38B7-4E9E-A2DB-BF8CF4B5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895-9EB8-4152-981A-0796B1C2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724-F952-4529-B837-5254A1D0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53F-CE6D-4F96-A0DB-6C9EB480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1F3-F41D-4167-ACCF-AC2298E7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6F9-F827-4186-A60F-444742D1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728-13FA-4F14-93DB-F3B5622E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3439-761E-4965-8A0C-9662167E99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D0EB-A638-4C2A-8582-11D41EEACF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8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istributed File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8200" y="3070080"/>
            <a:ext cx="20527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FS server operations (simplified) –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55720" y="1457280"/>
            <a:ext cx="8345520" cy="4666680"/>
            <a:chOff x="855720" y="1457280"/>
            <a:chExt cx="8345520" cy="4666680"/>
          </a:xfrm>
        </p:grpSpPr>
        <p:sp>
          <p:nvSpPr>
            <p:cNvPr id="488" name=""/>
            <p:cNvSpPr/>
            <p:nvPr/>
          </p:nvSpPr>
          <p:spPr>
            <a:xfrm>
              <a:off x="955080" y="1539720"/>
              <a:ext cx="219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lookup(dirfh, name) -&gt; fh,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87480" y="1539720"/>
              <a:ext cx="543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file handle and attributes for the fil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95040" y="1752480"/>
              <a:ext cx="44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02200" y="175248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56880" y="2082960"/>
              <a:ext cx="196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reate(dirfh, name, attr) -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87400" y="2082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02520" y="2044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05920" y="2276640"/>
              <a:ext cx="77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newfh,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90360" y="2082960"/>
              <a:ext cx="529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 new file name in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with attributes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ttr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91800" y="2295360"/>
              <a:ext cx="336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the new file handle and attrib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9320" y="2624040"/>
              <a:ext cx="198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remove(dirfh, name) 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93240" y="2625840"/>
              <a:ext cx="328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ves file name from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60400" y="2954160"/>
              <a:ext cx="1268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getattr(fh) -&gt;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91080" y="2954160"/>
              <a:ext cx="534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turns file attributes of 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 (Similar to the UNIX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tat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syste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95760" y="3166920"/>
              <a:ext cx="41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8600" y="3497400"/>
              <a:ext cx="159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setattr(fh, attr) -&gt;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87840" y="3382920"/>
              <a:ext cx="546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s th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ributes (mode, user id, group id, size, access time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89640" y="371016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time of a file). Setting the size to 0 truncates the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5720" y="4038480"/>
              <a:ext cx="24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read(fh, offset, count) -&gt; attr,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93240" y="4038480"/>
              <a:ext cx="49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up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of data from a file starting at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ff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3240" y="4253040"/>
              <a:ext cx="347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so returns the latest attributes of the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55720" y="4581360"/>
              <a:ext cx="25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write(fh, offset, count, data) -&gt;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93240" y="4581360"/>
              <a:ext cx="518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of data to a file starting at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ff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Return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94680" y="4794120"/>
              <a:ext cx="412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ributes of the file after the write has taken pl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57160" y="5124600"/>
              <a:ext cx="2676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rename(dirfh, name, todirfh, tona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87200" y="531828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&gt;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91440" y="5124600"/>
              <a:ext cx="502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anges the name of 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o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95040" y="5337000"/>
              <a:ext cx="154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rectory to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odir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73760" y="53370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57160" y="5665680"/>
              <a:ext cx="270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link(newdirfh, newname, dirfh, na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7080" y="56656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7200" y="585936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&gt;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97920" y="5667480"/>
              <a:ext cx="546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n ent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which refers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91440" y="5880240"/>
              <a:ext cx="254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71560" y="1457280"/>
              <a:ext cx="832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385400" y="6056280"/>
            <a:ext cx="25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ntinues on next slid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FS server operations (simplified) –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28880" y="1530360"/>
            <a:ext cx="208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81560" y="1620720"/>
            <a:ext cx="8451000" cy="4542120"/>
            <a:chOff x="781560" y="1620720"/>
            <a:chExt cx="8451000" cy="4542120"/>
          </a:xfrm>
        </p:grpSpPr>
        <p:sp>
          <p:nvSpPr>
            <p:cNvPr id="527" name=""/>
            <p:cNvSpPr/>
            <p:nvPr/>
          </p:nvSpPr>
          <p:spPr>
            <a:xfrm>
              <a:off x="809640" y="6162840"/>
              <a:ext cx="839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2640" y="1620720"/>
              <a:ext cx="274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symlink(newdirfh, newname, string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4080" y="1824120"/>
              <a:ext cx="1602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&gt; sta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9840" y="1622520"/>
              <a:ext cx="482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n ent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of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60560" y="1846440"/>
              <a:ext cx="527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mbolic link with the valu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server does not interpr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4800" y="2070000"/>
              <a:ext cx="411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ut makes a symbolic link file to hold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1920" y="2414520"/>
              <a:ext cx="164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readlink(fh) -&gt; st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54800" y="2416320"/>
              <a:ext cx="506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the string that is associated with the symbolic link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53360" y="2639880"/>
              <a:ext cx="129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dentified b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3720" y="2984400"/>
              <a:ext cx="2112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mkdir(dirfh, name, attr) -&gt; </a:t>
              </a:r>
              <a:br>
                <a:rPr sz="1500"/>
              </a:b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newfh, att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62000" y="2986200"/>
              <a:ext cx="523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 new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with attributes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ttr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and return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54440" y="3209760"/>
              <a:ext cx="245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w file handle and attrib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1560" y="3554280"/>
              <a:ext cx="21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rmdir(dirfh, name) -&gt; sta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2000" y="3556080"/>
              <a:ext cx="54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ves the empty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from the parent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60560" y="3780000"/>
              <a:ext cx="275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ails if the directory is not emp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2280" y="4124160"/>
              <a:ext cx="2474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readdir(dirfh, cookie, count) -&gt; </a:t>
              </a:r>
              <a:br>
                <a:rPr sz="1500"/>
              </a:b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entr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0920" y="4125960"/>
              <a:ext cx="51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up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of directory entries from the dir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51200" y="4349880"/>
              <a:ext cx="542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 Each entry contains a file name, a file handle, and an opa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62000" y="4573440"/>
              <a:ext cx="522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 to the next directory entry, called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59120" y="4797360"/>
              <a:ext cx="547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sed in subsequen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eaddir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calls to start reading from the follo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58760" y="5022720"/>
              <a:ext cx="52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y. If the value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0, reads from the first entry in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59120" y="5246640"/>
              <a:ext cx="78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1560" y="5591160"/>
              <a:ext cx="145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statfs(fh) -&gt; fssta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56960" y="5592600"/>
              <a:ext cx="509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file system information (such as block size, number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50840" y="5816520"/>
              <a:ext cx="494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ee blocks and so on) for the file system containing a 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3728880" y="609120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l and remote file systems accessible on an NFS clien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638280" y="1503360"/>
            <a:ext cx="8618400" cy="36241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640080" y="5398920"/>
            <a:ext cx="883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ote: The file system moun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usr/student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the client is actually the sub-tree loca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export/peopl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Server 1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file system moun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usr/staff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the client is actually the sub-tree loca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nfs/user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Server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ribution of processes in the Andrew File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347840" y="1386000"/>
            <a:ext cx="73436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name space seen by clients of AF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155600" y="1467000"/>
            <a:ext cx="755496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stem call interception in AF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114560" y="1542960"/>
            <a:ext cx="784512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mplementation of file system calls in AF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02080" y="6262560"/>
            <a:ext cx="509256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930320" y="1254240"/>
            <a:ext cx="627372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main components of the Vice service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722160" y="1743120"/>
            <a:ext cx="8494920" cy="4305240"/>
            <a:chOff x="722160" y="1743120"/>
            <a:chExt cx="8494920" cy="4305240"/>
          </a:xfrm>
        </p:grpSpPr>
        <p:sp>
          <p:nvSpPr>
            <p:cNvPr id="567" name=""/>
            <p:cNvSpPr/>
            <p:nvPr/>
          </p:nvSpPr>
          <p:spPr>
            <a:xfrm>
              <a:off x="781920" y="1797120"/>
              <a:ext cx="211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etch(fid) -&gt; attr,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75920" y="1797120"/>
              <a:ext cx="595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turns the attributes (status) and, optionally, the contents of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75920" y="2049480"/>
              <a:ext cx="523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dentified by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id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records a callback promise on 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2640" y="2392200"/>
              <a:ext cx="184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ore(fid, attr, da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76280" y="2392200"/>
              <a:ext cx="598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dates the attributes and (optionally) the contents of a specifi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43960" y="2643120"/>
              <a:ext cx="36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3720" y="2986200"/>
              <a:ext cx="136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reate() -&gt; f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76640" y="2986200"/>
              <a:ext cx="508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reates a new file and records a callback promise on 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4080" y="3328920"/>
              <a:ext cx="112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move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19840" y="3328920"/>
              <a:ext cx="233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etes the specified fi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3720" y="3673440"/>
              <a:ext cx="173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etLock(fid, mo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75200" y="3673440"/>
              <a:ext cx="562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s a lock on the specified file or directory. The mode of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76280" y="3924360"/>
              <a:ext cx="563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k may be shared or exclusive. Locks that are not remov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39640" y="4175280"/>
              <a:ext cx="21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ire after 30 minut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3720" y="4518000"/>
              <a:ext cx="155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leaseLock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11200" y="4518000"/>
              <a:ext cx="354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locks the specified file or director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3360" y="4862520"/>
              <a:ext cx="194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moveCallback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178800" y="4862520"/>
              <a:ext cx="568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forms server that a Venus process has flushed a file from 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7040" y="5113440"/>
              <a:ext cx="58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ch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3360" y="5456160"/>
              <a:ext cx="177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BreakCallback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75920" y="5456160"/>
              <a:ext cx="588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call is made by a Vice server to a Venus process. It canc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178080" y="5707080"/>
              <a:ext cx="374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he callback promise on the relevant fi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2160" y="6048360"/>
              <a:ext cx="84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8360" y="1743120"/>
              <a:ext cx="847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orage systems and their propert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8640" y="1631880"/>
            <a:ext cx="646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59520" y="163188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ersi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59160" y="18446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5240" y="163188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4880" y="1844640"/>
            <a:ext cx="118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che/repl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65520" y="1631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65160" y="1844640"/>
            <a:ext cx="104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1631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7760" y="2270160"/>
            <a:ext cx="11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56760" y="233352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7040" y="2716200"/>
            <a:ext cx="93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2800" y="2716200"/>
            <a:ext cx="144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X fil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640" y="3078000"/>
            <a:ext cx="184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ed fil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0" y="3078000"/>
            <a:ext cx="73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n 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5960" y="348156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0" y="3397320"/>
            <a:ext cx="93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7760" y="3886200"/>
            <a:ext cx="222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ed shared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7840" y="3886200"/>
            <a:ext cx="153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y (DSM, Ch. 1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480" y="4289400"/>
            <a:ext cx="229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te objects (RMI/OR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0" y="4289400"/>
            <a:ext cx="7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6320" y="4694400"/>
            <a:ext cx="178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sistent object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24440" y="4692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7120" y="4694400"/>
            <a:ext cx="154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BA Pers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7120" y="490680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4160" y="5267160"/>
            <a:ext cx="21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eer-to-peer storage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7480" y="5267160"/>
            <a:ext cx="167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ceanStore (Ch.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770280" y="2390760"/>
            <a:ext cx="126720" cy="126720"/>
            <a:chOff x="3770280" y="2390760"/>
            <a:chExt cx="126720" cy="126720"/>
          </a:xfrm>
        </p:grpSpPr>
        <p:sp>
          <p:nvSpPr>
            <p:cNvPr id="115" name=""/>
            <p:cNvSpPr/>
            <p:nvPr/>
          </p:nvSpPr>
          <p:spPr>
            <a:xfrm>
              <a:off x="3770280" y="2390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770280" y="2390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44920" y="2381400"/>
            <a:ext cx="126720" cy="126720"/>
            <a:chOff x="4444920" y="2381400"/>
            <a:chExt cx="126720" cy="126720"/>
          </a:xfrm>
        </p:grpSpPr>
        <p:sp>
          <p:nvSpPr>
            <p:cNvPr id="118" name=""/>
            <p:cNvSpPr/>
            <p:nvPr/>
          </p:nvSpPr>
          <p:spPr>
            <a:xfrm>
              <a:off x="4444920" y="238140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444920" y="238140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80200" y="2371680"/>
            <a:ext cx="126720" cy="126720"/>
            <a:chOff x="5380200" y="2371680"/>
            <a:chExt cx="126720" cy="126720"/>
          </a:xfrm>
        </p:grpSpPr>
        <p:sp>
          <p:nvSpPr>
            <p:cNvPr id="121" name=""/>
            <p:cNvSpPr/>
            <p:nvPr/>
          </p:nvSpPr>
          <p:spPr>
            <a:xfrm>
              <a:off x="5380200" y="23716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380200" y="23716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782880" y="2765520"/>
            <a:ext cx="126720" cy="126720"/>
            <a:chOff x="3782880" y="2765520"/>
            <a:chExt cx="126720" cy="126720"/>
          </a:xfrm>
        </p:grpSpPr>
        <p:sp>
          <p:nvSpPr>
            <p:cNvPr id="124" name=""/>
            <p:cNvSpPr/>
            <p:nvPr/>
          </p:nvSpPr>
          <p:spPr>
            <a:xfrm>
              <a:off x="3782880" y="276552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782880" y="276552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38800" y="2749680"/>
            <a:ext cx="126360" cy="133200"/>
            <a:chOff x="4438800" y="2749680"/>
            <a:chExt cx="126360" cy="133200"/>
          </a:xfrm>
        </p:grpSpPr>
        <p:sp>
          <p:nvSpPr>
            <p:cNvPr id="127" name=""/>
            <p:cNvSpPr/>
            <p:nvPr/>
          </p:nvSpPr>
          <p:spPr>
            <a:xfrm>
              <a:off x="4438800" y="283176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457520" y="274968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92800" y="2746440"/>
            <a:ext cx="126720" cy="126720"/>
            <a:chOff x="5392800" y="2746440"/>
            <a:chExt cx="126720" cy="126720"/>
          </a:xfrm>
        </p:grpSpPr>
        <p:sp>
          <p:nvSpPr>
            <p:cNvPr id="130" name=""/>
            <p:cNvSpPr/>
            <p:nvPr/>
          </p:nvSpPr>
          <p:spPr>
            <a:xfrm>
              <a:off x="5392800" y="27464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392800" y="27464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444920" y="3124080"/>
            <a:ext cx="126360" cy="133560"/>
            <a:chOff x="4444920" y="3124080"/>
            <a:chExt cx="126360" cy="133560"/>
          </a:xfrm>
        </p:grpSpPr>
        <p:sp>
          <p:nvSpPr>
            <p:cNvPr id="133" name=""/>
            <p:cNvSpPr/>
            <p:nvPr/>
          </p:nvSpPr>
          <p:spPr>
            <a:xfrm>
              <a:off x="4444920" y="320652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463640" y="312408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781440" y="3130560"/>
            <a:ext cx="126360" cy="133200"/>
            <a:chOff x="3781440" y="3130560"/>
            <a:chExt cx="126360" cy="133200"/>
          </a:xfrm>
        </p:grpSpPr>
        <p:sp>
          <p:nvSpPr>
            <p:cNvPr id="136" name=""/>
            <p:cNvSpPr/>
            <p:nvPr/>
          </p:nvSpPr>
          <p:spPr>
            <a:xfrm>
              <a:off x="3781440" y="321264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800160" y="313056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375160" y="3137040"/>
            <a:ext cx="126360" cy="133200"/>
            <a:chOff x="5375160" y="3137040"/>
            <a:chExt cx="126360" cy="133200"/>
          </a:xfrm>
        </p:grpSpPr>
        <p:sp>
          <p:nvSpPr>
            <p:cNvPr id="139" name=""/>
            <p:cNvSpPr/>
            <p:nvPr/>
          </p:nvSpPr>
          <p:spPr>
            <a:xfrm>
              <a:off x="5375160" y="321912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93880" y="313704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711840" y="3143160"/>
            <a:ext cx="126360" cy="133560"/>
            <a:chOff x="6711840" y="3143160"/>
            <a:chExt cx="126360" cy="133560"/>
          </a:xfrm>
        </p:grpSpPr>
        <p:sp>
          <p:nvSpPr>
            <p:cNvPr id="142" name=""/>
            <p:cNvSpPr/>
            <p:nvPr/>
          </p:nvSpPr>
          <p:spPr>
            <a:xfrm>
              <a:off x="6711840" y="322560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730560" y="314316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451400" y="3524400"/>
            <a:ext cx="126360" cy="133200"/>
            <a:chOff x="4451400" y="3524400"/>
            <a:chExt cx="126360" cy="133200"/>
          </a:xfrm>
        </p:grpSpPr>
        <p:sp>
          <p:nvSpPr>
            <p:cNvPr id="145" name=""/>
            <p:cNvSpPr/>
            <p:nvPr/>
          </p:nvSpPr>
          <p:spPr>
            <a:xfrm>
              <a:off x="4451400" y="360648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70120" y="352440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787920" y="3530520"/>
            <a:ext cx="126360" cy="133560"/>
            <a:chOff x="3787920" y="3530520"/>
            <a:chExt cx="126360" cy="133560"/>
          </a:xfrm>
        </p:grpSpPr>
        <p:sp>
          <p:nvSpPr>
            <p:cNvPr id="148" name=""/>
            <p:cNvSpPr/>
            <p:nvPr/>
          </p:nvSpPr>
          <p:spPr>
            <a:xfrm>
              <a:off x="3787920" y="361296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806640" y="353052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381640" y="3537000"/>
            <a:ext cx="126360" cy="133200"/>
            <a:chOff x="5381640" y="3537000"/>
            <a:chExt cx="126360" cy="133200"/>
          </a:xfrm>
        </p:grpSpPr>
        <p:sp>
          <p:nvSpPr>
            <p:cNvPr id="151" name=""/>
            <p:cNvSpPr/>
            <p:nvPr/>
          </p:nvSpPr>
          <p:spPr>
            <a:xfrm>
              <a:off x="5381640" y="361908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400360" y="353700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794040" y="3930480"/>
            <a:ext cx="126360" cy="133560"/>
            <a:chOff x="3794040" y="3930480"/>
            <a:chExt cx="126360" cy="133560"/>
          </a:xfrm>
        </p:grpSpPr>
        <p:sp>
          <p:nvSpPr>
            <p:cNvPr id="154" name=""/>
            <p:cNvSpPr/>
            <p:nvPr/>
          </p:nvSpPr>
          <p:spPr>
            <a:xfrm>
              <a:off x="3794040" y="401292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812760" y="393048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388120" y="3936960"/>
            <a:ext cx="126360" cy="133560"/>
            <a:chOff x="5388120" y="3936960"/>
            <a:chExt cx="126360" cy="133560"/>
          </a:xfrm>
        </p:grpSpPr>
        <p:sp>
          <p:nvSpPr>
            <p:cNvPr id="157" name=""/>
            <p:cNvSpPr/>
            <p:nvPr/>
          </p:nvSpPr>
          <p:spPr>
            <a:xfrm>
              <a:off x="5388120" y="401940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406840" y="393696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711840" y="3943440"/>
            <a:ext cx="126360" cy="133200"/>
            <a:chOff x="6711840" y="3943440"/>
            <a:chExt cx="126360" cy="133200"/>
          </a:xfrm>
        </p:grpSpPr>
        <p:sp>
          <p:nvSpPr>
            <p:cNvPr id="160" name=""/>
            <p:cNvSpPr/>
            <p:nvPr/>
          </p:nvSpPr>
          <p:spPr>
            <a:xfrm>
              <a:off x="6711840" y="402552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730560" y="394344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00520" y="4330800"/>
            <a:ext cx="126360" cy="133200"/>
            <a:chOff x="3800520" y="4330800"/>
            <a:chExt cx="126360" cy="133200"/>
          </a:xfrm>
        </p:grpSpPr>
        <p:sp>
          <p:nvSpPr>
            <p:cNvPr id="163" name=""/>
            <p:cNvSpPr/>
            <p:nvPr/>
          </p:nvSpPr>
          <p:spPr>
            <a:xfrm>
              <a:off x="3800520" y="441288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819240" y="433080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470480" y="4724280"/>
            <a:ext cx="126360" cy="133560"/>
            <a:chOff x="4470480" y="4724280"/>
            <a:chExt cx="126360" cy="133560"/>
          </a:xfrm>
        </p:grpSpPr>
        <p:sp>
          <p:nvSpPr>
            <p:cNvPr id="166" name=""/>
            <p:cNvSpPr/>
            <p:nvPr/>
          </p:nvSpPr>
          <p:spPr>
            <a:xfrm>
              <a:off x="4470480" y="480672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89200" y="472428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7000" y="4730760"/>
            <a:ext cx="126360" cy="133200"/>
            <a:chOff x="3807000" y="4730760"/>
            <a:chExt cx="126360" cy="133200"/>
          </a:xfrm>
        </p:grpSpPr>
        <p:sp>
          <p:nvSpPr>
            <p:cNvPr id="169" name=""/>
            <p:cNvSpPr/>
            <p:nvPr/>
          </p:nvSpPr>
          <p:spPr>
            <a:xfrm>
              <a:off x="3807000" y="481284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825720" y="473076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476600" y="5315040"/>
            <a:ext cx="126360" cy="133200"/>
            <a:chOff x="4476600" y="5315040"/>
            <a:chExt cx="126360" cy="133200"/>
          </a:xfrm>
        </p:grpSpPr>
        <p:sp>
          <p:nvSpPr>
            <p:cNvPr id="172" name=""/>
            <p:cNvSpPr/>
            <p:nvPr/>
          </p:nvSpPr>
          <p:spPr>
            <a:xfrm>
              <a:off x="4476600" y="539712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495320" y="531504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3120" y="5321160"/>
            <a:ext cx="126360" cy="133560"/>
            <a:chOff x="3813120" y="5321160"/>
            <a:chExt cx="126360" cy="133560"/>
          </a:xfrm>
        </p:grpSpPr>
        <p:sp>
          <p:nvSpPr>
            <p:cNvPr id="175" name=""/>
            <p:cNvSpPr/>
            <p:nvPr/>
          </p:nvSpPr>
          <p:spPr>
            <a:xfrm>
              <a:off x="3813120" y="540360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831840" y="532116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07200" y="5327640"/>
            <a:ext cx="126360" cy="133200"/>
            <a:chOff x="5407200" y="5327640"/>
            <a:chExt cx="126360" cy="133200"/>
          </a:xfrm>
        </p:grpSpPr>
        <p:sp>
          <p:nvSpPr>
            <p:cNvPr id="178" name=""/>
            <p:cNvSpPr/>
            <p:nvPr/>
          </p:nvSpPr>
          <p:spPr>
            <a:xfrm>
              <a:off x="5407200" y="540972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425920" y="532764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380200" y="4746600"/>
            <a:ext cx="126720" cy="126720"/>
            <a:chOff x="5380200" y="4746600"/>
            <a:chExt cx="126720" cy="126720"/>
          </a:xfrm>
        </p:grpSpPr>
        <p:sp>
          <p:nvSpPr>
            <p:cNvPr id="181" name=""/>
            <p:cNvSpPr/>
            <p:nvPr/>
          </p:nvSpPr>
          <p:spPr>
            <a:xfrm>
              <a:off x="5380200" y="474660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380200" y="474660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37000" y="3933720"/>
            <a:ext cx="126720" cy="126720"/>
            <a:chOff x="4437000" y="3933720"/>
            <a:chExt cx="126720" cy="126720"/>
          </a:xfrm>
        </p:grpSpPr>
        <p:sp>
          <p:nvSpPr>
            <p:cNvPr id="184" name=""/>
            <p:cNvSpPr/>
            <p:nvPr/>
          </p:nvSpPr>
          <p:spPr>
            <a:xfrm>
              <a:off x="4437000" y="393372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37000" y="393372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443480" y="4334040"/>
            <a:ext cx="126720" cy="126720"/>
            <a:chOff x="4443480" y="4334040"/>
            <a:chExt cx="126720" cy="126720"/>
          </a:xfrm>
        </p:grpSpPr>
        <p:sp>
          <p:nvSpPr>
            <p:cNvPr id="187" name=""/>
            <p:cNvSpPr/>
            <p:nvPr/>
          </p:nvSpPr>
          <p:spPr>
            <a:xfrm>
              <a:off x="4443480" y="43340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443480" y="43340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380200" y="4346640"/>
            <a:ext cx="126720" cy="126720"/>
            <a:chOff x="5380200" y="4346640"/>
            <a:chExt cx="126720" cy="126720"/>
          </a:xfrm>
        </p:grpSpPr>
        <p:sp>
          <p:nvSpPr>
            <p:cNvPr id="190" name=""/>
            <p:cNvSpPr/>
            <p:nvPr/>
          </p:nvSpPr>
          <p:spPr>
            <a:xfrm>
              <a:off x="5380200" y="43466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80200" y="43466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711840" y="3533760"/>
            <a:ext cx="126720" cy="126720"/>
            <a:chOff x="6711840" y="3533760"/>
            <a:chExt cx="126720" cy="126720"/>
          </a:xfrm>
        </p:grpSpPr>
        <p:sp>
          <p:nvSpPr>
            <p:cNvPr id="193" name=""/>
            <p:cNvSpPr/>
            <p:nvPr/>
          </p:nvSpPr>
          <p:spPr>
            <a:xfrm>
              <a:off x="6711840" y="3533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711840" y="3533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24440" y="4308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4440" y="27068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24440" y="2327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560" y="5594400"/>
            <a:ext cx="85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560" y="1517760"/>
            <a:ext cx="85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560" y="2152800"/>
            <a:ext cx="85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38480" y="5208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5724360"/>
            <a:ext cx="790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consistenc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strict one-copy. 3:  slightly weaker guarantees. 2: considerably weaker guarante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system modu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7240" y="2125800"/>
            <a:ext cx="860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attribute record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35320" y="1533600"/>
            <a:ext cx="5257800" cy="4576680"/>
            <a:chOff x="2335320" y="1533600"/>
            <a:chExt cx="5257800" cy="4576680"/>
          </a:xfrm>
        </p:grpSpPr>
        <p:sp>
          <p:nvSpPr>
            <p:cNvPr id="207" name=""/>
            <p:cNvSpPr/>
            <p:nvPr/>
          </p:nvSpPr>
          <p:spPr>
            <a:xfrm>
              <a:off x="2335320" y="1533600"/>
              <a:ext cx="5230800" cy="2370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35320" y="1533600"/>
              <a:ext cx="5257800" cy="239688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91640" y="160668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 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74680" y="1987560"/>
              <a:ext cx="19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ion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5320" y="191448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91760" y="2395440"/>
              <a:ext cx="166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5320" y="232236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37040" y="2778120"/>
              <a:ext cx="165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35320" y="270504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3600" y="3186000"/>
              <a:ext cx="19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tribute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35320" y="311292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19840" y="3568680"/>
              <a:ext cx="167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ference 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35320" y="349560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08360" y="394956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35320" y="3903840"/>
              <a:ext cx="5230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27720" y="4357800"/>
              <a:ext cx="86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35320" y="4284720"/>
              <a:ext cx="5230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7960" y="4740120"/>
              <a:ext cx="182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 control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35320" y="4667400"/>
              <a:ext cx="5230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5320" y="1533600"/>
              <a:ext cx="5257800" cy="457668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X file system ope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11360" y="1639800"/>
            <a:ext cx="8540640" cy="4197600"/>
            <a:chOff x="711360" y="1639800"/>
            <a:chExt cx="8540640" cy="4197600"/>
          </a:xfrm>
        </p:grpSpPr>
        <p:sp>
          <p:nvSpPr>
            <p:cNvPr id="229" name=""/>
            <p:cNvSpPr/>
            <p:nvPr/>
          </p:nvSpPr>
          <p:spPr>
            <a:xfrm>
              <a:off x="732960" y="1757520"/>
              <a:ext cx="243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 = open(name, mod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3320" y="1992240"/>
              <a:ext cx="245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 = creat(name, mod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10160" y="1757520"/>
              <a:ext cx="376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Opens an existing file with the give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90160" y="1757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9440" y="1992240"/>
              <a:ext cx="3428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reates a new file with the give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6920" y="19922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11600" y="2228760"/>
              <a:ext cx="527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oth operations deliver a file descriptor referencing the op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09080" y="2463840"/>
              <a:ext cx="3189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file. The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od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or both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1360" y="1639800"/>
              <a:ext cx="29574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89280" y="166212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163980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11600" y="1639800"/>
              <a:ext cx="5484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89280" y="1662120"/>
              <a:ext cx="2232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7280" y="2784600"/>
              <a:ext cx="190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status = close(filede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06920" y="2784600"/>
              <a:ext cx="238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loses the open file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9280" y="2690640"/>
              <a:ext cx="223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4400" y="3106800"/>
              <a:ext cx="268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count = read(filedes, buffer, 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4400" y="3427560"/>
              <a:ext cx="272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count = write(filedes, buffer, 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05480" y="3106800"/>
              <a:ext cx="532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ransfers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bytes from the file referenced by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926920" y="3106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05120" y="3341520"/>
              <a:ext cx="5337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ransfers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bytes to the file referenced by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from buffer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17720" y="3578400"/>
              <a:ext cx="5534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oth operations deliver the number of bytes actually transferr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7720" y="3813120"/>
              <a:ext cx="3057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nd advance the read-write pointer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89280" y="3011400"/>
              <a:ext cx="2232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5480" y="4135320"/>
              <a:ext cx="225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os = lseek(filedes, offset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68920" y="41353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20000" y="4370400"/>
              <a:ext cx="72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whenc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6160" y="4370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69520" y="4370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17720" y="4135320"/>
              <a:ext cx="5119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oves the read-write pointer to offset (relative or absolute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18080" y="4370400"/>
              <a:ext cx="2003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epending 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whenc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89280" y="4040280"/>
              <a:ext cx="2232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1240" y="4691160"/>
              <a:ext cx="1911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tatus = unlink(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04760" y="4691160"/>
              <a:ext cx="533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moves the file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from the directory structure. If the fi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17720" y="4927680"/>
              <a:ext cx="2824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as no other names, it is delete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89280" y="4597560"/>
              <a:ext cx="22320" cy="55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800" y="5248440"/>
              <a:ext cx="249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tatus = link(name1, name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08720" y="5248440"/>
              <a:ext cx="3952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dds a new name (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2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 for a file (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1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55320" y="52484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89280" y="5154480"/>
              <a:ext cx="223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1600" y="5570640"/>
              <a:ext cx="230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status = stat(name, buffe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06920" y="5570640"/>
              <a:ext cx="410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Gets the file attributes for file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360" y="5835600"/>
              <a:ext cx="29574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89280" y="5475240"/>
              <a:ext cx="2232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89280" y="583560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11600" y="5835600"/>
              <a:ext cx="5484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service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946080" y="1746360"/>
            <a:ext cx="8051760" cy="3725640"/>
            <a:chOff x="946080" y="1746360"/>
            <a:chExt cx="8051760" cy="3725640"/>
          </a:xfrm>
        </p:grpSpPr>
        <p:sp>
          <p:nvSpPr>
            <p:cNvPr id="277" name=""/>
            <p:cNvSpPr/>
            <p:nvPr/>
          </p:nvSpPr>
          <p:spPr>
            <a:xfrm>
              <a:off x="6111720" y="2028960"/>
              <a:ext cx="286092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11720" y="2028960"/>
              <a:ext cx="288612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46080" y="2028960"/>
              <a:ext cx="286236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46080" y="2028960"/>
              <a:ext cx="288612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92240" y="3216240"/>
              <a:ext cx="25938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8960" y="174636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26680" y="174636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51760" y="525456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51760" y="5205240"/>
              <a:ext cx="6541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51760" y="5156280"/>
              <a:ext cx="6541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51760" y="508464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18520" y="4648320"/>
              <a:ext cx="9684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11520" y="2101680"/>
              <a:ext cx="92088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92240" y="2125800"/>
              <a:ext cx="106668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56320" y="245268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66120" y="267012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55760" y="2125800"/>
              <a:ext cx="109224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4240" y="245268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44040" y="267012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6560" y="410040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57880" y="2805120"/>
              <a:ext cx="25941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68240" y="368928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57880" y="2125800"/>
              <a:ext cx="25941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38560" y="237960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35360" y="3605040"/>
              <a:ext cx="247320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27720" y="525456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27720" y="5205240"/>
              <a:ext cx="6541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27720" y="5156280"/>
              <a:ext cx="6541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7720" y="508464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94480" y="4648320"/>
              <a:ext cx="9684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2240" y="5254560"/>
              <a:ext cx="6559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2240" y="5205240"/>
              <a:ext cx="6559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02240" y="5156280"/>
              <a:ext cx="6559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2240" y="5084640"/>
              <a:ext cx="6559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4560" y="4648320"/>
              <a:ext cx="9684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lat file service ope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85800" y="2144880"/>
            <a:ext cx="8508960" cy="2910600"/>
            <a:chOff x="685800" y="2144880"/>
            <a:chExt cx="8508960" cy="2910600"/>
          </a:xfrm>
        </p:grpSpPr>
        <p:sp>
          <p:nvSpPr>
            <p:cNvPr id="314" name=""/>
            <p:cNvSpPr/>
            <p:nvPr/>
          </p:nvSpPr>
          <p:spPr>
            <a:xfrm>
              <a:off x="716760" y="227016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45440" y="227016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8920" y="2523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1320" y="2523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44840" y="2523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56160" y="227016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47880" y="252396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800" y="2144880"/>
              <a:ext cx="29131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21240" y="214488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45000" y="2144880"/>
              <a:ext cx="5500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21240" y="2166840"/>
              <a:ext cx="2376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8560" y="287172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59680" y="28717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8920" y="312588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21320" y="312588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44840" y="312588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4720" y="287172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42840" y="312588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21240" y="2768760"/>
              <a:ext cx="2376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9280" y="347184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49680" y="347184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877960" y="34718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21240" y="3368520"/>
              <a:ext cx="2376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9280" y="381780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68120" y="3817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36160" y="3817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42840" y="381780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21240" y="3714840"/>
              <a:ext cx="2376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8920" y="416556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46040" y="41655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15880" y="41655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43200" y="416556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20440" y="416556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21240" y="4062240"/>
              <a:ext cx="2376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280" y="451152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3720" y="451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92120" y="451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1120" y="451152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56160" y="4765680"/>
              <a:ext cx="211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haded in Figure 8.3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5046840"/>
              <a:ext cx="29131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21240" y="4408560"/>
              <a:ext cx="237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504684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5000" y="5046840"/>
              <a:ext cx="5500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ory service ope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81120" y="2162160"/>
            <a:ext cx="8570880" cy="2995560"/>
            <a:chOff x="681120" y="2162160"/>
            <a:chExt cx="8570880" cy="2995560"/>
          </a:xfrm>
        </p:grpSpPr>
        <p:sp>
          <p:nvSpPr>
            <p:cNvPr id="359" name=""/>
            <p:cNvSpPr/>
            <p:nvPr/>
          </p:nvSpPr>
          <p:spPr>
            <a:xfrm>
              <a:off x="707400" y="227808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0640" y="25131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24840" y="2513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88200" y="25131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62400" y="251316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80040" y="25131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04080" y="227808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01560" y="251316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07680" y="274788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82120" y="27478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1120" y="2162160"/>
              <a:ext cx="3475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76720" y="218448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76720" y="216216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99040" y="2162160"/>
              <a:ext cx="5052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76720" y="2184480"/>
              <a:ext cx="223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6320" y="3067200"/>
              <a:ext cx="255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Id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13560" y="30672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0640" y="330192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88200" y="330192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62040" y="330192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27880" y="33019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01560" y="306720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0120" y="330192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353700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84160" y="35370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76720" y="2973600"/>
              <a:ext cx="223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7040" y="385596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80040" y="38559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0640" y="409104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88200" y="409104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62400" y="409104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80040" y="40910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03720" y="385596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06600" y="409104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800" y="40910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03360" y="432612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685720" y="43261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76720" y="3760920"/>
              <a:ext cx="223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6680" y="464508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31320" y="4645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96480" y="4645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05520" y="464508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06960" y="488016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1120" y="5156280"/>
              <a:ext cx="3475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76720" y="4549680"/>
              <a:ext cx="223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6720" y="515628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9040" y="5156280"/>
              <a:ext cx="5052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FS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00680" y="1606680"/>
            <a:ext cx="8844840" cy="4144680"/>
            <a:chOff x="400680" y="1606680"/>
            <a:chExt cx="8844840" cy="4144680"/>
          </a:xfrm>
        </p:grpSpPr>
        <p:sp>
          <p:nvSpPr>
            <p:cNvPr id="408" name=""/>
            <p:cNvSpPr/>
            <p:nvPr/>
          </p:nvSpPr>
          <p:spPr>
            <a:xfrm>
              <a:off x="6551640" y="1892160"/>
              <a:ext cx="2693880" cy="3859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33400" y="1892160"/>
              <a:ext cx="2694240" cy="3859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25560" y="3218040"/>
              <a:ext cx="2443320" cy="1985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3720" y="3473280"/>
              <a:ext cx="103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 kerne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76720" y="4495680"/>
              <a:ext cx="1096920" cy="1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84320" y="5546880"/>
              <a:ext cx="63972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84320" y="5500800"/>
              <a:ext cx="63972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84320" y="5454720"/>
              <a:ext cx="639720" cy="9216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84320" y="5386320"/>
              <a:ext cx="639720" cy="11448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59000" y="4998960"/>
              <a:ext cx="92160" cy="4334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80200" y="5122800"/>
              <a:ext cx="68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48720" y="1606680"/>
              <a:ext cx="134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20520" y="1606680"/>
              <a:ext cx="141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4004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40040" y="4084560"/>
              <a:ext cx="79848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680" y="2994120"/>
              <a:ext cx="104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ystem cal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09480" y="3838680"/>
              <a:ext cx="45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95920" y="383868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05080" y="3925800"/>
              <a:ext cx="46080" cy="11268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14" y="0"/>
                  </a:moveTo>
                  <a:lnTo>
                    <a:pt x="29" y="0"/>
                  </a:lnTo>
                  <a:lnTo>
                    <a:pt x="14" y="7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327400" y="3787560"/>
              <a:ext cx="1440" cy="137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89360" y="3948120"/>
              <a:ext cx="44280" cy="114120"/>
            </a:xfrm>
            <a:custGeom>
              <a:avLst/>
              <a:gdLst/>
              <a:ahLst/>
              <a:rect l="l" t="t" r="r" b="b"/>
              <a:pathLst>
                <a:path w="28" h="72">
                  <a:moveTo>
                    <a:pt x="14" y="0"/>
                  </a:moveTo>
                  <a:lnTo>
                    <a:pt x="28" y="0"/>
                  </a:lnTo>
                  <a:lnTo>
                    <a:pt x="14" y="72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811680" y="3787560"/>
              <a:ext cx="1440" cy="160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32280" y="4346640"/>
              <a:ext cx="45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22640" y="455148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61720" y="475776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688080" y="3218040"/>
              <a:ext cx="2443320" cy="1985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79000" y="5546880"/>
              <a:ext cx="61560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79000" y="5500800"/>
              <a:ext cx="61560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79000" y="5454720"/>
              <a:ext cx="615600" cy="9216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79000" y="5386320"/>
              <a:ext cx="615600" cy="11448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629560" y="4975200"/>
              <a:ext cx="90720" cy="457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45280" y="3855960"/>
              <a:ext cx="46080" cy="11448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14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9" y="72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67600" y="3970440"/>
              <a:ext cx="1440" cy="137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29560" y="3925800"/>
              <a:ext cx="46080" cy="11268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14" y="0"/>
                  </a:moveTo>
                  <a:lnTo>
                    <a:pt x="29" y="0"/>
                  </a:lnTo>
                  <a:lnTo>
                    <a:pt x="14" y="7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8651880" y="3811320"/>
              <a:ext cx="1440" cy="114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75480" y="4495680"/>
              <a:ext cx="1050840" cy="1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59520" y="3422520"/>
              <a:ext cx="661680" cy="2306880"/>
            </a:xfrm>
            <a:prstGeom prst="ellipse">
              <a:avLst/>
            </a:prstGeom>
            <a:solidFill>
              <a:srgbClr val="d9aa73"/>
            </a:solidFill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51640" y="4495680"/>
              <a:ext cx="204840" cy="11448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0" y="43"/>
                  </a:moveTo>
                  <a:lnTo>
                    <a:pt x="0" y="0"/>
                  </a:lnTo>
                  <a:lnTo>
                    <a:pt x="129" y="43"/>
                  </a:lnTo>
                  <a:lnTo>
                    <a:pt x="0" y="7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76720" y="4564080"/>
              <a:ext cx="2374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0056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00560" y="4084560"/>
              <a:ext cx="799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29520" y="4437000"/>
              <a:ext cx="3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F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0920" y="464328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0256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02560" y="4084560"/>
              <a:ext cx="799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31520" y="4437000"/>
              <a:ext cx="3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F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36120" y="464328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28684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86840" y="4084560"/>
              <a:ext cx="799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58560" y="4346640"/>
              <a:ext cx="45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547120" y="455148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386560" y="475776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25560" y="2075040"/>
              <a:ext cx="1027080" cy="960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92520" y="2382840"/>
              <a:ext cx="93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99800" y="258768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44800" y="2075040"/>
              <a:ext cx="1027080" cy="960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16440" y="2382840"/>
              <a:ext cx="93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25160" y="258768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05080" y="2943360"/>
              <a:ext cx="114120" cy="365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78240" y="2943360"/>
              <a:ext cx="114120" cy="365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04800" y="3103560"/>
              <a:ext cx="84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82840" y="3583080"/>
              <a:ext cx="3650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43640" y="4916520"/>
              <a:ext cx="3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F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748040" y="4609800"/>
              <a:ext cx="1800" cy="228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0440" y="2811600"/>
              <a:ext cx="45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27560" y="3198960"/>
              <a:ext cx="103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 kerne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76960" y="3308400"/>
              <a:ext cx="343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80240" y="3514680"/>
              <a:ext cx="226044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0240" y="3514680"/>
              <a:ext cx="2282760" cy="3189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72280" y="3541680"/>
              <a:ext cx="150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rtual file 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06560" y="4084560"/>
              <a:ext cx="52560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06560" y="4084560"/>
              <a:ext cx="547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35160" y="3925800"/>
              <a:ext cx="46080" cy="11268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14" y="0"/>
                  </a:moveTo>
                  <a:lnTo>
                    <a:pt x="29" y="0"/>
                  </a:lnTo>
                  <a:lnTo>
                    <a:pt x="14" y="7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057480" y="3787560"/>
              <a:ext cx="1800" cy="137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40040" y="3514680"/>
              <a:ext cx="226044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40040" y="3514680"/>
              <a:ext cx="2282760" cy="3189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08320" y="3541680"/>
              <a:ext cx="150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rtual file 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200000">
              <a:off x="2617560" y="4415400"/>
              <a:ext cx="896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file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0T12:24:08Z</dcterms:modified>
  <cp:revision>58</cp:revision>
  <dc:subject/>
  <dc:title>Figure 15.1 A distributed multimedia system</dc:title>
</cp:coreProperties>
</file>