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FD0C-3F12-49BF-B6F0-8C4293BB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420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54C2-CDB6-43DB-A9C4-075ECDE0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9D9A-FED7-4FEA-A224-5EEC7C67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8763-F835-4E66-8DE3-1EC2DEA9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86CF-A7B2-4779-98AB-385460FB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3460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6A31-8668-4CEA-8656-2D48891C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1CE3-100F-4067-BE71-6288944B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E8ED-2D65-46D5-B2F4-FFA35B59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C8E0-749C-42E4-BE6D-75879F7A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C188-94D7-4C6D-9B7A-04A49CBC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115F-17E4-4E13-8F54-6226A347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3460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E645-8F36-41E5-8940-9722772E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61A8-F61E-4698-994D-B36BF8E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15EB-1C60-40A9-85CD-48FE235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420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4AC8-23B8-48D6-8D8B-BE148608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C8EE-5B69-432A-BCA1-2AA9021E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346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4200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D7AC-A23B-46CD-87C1-DB4E8AFB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3D29-A2DA-4DC0-B93C-BA06695D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58D9-5507-47B5-983E-5C1FEDBF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415B-AAB9-4806-9668-D77B68CF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BB00-DE79-425F-A01E-56ADB3A1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2930-671A-4485-A53F-0D3EA6E7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420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0F3F-87BC-4671-9CEE-CC7A61DE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3460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4200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1A4D3-BF5B-498C-A1D3-F47B1EA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3460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F0BA-356A-4502-94EA-BC3377FDBE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6E1-E434-4CDD-A746-9AC4DECD13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4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Distributed transaction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1360" y="2801880"/>
            <a:ext cx="1878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471600" y="2246400"/>
            <a:ext cx="7846920" cy="672480"/>
            <a:chOff x="471600" y="2246400"/>
            <a:chExt cx="7846920" cy="672480"/>
          </a:xfrm>
        </p:grpSpPr>
        <p:sp>
          <p:nvSpPr>
            <p:cNvPr id="488" name=""/>
            <p:cNvSpPr/>
            <p:nvPr/>
          </p:nvSpPr>
          <p:spPr>
            <a:xfrm>
              <a:off x="3951360" y="2246400"/>
              <a:ext cx="4367160" cy="672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1600" y="2246400"/>
              <a:ext cx="4367160" cy="672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4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formation held by coordinators of 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13880" y="2347920"/>
            <a:ext cx="1451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ordinator o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3520" y="2641680"/>
            <a:ext cx="109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41800" y="2347920"/>
            <a:ext cx="53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43600" y="2641680"/>
            <a:ext cx="1189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18240" y="2347920"/>
            <a:ext cx="109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articipa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47320" y="2347920"/>
            <a:ext cx="112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rovis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46960" y="2641680"/>
            <a:ext cx="1064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mmit li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56720" y="2347920"/>
            <a:ext cx="904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bort li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2800" y="29541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5920" y="29541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93360" y="30322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16120" y="295416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71000" y="30322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18600" y="2954160"/>
            <a:ext cx="320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72600" y="29541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01480" y="30322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24600" y="295416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89200" y="30322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080840" y="29541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18000" y="30322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21400" y="295416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78080" y="30322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7280" y="32479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66160" y="33256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65920" y="32479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01640" y="33256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6480" y="324792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71440" y="33256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18600" y="3247920"/>
            <a:ext cx="320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72600" y="32479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01480" y="33256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24600" y="324792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89200" y="33256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80840" y="32479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18000" y="332568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7280" y="35416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66160" y="3619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65920" y="35416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01640" y="36194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06480" y="354168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71440" y="36194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17520" y="3541680"/>
            <a:ext cx="118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o (abort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80840" y="35416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09720" y="3619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7280" y="38354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74440" y="39132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17520" y="3835440"/>
            <a:ext cx="118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o (abort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80840" y="383544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18000" y="39132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37280" y="4129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74440" y="42069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77840" y="412920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44240" y="42069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42360" y="4129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77720" y="42069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42600" y="4129200"/>
            <a:ext cx="738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ut n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68000" y="41004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05160" y="41781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72600" y="4129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09760" y="42069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13520" y="4129200"/>
            <a:ext cx="24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, 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78120" y="420696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7280" y="44290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74440" y="4506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33720" y="4429080"/>
            <a:ext cx="1849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o (parent abort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72600" y="44290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New York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09760" y="4506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New York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1200" y="2233440"/>
            <a:ext cx="7711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1200" y="4756320"/>
            <a:ext cx="7711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4.10</a:t>
            </a:r>
            <a:br>
              <a:rPr sz="2000"/>
            </a:b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canCommi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?  for hierarchic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9520" y="1978200"/>
            <a:ext cx="795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anCommit?(trans, subTrans) -&gt; 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 a coordinator to ask coordinator of child subtransaction whether it can commit a sub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b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 first argum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transaction identifier of top-level transaction. Participant replies with its vo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4.11</a:t>
            </a:r>
            <a:br>
              <a:rPr sz="2000"/>
            </a:b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canCommi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? for flat two-phase commit protoco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7880" y="2536920"/>
            <a:ext cx="775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anCommit?(trans, abortList) -&gt; 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 from coordinator to participant to ask whether it can commit a transaction. Participant replies with it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141800" y="1738440"/>
            <a:ext cx="4367160" cy="431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2040" y="1738440"/>
            <a:ext cx="4367160" cy="431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4.1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terleavings of transaction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22520" y="187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74640" y="18716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51240" y="187164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4240" y="2282760"/>
            <a:ext cx="121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.deposit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81600" y="225576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625840" y="2255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78600" y="2670120"/>
            <a:ext cx="121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.deposit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58280" y="264492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01800" y="26449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585200" y="2522520"/>
            <a:ext cx="19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240" y="3059280"/>
            <a:ext cx="121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.deposit(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181600" y="30322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25480" y="3032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58280" y="2962440"/>
            <a:ext cx="22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92640" y="2962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52800" y="2911320"/>
            <a:ext cx="205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85200" y="2911320"/>
            <a:ext cx="1908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81600" y="3332160"/>
            <a:ext cx="22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15960" y="33321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5200" y="3298680"/>
            <a:ext cx="190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156360" y="3633840"/>
            <a:ext cx="12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.deposit(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715880" y="36068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159400" y="360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86720" y="3484440"/>
            <a:ext cx="1908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4600" y="4021200"/>
            <a:ext cx="14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.withdraw(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80520" y="3994200"/>
            <a:ext cx="67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57680" y="3994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15880" y="3924360"/>
            <a:ext cx="22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948440" y="3924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86720" y="3873600"/>
            <a:ext cx="1908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78600" y="4408560"/>
            <a:ext cx="140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.withdraw(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56840" y="438156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 a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699160" y="438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86720" y="4260960"/>
            <a:ext cx="1908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157080" y="4797360"/>
            <a:ext cx="14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.withdraw(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714800" y="4770360"/>
            <a:ext cx="67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91240" y="47703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54320" y="4648320"/>
            <a:ext cx="20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686720" y="4648320"/>
            <a:ext cx="19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739880"/>
            <a:ext cx="781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1360" y="5384880"/>
            <a:ext cx="786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ed deadloc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44400" y="1682640"/>
            <a:ext cx="7853040" cy="4254480"/>
            <a:chOff x="644400" y="1682640"/>
            <a:chExt cx="7853040" cy="4254480"/>
          </a:xfrm>
        </p:grpSpPr>
        <p:sp>
          <p:nvSpPr>
            <p:cNvPr id="610" name=""/>
            <p:cNvSpPr/>
            <p:nvPr/>
          </p:nvSpPr>
          <p:spPr>
            <a:xfrm>
              <a:off x="644400" y="2571840"/>
              <a:ext cx="1101960" cy="1108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48680" y="4830840"/>
              <a:ext cx="1101960" cy="1106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30040" y="2550960"/>
              <a:ext cx="1101960" cy="1106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84520" y="2768760"/>
              <a:ext cx="180360" cy="303120"/>
            </a:xfrm>
            <a:custGeom>
              <a:avLst/>
              <a:gdLst>
                <a:gd name="textAreaLeft" fmla="*/ 24840 w 180360"/>
                <a:gd name="textAreaRight" fmla="*/ 155520 w 180360"/>
                <a:gd name="textAreaTop" fmla="*/ 24840 h 303120"/>
                <a:gd name="textAreaBottom" fmla="*/ 278280 h 303120"/>
              </a:gdLst>
              <a:ahLst/>
              <a:rect l="textAreaLeft" t="textAreaTop" r="textAreaRight" b="textAreaBottom"/>
              <a:pathLst>
                <a:path w="21600" h="36273">
                  <a:moveTo>
                    <a:pt x="10185" y="0"/>
                  </a:moveTo>
                  <a:arcTo wR="10185" hR="10185" stAng="16200000" swAng="-5400000"/>
                  <a:lnTo>
                    <a:pt x="0" y="26088"/>
                  </a:lnTo>
                  <a:arcTo wR="10185" hR="10185" stAng="10800000" swAng="-5400000"/>
                  <a:lnTo>
                    <a:pt x="11415" y="36273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84520" y="2768760"/>
              <a:ext cx="200880" cy="325440"/>
            </a:xfrm>
            <a:custGeom>
              <a:avLst/>
              <a:gdLst>
                <a:gd name="textAreaLeft" fmla="*/ 24840 w 200880"/>
                <a:gd name="textAreaRight" fmla="*/ 176040 w 200880"/>
                <a:gd name="textAreaTop" fmla="*/ 24840 h 325440"/>
                <a:gd name="textAreaBottom" fmla="*/ 300600 h 325440"/>
              </a:gdLst>
              <a:ahLst/>
              <a:rect l="textAreaLeft" t="textAreaTop" r="textAreaRight" b="textAreaBottom"/>
              <a:pathLst>
                <a:path w="21600" h="34970">
                  <a:moveTo>
                    <a:pt x="9145" y="0"/>
                  </a:moveTo>
                  <a:arcTo wR="9145" hR="9145" stAng="16200000" swAng="-5400000"/>
                  <a:lnTo>
                    <a:pt x="0" y="25825"/>
                  </a:lnTo>
                  <a:arcTo wR="9145" hR="9145" stAng="10800000" swAng="-5400000"/>
                  <a:lnTo>
                    <a:pt x="12455" y="34970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03600" y="2941560"/>
              <a:ext cx="160920" cy="130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03600" y="2941560"/>
              <a:ext cx="181440" cy="1526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84520" y="2768760"/>
              <a:ext cx="200880" cy="325440"/>
            </a:xfrm>
            <a:custGeom>
              <a:avLst/>
              <a:gdLst>
                <a:gd name="textAreaLeft" fmla="*/ 24840 w 200880"/>
                <a:gd name="textAreaRight" fmla="*/ 176040 w 200880"/>
                <a:gd name="textAreaTop" fmla="*/ 24840 h 325440"/>
                <a:gd name="textAreaBottom" fmla="*/ 300600 h 325440"/>
              </a:gdLst>
              <a:ahLst/>
              <a:rect l="textAreaLeft" t="textAreaTop" r="textAreaRight" b="textAreaBottom"/>
              <a:pathLst>
                <a:path w="21600" h="34970">
                  <a:moveTo>
                    <a:pt x="9145" y="0"/>
                  </a:moveTo>
                  <a:arcTo wR="9145" hR="9145" stAng="16200000" swAng="-5400000"/>
                  <a:lnTo>
                    <a:pt x="0" y="25825"/>
                  </a:lnTo>
                  <a:arcTo wR="9145" hR="9145" stAng="10800000" swAng="-5400000"/>
                  <a:lnTo>
                    <a:pt x="12455" y="34970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84520" y="2919240"/>
              <a:ext cx="1803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05080" y="2768760"/>
              <a:ext cx="180000" cy="303120"/>
            </a:xfrm>
            <a:custGeom>
              <a:avLst/>
              <a:gdLst>
                <a:gd name="textAreaLeft" fmla="*/ 24840 w 180000"/>
                <a:gd name="textAreaRight" fmla="*/ 155160 w 180000"/>
                <a:gd name="textAreaTop" fmla="*/ 24840 h 303120"/>
                <a:gd name="textAreaBottom" fmla="*/ 278280 h 303120"/>
              </a:gdLst>
              <a:ahLst/>
              <a:rect l="textAreaLeft" t="textAreaTop" r="textAreaRight" b="textAreaBottom"/>
              <a:pathLst>
                <a:path w="21600" h="36345">
                  <a:moveTo>
                    <a:pt x="10185" y="0"/>
                  </a:moveTo>
                  <a:arcTo wR="10185" hR="10185" stAng="16200000" swAng="-5400000"/>
                  <a:lnTo>
                    <a:pt x="0" y="26160"/>
                  </a:lnTo>
                  <a:arcTo wR="10185" hR="10185" stAng="10800000" swAng="-5400000"/>
                  <a:lnTo>
                    <a:pt x="11415" y="36345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05080" y="2768760"/>
              <a:ext cx="200520" cy="32544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25440"/>
                <a:gd name="textAreaBottom" fmla="*/ 300600 h 325440"/>
              </a:gdLst>
              <a:ahLst/>
              <a:rect l="textAreaLeft" t="textAreaTop" r="textAreaRight" b="textAreaBottom"/>
              <a:pathLst>
                <a:path w="21600" h="35032">
                  <a:moveTo>
                    <a:pt x="9145" y="0"/>
                  </a:moveTo>
                  <a:arcTo wR="9145" hR="9145" stAng="16200000" swAng="-5400000"/>
                  <a:lnTo>
                    <a:pt x="0" y="25887"/>
                  </a:lnTo>
                  <a:arcTo wR="9145" hR="9145" stAng="10800000" swAng="-5400000"/>
                  <a:lnTo>
                    <a:pt x="12455" y="35032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405080" y="2941560"/>
              <a:ext cx="180000" cy="130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05080" y="2941560"/>
              <a:ext cx="200520" cy="1526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05080" y="2768760"/>
              <a:ext cx="200520" cy="32544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25440"/>
                <a:gd name="textAreaBottom" fmla="*/ 300600 h 325440"/>
              </a:gdLst>
              <a:ahLst/>
              <a:rect l="textAreaLeft" t="textAreaTop" r="textAreaRight" b="textAreaBottom"/>
              <a:pathLst>
                <a:path w="21600" h="35032">
                  <a:moveTo>
                    <a:pt x="9145" y="0"/>
                  </a:moveTo>
                  <a:arcTo wR="9145" hR="9145" stAng="16200000" swAng="-5400000"/>
                  <a:lnTo>
                    <a:pt x="0" y="25887"/>
                  </a:lnTo>
                  <a:arcTo wR="9145" hR="9145" stAng="10800000" swAng="-5400000"/>
                  <a:lnTo>
                    <a:pt x="12455" y="35032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05080" y="2919240"/>
              <a:ext cx="180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30640" y="2746440"/>
              <a:ext cx="180000" cy="282600"/>
            </a:xfrm>
            <a:custGeom>
              <a:avLst/>
              <a:gdLst>
                <a:gd name="textAreaLeft" fmla="*/ 24840 w 180000"/>
                <a:gd name="textAreaRight" fmla="*/ 155160 w 180000"/>
                <a:gd name="textAreaTop" fmla="*/ 24840 h 282600"/>
                <a:gd name="textAreaBottom" fmla="*/ 257760 h 282600"/>
              </a:gdLst>
              <a:ahLst/>
              <a:rect l="textAreaLeft" t="textAreaTop" r="textAreaRight" b="textAreaBottom"/>
              <a:pathLst>
                <a:path w="21600" h="33887">
                  <a:moveTo>
                    <a:pt x="10185" y="0"/>
                  </a:moveTo>
                  <a:arcTo wR="10185" hR="10185" stAng="16200000" swAng="-5400000"/>
                  <a:lnTo>
                    <a:pt x="0" y="23702"/>
                  </a:lnTo>
                  <a:arcTo wR="10185" hR="10185" stAng="10800000" swAng="-5400000"/>
                  <a:lnTo>
                    <a:pt x="11415" y="33887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30640" y="2746440"/>
              <a:ext cx="200520" cy="30312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03120"/>
                <a:gd name="textAreaBottom" fmla="*/ 278280 h 303120"/>
              </a:gdLst>
              <a:ahLst/>
              <a:rect l="textAreaLeft" t="textAreaTop" r="textAreaRight" b="textAreaBottom"/>
              <a:pathLst>
                <a:path w="21600" h="32632">
                  <a:moveTo>
                    <a:pt x="9145" y="0"/>
                  </a:moveTo>
                  <a:arcTo wR="9145" hR="9145" stAng="16200000" swAng="-5400000"/>
                  <a:lnTo>
                    <a:pt x="0" y="23487"/>
                  </a:lnTo>
                  <a:arcTo wR="9145" hR="9145" stAng="10800000" swAng="-5400000"/>
                  <a:lnTo>
                    <a:pt x="12455" y="32632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30640" y="2898720"/>
              <a:ext cx="180000" cy="150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30640" y="2898720"/>
              <a:ext cx="200520" cy="17316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30640" y="2746440"/>
              <a:ext cx="200520" cy="30312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03120"/>
                <a:gd name="textAreaBottom" fmla="*/ 278280 h 303120"/>
              </a:gdLst>
              <a:ahLst/>
              <a:rect l="textAreaLeft" t="textAreaTop" r="textAreaRight" b="textAreaBottom"/>
              <a:pathLst>
                <a:path w="21600" h="32632">
                  <a:moveTo>
                    <a:pt x="9145" y="0"/>
                  </a:moveTo>
                  <a:arcTo wR="9145" hR="9145" stAng="16200000" swAng="-5400000"/>
                  <a:lnTo>
                    <a:pt x="0" y="23487"/>
                  </a:lnTo>
                  <a:arcTo wR="9145" hR="9145" stAng="10800000" swAng="-5400000"/>
                  <a:lnTo>
                    <a:pt x="12455" y="32632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30640" y="2898720"/>
              <a:ext cx="180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89680" y="5264280"/>
              <a:ext cx="180000" cy="282600"/>
            </a:xfrm>
            <a:custGeom>
              <a:avLst/>
              <a:gdLst>
                <a:gd name="textAreaLeft" fmla="*/ 24840 w 180000"/>
                <a:gd name="textAreaRight" fmla="*/ 155160 w 180000"/>
                <a:gd name="textAreaTop" fmla="*/ 24840 h 282600"/>
                <a:gd name="textAreaBottom" fmla="*/ 257760 h 282600"/>
              </a:gdLst>
              <a:ahLst/>
              <a:rect l="textAreaLeft" t="textAreaTop" r="textAreaRight" b="textAreaBottom"/>
              <a:pathLst>
                <a:path w="21600" h="33887">
                  <a:moveTo>
                    <a:pt x="10185" y="0"/>
                  </a:moveTo>
                  <a:arcTo wR="10185" hR="10185" stAng="16200000" swAng="-5400000"/>
                  <a:lnTo>
                    <a:pt x="0" y="23702"/>
                  </a:lnTo>
                  <a:arcTo wR="10185" hR="10185" stAng="10800000" swAng="-5400000"/>
                  <a:lnTo>
                    <a:pt x="11415" y="33887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89680" y="5264280"/>
              <a:ext cx="200520" cy="30456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04560"/>
                <a:gd name="textAreaBottom" fmla="*/ 279720 h 304560"/>
              </a:gdLst>
              <a:ahLst/>
              <a:rect l="textAreaLeft" t="textAreaTop" r="textAreaRight" b="textAreaBottom"/>
              <a:pathLst>
                <a:path w="21600" h="32787">
                  <a:moveTo>
                    <a:pt x="9145" y="0"/>
                  </a:moveTo>
                  <a:arcTo wR="9145" hR="9145" stAng="16200000" swAng="-5400000"/>
                  <a:lnTo>
                    <a:pt x="0" y="23642"/>
                  </a:lnTo>
                  <a:arcTo wR="9145" hR="9145" stAng="10800000" swAng="-5400000"/>
                  <a:lnTo>
                    <a:pt x="12455" y="32787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89680" y="5416560"/>
              <a:ext cx="180000" cy="130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89680" y="5416560"/>
              <a:ext cx="200520" cy="1522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89680" y="5264280"/>
              <a:ext cx="200520" cy="304560"/>
            </a:xfrm>
            <a:custGeom>
              <a:avLst/>
              <a:gdLst>
                <a:gd name="textAreaLeft" fmla="*/ 24840 w 200520"/>
                <a:gd name="textAreaRight" fmla="*/ 175680 w 200520"/>
                <a:gd name="textAreaTop" fmla="*/ 24840 h 304560"/>
                <a:gd name="textAreaBottom" fmla="*/ 279720 h 304560"/>
              </a:gdLst>
              <a:ahLst/>
              <a:rect l="textAreaLeft" t="textAreaTop" r="textAreaRight" b="textAreaBottom"/>
              <a:pathLst>
                <a:path w="21600" h="32787">
                  <a:moveTo>
                    <a:pt x="9145" y="0"/>
                  </a:moveTo>
                  <a:arcTo wR="9145" hR="9145" stAng="16200000" swAng="-5400000"/>
                  <a:lnTo>
                    <a:pt x="0" y="23642"/>
                  </a:lnTo>
                  <a:arcTo wR="9145" hR="9145" stAng="10800000" swAng="-5400000"/>
                  <a:lnTo>
                    <a:pt x="12455" y="32787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89680" y="5394240"/>
              <a:ext cx="180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09240" y="282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206440" y="1768320"/>
              <a:ext cx="100800" cy="13032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0" y="41"/>
                  </a:moveTo>
                  <a:lnTo>
                    <a:pt x="0" y="0"/>
                  </a:lnTo>
                  <a:lnTo>
                    <a:pt x="69" y="41"/>
                  </a:lnTo>
                  <a:lnTo>
                    <a:pt x="0" y="8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65160" y="1833480"/>
              <a:ext cx="1240920" cy="912960"/>
            </a:xfrm>
            <a:custGeom>
              <a:avLst/>
              <a:gdLst/>
              <a:ahLst/>
              <a:rect l="l" t="t" r="r" b="b"/>
              <a:pathLst>
                <a:path w="847" h="575">
                  <a:moveTo>
                    <a:pt x="0" y="575"/>
                  </a:moveTo>
                  <a:lnTo>
                    <a:pt x="13" y="479"/>
                  </a:lnTo>
                  <a:lnTo>
                    <a:pt x="54" y="370"/>
                  </a:lnTo>
                  <a:lnTo>
                    <a:pt x="136" y="274"/>
                  </a:lnTo>
                  <a:lnTo>
                    <a:pt x="232" y="192"/>
                  </a:lnTo>
                  <a:lnTo>
                    <a:pt x="506" y="69"/>
                  </a:lnTo>
                  <a:lnTo>
                    <a:pt x="84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49160" y="5351400"/>
              <a:ext cx="101160" cy="13032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69" y="41"/>
                  </a:moveTo>
                  <a:lnTo>
                    <a:pt x="69" y="82"/>
                  </a:lnTo>
                  <a:lnTo>
                    <a:pt x="0" y="41"/>
                  </a:lnTo>
                  <a:lnTo>
                    <a:pt x="69" y="0"/>
                  </a:lnTo>
                  <a:lnTo>
                    <a:pt x="69" y="4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69400" y="4656240"/>
              <a:ext cx="1983960" cy="760320"/>
            </a:xfrm>
            <a:custGeom>
              <a:avLst/>
              <a:gdLst/>
              <a:ahLst/>
              <a:rect l="l" t="t" r="r" b="b"/>
              <a:pathLst>
                <a:path w="1354" h="479">
                  <a:moveTo>
                    <a:pt x="1354" y="0"/>
                  </a:moveTo>
                  <a:lnTo>
                    <a:pt x="1327" y="82"/>
                  </a:lnTo>
                  <a:lnTo>
                    <a:pt x="1259" y="178"/>
                  </a:lnTo>
                  <a:lnTo>
                    <a:pt x="1122" y="260"/>
                  </a:lnTo>
                  <a:lnTo>
                    <a:pt x="958" y="329"/>
                  </a:lnTo>
                  <a:lnTo>
                    <a:pt x="534" y="438"/>
                  </a:lnTo>
                  <a:lnTo>
                    <a:pt x="0" y="47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87120" y="4635360"/>
              <a:ext cx="11988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1" y="68"/>
                  </a:moveTo>
                  <a:lnTo>
                    <a:pt x="0" y="82"/>
                  </a:lnTo>
                  <a:lnTo>
                    <a:pt x="13" y="0"/>
                  </a:lnTo>
                  <a:lnTo>
                    <a:pt x="82" y="54"/>
                  </a:lnTo>
                  <a:lnTo>
                    <a:pt x="41" y="6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47240" y="4765680"/>
              <a:ext cx="1302480" cy="628560"/>
            </a:xfrm>
            <a:custGeom>
              <a:avLst/>
              <a:gdLst/>
              <a:ahLst/>
              <a:rect l="l" t="t" r="r" b="b"/>
              <a:pathLst>
                <a:path w="889" h="396">
                  <a:moveTo>
                    <a:pt x="889" y="396"/>
                  </a:moveTo>
                  <a:lnTo>
                    <a:pt x="588" y="369"/>
                  </a:lnTo>
                  <a:lnTo>
                    <a:pt x="328" y="287"/>
                  </a:lnTo>
                  <a:lnTo>
                    <a:pt x="123" y="164"/>
                  </a:lnTo>
                  <a:lnTo>
                    <a:pt x="54" y="8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925360" y="2048040"/>
              <a:ext cx="70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120" y="40798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63360" y="429732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82400" y="2117880"/>
              <a:ext cx="60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70600" y="381960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10280" y="40370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04560" y="4970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88320" y="4957920"/>
              <a:ext cx="70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29600" y="517356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089800" y="53910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30640" y="2593800"/>
              <a:ext cx="12024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1" y="14"/>
                  </a:moveTo>
                  <a:lnTo>
                    <a:pt x="82" y="0"/>
                  </a:lnTo>
                  <a:lnTo>
                    <a:pt x="69" y="82"/>
                  </a:lnTo>
                  <a:lnTo>
                    <a:pt x="0" y="27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28360" y="1855800"/>
              <a:ext cx="1562040" cy="738000"/>
            </a:xfrm>
            <a:custGeom>
              <a:avLst/>
              <a:gdLst/>
              <a:ahLst/>
              <a:rect l="l" t="t" r="r" b="b"/>
              <a:pathLst>
                <a:path w="1066" h="465">
                  <a:moveTo>
                    <a:pt x="0" y="0"/>
                  </a:moveTo>
                  <a:lnTo>
                    <a:pt x="355" y="27"/>
                  </a:lnTo>
                  <a:lnTo>
                    <a:pt x="683" y="123"/>
                  </a:lnTo>
                  <a:lnTo>
                    <a:pt x="930" y="274"/>
                  </a:lnTo>
                  <a:lnTo>
                    <a:pt x="1012" y="369"/>
                  </a:lnTo>
                  <a:lnTo>
                    <a:pt x="1066" y="46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54000" y="4265640"/>
              <a:ext cx="12024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41" y="0"/>
                  </a:moveTo>
                  <a:lnTo>
                    <a:pt x="82" y="0"/>
                  </a:lnTo>
                  <a:lnTo>
                    <a:pt x="55" y="69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52040" y="2919240"/>
              <a:ext cx="1162080" cy="1346400"/>
            </a:xfrm>
            <a:custGeom>
              <a:avLst/>
              <a:gdLst/>
              <a:ahLst/>
              <a:rect l="l" t="t" r="r" b="b"/>
              <a:pathLst>
                <a:path w="793" h="848">
                  <a:moveTo>
                    <a:pt x="0" y="0"/>
                  </a:moveTo>
                  <a:lnTo>
                    <a:pt x="150" y="14"/>
                  </a:lnTo>
                  <a:lnTo>
                    <a:pt x="287" y="69"/>
                  </a:lnTo>
                  <a:lnTo>
                    <a:pt x="410" y="137"/>
                  </a:lnTo>
                  <a:lnTo>
                    <a:pt x="533" y="246"/>
                  </a:lnTo>
                  <a:lnTo>
                    <a:pt x="629" y="370"/>
                  </a:lnTo>
                  <a:lnTo>
                    <a:pt x="711" y="506"/>
                  </a:lnTo>
                  <a:lnTo>
                    <a:pt x="766" y="670"/>
                  </a:lnTo>
                  <a:lnTo>
                    <a:pt x="793" y="84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24480" y="3179880"/>
              <a:ext cx="11988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41" y="69"/>
                  </a:moveTo>
                  <a:lnTo>
                    <a:pt x="0" y="69"/>
                  </a:lnTo>
                  <a:lnTo>
                    <a:pt x="41" y="0"/>
                  </a:lnTo>
                  <a:lnTo>
                    <a:pt x="82" y="69"/>
                  </a:lnTo>
                  <a:lnTo>
                    <a:pt x="41" y="6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84240" y="3309840"/>
              <a:ext cx="821880" cy="1150920"/>
            </a:xfrm>
            <a:custGeom>
              <a:avLst/>
              <a:gdLst/>
              <a:ahLst/>
              <a:rect l="l" t="t" r="r" b="b"/>
              <a:pathLst>
                <a:path w="561" h="725">
                  <a:moveTo>
                    <a:pt x="561" y="725"/>
                  </a:moveTo>
                  <a:lnTo>
                    <a:pt x="451" y="712"/>
                  </a:lnTo>
                  <a:lnTo>
                    <a:pt x="356" y="671"/>
                  </a:lnTo>
                  <a:lnTo>
                    <a:pt x="274" y="616"/>
                  </a:lnTo>
                  <a:lnTo>
                    <a:pt x="192" y="520"/>
                  </a:lnTo>
                  <a:lnTo>
                    <a:pt x="69" y="288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73640" y="4505400"/>
              <a:ext cx="9936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27"/>
                  </a:moveTo>
                  <a:lnTo>
                    <a:pt x="0" y="0"/>
                  </a:lnTo>
                  <a:lnTo>
                    <a:pt x="68" y="27"/>
                  </a:lnTo>
                  <a:lnTo>
                    <a:pt x="0" y="6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85360" y="3049560"/>
              <a:ext cx="3788280" cy="1498680"/>
            </a:xfrm>
            <a:custGeom>
              <a:avLst/>
              <a:gdLst/>
              <a:ahLst/>
              <a:rect l="l" t="t" r="r" b="b"/>
              <a:pathLst>
                <a:path w="2585" h="944">
                  <a:moveTo>
                    <a:pt x="2585" y="944"/>
                  </a:moveTo>
                  <a:lnTo>
                    <a:pt x="2065" y="930"/>
                  </a:lnTo>
                  <a:lnTo>
                    <a:pt x="1573" y="876"/>
                  </a:lnTo>
                  <a:lnTo>
                    <a:pt x="1135" y="780"/>
                  </a:lnTo>
                  <a:lnTo>
                    <a:pt x="752" y="670"/>
                  </a:lnTo>
                  <a:lnTo>
                    <a:pt x="438" y="520"/>
                  </a:lnTo>
                  <a:lnTo>
                    <a:pt x="205" y="370"/>
                  </a:lnTo>
                  <a:lnTo>
                    <a:pt x="55" y="19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30080" y="3429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47640" y="5708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43720" y="34513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67480" y="3994200"/>
              <a:ext cx="60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26680" y="1682640"/>
              <a:ext cx="2606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26680" y="1682640"/>
              <a:ext cx="280800" cy="303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86440" y="17431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93880" y="4395960"/>
              <a:ext cx="26064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93880" y="4395960"/>
              <a:ext cx="279720" cy="282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72720" y="4435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66880" y="4352760"/>
              <a:ext cx="25920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66880" y="4352760"/>
              <a:ext cx="279720" cy="282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64800" y="4414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23640" y="2863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112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314560" y="4245120"/>
              <a:ext cx="109440" cy="9828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38" y="0"/>
                  </a:moveTo>
                  <a:lnTo>
                    <a:pt x="75" y="0"/>
                  </a:lnTo>
                  <a:lnTo>
                    <a:pt x="38" y="62"/>
                  </a:lnTo>
                  <a:lnTo>
                    <a:pt x="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27600" y="1986120"/>
              <a:ext cx="842400" cy="2238120"/>
            </a:xfrm>
            <a:custGeom>
              <a:avLst/>
              <a:gdLst/>
              <a:ahLst/>
              <a:rect l="l" t="t" r="r" b="b"/>
              <a:pathLst>
                <a:path w="575" h="1410">
                  <a:moveTo>
                    <a:pt x="0" y="0"/>
                  </a:moveTo>
                  <a:lnTo>
                    <a:pt x="113" y="25"/>
                  </a:lnTo>
                  <a:lnTo>
                    <a:pt x="213" y="112"/>
                  </a:lnTo>
                  <a:lnTo>
                    <a:pt x="312" y="237"/>
                  </a:lnTo>
                  <a:lnTo>
                    <a:pt x="400" y="412"/>
                  </a:lnTo>
                  <a:lnTo>
                    <a:pt x="525" y="861"/>
                  </a:lnTo>
                  <a:lnTo>
                    <a:pt x="575" y="141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99280" y="1906560"/>
              <a:ext cx="109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12" y="37"/>
                  </a:moveTo>
                  <a:lnTo>
                    <a:pt x="0" y="0"/>
                  </a:lnTo>
                  <a:lnTo>
                    <a:pt x="75" y="25"/>
                  </a:lnTo>
                  <a:lnTo>
                    <a:pt x="12" y="75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29960" y="1965240"/>
              <a:ext cx="769320" cy="1447920"/>
            </a:xfrm>
            <a:custGeom>
              <a:avLst/>
              <a:gdLst/>
              <a:ahLst/>
              <a:rect l="l" t="t" r="r" b="b"/>
              <a:pathLst>
                <a:path w="525" h="912">
                  <a:moveTo>
                    <a:pt x="0" y="912"/>
                  </a:moveTo>
                  <a:lnTo>
                    <a:pt x="38" y="600"/>
                  </a:lnTo>
                  <a:lnTo>
                    <a:pt x="150" y="312"/>
                  </a:lnTo>
                  <a:lnTo>
                    <a:pt x="225" y="200"/>
                  </a:lnTo>
                  <a:lnTo>
                    <a:pt x="312" y="113"/>
                  </a:lnTo>
                  <a:lnTo>
                    <a:pt x="412" y="38"/>
                  </a:lnTo>
                  <a:lnTo>
                    <a:pt x="52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412320" y="3749760"/>
              <a:ext cx="109800" cy="9828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37" y="50"/>
                  </a:moveTo>
                  <a:lnTo>
                    <a:pt x="0" y="62"/>
                  </a:lnTo>
                  <a:lnTo>
                    <a:pt x="12" y="0"/>
                  </a:lnTo>
                  <a:lnTo>
                    <a:pt x="75" y="37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66320" y="3848040"/>
              <a:ext cx="1774440" cy="635040"/>
            </a:xfrm>
            <a:custGeom>
              <a:avLst/>
              <a:gdLst/>
              <a:ahLst/>
              <a:rect l="l" t="t" r="r" b="b"/>
              <a:pathLst>
                <a:path w="1211" h="400">
                  <a:moveTo>
                    <a:pt x="1211" y="400"/>
                  </a:moveTo>
                  <a:lnTo>
                    <a:pt x="799" y="375"/>
                  </a:lnTo>
                  <a:lnTo>
                    <a:pt x="437" y="287"/>
                  </a:lnTo>
                  <a:lnTo>
                    <a:pt x="163" y="162"/>
                  </a:lnTo>
                  <a:lnTo>
                    <a:pt x="63" y="88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09440" y="1866960"/>
              <a:ext cx="2372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09440" y="1866960"/>
              <a:ext cx="254880" cy="277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38880" y="3452760"/>
              <a:ext cx="23760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38880" y="3452760"/>
              <a:ext cx="256320" cy="27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41120" y="4343400"/>
              <a:ext cx="23868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41120" y="4343400"/>
              <a:ext cx="256320" cy="277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67400" y="190332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23480" y="34894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302320" y="43797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39720" y="1233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560920" y="123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l and global wait-for graph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504360" y="2095560"/>
            <a:ext cx="8248320" cy="2670120"/>
            <a:chOff x="504360" y="2095560"/>
            <a:chExt cx="8248320" cy="2670120"/>
          </a:xfrm>
        </p:grpSpPr>
        <p:sp>
          <p:nvSpPr>
            <p:cNvPr id="696" name=""/>
            <p:cNvSpPr/>
            <p:nvPr/>
          </p:nvSpPr>
          <p:spPr>
            <a:xfrm>
              <a:off x="633600" y="2739960"/>
              <a:ext cx="1979640" cy="2025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95120" y="3176640"/>
              <a:ext cx="512640" cy="51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7600" y="434808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8080" y="3211560"/>
              <a:ext cx="513000" cy="51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03240" y="326700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02080" y="3375000"/>
              <a:ext cx="256320" cy="11916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0" y="25"/>
                  </a:moveTo>
                  <a:lnTo>
                    <a:pt x="0" y="0"/>
                  </a:lnTo>
                  <a:lnTo>
                    <a:pt x="175" y="25"/>
                  </a:lnTo>
                  <a:lnTo>
                    <a:pt x="0" y="7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47760" y="3414600"/>
              <a:ext cx="477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0840" y="326700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39520" y="2739960"/>
              <a:ext cx="1967760" cy="2014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67960" y="43401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87360" y="3174840"/>
              <a:ext cx="511200" cy="51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649320" y="3174840"/>
              <a:ext cx="509400" cy="51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11320" y="32637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32480" y="3371760"/>
              <a:ext cx="218160" cy="119160"/>
            </a:xfrm>
            <a:custGeom>
              <a:avLst/>
              <a:gdLst/>
              <a:ahLst/>
              <a:rect l="l" t="t" r="r" b="b"/>
              <a:pathLst>
                <a:path w="149" h="75">
                  <a:moveTo>
                    <a:pt x="0" y="25"/>
                  </a:moveTo>
                  <a:lnTo>
                    <a:pt x="0" y="0"/>
                  </a:lnTo>
                  <a:lnTo>
                    <a:pt x="149" y="25"/>
                  </a:lnTo>
                  <a:lnTo>
                    <a:pt x="0" y="7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46120" y="3411360"/>
              <a:ext cx="473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59800" y="32637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743240" y="3965400"/>
              <a:ext cx="51120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43240" y="3965400"/>
              <a:ext cx="547920" cy="594000"/>
            </a:xfrm>
            <a:prstGeom prst="rect">
              <a:avLst/>
            </a:prstGeom>
            <a:noFill/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48480" y="3965400"/>
              <a:ext cx="51120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48480" y="3965400"/>
              <a:ext cx="547920" cy="594000"/>
            </a:xfrm>
            <a:prstGeom prst="rect">
              <a:avLst/>
            </a:prstGeom>
            <a:noFill/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67040" y="2739960"/>
              <a:ext cx="1968840" cy="2016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8480" y="3965400"/>
              <a:ext cx="547920" cy="59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43240" y="3965400"/>
              <a:ext cx="547920" cy="59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60040" y="2938320"/>
              <a:ext cx="509760" cy="55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22400" y="30272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76800" y="3689280"/>
              <a:ext cx="18288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100" y="25"/>
                  </a:moveTo>
                  <a:lnTo>
                    <a:pt x="125" y="50"/>
                  </a:lnTo>
                  <a:lnTo>
                    <a:pt x="0" y="149"/>
                  </a:lnTo>
                  <a:lnTo>
                    <a:pt x="50" y="0"/>
                  </a:lnTo>
                  <a:lnTo>
                    <a:pt x="10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100280" y="3476520"/>
              <a:ext cx="218160" cy="23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61800" y="3490920"/>
              <a:ext cx="181080" cy="2379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99" y="125"/>
                  </a:moveTo>
                  <a:lnTo>
                    <a:pt x="74" y="150"/>
                  </a:lnTo>
                  <a:lnTo>
                    <a:pt x="0" y="0"/>
                  </a:lnTo>
                  <a:lnTo>
                    <a:pt x="124" y="100"/>
                  </a:lnTo>
                  <a:lnTo>
                    <a:pt x="99" y="1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730280" y="3703320"/>
              <a:ext cx="21960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75920" y="40957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24320" y="405612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4360" y="2095560"/>
              <a:ext cx="205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wait-for grap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81640" y="209556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wait-for grap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16560" y="2095560"/>
              <a:ext cx="24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deadlock det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bes transmitted to detect deadloc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29640" y="1255680"/>
            <a:ext cx="7604640" cy="4718880"/>
            <a:chOff x="629640" y="1255680"/>
            <a:chExt cx="7604640" cy="4718880"/>
          </a:xfrm>
        </p:grpSpPr>
        <p:sp>
          <p:nvSpPr>
            <p:cNvPr id="732" name=""/>
            <p:cNvSpPr/>
            <p:nvPr/>
          </p:nvSpPr>
          <p:spPr>
            <a:xfrm>
              <a:off x="7006320" y="2097000"/>
              <a:ext cx="994680" cy="1027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07120" y="4913280"/>
              <a:ext cx="971280" cy="1025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03040" y="1887480"/>
              <a:ext cx="994680" cy="1025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67720" y="2097000"/>
              <a:ext cx="218160" cy="368280"/>
            </a:xfrm>
            <a:custGeom>
              <a:avLst/>
              <a:gdLst>
                <a:gd name="textAreaLeft" fmla="*/ 29880 w 218160"/>
                <a:gd name="textAreaRight" fmla="*/ 188280 w 218160"/>
                <a:gd name="textAreaTop" fmla="*/ 29880 h 368280"/>
                <a:gd name="textAreaBottom" fmla="*/ 338400 h 368280"/>
              </a:gdLst>
              <a:ahLst/>
              <a:rect l="textAreaLeft" t="textAreaTop" r="textAreaRight" b="textAreaBottom"/>
              <a:pathLst>
                <a:path w="21600" h="36439">
                  <a:moveTo>
                    <a:pt x="10148" y="0"/>
                  </a:moveTo>
                  <a:arcTo wR="10148" hR="10148" stAng="16200000" swAng="-5400000"/>
                  <a:lnTo>
                    <a:pt x="0" y="26291"/>
                  </a:lnTo>
                  <a:arcTo wR="10148" hR="10148" stAng="10800000" swAng="-5400000"/>
                  <a:lnTo>
                    <a:pt x="11452" y="36439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67720" y="2097000"/>
              <a:ext cx="241560" cy="395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95280"/>
                <a:gd name="textAreaBottom" fmla="*/ 365400 h 395280"/>
              </a:gdLst>
              <a:ahLst/>
              <a:rect l="textAreaLeft" t="textAreaTop" r="textAreaRight" b="textAreaBottom"/>
              <a:pathLst>
                <a:path w="21600" h="35325">
                  <a:moveTo>
                    <a:pt x="9164" y="0"/>
                  </a:moveTo>
                  <a:arcTo wR="9164" hR="9164" stAng="16200000" swAng="-5400000"/>
                  <a:lnTo>
                    <a:pt x="0" y="26161"/>
                  </a:lnTo>
                  <a:arcTo wR="9164" hR="9164" stAng="10800000" swAng="-5400000"/>
                  <a:lnTo>
                    <a:pt x="12436" y="3532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67720" y="2281320"/>
              <a:ext cx="218160" cy="183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67720" y="2281320"/>
              <a:ext cx="241560" cy="21096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67720" y="2097000"/>
              <a:ext cx="241560" cy="395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95280"/>
                <a:gd name="textAreaBottom" fmla="*/ 365400 h 395280"/>
              </a:gdLst>
              <a:ahLst/>
              <a:rect l="textAreaLeft" t="textAreaTop" r="textAreaRight" b="textAreaBottom"/>
              <a:pathLst>
                <a:path w="21600" h="35325">
                  <a:moveTo>
                    <a:pt x="9164" y="0"/>
                  </a:moveTo>
                  <a:arcTo wR="9164" hR="9164" stAng="16200000" swAng="-5400000"/>
                  <a:lnTo>
                    <a:pt x="0" y="26161"/>
                  </a:lnTo>
                  <a:arcTo wR="9164" hR="9164" stAng="10800000" swAng="-5400000"/>
                  <a:lnTo>
                    <a:pt x="12436" y="3532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67720" y="2281320"/>
              <a:ext cx="218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467480" y="2440080"/>
              <a:ext cx="218160" cy="341280"/>
            </a:xfrm>
            <a:custGeom>
              <a:avLst/>
              <a:gdLst>
                <a:gd name="textAreaLeft" fmla="*/ 29880 w 218160"/>
                <a:gd name="textAreaRight" fmla="*/ 188280 w 218160"/>
                <a:gd name="textAreaTop" fmla="*/ 29880 h 341280"/>
                <a:gd name="textAreaBottom" fmla="*/ 311400 h 341280"/>
              </a:gdLst>
              <a:ahLst/>
              <a:rect l="textAreaLeft" t="textAreaTop" r="textAreaRight" b="textAreaBottom"/>
              <a:pathLst>
                <a:path w="21600" h="33770">
                  <a:moveTo>
                    <a:pt x="10148" y="0"/>
                  </a:moveTo>
                  <a:arcTo wR="10148" hR="10148" stAng="16200000" swAng="-5400000"/>
                  <a:lnTo>
                    <a:pt x="0" y="23622"/>
                  </a:lnTo>
                  <a:arcTo wR="10148" hR="10148" stAng="10800000" swAng="-5400000"/>
                  <a:lnTo>
                    <a:pt x="11452" y="33770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67480" y="2440080"/>
              <a:ext cx="241560" cy="368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68280"/>
                <a:gd name="textAreaBottom" fmla="*/ 338400 h 368280"/>
              </a:gdLst>
              <a:ahLst/>
              <a:rect l="textAreaLeft" t="textAreaTop" r="textAreaRight" b="textAreaBottom"/>
              <a:pathLst>
                <a:path w="21600" h="32914">
                  <a:moveTo>
                    <a:pt x="9164" y="0"/>
                  </a:moveTo>
                  <a:arcTo wR="9164" hR="9164" stAng="16200000" swAng="-5400000"/>
                  <a:lnTo>
                    <a:pt x="0" y="23750"/>
                  </a:lnTo>
                  <a:arcTo wR="9164" hR="9164" stAng="10800000" swAng="-5400000"/>
                  <a:lnTo>
                    <a:pt x="12436" y="32914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2624040"/>
              <a:ext cx="218160" cy="184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67480" y="2624040"/>
              <a:ext cx="241560" cy="2095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67480" y="2440080"/>
              <a:ext cx="241560" cy="368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68280"/>
                <a:gd name="textAreaBottom" fmla="*/ 338400 h 368280"/>
              </a:gdLst>
              <a:ahLst/>
              <a:rect l="textAreaLeft" t="textAreaTop" r="textAreaRight" b="textAreaBottom"/>
              <a:pathLst>
                <a:path w="21600" h="32914">
                  <a:moveTo>
                    <a:pt x="9164" y="0"/>
                  </a:moveTo>
                  <a:arcTo wR="9164" hR="9164" stAng="16200000" swAng="-5400000"/>
                  <a:lnTo>
                    <a:pt x="0" y="23750"/>
                  </a:lnTo>
                  <a:arcTo wR="9164" hR="9164" stAng="10800000" swAng="-5400000"/>
                  <a:lnTo>
                    <a:pt x="12436" y="32914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67480" y="2624040"/>
              <a:ext cx="218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71800" y="5254560"/>
              <a:ext cx="218520" cy="343080"/>
            </a:xfrm>
            <a:custGeom>
              <a:avLst/>
              <a:gdLst>
                <a:gd name="textAreaLeft" fmla="*/ 29880 w 218520"/>
                <a:gd name="textAreaRight" fmla="*/ 188640 w 218520"/>
                <a:gd name="textAreaTop" fmla="*/ 29880 h 343080"/>
                <a:gd name="textAreaBottom" fmla="*/ 313200 h 343080"/>
              </a:gdLst>
              <a:ahLst/>
              <a:rect l="textAreaLeft" t="textAreaTop" r="textAreaRight" b="textAreaBottom"/>
              <a:pathLst>
                <a:path w="21600" h="33892">
                  <a:moveTo>
                    <a:pt x="10148" y="0"/>
                  </a:moveTo>
                  <a:arcTo wR="10148" hR="10148" stAng="16200000" swAng="-5400000"/>
                  <a:lnTo>
                    <a:pt x="0" y="23744"/>
                  </a:lnTo>
                  <a:arcTo wR="10148" hR="10148" stAng="10800000" swAng="-5400000"/>
                  <a:lnTo>
                    <a:pt x="11452" y="33892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71800" y="5254560"/>
              <a:ext cx="241560" cy="368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68280"/>
                <a:gd name="textAreaBottom" fmla="*/ 338400 h 368280"/>
              </a:gdLst>
              <a:ahLst/>
              <a:rect l="textAreaLeft" t="textAreaTop" r="textAreaRight" b="textAreaBottom"/>
              <a:pathLst>
                <a:path w="21600" h="32914">
                  <a:moveTo>
                    <a:pt x="9164" y="0"/>
                  </a:moveTo>
                  <a:arcTo wR="9164" hR="9164" stAng="16200000" swAng="-5400000"/>
                  <a:lnTo>
                    <a:pt x="0" y="23750"/>
                  </a:lnTo>
                  <a:arcTo wR="9164" hR="9164" stAng="10800000" swAng="-5400000"/>
                  <a:lnTo>
                    <a:pt x="12436" y="32914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95560" y="5438880"/>
              <a:ext cx="194760" cy="158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795560" y="5438880"/>
              <a:ext cx="218160" cy="18396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771800" y="5254560"/>
              <a:ext cx="241560" cy="368280"/>
            </a:xfrm>
            <a:custGeom>
              <a:avLst/>
              <a:gdLst>
                <a:gd name="textAreaLeft" fmla="*/ 29880 w 241560"/>
                <a:gd name="textAreaRight" fmla="*/ 211680 w 241560"/>
                <a:gd name="textAreaTop" fmla="*/ 29880 h 368280"/>
                <a:gd name="textAreaBottom" fmla="*/ 338400 h 368280"/>
              </a:gdLst>
              <a:ahLst/>
              <a:rect l="textAreaLeft" t="textAreaTop" r="textAreaRight" b="textAreaBottom"/>
              <a:pathLst>
                <a:path w="21600" h="32914">
                  <a:moveTo>
                    <a:pt x="9164" y="0"/>
                  </a:moveTo>
                  <a:arcTo wR="9164" hR="9164" stAng="16200000" swAng="-5400000"/>
                  <a:lnTo>
                    <a:pt x="0" y="23750"/>
                  </a:lnTo>
                  <a:arcTo wR="9164" hR="9164" stAng="10800000" swAng="-5400000"/>
                  <a:lnTo>
                    <a:pt x="12436" y="32914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771800" y="5413320"/>
              <a:ext cx="218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00880" y="4202280"/>
              <a:ext cx="2916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00880" y="4202280"/>
              <a:ext cx="316440" cy="447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77560" y="4311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12000" y="1255680"/>
              <a:ext cx="31464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12000" y="1255680"/>
              <a:ext cx="339840" cy="447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17560" y="168912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09640" y="2281320"/>
              <a:ext cx="97920" cy="131760"/>
            </a:xfrm>
            <a:custGeom>
              <a:avLst/>
              <a:gdLst/>
              <a:ahLst/>
              <a:rect l="l" t="t" r="r" b="b"/>
              <a:pathLst>
                <a:path w="67" h="83">
                  <a:moveTo>
                    <a:pt x="50" y="67"/>
                  </a:moveTo>
                  <a:lnTo>
                    <a:pt x="17" y="83"/>
                  </a:lnTo>
                  <a:lnTo>
                    <a:pt x="0" y="0"/>
                  </a:lnTo>
                  <a:lnTo>
                    <a:pt x="67" y="50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682720" y="2387520"/>
              <a:ext cx="2089080" cy="302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90320" y="5281560"/>
              <a:ext cx="12132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66" y="16"/>
                  </a:moveTo>
                  <a:lnTo>
                    <a:pt x="83" y="33"/>
                  </a:lnTo>
                  <a:lnTo>
                    <a:pt x="0" y="83"/>
                  </a:lnTo>
                  <a:lnTo>
                    <a:pt x="49" y="0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5087160" y="2755440"/>
              <a:ext cx="2403720" cy="255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71040" y="13730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26240" y="550404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85760" y="542592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40040" y="35053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41120" y="3741840"/>
              <a:ext cx="25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883120" y="171612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11680" y="2030400"/>
              <a:ext cx="904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eadloc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3120" y="2293920"/>
              <a:ext cx="82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93040" y="4361040"/>
              <a:ext cx="31464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93040" y="4361040"/>
              <a:ext cx="339840" cy="473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75480" y="4478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97000" y="21891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87480" y="25574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03040" y="5635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18560" y="3057480"/>
              <a:ext cx="900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niti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29640" y="166212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44920" y="163512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43280" y="1662120"/>
              <a:ext cx="27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56120" y="163512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53040" y="1662120"/>
              <a:ext cx="323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89280" y="163512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85840" y="1662120"/>
              <a:ext cx="26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55320" y="37148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71680" y="36878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69680" y="37148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02160" y="332100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43360" y="329400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41000" y="3321000"/>
              <a:ext cx="27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29000" y="329400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25560" y="3321000"/>
              <a:ext cx="26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58440" y="5834160"/>
              <a:ext cx="96480" cy="13176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50" y="50"/>
                  </a:moveTo>
                  <a:lnTo>
                    <a:pt x="66" y="83"/>
                  </a:lnTo>
                  <a:lnTo>
                    <a:pt x="0" y="50"/>
                  </a:lnTo>
                  <a:lnTo>
                    <a:pt x="50" y="0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154920" y="5202360"/>
              <a:ext cx="1602360" cy="711000"/>
            </a:xfrm>
            <a:custGeom>
              <a:avLst/>
              <a:gdLst/>
              <a:ahLst/>
              <a:rect l="l" t="t" r="r" b="b"/>
              <a:pathLst>
                <a:path w="1094" h="448">
                  <a:moveTo>
                    <a:pt x="1094" y="0"/>
                  </a:moveTo>
                  <a:lnTo>
                    <a:pt x="1078" y="83"/>
                  </a:lnTo>
                  <a:lnTo>
                    <a:pt x="1012" y="166"/>
                  </a:lnTo>
                  <a:lnTo>
                    <a:pt x="780" y="315"/>
                  </a:lnTo>
                  <a:lnTo>
                    <a:pt x="431" y="398"/>
                  </a:lnTo>
                  <a:lnTo>
                    <a:pt x="0" y="448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90320" y="541332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66"/>
                  </a:lnTo>
                  <a:lnTo>
                    <a:pt x="0" y="33"/>
                  </a:lnTo>
                  <a:lnTo>
                    <a:pt x="66" y="0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087160" y="4808520"/>
              <a:ext cx="1675800" cy="657360"/>
            </a:xfrm>
            <a:custGeom>
              <a:avLst/>
              <a:gdLst/>
              <a:ahLst/>
              <a:rect l="l" t="t" r="r" b="b"/>
              <a:pathLst>
                <a:path w="1144" h="414">
                  <a:moveTo>
                    <a:pt x="1144" y="0"/>
                  </a:moveTo>
                  <a:lnTo>
                    <a:pt x="1111" y="82"/>
                  </a:lnTo>
                  <a:lnTo>
                    <a:pt x="1044" y="149"/>
                  </a:lnTo>
                  <a:lnTo>
                    <a:pt x="812" y="281"/>
                  </a:lnTo>
                  <a:lnTo>
                    <a:pt x="448" y="381"/>
                  </a:lnTo>
                  <a:lnTo>
                    <a:pt x="0" y="41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22560" y="462456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49"/>
                  </a:moveTo>
                  <a:lnTo>
                    <a:pt x="0" y="66"/>
                  </a:lnTo>
                  <a:lnTo>
                    <a:pt x="17" y="0"/>
                  </a:lnTo>
                  <a:lnTo>
                    <a:pt x="66" y="49"/>
                  </a:lnTo>
                  <a:lnTo>
                    <a:pt x="33" y="4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71160" y="4729320"/>
              <a:ext cx="1700640" cy="736560"/>
            </a:xfrm>
            <a:custGeom>
              <a:avLst/>
              <a:gdLst/>
              <a:ahLst/>
              <a:rect l="l" t="t" r="r" b="b"/>
              <a:pathLst>
                <a:path w="1161" h="464">
                  <a:moveTo>
                    <a:pt x="1161" y="464"/>
                  </a:moveTo>
                  <a:lnTo>
                    <a:pt x="730" y="431"/>
                  </a:lnTo>
                  <a:lnTo>
                    <a:pt x="365" y="331"/>
                  </a:lnTo>
                  <a:lnTo>
                    <a:pt x="116" y="182"/>
                  </a:lnTo>
                  <a:lnTo>
                    <a:pt x="33" y="9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39720" y="2492280"/>
              <a:ext cx="9828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33" y="66"/>
                  </a:moveTo>
                  <a:lnTo>
                    <a:pt x="0" y="66"/>
                  </a:lnTo>
                  <a:lnTo>
                    <a:pt x="33" y="0"/>
                  </a:lnTo>
                  <a:lnTo>
                    <a:pt x="67" y="66"/>
                  </a:lnTo>
                  <a:lnTo>
                    <a:pt x="33" y="6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487960" y="2597040"/>
              <a:ext cx="412920" cy="1816200"/>
            </a:xfrm>
            <a:custGeom>
              <a:avLst/>
              <a:gdLst/>
              <a:ahLst/>
              <a:rect l="l" t="t" r="r" b="b"/>
              <a:pathLst>
                <a:path w="282" h="1144">
                  <a:moveTo>
                    <a:pt x="282" y="1144"/>
                  </a:moveTo>
                  <a:lnTo>
                    <a:pt x="232" y="1127"/>
                  </a:lnTo>
                  <a:lnTo>
                    <a:pt x="183" y="1061"/>
                  </a:lnTo>
                  <a:lnTo>
                    <a:pt x="83" y="812"/>
                  </a:lnTo>
                  <a:lnTo>
                    <a:pt x="34" y="44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0320" y="1360440"/>
              <a:ext cx="71640" cy="10656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0" y="33"/>
                  </a:moveTo>
                  <a:lnTo>
                    <a:pt x="0" y="0"/>
                  </a:lnTo>
                  <a:lnTo>
                    <a:pt x="49" y="33"/>
                  </a:lnTo>
                  <a:lnTo>
                    <a:pt x="0" y="6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12800" y="1413000"/>
              <a:ext cx="2452320" cy="738000"/>
            </a:xfrm>
            <a:custGeom>
              <a:avLst/>
              <a:gdLst/>
              <a:ahLst/>
              <a:rect l="l" t="t" r="r" b="b"/>
              <a:pathLst>
                <a:path w="1674" h="465">
                  <a:moveTo>
                    <a:pt x="0" y="465"/>
                  </a:moveTo>
                  <a:lnTo>
                    <a:pt x="33" y="365"/>
                  </a:lnTo>
                  <a:lnTo>
                    <a:pt x="133" y="282"/>
                  </a:lnTo>
                  <a:lnTo>
                    <a:pt x="497" y="133"/>
                  </a:lnTo>
                  <a:lnTo>
                    <a:pt x="1028" y="34"/>
                  </a:lnTo>
                  <a:lnTo>
                    <a:pt x="167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16080" y="230832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17"/>
                  </a:moveTo>
                  <a:lnTo>
                    <a:pt x="66" y="0"/>
                  </a:lnTo>
                  <a:lnTo>
                    <a:pt x="49" y="66"/>
                  </a:lnTo>
                  <a:lnTo>
                    <a:pt x="0" y="17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27000" y="1440000"/>
              <a:ext cx="2136960" cy="868320"/>
            </a:xfrm>
            <a:custGeom>
              <a:avLst/>
              <a:gdLst/>
              <a:ahLst/>
              <a:rect l="l" t="t" r="r" b="b"/>
              <a:pathLst>
                <a:path w="1459" h="547">
                  <a:moveTo>
                    <a:pt x="0" y="0"/>
                  </a:moveTo>
                  <a:lnTo>
                    <a:pt x="531" y="50"/>
                  </a:lnTo>
                  <a:lnTo>
                    <a:pt x="995" y="166"/>
                  </a:lnTo>
                  <a:lnTo>
                    <a:pt x="1177" y="232"/>
                  </a:lnTo>
                  <a:lnTo>
                    <a:pt x="1310" y="332"/>
                  </a:lnTo>
                  <a:lnTo>
                    <a:pt x="1409" y="431"/>
                  </a:lnTo>
                  <a:lnTo>
                    <a:pt x="1459" y="5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08040" y="4465800"/>
              <a:ext cx="9792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50" y="33"/>
                  </a:moveTo>
                  <a:lnTo>
                    <a:pt x="67" y="66"/>
                  </a:lnTo>
                  <a:lnTo>
                    <a:pt x="0" y="33"/>
                  </a:lnTo>
                  <a:lnTo>
                    <a:pt x="50" y="0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06320" y="2833560"/>
              <a:ext cx="581400" cy="1684440"/>
            </a:xfrm>
            <a:custGeom>
              <a:avLst/>
              <a:gdLst/>
              <a:ahLst/>
              <a:rect l="l" t="t" r="r" b="b"/>
              <a:pathLst>
                <a:path w="397" h="1061">
                  <a:moveTo>
                    <a:pt x="397" y="0"/>
                  </a:moveTo>
                  <a:lnTo>
                    <a:pt x="364" y="382"/>
                  </a:lnTo>
                  <a:lnTo>
                    <a:pt x="281" y="697"/>
                  </a:lnTo>
                  <a:lnTo>
                    <a:pt x="165" y="945"/>
                  </a:lnTo>
                  <a:lnTo>
                    <a:pt x="82" y="1012"/>
                  </a:lnTo>
                  <a:lnTo>
                    <a:pt x="0" y="106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35280" y="27147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215600" y="5715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088840" y="2952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probes initiat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07240" y="1623960"/>
            <a:ext cx="168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initial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33840" y="1623960"/>
            <a:ext cx="318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detection initiated at object requested b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08520" y="1606680"/>
            <a:ext cx="31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 detection initiated at object requested b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444240" y="2374920"/>
            <a:ext cx="8223480" cy="2565720"/>
            <a:chOff x="444240" y="2374920"/>
            <a:chExt cx="8223480" cy="2565720"/>
          </a:xfrm>
        </p:grpSpPr>
        <p:sp>
          <p:nvSpPr>
            <p:cNvPr id="815" name=""/>
            <p:cNvSpPr/>
            <p:nvPr/>
          </p:nvSpPr>
          <p:spPr>
            <a:xfrm flipH="1">
              <a:off x="4376520" y="3216240"/>
              <a:ext cx="701640" cy="12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390920" y="3684600"/>
              <a:ext cx="1239840" cy="21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6129360" y="2755440"/>
              <a:ext cx="67788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15120" y="2862360"/>
              <a:ext cx="1369800" cy="23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09000" y="2646360"/>
              <a:ext cx="703080" cy="89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84920" y="3130560"/>
              <a:ext cx="1882800" cy="23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390840" y="3571920"/>
              <a:ext cx="679680" cy="99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06560" y="3827520"/>
              <a:ext cx="1617840" cy="268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76440" y="2674800"/>
              <a:ext cx="11592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47"/>
                  </a:moveTo>
                  <a:lnTo>
                    <a:pt x="0" y="0"/>
                  </a:lnTo>
                  <a:lnTo>
                    <a:pt x="79" y="32"/>
                  </a:lnTo>
                  <a:lnTo>
                    <a:pt x="0" y="7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33480" y="2749680"/>
              <a:ext cx="620640" cy="498240"/>
            </a:xfrm>
            <a:custGeom>
              <a:avLst/>
              <a:gdLst/>
              <a:ahLst/>
              <a:rect l="l" t="t" r="r" b="b"/>
              <a:pathLst>
                <a:path w="424" h="314">
                  <a:moveTo>
                    <a:pt x="0" y="314"/>
                  </a:moveTo>
                  <a:lnTo>
                    <a:pt x="32" y="204"/>
                  </a:lnTo>
                  <a:lnTo>
                    <a:pt x="126" y="110"/>
                  </a:lnTo>
                  <a:lnTo>
                    <a:pt x="251" y="47"/>
                  </a:lnTo>
                  <a:lnTo>
                    <a:pt x="42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92360" y="2576520"/>
              <a:ext cx="276120" cy="32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5240" y="3247920"/>
              <a:ext cx="276480" cy="29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17440" y="3968640"/>
              <a:ext cx="298440" cy="32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30400" y="3271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33040" y="2635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30160" y="3271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34720" y="40273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38200" y="4043520"/>
              <a:ext cx="11592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9" y="47"/>
                  </a:moveTo>
                  <a:lnTo>
                    <a:pt x="79" y="78"/>
                  </a:lnTo>
                  <a:lnTo>
                    <a:pt x="0" y="47"/>
                  </a:lnTo>
                  <a:lnTo>
                    <a:pt x="63" y="0"/>
                  </a:lnTo>
                  <a:lnTo>
                    <a:pt x="79" y="4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54120" y="3546360"/>
              <a:ext cx="550800" cy="546120"/>
            </a:xfrm>
            <a:custGeom>
              <a:avLst/>
              <a:gdLst/>
              <a:ahLst/>
              <a:rect l="l" t="t" r="r" b="b"/>
              <a:pathLst>
                <a:path w="376" h="344">
                  <a:moveTo>
                    <a:pt x="376" y="0"/>
                  </a:moveTo>
                  <a:lnTo>
                    <a:pt x="344" y="109"/>
                  </a:lnTo>
                  <a:lnTo>
                    <a:pt x="266" y="219"/>
                  </a:lnTo>
                  <a:lnTo>
                    <a:pt x="156" y="297"/>
                  </a:lnTo>
                  <a:lnTo>
                    <a:pt x="0" y="34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989000" y="3247920"/>
              <a:ext cx="300240" cy="32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4240" y="262728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74880" y="4092480"/>
              <a:ext cx="5968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74880" y="4092480"/>
              <a:ext cx="9360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63"/>
                  </a:moveTo>
                  <a:lnTo>
                    <a:pt x="0" y="0"/>
                  </a:lnTo>
                  <a:lnTo>
                    <a:pt x="63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81400" y="4092480"/>
              <a:ext cx="9036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0"/>
                  </a:moveTo>
                  <a:lnTo>
                    <a:pt x="62" y="0"/>
                  </a:lnTo>
                  <a:lnTo>
                    <a:pt x="62" y="6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81400" y="4441680"/>
              <a:ext cx="9036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62" y="62"/>
                  </a:lnTo>
                  <a:lnTo>
                    <a:pt x="0" y="62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04920" y="4092480"/>
              <a:ext cx="16056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2104920" y="4540320"/>
              <a:ext cx="16056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74880" y="4441680"/>
              <a:ext cx="93600" cy="986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63" y="62"/>
                  </a:moveTo>
                  <a:lnTo>
                    <a:pt x="0" y="6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24920" y="398448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25640" y="420840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772160" y="3049560"/>
              <a:ext cx="129960" cy="11916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5" y="45"/>
                  </a:moveTo>
                  <a:lnTo>
                    <a:pt x="45" y="0"/>
                  </a:lnTo>
                  <a:lnTo>
                    <a:pt x="89" y="75"/>
                  </a:lnTo>
                  <a:lnTo>
                    <a:pt x="0" y="75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332240" y="2859120"/>
              <a:ext cx="461880" cy="26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24240" y="3476520"/>
              <a:ext cx="111240" cy="14292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45" y="60"/>
                  </a:moveTo>
                  <a:lnTo>
                    <a:pt x="15" y="90"/>
                  </a:lnTo>
                  <a:lnTo>
                    <a:pt x="0" y="0"/>
                  </a:lnTo>
                  <a:lnTo>
                    <a:pt x="75" y="30"/>
                  </a:lnTo>
                  <a:lnTo>
                    <a:pt x="45" y="6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36400" y="3214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92480" y="3192480"/>
              <a:ext cx="285840" cy="307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873600" y="2670120"/>
              <a:ext cx="10944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30"/>
                  </a:moveTo>
                  <a:lnTo>
                    <a:pt x="0" y="0"/>
                  </a:lnTo>
                  <a:lnTo>
                    <a:pt x="75" y="30"/>
                  </a:lnTo>
                  <a:lnTo>
                    <a:pt x="15" y="7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46560" y="2739960"/>
              <a:ext cx="527040" cy="405000"/>
            </a:xfrm>
            <a:custGeom>
              <a:avLst/>
              <a:gdLst/>
              <a:ahLst/>
              <a:rect l="l" t="t" r="r" b="b"/>
              <a:pathLst>
                <a:path w="359" h="255">
                  <a:moveTo>
                    <a:pt x="0" y="255"/>
                  </a:moveTo>
                  <a:lnTo>
                    <a:pt x="30" y="165"/>
                  </a:lnTo>
                  <a:lnTo>
                    <a:pt x="105" y="90"/>
                  </a:lnTo>
                  <a:lnTo>
                    <a:pt x="210" y="30"/>
                  </a:lnTo>
                  <a:lnTo>
                    <a:pt x="35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70520" y="4570560"/>
              <a:ext cx="23940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60080" y="459252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32240" y="4427640"/>
              <a:ext cx="11124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0" y="15"/>
                  </a:moveTo>
                  <a:lnTo>
                    <a:pt x="75" y="4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02120" y="3192480"/>
              <a:ext cx="24300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02120" y="3192480"/>
              <a:ext cx="265320" cy="307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923360" y="32148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048200" y="2622600"/>
              <a:ext cx="26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048200" y="2622600"/>
              <a:ext cx="284040" cy="28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98240" y="2644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82880" y="38368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84040" y="37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65760" y="378936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38560" y="3789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15960" y="3836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44480" y="37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18280" y="378936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76680" y="3789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68480" y="38368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27240" y="37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008960" y="378936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82840" y="3789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60240" y="3836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81640" y="3679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97200" y="36320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65960" y="36320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30840" y="3632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16160" y="3679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35320" y="36320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8480" y="36320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289480" y="3632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368680" y="3679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4464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647960" y="27068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27880" y="27068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903560" y="27068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76640" y="27543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16640" y="2631960"/>
              <a:ext cx="75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986600" y="3679920"/>
              <a:ext cx="300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986600" y="3679920"/>
              <a:ext cx="327240" cy="352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48160" y="3711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83520" y="4657680"/>
              <a:ext cx="150840" cy="13644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86" y="35"/>
                  </a:moveTo>
                  <a:lnTo>
                    <a:pt x="103" y="86"/>
                  </a:lnTo>
                  <a:lnTo>
                    <a:pt x="0" y="52"/>
                  </a:lnTo>
                  <a:lnTo>
                    <a:pt x="86" y="0"/>
                  </a:lnTo>
                  <a:lnTo>
                    <a:pt x="86" y="3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34360" y="3978360"/>
              <a:ext cx="679320" cy="734760"/>
            </a:xfrm>
            <a:custGeom>
              <a:avLst/>
              <a:gdLst/>
              <a:ahLst/>
              <a:rect l="l" t="t" r="r" b="b"/>
              <a:pathLst>
                <a:path w="463" h="463">
                  <a:moveTo>
                    <a:pt x="463" y="0"/>
                  </a:moveTo>
                  <a:lnTo>
                    <a:pt x="428" y="154"/>
                  </a:lnTo>
                  <a:lnTo>
                    <a:pt x="326" y="291"/>
                  </a:lnTo>
                  <a:lnTo>
                    <a:pt x="188" y="411"/>
                  </a:lnTo>
                  <a:lnTo>
                    <a:pt x="0" y="463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79960" y="3298680"/>
              <a:ext cx="30024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979960" y="3298680"/>
              <a:ext cx="325440" cy="354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46920" y="3330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58080" y="2374920"/>
              <a:ext cx="276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58080" y="2374920"/>
              <a:ext cx="3016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9120" y="24066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58080" y="4603680"/>
              <a:ext cx="276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52880" y="4532400"/>
              <a:ext cx="299880" cy="326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73200" y="46353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40400" y="28576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36960" y="28036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816880" y="280368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05160" y="280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01640" y="285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40240" y="28036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23400" y="280368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06640" y="280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42000" y="2840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4920" y="27687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95680" y="276876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67360" y="31370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044840" y="3083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44200" y="308304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37160" y="30830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30400" y="3137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571880" y="3083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50360" y="308304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37200" y="30830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37280" y="31370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48520" y="3083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45720" y="308304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40480" y="30830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32280" y="313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575200" y="3083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75360" y="4151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70120" y="40971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351840" y="409716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36880" y="40971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36600" y="4151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43440" y="44816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92400" y="44816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037360" y="4413240"/>
              <a:ext cx="627120" cy="51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37360" y="4413240"/>
              <a:ext cx="10008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69"/>
                  </a:move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564400" y="4413240"/>
              <a:ext cx="10008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0" y="0"/>
                  </a:moveTo>
                  <a:lnTo>
                    <a:pt x="68" y="0"/>
                  </a:lnTo>
                  <a:lnTo>
                    <a:pt x="68" y="69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564400" y="4821120"/>
              <a:ext cx="10008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0"/>
                  </a:moveTo>
                  <a:lnTo>
                    <a:pt x="68" y="69"/>
                  </a:lnTo>
                  <a:lnTo>
                    <a:pt x="0" y="69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263080" y="4413240"/>
              <a:ext cx="1760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8262720" y="4930920"/>
              <a:ext cx="1760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037360" y="4821120"/>
              <a:ext cx="100080" cy="10980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69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6960" y="4398840"/>
              <a:ext cx="57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076960" y="46432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54640" y="3570120"/>
              <a:ext cx="127080" cy="163800"/>
            </a:xfrm>
            <a:custGeom>
              <a:avLst/>
              <a:gdLst/>
              <a:ahLst/>
              <a:rect l="l" t="t" r="r" b="b"/>
              <a:pathLst>
                <a:path w="86" h="103">
                  <a:moveTo>
                    <a:pt x="51" y="69"/>
                  </a:moveTo>
                  <a:lnTo>
                    <a:pt x="17" y="103"/>
                  </a:lnTo>
                  <a:lnTo>
                    <a:pt x="0" y="0"/>
                  </a:lnTo>
                  <a:lnTo>
                    <a:pt x="86" y="35"/>
                  </a:lnTo>
                  <a:lnTo>
                    <a:pt x="51" y="6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 flipV="1">
              <a:off x="6329160" y="3679920"/>
              <a:ext cx="804600" cy="9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73760" y="2646360"/>
              <a:ext cx="149400" cy="163440"/>
            </a:xfrm>
            <a:custGeom>
              <a:avLst/>
              <a:gdLst/>
              <a:ahLst/>
              <a:rect l="l" t="t" r="r" b="b"/>
              <a:pathLst>
                <a:path w="102" h="103">
                  <a:moveTo>
                    <a:pt x="34" y="52"/>
                  </a:moveTo>
                  <a:lnTo>
                    <a:pt x="0" y="17"/>
                  </a:lnTo>
                  <a:lnTo>
                    <a:pt x="102" y="0"/>
                  </a:lnTo>
                  <a:lnTo>
                    <a:pt x="68" y="103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861320" y="3516480"/>
              <a:ext cx="125280" cy="163440"/>
            </a:xfrm>
            <a:custGeom>
              <a:avLst/>
              <a:gdLst/>
              <a:ahLst/>
              <a:rect l="l" t="t" r="r" b="b"/>
              <a:pathLst>
                <a:path w="86" h="103">
                  <a:moveTo>
                    <a:pt x="35" y="34"/>
                  </a:moveTo>
                  <a:lnTo>
                    <a:pt x="69" y="0"/>
                  </a:lnTo>
                  <a:lnTo>
                    <a:pt x="86" y="103"/>
                  </a:lnTo>
                  <a:lnTo>
                    <a:pt x="0" y="69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958080" y="4603680"/>
              <a:ext cx="301680" cy="32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bes travel downhil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483240" y="885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09520" y="108108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26640" y="162864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Probe is forwarded when V starts 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56120" y="1646280"/>
            <a:ext cx="38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V stores probe when U starts 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628560" y="2438280"/>
            <a:ext cx="7861320" cy="2734560"/>
            <a:chOff x="628560" y="2438280"/>
            <a:chExt cx="7861320" cy="2734560"/>
          </a:xfrm>
        </p:grpSpPr>
        <p:sp>
          <p:nvSpPr>
            <p:cNvPr id="955" name=""/>
            <p:cNvSpPr/>
            <p:nvPr/>
          </p:nvSpPr>
          <p:spPr>
            <a:xfrm>
              <a:off x="1459080" y="4686480"/>
              <a:ext cx="938160" cy="358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49560" y="2438280"/>
              <a:ext cx="30312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62160" y="2438280"/>
              <a:ext cx="330120" cy="46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00080" y="4254480"/>
              <a:ext cx="30348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900080" y="4254480"/>
              <a:ext cx="331920" cy="46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197160" y="3179880"/>
              <a:ext cx="30312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197160" y="3179880"/>
              <a:ext cx="330120" cy="46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76720" y="32529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01400" y="249876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979280" y="43290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60440" y="4362480"/>
              <a:ext cx="109800" cy="14436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75" y="45"/>
                  </a:moveTo>
                  <a:lnTo>
                    <a:pt x="75" y="91"/>
                  </a:lnTo>
                  <a:lnTo>
                    <a:pt x="0" y="45"/>
                  </a:lnTo>
                  <a:lnTo>
                    <a:pt x="75" y="0"/>
                  </a:lnTo>
                  <a:lnTo>
                    <a:pt x="75" y="4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97240" y="3573360"/>
              <a:ext cx="938160" cy="860400"/>
            </a:xfrm>
            <a:custGeom>
              <a:avLst/>
              <a:gdLst/>
              <a:ahLst/>
              <a:rect l="l" t="t" r="r" b="b"/>
              <a:pathLst>
                <a:path w="640" h="542">
                  <a:moveTo>
                    <a:pt x="640" y="0"/>
                  </a:moveTo>
                  <a:lnTo>
                    <a:pt x="583" y="181"/>
                  </a:lnTo>
                  <a:lnTo>
                    <a:pt x="452" y="362"/>
                  </a:lnTo>
                  <a:lnTo>
                    <a:pt x="245" y="475"/>
                  </a:lnTo>
                  <a:lnTo>
                    <a:pt x="0" y="54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8560" y="4611600"/>
              <a:ext cx="61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8560" y="488304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66720" y="472284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38520" y="470232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064240" y="472284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130920" y="430848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30200" y="46162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07120" y="4572000"/>
              <a:ext cx="1778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121" y="41"/>
                  </a:moveTo>
                  <a:lnTo>
                    <a:pt x="121" y="81"/>
                  </a:lnTo>
                  <a:lnTo>
                    <a:pt x="0" y="41"/>
                  </a:lnTo>
                  <a:lnTo>
                    <a:pt x="121" y="0"/>
                  </a:lnTo>
                  <a:lnTo>
                    <a:pt x="121" y="4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338880" y="4059360"/>
              <a:ext cx="1123920" cy="577800"/>
            </a:xfrm>
            <a:custGeom>
              <a:avLst/>
              <a:gdLst/>
              <a:ahLst/>
              <a:rect l="l" t="t" r="r" b="b"/>
              <a:pathLst>
                <a:path w="767" h="364">
                  <a:moveTo>
                    <a:pt x="767" y="0"/>
                  </a:moveTo>
                  <a:lnTo>
                    <a:pt x="707" y="142"/>
                  </a:lnTo>
                  <a:lnTo>
                    <a:pt x="545" y="243"/>
                  </a:lnTo>
                  <a:lnTo>
                    <a:pt x="303" y="323"/>
                  </a:lnTo>
                  <a:lnTo>
                    <a:pt x="0" y="36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634080" y="2746440"/>
              <a:ext cx="1095480" cy="768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21960" y="446076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21240" y="47275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19880" y="31780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619160" y="346716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or 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748200" y="312264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951600" y="311472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92080" y="3122640"/>
              <a:ext cx="32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72120" y="2841480"/>
              <a:ext cx="208080" cy="160560"/>
            </a:xfrm>
            <a:custGeom>
              <a:avLst/>
              <a:gdLst/>
              <a:ahLst/>
              <a:rect l="l" t="t" r="r" b="b"/>
              <a:pathLst>
                <a:path w="142" h="101">
                  <a:moveTo>
                    <a:pt x="142" y="41"/>
                  </a:moveTo>
                  <a:lnTo>
                    <a:pt x="0" y="101"/>
                  </a:lnTo>
                  <a:lnTo>
                    <a:pt x="0" y="0"/>
                  </a:lnTo>
                  <a:lnTo>
                    <a:pt x="142" y="41"/>
                  </a:lnTo>
                  <a:close/>
                </a:path>
              </a:pathLst>
            </a:custGeom>
            <a:solidFill>
              <a:srgbClr val="000000"/>
            </a:soli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14960" y="2907000"/>
              <a:ext cx="2130120" cy="17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23" y="21182"/>
                  </a:moveTo>
                  <a:arcTo wR="10800" hR="10800" stAng="6360101" swAng="9303258"/>
                  <a:lnTo>
                    <a:pt x="10800" y="10800"/>
                  </a:lnTo>
                  <a:close/>
                </a:path>
                <a:path fill="none" w="21600" h="21600">
                  <a:moveTo>
                    <a:pt x="7823" y="21182"/>
                  </a:moveTo>
                  <a:arcTo wR="10800" hR="10800" stAng="6360101" swAng="9303258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098880"/>
              <a:ext cx="207720" cy="288720"/>
            </a:xfrm>
            <a:custGeom>
              <a:avLst/>
              <a:gdLst/>
              <a:ahLst/>
              <a:rect l="l" t="t" r="r" b="b"/>
              <a:pathLst>
                <a:path w="142" h="182">
                  <a:moveTo>
                    <a:pt x="121" y="0"/>
                  </a:moveTo>
                  <a:lnTo>
                    <a:pt x="142" y="182"/>
                  </a:lnTo>
                  <a:lnTo>
                    <a:pt x="0" y="161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6013440" y="3387240"/>
              <a:ext cx="266760" cy="10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48200" y="280188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81360" y="2801880"/>
              <a:ext cx="253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272200" y="4765680"/>
              <a:ext cx="1036440" cy="35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280200" y="2693880"/>
              <a:ext cx="384120" cy="41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35600" y="4413240"/>
              <a:ext cx="32544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835600" y="4413240"/>
              <a:ext cx="354240" cy="384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84960" y="3675240"/>
              <a:ext cx="385920" cy="41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920920" y="443700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46440" y="478944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08520" y="478152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49720" y="4789440"/>
              <a:ext cx="253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219360" y="359568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475320" y="3552840"/>
              <a:ext cx="384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11560" y="359568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02320" y="3700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21440" y="278280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67320" y="277020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818120" y="2887560"/>
              <a:ext cx="61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818480" y="315900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ypes of entry in a recovery fi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363600" y="1862280"/>
            <a:ext cx="8258400" cy="2500560"/>
            <a:chOff x="363600" y="1862280"/>
            <a:chExt cx="8258400" cy="2500560"/>
          </a:xfrm>
        </p:grpSpPr>
        <p:grpSp>
          <p:nvGrpSpPr>
            <p:cNvPr id="1009" name=""/>
            <p:cNvGrpSpPr/>
            <p:nvPr/>
          </p:nvGrpSpPr>
          <p:grpSpPr>
            <a:xfrm>
              <a:off x="407880" y="1890720"/>
              <a:ext cx="8049960" cy="431640"/>
              <a:chOff x="407880" y="1890720"/>
              <a:chExt cx="8049960" cy="431640"/>
            </a:xfrm>
          </p:grpSpPr>
          <p:sp>
            <p:nvSpPr>
              <p:cNvPr id="1010" name=""/>
              <p:cNvSpPr/>
              <p:nvPr/>
            </p:nvSpPr>
            <p:spPr>
              <a:xfrm>
                <a:off x="3977640" y="1890720"/>
                <a:ext cx="4480200" cy="431640"/>
              </a:xfrm>
              <a:prstGeom prst="rect">
                <a:avLst/>
              </a:prstGeom>
              <a:solidFill>
                <a:srgbClr val="d9a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07880" y="1890720"/>
                <a:ext cx="4480200" cy="431640"/>
              </a:xfrm>
              <a:prstGeom prst="rect">
                <a:avLst/>
              </a:prstGeom>
              <a:solidFill>
                <a:srgbClr val="d9a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>
              <a:off x="430920" y="1925640"/>
              <a:ext cx="134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ype of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06160" y="1925640"/>
              <a:ext cx="322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scription of contents of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2000" y="2295360"/>
              <a:ext cx="67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80360" y="22953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06520" y="2295360"/>
              <a:ext cx="213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value of an objec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0920" y="2624040"/>
              <a:ext cx="184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action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298600" y="2624040"/>
              <a:ext cx="423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action identifier, transaction status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13120" y="2624040"/>
              <a:ext cx="9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395480" y="2624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534080" y="2624040"/>
              <a:ext cx="106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33080" y="2900520"/>
              <a:ext cx="79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or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041280" y="2900520"/>
              <a:ext cx="491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 and other status values used for the two-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07960" y="3176640"/>
              <a:ext cx="175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it protoco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955320" y="31766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2000" y="3505320"/>
              <a:ext cx="139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ntions 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293200" y="3505320"/>
              <a:ext cx="602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action identifier and a sequence of intentions, each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292120" y="3781440"/>
              <a:ext cx="6329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ich consists of &lt;identifier of object&gt;, &lt;position in re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00040" y="4057560"/>
              <a:ext cx="240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 of value of object&gt;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04400" y="4057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63600" y="4361040"/>
              <a:ext cx="8091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79440" y="1862280"/>
              <a:ext cx="8091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4000" y="130968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Fla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17120" y="1309680"/>
            <a:ext cx="25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Nest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51000" y="1862280"/>
            <a:ext cx="6564240" cy="3916080"/>
            <a:chOff x="1251000" y="1862280"/>
            <a:chExt cx="6564240" cy="3916080"/>
          </a:xfrm>
        </p:grpSpPr>
        <p:sp>
          <p:nvSpPr>
            <p:cNvPr id="91" name=""/>
            <p:cNvSpPr/>
            <p:nvPr/>
          </p:nvSpPr>
          <p:spPr>
            <a:xfrm>
              <a:off x="4417920" y="3225960"/>
              <a:ext cx="747720" cy="900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7920" y="3225960"/>
              <a:ext cx="770040" cy="9223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3506760"/>
              <a:ext cx="42876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67520" y="1862280"/>
              <a:ext cx="747720" cy="900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67520" y="4848120"/>
              <a:ext cx="747720" cy="900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67520" y="3311640"/>
              <a:ext cx="747720" cy="923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02400" y="3855960"/>
              <a:ext cx="745920" cy="92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9680" y="2698920"/>
              <a:ext cx="747720" cy="92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21560" y="3308400"/>
              <a:ext cx="4302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21560" y="5149800"/>
              <a:ext cx="4302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21560" y="2127240"/>
              <a:ext cx="4302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21560" y="3862440"/>
              <a:ext cx="4302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18280" y="2970360"/>
              <a:ext cx="4284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280" y="4079880"/>
              <a:ext cx="428400" cy="376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30440" y="3368520"/>
              <a:ext cx="745920" cy="897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19280" y="3355920"/>
              <a:ext cx="766800" cy="919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28800" y="4848120"/>
              <a:ext cx="746280" cy="920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16200" y="4835520"/>
              <a:ext cx="766800" cy="9428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27240" y="5218200"/>
              <a:ext cx="185760" cy="290520"/>
            </a:xfrm>
            <a:custGeom>
              <a:avLst/>
              <a:gdLst>
                <a:gd name="textAreaLeft" fmla="*/ 25560 w 185760"/>
                <a:gd name="textAreaRight" fmla="*/ 160200 w 185760"/>
                <a:gd name="textAreaTop" fmla="*/ 25560 h 290520"/>
                <a:gd name="textAreaBottom" fmla="*/ 264960 h 290520"/>
              </a:gdLst>
              <a:ahLst/>
              <a:rect l="textAreaLeft" t="textAreaTop" r="textAreaRight" b="textAreaBottom"/>
              <a:pathLst>
                <a:path w="21600" h="33758">
                  <a:moveTo>
                    <a:pt x="10205" y="0"/>
                  </a:moveTo>
                  <a:arcTo wR="10205" hR="10205" stAng="16200000" swAng="-5400000"/>
                  <a:lnTo>
                    <a:pt x="0" y="23553"/>
                  </a:lnTo>
                  <a:arcTo wR="10205" hR="10205" stAng="10800000" swAng="-5400000"/>
                  <a:lnTo>
                    <a:pt x="11395" y="33758"/>
                  </a:lnTo>
                  <a:arcTo wR="10205" hR="10205" stAng="5400000" swAng="-5400000"/>
                  <a:lnTo>
                    <a:pt x="21600" y="10205"/>
                  </a:lnTo>
                  <a:arcTo wR="10205" hR="1020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27240" y="5218200"/>
              <a:ext cx="206640" cy="314280"/>
            </a:xfrm>
            <a:custGeom>
              <a:avLst/>
              <a:gdLst>
                <a:gd name="textAreaLeft" fmla="*/ 25560 w 206640"/>
                <a:gd name="textAreaRight" fmla="*/ 181080 w 20664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832">
                  <a:moveTo>
                    <a:pt x="9191" y="0"/>
                  </a:moveTo>
                  <a:arcTo wR="9191" hR="9191" stAng="16200000" swAng="-5400000"/>
                  <a:lnTo>
                    <a:pt x="0" y="23641"/>
                  </a:lnTo>
                  <a:arcTo wR="9191" hR="9191" stAng="10800000" swAng="-5400000"/>
                  <a:lnTo>
                    <a:pt x="12409" y="32832"/>
                  </a:lnTo>
                  <a:arcTo wR="9191" hR="9191" stAng="5400000" swAng="-5400000"/>
                  <a:lnTo>
                    <a:pt x="21600" y="9191"/>
                  </a:lnTo>
                  <a:arcTo wR="9191" hR="9191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27240" y="5375160"/>
              <a:ext cx="185760" cy="133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27240" y="5375160"/>
              <a:ext cx="206640" cy="1573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27240" y="5218200"/>
              <a:ext cx="206640" cy="314280"/>
            </a:xfrm>
            <a:custGeom>
              <a:avLst/>
              <a:gdLst>
                <a:gd name="textAreaLeft" fmla="*/ 25560 w 206640"/>
                <a:gd name="textAreaRight" fmla="*/ 181080 w 20664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832">
                  <a:moveTo>
                    <a:pt x="9191" y="0"/>
                  </a:moveTo>
                  <a:arcTo wR="9191" hR="9191" stAng="16200000" swAng="-5400000"/>
                  <a:lnTo>
                    <a:pt x="0" y="23641"/>
                  </a:lnTo>
                  <a:arcTo wR="9191" hR="9191" stAng="10800000" swAng="-5400000"/>
                  <a:lnTo>
                    <a:pt x="12409" y="32832"/>
                  </a:lnTo>
                  <a:arcTo wR="9191" hR="9191" stAng="5400000" swAng="-5400000"/>
                  <a:lnTo>
                    <a:pt x="21600" y="9191"/>
                  </a:lnTo>
                  <a:arcTo wR="9191" hR="9191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7240" y="5351400"/>
              <a:ext cx="185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28800" y="3390840"/>
              <a:ext cx="746280" cy="897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16200" y="3378240"/>
              <a:ext cx="766800" cy="919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8120" y="3646440"/>
              <a:ext cx="185760" cy="292320"/>
            </a:xfrm>
            <a:custGeom>
              <a:avLst/>
              <a:gdLst>
                <a:gd name="textAreaLeft" fmla="*/ 25560 w 185760"/>
                <a:gd name="textAreaRight" fmla="*/ 160200 w 185760"/>
                <a:gd name="textAreaTop" fmla="*/ 25560 h 292320"/>
                <a:gd name="textAreaBottom" fmla="*/ 266760 h 292320"/>
              </a:gdLst>
              <a:ahLst/>
              <a:rect l="textAreaLeft" t="textAreaTop" r="textAreaRight" b="textAreaBottom"/>
              <a:pathLst>
                <a:path w="21600" h="33967">
                  <a:moveTo>
                    <a:pt x="10205" y="0"/>
                  </a:moveTo>
                  <a:arcTo wR="10205" hR="10205" stAng="16200000" swAng="-5400000"/>
                  <a:lnTo>
                    <a:pt x="0" y="23762"/>
                  </a:lnTo>
                  <a:arcTo wR="10205" hR="10205" stAng="10800000" swAng="-5400000"/>
                  <a:lnTo>
                    <a:pt x="11395" y="33967"/>
                  </a:lnTo>
                  <a:arcTo wR="10205" hR="10205" stAng="5400000" swAng="-5400000"/>
                  <a:lnTo>
                    <a:pt x="21600" y="10205"/>
                  </a:lnTo>
                  <a:arcTo wR="10205" hR="1020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8120" y="364644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3803760"/>
              <a:ext cx="185760" cy="135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3803760"/>
              <a:ext cx="207720" cy="15696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8120" y="364644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8120" y="3781440"/>
              <a:ext cx="185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28800" y="1909800"/>
              <a:ext cx="746280" cy="896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16200" y="1897200"/>
              <a:ext cx="766800" cy="919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8120" y="2189160"/>
              <a:ext cx="185760" cy="314280"/>
            </a:xfrm>
            <a:custGeom>
              <a:avLst/>
              <a:gdLst>
                <a:gd name="textAreaLeft" fmla="*/ 25560 w 185760"/>
                <a:gd name="textAreaRight" fmla="*/ 160200 w 18576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6515">
                  <a:moveTo>
                    <a:pt x="10205" y="0"/>
                  </a:moveTo>
                  <a:arcTo wR="10205" hR="10205" stAng="16200000" swAng="-5400000"/>
                  <a:lnTo>
                    <a:pt x="0" y="26310"/>
                  </a:lnTo>
                  <a:arcTo wR="10205" hR="10205" stAng="10800000" swAng="-5400000"/>
                  <a:lnTo>
                    <a:pt x="11395" y="36515"/>
                  </a:lnTo>
                  <a:arcTo wR="10205" hR="10205" stAng="5400000" swAng="-5400000"/>
                  <a:lnTo>
                    <a:pt x="21600" y="10205"/>
                  </a:lnTo>
                  <a:arcTo wR="10205" hR="1020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8120" y="2189160"/>
              <a:ext cx="207720" cy="33660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36600"/>
                <a:gd name="textAreaBottom" fmla="*/ 311040 h 336600"/>
              </a:gdLst>
              <a:ahLst/>
              <a:rect l="textAreaLeft" t="textAreaTop" r="textAreaRight" b="textAreaBottom"/>
              <a:pathLst>
                <a:path w="21600" h="34979">
                  <a:moveTo>
                    <a:pt x="9127" y="0"/>
                  </a:moveTo>
                  <a:arcTo wR="9127" hR="9127" stAng="16200000" swAng="-5400000"/>
                  <a:lnTo>
                    <a:pt x="0" y="25852"/>
                  </a:lnTo>
                  <a:arcTo wR="9127" hR="9127" stAng="10800000" swAng="-5400000"/>
                  <a:lnTo>
                    <a:pt x="12473" y="34979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8120" y="2346480"/>
              <a:ext cx="185760" cy="156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2346480"/>
              <a:ext cx="207720" cy="1792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2189160"/>
              <a:ext cx="207720" cy="33660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36600"/>
                <a:gd name="textAreaBottom" fmla="*/ 311040 h 336600"/>
              </a:gdLst>
              <a:ahLst/>
              <a:rect l="textAreaLeft" t="textAreaTop" r="textAreaRight" b="textAreaBottom"/>
              <a:pathLst>
                <a:path w="21600" h="34979">
                  <a:moveTo>
                    <a:pt x="9127" y="0"/>
                  </a:moveTo>
                  <a:arcTo wR="9127" hR="9127" stAng="16200000" swAng="-5400000"/>
                  <a:lnTo>
                    <a:pt x="0" y="25852"/>
                  </a:lnTo>
                  <a:arcTo wR="9127" hR="9127" stAng="10800000" swAng="-5400000"/>
                  <a:lnTo>
                    <a:pt x="12473" y="34979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346480"/>
              <a:ext cx="185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720" y="430848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94000" y="20415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73480" y="34783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3120" y="49816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44800" y="3759120"/>
              <a:ext cx="8244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0" y="28"/>
                  </a:moveTo>
                  <a:lnTo>
                    <a:pt x="0" y="0"/>
                  </a:lnTo>
                  <a:lnTo>
                    <a:pt x="56" y="28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44800" y="2368440"/>
              <a:ext cx="8244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14" y="42"/>
                  </a:moveTo>
                  <a:lnTo>
                    <a:pt x="0" y="14"/>
                  </a:lnTo>
                  <a:lnTo>
                    <a:pt x="56" y="0"/>
                  </a:lnTo>
                  <a:lnTo>
                    <a:pt x="42" y="56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44800" y="5262480"/>
              <a:ext cx="8244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14" y="14"/>
                  </a:moveTo>
                  <a:lnTo>
                    <a:pt x="42" y="0"/>
                  </a:lnTo>
                  <a:lnTo>
                    <a:pt x="56" y="56"/>
                  </a:lnTo>
                  <a:lnTo>
                    <a:pt x="0" y="28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3160" y="5138640"/>
              <a:ext cx="189000" cy="292320"/>
            </a:xfrm>
            <a:custGeom>
              <a:avLst/>
              <a:gdLst>
                <a:gd name="textAreaLeft" fmla="*/ 25920 w 189000"/>
                <a:gd name="textAreaRight" fmla="*/ 163080 w 189000"/>
                <a:gd name="textAreaTop" fmla="*/ 25920 h 292320"/>
                <a:gd name="textAreaBottom" fmla="*/ 266400 h 292320"/>
              </a:gdLst>
              <a:ahLst/>
              <a:rect l="textAreaLeft" t="textAreaTop" r="textAreaRight" b="textAreaBottom"/>
              <a:pathLst>
                <a:path w="21600" h="33386">
                  <a:moveTo>
                    <a:pt x="10125" y="0"/>
                  </a:moveTo>
                  <a:arcTo wR="10125" hR="10125" stAng="16200000" swAng="-5400000"/>
                  <a:lnTo>
                    <a:pt x="0" y="23261"/>
                  </a:lnTo>
                  <a:arcTo wR="10125" hR="10125" stAng="10800000" swAng="-5400000"/>
                  <a:lnTo>
                    <a:pt x="11475" y="33386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3160" y="5138640"/>
              <a:ext cx="209880" cy="314280"/>
            </a:xfrm>
            <a:custGeom>
              <a:avLst/>
              <a:gdLst>
                <a:gd name="textAreaLeft" fmla="*/ 25920 w 209880"/>
                <a:gd name="textAreaRight" fmla="*/ 183960 w 209880"/>
                <a:gd name="textAreaTop" fmla="*/ 25920 h 314280"/>
                <a:gd name="textAreaBottom" fmla="*/ 288360 h 314280"/>
              </a:gdLst>
              <a:ahLst/>
              <a:rect l="textAreaLeft" t="textAreaTop" r="textAreaRight" b="textAreaBottom"/>
              <a:pathLst>
                <a:path w="21600" h="32326">
                  <a:moveTo>
                    <a:pt x="9127" y="0"/>
                  </a:moveTo>
                  <a:arcTo wR="9127" hR="9127" stAng="16200000" swAng="-5400000"/>
                  <a:lnTo>
                    <a:pt x="0" y="23199"/>
                  </a:lnTo>
                  <a:arcTo wR="9127" hR="9127" stAng="10800000" swAng="-5400000"/>
                  <a:lnTo>
                    <a:pt x="12473" y="32326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3160" y="5295960"/>
              <a:ext cx="189000" cy="156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53160" y="5295960"/>
              <a:ext cx="209880" cy="1792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3160" y="5138640"/>
              <a:ext cx="209880" cy="314280"/>
            </a:xfrm>
            <a:custGeom>
              <a:avLst/>
              <a:gdLst>
                <a:gd name="textAreaLeft" fmla="*/ 25920 w 209880"/>
                <a:gd name="textAreaRight" fmla="*/ 183960 w 209880"/>
                <a:gd name="textAreaTop" fmla="*/ 25920 h 314280"/>
                <a:gd name="textAreaBottom" fmla="*/ 288360 h 314280"/>
              </a:gdLst>
              <a:ahLst/>
              <a:rect l="textAreaLeft" t="textAreaTop" r="textAreaRight" b="textAreaBottom"/>
              <a:pathLst>
                <a:path w="21600" h="32326">
                  <a:moveTo>
                    <a:pt x="9127" y="0"/>
                  </a:moveTo>
                  <a:arcTo wR="9127" hR="9127" stAng="16200000" swAng="-5400000"/>
                  <a:lnTo>
                    <a:pt x="0" y="23199"/>
                  </a:lnTo>
                  <a:arcTo wR="9127" hR="9127" stAng="10800000" swAng="-5400000"/>
                  <a:lnTo>
                    <a:pt x="12473" y="32326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3160" y="5295960"/>
              <a:ext cx="189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74040" y="3855960"/>
              <a:ext cx="189000" cy="292320"/>
            </a:xfrm>
            <a:custGeom>
              <a:avLst/>
              <a:gdLst>
                <a:gd name="textAreaLeft" fmla="*/ 25920 w 189000"/>
                <a:gd name="textAreaRight" fmla="*/ 163080 w 189000"/>
                <a:gd name="textAreaTop" fmla="*/ 25920 h 292320"/>
                <a:gd name="textAreaBottom" fmla="*/ 266400 h 292320"/>
              </a:gdLst>
              <a:ahLst/>
              <a:rect l="textAreaLeft" t="textAreaTop" r="textAreaRight" b="textAreaBottom"/>
              <a:pathLst>
                <a:path w="21600" h="33386">
                  <a:moveTo>
                    <a:pt x="10125" y="0"/>
                  </a:moveTo>
                  <a:arcTo wR="10125" hR="10125" stAng="16200000" swAng="-5400000"/>
                  <a:lnTo>
                    <a:pt x="0" y="23261"/>
                  </a:lnTo>
                  <a:arcTo wR="10125" hR="10125" stAng="10800000" swAng="-5400000"/>
                  <a:lnTo>
                    <a:pt x="11475" y="33386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4040" y="385596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74040" y="4013280"/>
              <a:ext cx="189000" cy="135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74040" y="4013280"/>
              <a:ext cx="207720" cy="15696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74040" y="385596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74040" y="3990960"/>
              <a:ext cx="189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040" y="3405240"/>
              <a:ext cx="189000" cy="293760"/>
            </a:xfrm>
            <a:custGeom>
              <a:avLst/>
              <a:gdLst>
                <a:gd name="textAreaLeft" fmla="*/ 25920 w 189000"/>
                <a:gd name="textAreaRight" fmla="*/ 163080 w 189000"/>
                <a:gd name="textAreaTop" fmla="*/ 25920 h 293760"/>
                <a:gd name="textAreaBottom" fmla="*/ 267840 h 293760"/>
              </a:gdLst>
              <a:ahLst/>
              <a:rect l="textAreaLeft" t="textAreaTop" r="textAreaRight" b="textAreaBottom"/>
              <a:pathLst>
                <a:path w="21600" h="33550">
                  <a:moveTo>
                    <a:pt x="10125" y="0"/>
                  </a:moveTo>
                  <a:arcTo wR="10125" hR="10125" stAng="16200000" swAng="-5400000"/>
                  <a:lnTo>
                    <a:pt x="0" y="23425"/>
                  </a:lnTo>
                  <a:arcTo wR="10125" hR="10125" stAng="10800000" swAng="-5400000"/>
                  <a:lnTo>
                    <a:pt x="11475" y="33550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74040" y="3405240"/>
              <a:ext cx="207720" cy="31572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5720"/>
                <a:gd name="textAreaBottom" fmla="*/ 290160 h 315720"/>
              </a:gdLst>
              <a:ahLst/>
              <a:rect l="textAreaLeft" t="textAreaTop" r="textAreaRight" b="textAreaBottom"/>
              <a:pathLst>
                <a:path w="21600" h="32811">
                  <a:moveTo>
                    <a:pt x="9127" y="0"/>
                  </a:moveTo>
                  <a:arcTo wR="9127" hR="9127" stAng="16200000" swAng="-5400000"/>
                  <a:lnTo>
                    <a:pt x="0" y="23684"/>
                  </a:lnTo>
                  <a:arcTo wR="9127" hR="9127" stAng="10800000" swAng="-5400000"/>
                  <a:lnTo>
                    <a:pt x="12473" y="32811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4040" y="3564000"/>
              <a:ext cx="189000" cy="135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74040" y="3564000"/>
              <a:ext cx="207720" cy="15696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74040" y="3405240"/>
              <a:ext cx="207720" cy="31572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5720"/>
                <a:gd name="textAreaBottom" fmla="*/ 290160 h 315720"/>
              </a:gdLst>
              <a:ahLst/>
              <a:rect l="textAreaLeft" t="textAreaTop" r="textAreaRight" b="textAreaBottom"/>
              <a:pathLst>
                <a:path w="21600" h="32811">
                  <a:moveTo>
                    <a:pt x="9127" y="0"/>
                  </a:moveTo>
                  <a:arcTo wR="9127" hR="9127" stAng="16200000" swAng="-5400000"/>
                  <a:lnTo>
                    <a:pt x="0" y="23684"/>
                  </a:lnTo>
                  <a:arcTo wR="9127" hR="9127" stAng="10800000" swAng="-5400000"/>
                  <a:lnTo>
                    <a:pt x="12473" y="32811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74040" y="3540240"/>
              <a:ext cx="189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4040" y="2168640"/>
              <a:ext cx="189000" cy="291960"/>
            </a:xfrm>
            <a:custGeom>
              <a:avLst/>
              <a:gdLst>
                <a:gd name="textAreaLeft" fmla="*/ 25920 w 189000"/>
                <a:gd name="textAreaRight" fmla="*/ 163080 w 189000"/>
                <a:gd name="textAreaTop" fmla="*/ 25920 h 291960"/>
                <a:gd name="textAreaBottom" fmla="*/ 266040 h 291960"/>
              </a:gdLst>
              <a:ahLst/>
              <a:rect l="textAreaLeft" t="textAreaTop" r="textAreaRight" b="textAreaBottom"/>
              <a:pathLst>
                <a:path w="21600" h="33344">
                  <a:moveTo>
                    <a:pt x="10125" y="0"/>
                  </a:moveTo>
                  <a:arcTo wR="10125" hR="10125" stAng="16200000" swAng="-5400000"/>
                  <a:lnTo>
                    <a:pt x="0" y="23219"/>
                  </a:lnTo>
                  <a:arcTo wR="10125" hR="10125" stAng="10800000" swAng="-5400000"/>
                  <a:lnTo>
                    <a:pt x="11475" y="33344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74040" y="216864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4040" y="2325600"/>
              <a:ext cx="189000" cy="135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4040" y="2325600"/>
              <a:ext cx="207720" cy="1573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4040" y="2168640"/>
              <a:ext cx="207720" cy="314280"/>
            </a:xfrm>
            <a:custGeom>
              <a:avLst/>
              <a:gdLst>
                <a:gd name="textAreaLeft" fmla="*/ 25560 w 207720"/>
                <a:gd name="textAreaRight" fmla="*/ 182160 w 20772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2662">
                  <a:moveTo>
                    <a:pt x="9127" y="0"/>
                  </a:moveTo>
                  <a:arcTo wR="9127" hR="9127" stAng="16200000" swAng="-5400000"/>
                  <a:lnTo>
                    <a:pt x="0" y="23535"/>
                  </a:lnTo>
                  <a:arcTo wR="9127" hR="9127" stAng="10800000" swAng="-5400000"/>
                  <a:lnTo>
                    <a:pt x="12473" y="32662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4040" y="2303640"/>
              <a:ext cx="189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83360" y="4170240"/>
              <a:ext cx="208080" cy="292320"/>
            </a:xfrm>
            <a:custGeom>
              <a:avLst/>
              <a:gdLst>
                <a:gd name="textAreaLeft" fmla="*/ 25560 w 208080"/>
                <a:gd name="textAreaRight" fmla="*/ 182520 w 208080"/>
                <a:gd name="textAreaTop" fmla="*/ 25560 h 292320"/>
                <a:gd name="textAreaBottom" fmla="*/ 266760 h 292320"/>
              </a:gdLst>
              <a:ahLst/>
              <a:rect l="textAreaLeft" t="textAreaTop" r="textAreaRight" b="textAreaBottom"/>
              <a:pathLst>
                <a:path w="21600" h="30330">
                  <a:moveTo>
                    <a:pt x="9127" y="0"/>
                  </a:moveTo>
                  <a:arcTo wR="9127" hR="9127" stAng="16200000" swAng="-5400000"/>
                  <a:lnTo>
                    <a:pt x="0" y="21203"/>
                  </a:lnTo>
                  <a:arcTo wR="9127" hR="9127" stAng="10800000" swAng="-5400000"/>
                  <a:lnTo>
                    <a:pt x="12473" y="30330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3360" y="4170240"/>
              <a:ext cx="228600" cy="316080"/>
            </a:xfrm>
            <a:custGeom>
              <a:avLst/>
              <a:gdLst>
                <a:gd name="textAreaLeft" fmla="*/ 25560 w 228600"/>
                <a:gd name="textAreaRight" fmla="*/ 203040 w 228600"/>
                <a:gd name="textAreaTop" fmla="*/ 25560 h 316080"/>
                <a:gd name="textAreaBottom" fmla="*/ 290520 h 316080"/>
              </a:gdLst>
              <a:ahLst/>
              <a:rect l="textAreaLeft" t="textAreaTop" r="textAreaRight" b="textAreaBottom"/>
              <a:pathLst>
                <a:path w="21600" h="29853">
                  <a:moveTo>
                    <a:pt x="8308" y="0"/>
                  </a:moveTo>
                  <a:arcTo wR="8308" hR="8308" stAng="16200000" swAng="-5400000"/>
                  <a:lnTo>
                    <a:pt x="0" y="21545"/>
                  </a:lnTo>
                  <a:arcTo wR="8308" hR="8308" stAng="10800000" swAng="-5400000"/>
                  <a:lnTo>
                    <a:pt x="13292" y="29853"/>
                  </a:lnTo>
                  <a:arcTo wR="8308" hR="8308" stAng="5400000" swAng="-5400000"/>
                  <a:lnTo>
                    <a:pt x="21600" y="8308"/>
                  </a:lnTo>
                  <a:arcTo wR="8308" hR="8308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3880" y="4327560"/>
              <a:ext cx="187560" cy="158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03880" y="4327560"/>
              <a:ext cx="208080" cy="181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83360" y="4170240"/>
              <a:ext cx="228600" cy="316080"/>
            </a:xfrm>
            <a:custGeom>
              <a:avLst/>
              <a:gdLst>
                <a:gd name="textAreaLeft" fmla="*/ 25560 w 228600"/>
                <a:gd name="textAreaRight" fmla="*/ 203040 w 228600"/>
                <a:gd name="textAreaTop" fmla="*/ 25560 h 316080"/>
                <a:gd name="textAreaBottom" fmla="*/ 290520 h 316080"/>
              </a:gdLst>
              <a:ahLst/>
              <a:rect l="textAreaLeft" t="textAreaTop" r="textAreaRight" b="textAreaBottom"/>
              <a:pathLst>
                <a:path w="21600" h="29853">
                  <a:moveTo>
                    <a:pt x="8308" y="0"/>
                  </a:moveTo>
                  <a:arcTo wR="8308" hR="8308" stAng="16200000" swAng="-5400000"/>
                  <a:lnTo>
                    <a:pt x="0" y="21545"/>
                  </a:lnTo>
                  <a:arcTo wR="8308" hR="8308" stAng="10800000" swAng="-5400000"/>
                  <a:lnTo>
                    <a:pt x="13292" y="29853"/>
                  </a:lnTo>
                  <a:arcTo wR="8308" hR="8308" stAng="5400000" swAng="-5400000"/>
                  <a:lnTo>
                    <a:pt x="21600" y="8308"/>
                  </a:lnTo>
                  <a:arcTo wR="8308" hR="830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83360" y="4327560"/>
              <a:ext cx="208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03880" y="2978280"/>
              <a:ext cx="187560" cy="314280"/>
            </a:xfrm>
            <a:custGeom>
              <a:avLst/>
              <a:gdLst>
                <a:gd name="textAreaLeft" fmla="*/ 25560 w 187560"/>
                <a:gd name="textAreaRight" fmla="*/ 162000 w 187560"/>
                <a:gd name="textAreaTop" fmla="*/ 25560 h 314280"/>
                <a:gd name="textAreaBottom" fmla="*/ 288720 h 314280"/>
              </a:gdLst>
              <a:ahLst/>
              <a:rect l="textAreaLeft" t="textAreaTop" r="textAreaRight" b="textAreaBottom"/>
              <a:pathLst>
                <a:path w="21600" h="36166">
                  <a:moveTo>
                    <a:pt x="10125" y="0"/>
                  </a:moveTo>
                  <a:arcTo wR="10125" hR="10125" stAng="16200000" swAng="-5400000"/>
                  <a:lnTo>
                    <a:pt x="0" y="26041"/>
                  </a:lnTo>
                  <a:arcTo wR="10125" hR="10125" stAng="10800000" swAng="-5400000"/>
                  <a:lnTo>
                    <a:pt x="11475" y="36166"/>
                  </a:lnTo>
                  <a:arcTo wR="10125" hR="10125" stAng="5400000" swAng="-5400000"/>
                  <a:lnTo>
                    <a:pt x="21600" y="10125"/>
                  </a:lnTo>
                  <a:arcTo wR="10125" hR="1012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3880" y="2978280"/>
              <a:ext cx="208080" cy="338040"/>
            </a:xfrm>
            <a:custGeom>
              <a:avLst/>
              <a:gdLst>
                <a:gd name="textAreaLeft" fmla="*/ 25560 w 208080"/>
                <a:gd name="textAreaRight" fmla="*/ 182520 w 208080"/>
                <a:gd name="textAreaTop" fmla="*/ 25560 h 338040"/>
                <a:gd name="textAreaBottom" fmla="*/ 312480 h 338040"/>
              </a:gdLst>
              <a:ahLst/>
              <a:rect l="textAreaLeft" t="textAreaTop" r="textAreaRight" b="textAreaBottom"/>
              <a:pathLst>
                <a:path w="21600" h="35067">
                  <a:moveTo>
                    <a:pt x="9127" y="0"/>
                  </a:moveTo>
                  <a:arcTo wR="9127" hR="9127" stAng="16200000" swAng="-5400000"/>
                  <a:lnTo>
                    <a:pt x="0" y="25940"/>
                  </a:lnTo>
                  <a:arcTo wR="9127" hR="9127" stAng="10800000" swAng="-5400000"/>
                  <a:lnTo>
                    <a:pt x="12473" y="35067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03880" y="3135240"/>
              <a:ext cx="187560" cy="157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03880" y="3135240"/>
              <a:ext cx="208080" cy="181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03880" y="2978280"/>
              <a:ext cx="208080" cy="338040"/>
            </a:xfrm>
            <a:custGeom>
              <a:avLst/>
              <a:gdLst>
                <a:gd name="textAreaLeft" fmla="*/ 25560 w 208080"/>
                <a:gd name="textAreaRight" fmla="*/ 182520 w 208080"/>
                <a:gd name="textAreaTop" fmla="*/ 25560 h 338040"/>
                <a:gd name="textAreaBottom" fmla="*/ 312480 h 338040"/>
              </a:gdLst>
              <a:ahLst/>
              <a:rect l="textAreaLeft" t="textAreaTop" r="textAreaRight" b="textAreaBottom"/>
              <a:pathLst>
                <a:path w="21600" h="35067">
                  <a:moveTo>
                    <a:pt x="9127" y="0"/>
                  </a:moveTo>
                  <a:arcTo wR="9127" hR="9127" stAng="16200000" swAng="-5400000"/>
                  <a:lnTo>
                    <a:pt x="0" y="25940"/>
                  </a:lnTo>
                  <a:arcTo wR="9127" hR="9127" stAng="10800000" swAng="-5400000"/>
                  <a:lnTo>
                    <a:pt x="12473" y="35067"/>
                  </a:lnTo>
                  <a:arcTo wR="9127" hR="9127" stAng="5400000" swAng="-5400000"/>
                  <a:lnTo>
                    <a:pt x="21600" y="9127"/>
                  </a:lnTo>
                  <a:arcTo wR="9127" hR="912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3880" y="3135240"/>
              <a:ext cx="187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62520" y="27194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48480" y="456408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91360" y="1886040"/>
              <a:ext cx="15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72520" y="30560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38520" y="30290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30680" y="315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38520" y="41194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7680" y="4243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4400" y="22017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62760" y="2316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5400" y="303372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72280" y="48560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08480" y="3135240"/>
              <a:ext cx="8100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14" y="29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42" y="43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772160" y="3180960"/>
              <a:ext cx="45720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29360" y="4192560"/>
              <a:ext cx="8244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4" y="29"/>
                  </a:moveTo>
                  <a:lnTo>
                    <a:pt x="28" y="0"/>
                  </a:lnTo>
                  <a:lnTo>
                    <a:pt x="57" y="57"/>
                  </a:lnTo>
                  <a:lnTo>
                    <a:pt x="0" y="57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2160" y="3855960"/>
              <a:ext cx="476280" cy="38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20040" y="2325600"/>
              <a:ext cx="8244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5" y="28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29" y="5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746680" y="2370240"/>
              <a:ext cx="893880" cy="65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40560" y="3451320"/>
              <a:ext cx="8244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14" y="0"/>
                  </a:lnTo>
                  <a:lnTo>
                    <a:pt x="56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46680" y="3316320"/>
              <a:ext cx="89388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61080" y="3968640"/>
              <a:ext cx="8424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0" y="28"/>
                  </a:moveTo>
                  <a:lnTo>
                    <a:pt x="0" y="0"/>
                  </a:lnTo>
                  <a:lnTo>
                    <a:pt x="57" y="14"/>
                  </a:lnTo>
                  <a:lnTo>
                    <a:pt x="14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767560" y="4012920"/>
              <a:ext cx="893520" cy="1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61080" y="5160960"/>
              <a:ext cx="8424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4" y="28"/>
                  </a:moveTo>
                  <a:lnTo>
                    <a:pt x="28" y="0"/>
                  </a:lnTo>
                  <a:lnTo>
                    <a:pt x="57" y="57"/>
                  </a:lnTo>
                  <a:lnTo>
                    <a:pt x="0" y="57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89520" y="4440240"/>
              <a:ext cx="871560" cy="76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0920" y="3090960"/>
              <a:ext cx="82440" cy="11268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0" y="28"/>
                  </a:moveTo>
                  <a:lnTo>
                    <a:pt x="0" y="0"/>
                  </a:lnTo>
                  <a:lnTo>
                    <a:pt x="57" y="28"/>
                  </a:lnTo>
                  <a:lnTo>
                    <a:pt x="0" y="7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46680" y="3135240"/>
              <a:ext cx="354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00920" y="4260960"/>
              <a:ext cx="8244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8"/>
                  </a:moveTo>
                  <a:lnTo>
                    <a:pt x="0" y="0"/>
                  </a:lnTo>
                  <a:lnTo>
                    <a:pt x="57" y="28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6680" y="4305240"/>
              <a:ext cx="3542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23920" y="3606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2200" y="3363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42240" y="3495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43240" y="388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50160" y="4038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29200" y="51721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35760" y="5321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72520" y="2257560"/>
              <a:ext cx="80640" cy="11268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0" y="29"/>
                  </a:moveTo>
                  <a:lnTo>
                    <a:pt x="0" y="0"/>
                  </a:lnTo>
                  <a:lnTo>
                    <a:pt x="56" y="29"/>
                  </a:lnTo>
                  <a:lnTo>
                    <a:pt x="0" y="7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0200" y="2303640"/>
              <a:ext cx="292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2520" y="3495600"/>
              <a:ext cx="8064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0" y="28"/>
                  </a:moveTo>
                  <a:lnTo>
                    <a:pt x="0" y="0"/>
                  </a:lnTo>
                  <a:lnTo>
                    <a:pt x="56" y="28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0200" y="3540240"/>
              <a:ext cx="270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72520" y="3944880"/>
              <a:ext cx="8064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0" y="29"/>
                  </a:moveTo>
                  <a:lnTo>
                    <a:pt x="0" y="0"/>
                  </a:lnTo>
                  <a:lnTo>
                    <a:pt x="56" y="29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59680" y="3990960"/>
              <a:ext cx="312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72520" y="5205240"/>
              <a:ext cx="80640" cy="11304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0" y="43"/>
                  </a:moveTo>
                  <a:lnTo>
                    <a:pt x="0" y="0"/>
                  </a:lnTo>
                  <a:lnTo>
                    <a:pt x="56" y="43"/>
                  </a:lnTo>
                  <a:lnTo>
                    <a:pt x="0" y="7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80200" y="5273640"/>
              <a:ext cx="29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51000" y="320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990800" y="2435400"/>
              <a:ext cx="974520" cy="121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0800" y="3803760"/>
              <a:ext cx="9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82720" y="3632040"/>
              <a:ext cx="430200" cy="37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5280" y="3727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0800" y="3983040"/>
              <a:ext cx="974520" cy="13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925800" y="2144880"/>
            <a:ext cx="4710240" cy="1130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46040" y="2144880"/>
            <a:ext cx="4710240" cy="1130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g for banking servi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9212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9832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89872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00492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70044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0664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0216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0980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30388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41152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6760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7344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07076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17696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872480" y="188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978680" y="19382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66840" y="1941480"/>
            <a:ext cx="190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70000" y="1941480"/>
            <a:ext cx="176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71720" y="1941480"/>
            <a:ext cx="176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675240" y="1941480"/>
            <a:ext cx="17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476600" y="1941480"/>
            <a:ext cx="176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80120" y="1941480"/>
            <a:ext cx="17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40600" y="1941480"/>
            <a:ext cx="190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043760" y="1941480"/>
            <a:ext cx="17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845480" y="1941480"/>
            <a:ext cx="172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5432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82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5604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846080" y="2182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04660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648880" y="2182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7352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451320" y="2182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66264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254480" y="2182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3600" y="2182680"/>
            <a:ext cx="5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19480" y="2182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202720" y="2182680"/>
            <a:ext cx="56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21200" y="2182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191280" y="21826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19120" y="2182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994440" y="2182680"/>
            <a:ext cx="64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75560" y="2182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770960" y="2195640"/>
            <a:ext cx="56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389440" y="21826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1040" y="23954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293120" y="239544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095920" y="23954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898000" y="2395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699360" y="23954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02160" y="23954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240520" y="239544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266520" y="23954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069680" y="239544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872480" y="239544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01800" y="26082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10160" y="2608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716720" y="260820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24360" y="2608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30560" y="2665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38200" y="26082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872120" y="26082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977960" y="26082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104320" y="260820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210520" y="2608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318160" y="266544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15000" y="260820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01800" y="28195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610160" y="28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16720" y="281952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824360" y="28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930560" y="28764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038200" y="28195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872120" y="28195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978680" y="28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086680" y="281952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193240" y="28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300880" y="28764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397360" y="281952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502160" y="303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609800" y="3089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303880" y="303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411520" y="3089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72480" y="303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978680" y="30891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44600" y="2146320"/>
            <a:ext cx="82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22076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4600" y="3290760"/>
            <a:ext cx="820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01456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89280" y="2163600"/>
            <a:ext cx="0" cy="114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40040" y="2163600"/>
            <a:ext cx="0" cy="114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616200" y="2147760"/>
            <a:ext cx="0" cy="1144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06760" y="2147760"/>
            <a:ext cx="0" cy="1144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20056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98508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82640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653320" y="1897200"/>
            <a:ext cx="0" cy="135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28760" y="1897200"/>
            <a:ext cx="0" cy="135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800680" y="3449520"/>
            <a:ext cx="158760" cy="169920"/>
          </a:xfrm>
          <a:custGeom>
            <a:avLst/>
            <a:gdLst/>
            <a:ahLst/>
            <a:rect l="l" t="t" r="r" b="b"/>
            <a:pathLst>
              <a:path w="109" h="107">
                <a:moveTo>
                  <a:pt x="82" y="80"/>
                </a:moveTo>
                <a:lnTo>
                  <a:pt x="54" y="107"/>
                </a:lnTo>
                <a:lnTo>
                  <a:pt x="0" y="0"/>
                </a:lnTo>
                <a:lnTo>
                  <a:pt x="109" y="67"/>
                </a:lnTo>
                <a:lnTo>
                  <a:pt x="82" y="8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915160" y="3289320"/>
            <a:ext cx="2284200" cy="620640"/>
          </a:xfrm>
          <a:custGeom>
            <a:avLst/>
            <a:gdLst/>
            <a:ahLst/>
            <a:rect l="l" t="t" r="r" b="b"/>
            <a:pathLst>
              <a:path w="1364" h="306">
                <a:moveTo>
                  <a:pt x="1364" y="0"/>
                </a:moveTo>
                <a:lnTo>
                  <a:pt x="1310" y="120"/>
                </a:lnTo>
                <a:lnTo>
                  <a:pt x="1160" y="213"/>
                </a:lnTo>
                <a:lnTo>
                  <a:pt x="941" y="280"/>
                </a:lnTo>
                <a:lnTo>
                  <a:pt x="682" y="306"/>
                </a:lnTo>
                <a:lnTo>
                  <a:pt x="273" y="280"/>
                </a:lnTo>
                <a:lnTo>
                  <a:pt x="109" y="240"/>
                </a:lnTo>
                <a:lnTo>
                  <a:pt x="0" y="16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780080" y="3416400"/>
            <a:ext cx="120600" cy="190440"/>
          </a:xfrm>
          <a:custGeom>
            <a:avLst/>
            <a:gdLst/>
            <a:ahLst/>
            <a:rect l="l" t="t" r="r" b="b"/>
            <a:pathLst>
              <a:path w="82" h="120">
                <a:moveTo>
                  <a:pt x="41" y="107"/>
                </a:moveTo>
                <a:lnTo>
                  <a:pt x="14" y="120"/>
                </a:lnTo>
                <a:lnTo>
                  <a:pt x="0" y="0"/>
                </a:lnTo>
                <a:lnTo>
                  <a:pt x="82" y="94"/>
                </a:lnTo>
                <a:lnTo>
                  <a:pt x="41" y="10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871880" y="3309840"/>
            <a:ext cx="858960" cy="523800"/>
          </a:xfrm>
          <a:custGeom>
            <a:avLst/>
            <a:gdLst/>
            <a:ahLst/>
            <a:rect l="l" t="t" r="r" b="b"/>
            <a:pathLst>
              <a:path w="586" h="306">
                <a:moveTo>
                  <a:pt x="586" y="0"/>
                </a:moveTo>
                <a:lnTo>
                  <a:pt x="573" y="120"/>
                </a:lnTo>
                <a:lnTo>
                  <a:pt x="505" y="213"/>
                </a:lnTo>
                <a:lnTo>
                  <a:pt x="409" y="280"/>
                </a:lnTo>
                <a:lnTo>
                  <a:pt x="286" y="306"/>
                </a:lnTo>
                <a:lnTo>
                  <a:pt x="109" y="280"/>
                </a:lnTo>
                <a:lnTo>
                  <a:pt x="41" y="240"/>
                </a:lnTo>
                <a:lnTo>
                  <a:pt x="0" y="1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864440" y="340524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68480" y="354816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126640" y="378144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09560" y="3444840"/>
            <a:ext cx="140040" cy="147600"/>
          </a:xfrm>
          <a:custGeom>
            <a:avLst/>
            <a:gdLst/>
            <a:ahLst/>
            <a:rect l="l" t="t" r="r" b="b"/>
            <a:pathLst>
              <a:path w="95" h="93">
                <a:moveTo>
                  <a:pt x="81" y="80"/>
                </a:moveTo>
                <a:lnTo>
                  <a:pt x="54" y="93"/>
                </a:lnTo>
                <a:lnTo>
                  <a:pt x="0" y="0"/>
                </a:lnTo>
                <a:lnTo>
                  <a:pt x="95" y="53"/>
                </a:lnTo>
                <a:lnTo>
                  <a:pt x="81" y="8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728720" y="3322800"/>
            <a:ext cx="2957760" cy="574560"/>
          </a:xfrm>
          <a:custGeom>
            <a:avLst/>
            <a:gdLst/>
            <a:ahLst/>
            <a:rect l="l" t="t" r="r" b="b"/>
            <a:pathLst>
              <a:path w="2198" h="306">
                <a:moveTo>
                  <a:pt x="2198" y="0"/>
                </a:moveTo>
                <a:lnTo>
                  <a:pt x="2184" y="53"/>
                </a:lnTo>
                <a:lnTo>
                  <a:pt x="2116" y="120"/>
                </a:lnTo>
                <a:lnTo>
                  <a:pt x="1884" y="213"/>
                </a:lnTo>
                <a:lnTo>
                  <a:pt x="1543" y="280"/>
                </a:lnTo>
                <a:lnTo>
                  <a:pt x="1106" y="306"/>
                </a:lnTo>
                <a:lnTo>
                  <a:pt x="437" y="280"/>
                </a:lnTo>
                <a:lnTo>
                  <a:pt x="178" y="226"/>
                </a:lnTo>
                <a:lnTo>
                  <a:pt x="0" y="13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43760" y="2146320"/>
            <a:ext cx="0" cy="1144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2770200" y="4506840"/>
            <a:ext cx="3973320" cy="292320"/>
            <a:chOff x="2770200" y="4506840"/>
            <a:chExt cx="3973320" cy="292320"/>
          </a:xfrm>
        </p:grpSpPr>
        <p:sp>
          <p:nvSpPr>
            <p:cNvPr id="1145" name=""/>
            <p:cNvSpPr/>
            <p:nvPr/>
          </p:nvSpPr>
          <p:spPr>
            <a:xfrm>
              <a:off x="4718160" y="4506840"/>
              <a:ext cx="2025360" cy="292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70200" y="4506840"/>
              <a:ext cx="2025360" cy="292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4471920" y="1738440"/>
            <a:ext cx="3618000" cy="419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79560" y="1738440"/>
            <a:ext cx="3618000" cy="419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hadow vers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770520" y="4506840"/>
            <a:ext cx="824040" cy="3049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7040" y="4506840"/>
            <a:ext cx="825480" cy="3049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814760" y="1792440"/>
            <a:ext cx="113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p at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791240" y="1792440"/>
            <a:ext cx="19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p when T com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969560" y="21859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62600" y="218592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445840" y="21859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626920" y="22845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57520" y="21859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569560" y="218592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832000" y="21859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13080" y="22845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69560" y="2546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149920" y="254628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445840" y="2546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626920" y="2644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747880" y="2546280"/>
            <a:ext cx="4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57520" y="2546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569560" y="254628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832000" y="2546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013080" y="2644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969920" y="2906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180160" y="290664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474640" y="29066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655360" y="3005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778120" y="2906640"/>
            <a:ext cx="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57520" y="2906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69560" y="290664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2240" y="29066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044760" y="3005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164280" y="2906640"/>
            <a:ext cx="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0844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05244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76884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0960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011480" y="4046400"/>
            <a:ext cx="57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3240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67316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775400" y="4046400"/>
            <a:ext cx="10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28012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41944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13584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28128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89940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04484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664400" y="404640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810200" y="41241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160640" y="3936960"/>
            <a:ext cx="23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86040" y="3936960"/>
            <a:ext cx="22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646440" y="3936960"/>
            <a:ext cx="23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0000" y="3936960"/>
            <a:ext cx="23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149800" y="3936960"/>
            <a:ext cx="288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012000" y="3936960"/>
            <a:ext cx="27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780240" y="3936960"/>
            <a:ext cx="223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542360" y="3936960"/>
            <a:ext cx="23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380440" y="3936960"/>
            <a:ext cx="23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499400" y="4535640"/>
            <a:ext cx="1158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Version st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968920" y="449748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34000" y="449748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4320" y="449748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456880" y="44974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202440" y="449748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962760" y="451476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728120" y="451476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4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160640" y="4508640"/>
            <a:ext cx="1625400" cy="2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786040" y="454644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646440" y="45086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410000" y="45086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149800" y="45086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012000" y="4508640"/>
            <a:ext cx="144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542360" y="4525920"/>
            <a:ext cx="1440" cy="18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160640" y="4532400"/>
            <a:ext cx="23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160640" y="4818240"/>
            <a:ext cx="162540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786040" y="4818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646440" y="4532400"/>
            <a:ext cx="1800" cy="26172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646440" y="48182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376880" y="4532400"/>
            <a:ext cx="1440" cy="26172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410000" y="48182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49800" y="4532400"/>
            <a:ext cx="1800" cy="26172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149800" y="4818240"/>
            <a:ext cx="180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12000" y="4532400"/>
            <a:ext cx="1440" cy="26172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012000" y="4818240"/>
            <a:ext cx="144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42360" y="4835520"/>
            <a:ext cx="1440" cy="144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45200" y="48769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203800" y="4532400"/>
            <a:ext cx="1440" cy="26172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90080" y="223848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211840" y="257796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11840" y="293688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90080" y="256068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590080" y="293544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211840" y="2220840"/>
            <a:ext cx="18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492800" y="1744560"/>
            <a:ext cx="0" cy="152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74880" y="1727280"/>
            <a:ext cx="709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73080" y="3282840"/>
            <a:ext cx="709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g with entries relating to two-phase 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2948040" y="1954080"/>
            <a:ext cx="1954080" cy="1472400"/>
            <a:chOff x="2948040" y="1954080"/>
            <a:chExt cx="1954080" cy="1472400"/>
          </a:xfrm>
        </p:grpSpPr>
        <p:sp>
          <p:nvSpPr>
            <p:cNvPr id="1246" name=""/>
            <p:cNvSpPr/>
            <p:nvPr/>
          </p:nvSpPr>
          <p:spPr>
            <a:xfrm>
              <a:off x="3906000" y="1954080"/>
              <a:ext cx="996120" cy="14724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948040" y="1954080"/>
              <a:ext cx="996120" cy="14724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5500800" y="1954080"/>
            <a:ext cx="2931480" cy="1446840"/>
            <a:chOff x="5500800" y="1954080"/>
            <a:chExt cx="2931480" cy="1446840"/>
          </a:xfrm>
        </p:grpSpPr>
        <p:sp>
          <p:nvSpPr>
            <p:cNvPr id="1249" name=""/>
            <p:cNvSpPr/>
            <p:nvPr/>
          </p:nvSpPr>
          <p:spPr>
            <a:xfrm>
              <a:off x="6937920" y="1954080"/>
              <a:ext cx="1494360" cy="14468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00800" y="1954080"/>
              <a:ext cx="1494360" cy="14468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20840" y="1967040"/>
            <a:ext cx="1903320" cy="1472040"/>
            <a:chOff x="420840" y="1967040"/>
            <a:chExt cx="1903320" cy="1472040"/>
          </a:xfrm>
        </p:grpSpPr>
        <p:sp>
          <p:nvSpPr>
            <p:cNvPr id="1252" name=""/>
            <p:cNvSpPr/>
            <p:nvPr/>
          </p:nvSpPr>
          <p:spPr>
            <a:xfrm>
              <a:off x="1353960" y="1967040"/>
              <a:ext cx="970200" cy="1472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20840" y="1967040"/>
              <a:ext cx="970200" cy="1472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505800" y="198900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12680" y="1989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461240" y="1989000"/>
            <a:ext cx="744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Coord’r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187720" y="1989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080520" y="198900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38520" y="1989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034880" y="198900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605840" y="19890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479920" y="1989000"/>
            <a:ext cx="85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Part’pa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18720" y="20066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536520" y="198900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080840" y="19890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490880" y="200196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n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074440" y="19890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06160" y="245412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pa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461960" y="2454120"/>
            <a:ext cx="77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part’p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460160" y="2685960"/>
            <a:ext cx="651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list: . .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18240" y="2454120"/>
            <a:ext cx="92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035240" y="245412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epar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509440" y="2454120"/>
            <a:ext cx="96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Coord’r: .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575040" y="2454120"/>
            <a:ext cx="803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uncert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491960" y="2454120"/>
            <a:ext cx="92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55760" y="2917800"/>
            <a:ext cx="85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06880" y="3149640"/>
            <a:ext cx="26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35600" y="2917800"/>
            <a:ext cx="9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209520" y="3416040"/>
            <a:ext cx="23511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27160" y="1951200"/>
            <a:ext cx="235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19720" y="3397320"/>
            <a:ext cx="33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913120" y="3397320"/>
            <a:ext cx="226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913120" y="1949400"/>
            <a:ext cx="226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286240" y="1949400"/>
            <a:ext cx="330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338120" y="1986120"/>
            <a:ext cx="0" cy="1430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970440" y="1968480"/>
            <a:ext cx="0" cy="1430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507000" y="1951200"/>
            <a:ext cx="0" cy="1430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32560" y="1968480"/>
            <a:ext cx="0" cy="1430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394000" y="2055960"/>
            <a:ext cx="10008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16200" y="2055960"/>
            <a:ext cx="9828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927680" y="2055960"/>
            <a:ext cx="10008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243400" y="2055960"/>
            <a:ext cx="98640" cy="10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029480" y="3149640"/>
            <a:ext cx="26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Recovery of the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500040" y="1246320"/>
            <a:ext cx="8439840" cy="5067000"/>
            <a:chOff x="500040" y="1246320"/>
            <a:chExt cx="8439840" cy="5067000"/>
          </a:xfrm>
        </p:grpSpPr>
        <p:grpSp>
          <p:nvGrpSpPr>
            <p:cNvPr id="1296" name=""/>
            <p:cNvGrpSpPr/>
            <p:nvPr/>
          </p:nvGrpSpPr>
          <p:grpSpPr>
            <a:xfrm>
              <a:off x="522360" y="1268280"/>
              <a:ext cx="8164080" cy="291600"/>
              <a:chOff x="522360" y="1268280"/>
              <a:chExt cx="8164080" cy="291600"/>
            </a:xfrm>
          </p:grpSpPr>
          <p:sp>
            <p:nvSpPr>
              <p:cNvPr id="1297" name=""/>
              <p:cNvSpPr/>
              <p:nvPr/>
            </p:nvSpPr>
            <p:spPr>
              <a:xfrm>
                <a:off x="4524840" y="1268280"/>
                <a:ext cx="4161600" cy="29160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2360" y="1268280"/>
                <a:ext cx="4161600" cy="29160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"/>
            <p:cNvSpPr/>
            <p:nvPr/>
          </p:nvSpPr>
          <p:spPr>
            <a:xfrm>
              <a:off x="540720" y="1284120"/>
              <a:ext cx="3970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o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723680" y="1284120"/>
              <a:ext cx="5281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84600" y="1284120"/>
              <a:ext cx="24224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ction of recovery 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40720" y="1615680"/>
              <a:ext cx="10447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723680" y="1615680"/>
              <a:ext cx="7930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81360" y="1615680"/>
              <a:ext cx="54262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 decision had been reached before the server failed. It send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711160" y="1850760"/>
              <a:ext cx="151236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bort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5520" y="1850760"/>
              <a:ext cx="44492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all the servers in the participant list and add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787120" y="2085840"/>
              <a:ext cx="15476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ransaction statu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87240" y="2085840"/>
              <a:ext cx="6728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bor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907880" y="2085840"/>
              <a:ext cx="356076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 its recovery file. Same action for st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87120" y="2320560"/>
              <a:ext cx="6728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bor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417120" y="2320560"/>
              <a:ext cx="528156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 If there is no participant list, the participants will eventuall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85680" y="2555640"/>
              <a:ext cx="28994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imeout and abort the transac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40720" y="2790720"/>
              <a:ext cx="10447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23320" y="2790720"/>
              <a:ext cx="9014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781360" y="2790720"/>
              <a:ext cx="57736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 decision to commit had been reached before the server failed.  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723040" y="3024000"/>
              <a:ext cx="6865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ends a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394440" y="3024000"/>
              <a:ext cx="9028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doComm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86520" y="3024000"/>
              <a:ext cx="436680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all the participants in its participant list (in c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780640" y="3258720"/>
              <a:ext cx="61592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t had not done so before) and resumes the two-phase protocol at step 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785680" y="3493800"/>
              <a:ext cx="9212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Fig 13.5)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41440" y="3728880"/>
              <a:ext cx="9349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23320" y="3728880"/>
              <a:ext cx="9014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21960" y="3728880"/>
              <a:ext cx="20552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participant sends a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753080" y="3728880"/>
              <a:ext cx="13586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have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059160" y="3728880"/>
              <a:ext cx="26722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message to the coordinator (i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781360" y="3963600"/>
              <a:ext cx="61210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ase this was not done before it failed). This will allow the 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84240" y="4198680"/>
              <a:ext cx="58345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discard information about this transaction at the next checkpoin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1440" y="4433760"/>
              <a:ext cx="9349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723320" y="4433760"/>
              <a:ext cx="82836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ncertai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82800" y="4433760"/>
              <a:ext cx="607680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participant failed before it knew the outcome of the transaction. 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85320" y="4668480"/>
              <a:ext cx="57308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annot determine the status of the transaction until the 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632320" y="4903560"/>
              <a:ext cx="34603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forms it of the decision. It will send a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73560" y="4903560"/>
              <a:ext cx="10324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Decis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85520" y="4903560"/>
              <a:ext cx="159156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o the 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783520" y="5138640"/>
              <a:ext cx="605700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determine the status of the transaction. When it receives the reply 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786040" y="5373360"/>
              <a:ext cx="29116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will commit or abort accordingl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41440" y="5694120"/>
              <a:ext cx="9349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23680" y="5694120"/>
              <a:ext cx="79308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82440" y="5694120"/>
              <a:ext cx="54367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participant has not yet voted and can abort the transac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40720" y="6016320"/>
              <a:ext cx="104472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22960" y="6016320"/>
              <a:ext cx="42120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17160" y="6016320"/>
              <a:ext cx="554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84960" y="6016320"/>
              <a:ext cx="1875240" cy="2595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 action is require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0040" y="1246320"/>
              <a:ext cx="819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0040" y="6313320"/>
              <a:ext cx="819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6364440" y="2970360"/>
            <a:ext cx="46800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389640" y="336384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23160" y="29574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558200" y="29574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545240" y="336384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040600" y="29574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614920" y="29322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56200" y="333864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56200" y="29448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383000" y="2957400"/>
            <a:ext cx="468360" cy="368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34960" y="3313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785880" y="3149280"/>
            <a:ext cx="10094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62120" y="3479760"/>
            <a:ext cx="1057320" cy="33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71880" y="2921040"/>
            <a:ext cx="91584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 flipV="1">
            <a:off x="2147400" y="3276720"/>
            <a:ext cx="91620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523760" y="2981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49760" y="3076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31800" y="3006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256360" y="310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427080" y="29923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551640" y="3087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670160" y="2981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796160" y="3076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180760" y="3338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307120" y="3432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470480" y="3924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84600" y="4017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410080" y="3924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524560" y="40179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69080" y="3924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83560" y="40179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893000" y="3924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007480" y="4017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664960" y="2981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789880" y="30765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435000" y="3338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61360" y="343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965280" y="3006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93080" y="310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616160" y="3363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742520" y="34574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224200" y="3006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8350200" y="3102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800520" y="2373480"/>
            <a:ext cx="104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3320" y="303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19240" y="3179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03320" y="3695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019240" y="3789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58280" y="2727360"/>
            <a:ext cx="2552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129120" y="3338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243600" y="343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260960" y="2921040"/>
            <a:ext cx="93600" cy="101520"/>
          </a:xfrm>
          <a:custGeom>
            <a:avLst/>
            <a:gdLst/>
            <a:ahLst/>
            <a:rect l="l" t="t" r="r" b="b"/>
            <a:pathLst>
              <a:path w="64" h="64">
                <a:moveTo>
                  <a:pt x="0" y="32"/>
                </a:moveTo>
                <a:lnTo>
                  <a:pt x="0" y="0"/>
                </a:lnTo>
                <a:lnTo>
                  <a:pt x="64" y="48"/>
                </a:lnTo>
                <a:lnTo>
                  <a:pt x="0" y="64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049640" y="2639880"/>
            <a:ext cx="211320" cy="331920"/>
          </a:xfrm>
          <a:custGeom>
            <a:avLst/>
            <a:gdLst/>
            <a:ahLst/>
            <a:rect l="l" t="t" r="r" b="b"/>
            <a:pathLst>
              <a:path w="144" h="209">
                <a:moveTo>
                  <a:pt x="144" y="209"/>
                </a:moveTo>
                <a:lnTo>
                  <a:pt x="32" y="12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073480" y="3822840"/>
            <a:ext cx="973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12120" y="3822840"/>
            <a:ext cx="973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73800" y="3822840"/>
            <a:ext cx="974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sted banking trans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6960" y="1771560"/>
            <a:ext cx="7258680" cy="4226760"/>
            <a:chOff x="516960" y="1771560"/>
            <a:chExt cx="7258680" cy="4226760"/>
          </a:xfrm>
        </p:grpSpPr>
        <p:sp>
          <p:nvSpPr>
            <p:cNvPr id="225" name=""/>
            <p:cNvSpPr/>
            <p:nvPr/>
          </p:nvSpPr>
          <p:spPr>
            <a:xfrm>
              <a:off x="4473720" y="5310360"/>
              <a:ext cx="51264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73720" y="4756320"/>
              <a:ext cx="51264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73720" y="3594240"/>
              <a:ext cx="51264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3720" y="2163600"/>
              <a:ext cx="512640" cy="465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553560" y="2346120"/>
              <a:ext cx="79416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8720" y="2763720"/>
              <a:ext cx="867240" cy="73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31880" y="2946240"/>
              <a:ext cx="987480" cy="172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63040" y="2946240"/>
              <a:ext cx="1132560" cy="224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29600" y="2071800"/>
              <a:ext cx="867600" cy="1042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05280" y="2521080"/>
              <a:ext cx="51300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30000" y="3246480"/>
              <a:ext cx="867600" cy="1042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8480" y="3233880"/>
              <a:ext cx="890640" cy="10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30000" y="1784520"/>
              <a:ext cx="867600" cy="1044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18480" y="1771560"/>
              <a:ext cx="890640" cy="10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30000" y="4681440"/>
              <a:ext cx="867600" cy="1042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18480" y="4668840"/>
              <a:ext cx="890640" cy="10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55440" y="2163600"/>
              <a:ext cx="216720" cy="365400"/>
            </a:xfrm>
            <a:custGeom>
              <a:avLst/>
              <a:gdLst>
                <a:gd name="textAreaLeft" fmla="*/ 29520 w 216720"/>
                <a:gd name="textAreaRight" fmla="*/ 187200 w 216720"/>
                <a:gd name="textAreaTop" fmla="*/ 29520 h 365400"/>
                <a:gd name="textAreaBottom" fmla="*/ 335880 h 365400"/>
              </a:gdLst>
              <a:ahLst/>
              <a:rect l="textAreaLeft" t="textAreaTop" r="textAreaRight" b="textAreaBottom"/>
              <a:pathLst>
                <a:path w="21600" h="36394">
                  <a:moveTo>
                    <a:pt x="10143" y="0"/>
                  </a:moveTo>
                  <a:arcTo wR="10143" hR="10143" stAng="16200000" swAng="-5400000"/>
                  <a:lnTo>
                    <a:pt x="0" y="26251"/>
                  </a:lnTo>
                  <a:arcTo wR="10143" hR="10143" stAng="10800000" swAng="-5400000"/>
                  <a:lnTo>
                    <a:pt x="11457" y="36394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55440" y="2163600"/>
              <a:ext cx="241560" cy="39060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90600"/>
                <a:gd name="textAreaBottom" fmla="*/ 361080 h 390600"/>
              </a:gdLst>
              <a:ahLst/>
              <a:rect l="textAreaLeft" t="textAreaTop" r="textAreaRight" b="textAreaBottom"/>
              <a:pathLst>
                <a:path w="21600" h="34907">
                  <a:moveTo>
                    <a:pt x="9098" y="0"/>
                  </a:moveTo>
                  <a:arcTo wR="9098" hR="9098" stAng="16200000" swAng="-5400000"/>
                  <a:lnTo>
                    <a:pt x="0" y="25809"/>
                  </a:lnTo>
                  <a:arcTo wR="9098" hR="9098" stAng="10800000" swAng="-5400000"/>
                  <a:lnTo>
                    <a:pt x="12502" y="34907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55440" y="2346480"/>
              <a:ext cx="216720" cy="182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55440" y="2346480"/>
              <a:ext cx="241560" cy="2077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55440" y="2163600"/>
              <a:ext cx="241560" cy="39060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90600"/>
                <a:gd name="textAreaBottom" fmla="*/ 361080 h 390600"/>
              </a:gdLst>
              <a:ahLst/>
              <a:rect l="textAreaLeft" t="textAreaTop" r="textAreaRight" b="textAreaBottom"/>
              <a:pathLst>
                <a:path w="21600" h="34907">
                  <a:moveTo>
                    <a:pt x="9098" y="0"/>
                  </a:moveTo>
                  <a:arcTo wR="9098" hR="9098" stAng="16200000" swAng="-5400000"/>
                  <a:lnTo>
                    <a:pt x="0" y="25809"/>
                  </a:lnTo>
                  <a:arcTo wR="9098" hR="9098" stAng="10800000" swAng="-5400000"/>
                  <a:lnTo>
                    <a:pt x="12502" y="34907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55440" y="2346480"/>
              <a:ext cx="21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55440" y="3598920"/>
              <a:ext cx="216720" cy="365040"/>
            </a:xfrm>
            <a:custGeom>
              <a:avLst/>
              <a:gdLst>
                <a:gd name="textAreaLeft" fmla="*/ 29520 w 216720"/>
                <a:gd name="textAreaRight" fmla="*/ 187200 w 216720"/>
                <a:gd name="textAreaTop" fmla="*/ 29520 h 365040"/>
                <a:gd name="textAreaBottom" fmla="*/ 335520 h 365040"/>
              </a:gdLst>
              <a:ahLst/>
              <a:rect l="textAreaLeft" t="textAreaTop" r="textAreaRight" b="textAreaBottom"/>
              <a:pathLst>
                <a:path w="21600" h="36358">
                  <a:moveTo>
                    <a:pt x="10143" y="0"/>
                  </a:moveTo>
                  <a:arcTo wR="10143" hR="10143" stAng="16200000" swAng="-5400000"/>
                  <a:lnTo>
                    <a:pt x="0" y="26215"/>
                  </a:lnTo>
                  <a:arcTo wR="10143" hR="10143" stAng="10800000" swAng="-5400000"/>
                  <a:lnTo>
                    <a:pt x="11457" y="36358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55440" y="3598920"/>
              <a:ext cx="241560" cy="39060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90600"/>
                <a:gd name="textAreaBottom" fmla="*/ 361080 h 390600"/>
              </a:gdLst>
              <a:ahLst/>
              <a:rect l="textAreaLeft" t="textAreaTop" r="textAreaRight" b="textAreaBottom"/>
              <a:pathLst>
                <a:path w="21600" h="34907">
                  <a:moveTo>
                    <a:pt x="9098" y="0"/>
                  </a:moveTo>
                  <a:arcTo wR="9098" hR="9098" stAng="16200000" swAng="-5400000"/>
                  <a:lnTo>
                    <a:pt x="0" y="25809"/>
                  </a:lnTo>
                  <a:arcTo wR="9098" hR="9098" stAng="10800000" swAng="-5400000"/>
                  <a:lnTo>
                    <a:pt x="12502" y="34907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55440" y="3781440"/>
              <a:ext cx="216720" cy="182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5440" y="3781440"/>
              <a:ext cx="241560" cy="2080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55440" y="3598920"/>
              <a:ext cx="241560" cy="39060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90600"/>
                <a:gd name="textAreaBottom" fmla="*/ 361080 h 390600"/>
              </a:gdLst>
              <a:ahLst/>
              <a:rect l="textAreaLeft" t="textAreaTop" r="textAreaRight" b="textAreaBottom"/>
              <a:pathLst>
                <a:path w="21600" h="34907">
                  <a:moveTo>
                    <a:pt x="9098" y="0"/>
                  </a:moveTo>
                  <a:arcTo wR="9098" hR="9098" stAng="16200000" swAng="-5400000"/>
                  <a:lnTo>
                    <a:pt x="0" y="25809"/>
                  </a:lnTo>
                  <a:arcTo wR="9098" hR="9098" stAng="10800000" swAng="-5400000"/>
                  <a:lnTo>
                    <a:pt x="12502" y="34907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55440" y="3781440"/>
              <a:ext cx="21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55440" y="4799160"/>
              <a:ext cx="216720" cy="339480"/>
            </a:xfrm>
            <a:custGeom>
              <a:avLst/>
              <a:gdLst>
                <a:gd name="textAreaLeft" fmla="*/ 29520 w 216720"/>
                <a:gd name="textAreaRight" fmla="*/ 187200 w 216720"/>
                <a:gd name="textAreaTop" fmla="*/ 29520 h 339480"/>
                <a:gd name="textAreaBottom" fmla="*/ 309960 h 339480"/>
              </a:gdLst>
              <a:ahLst/>
              <a:rect l="textAreaLeft" t="textAreaTop" r="textAreaRight" b="textAreaBottom"/>
              <a:pathLst>
                <a:path w="21600" h="33815">
                  <a:moveTo>
                    <a:pt x="10143" y="0"/>
                  </a:moveTo>
                  <a:arcTo wR="10143" hR="10143" stAng="16200000" swAng="-5400000"/>
                  <a:lnTo>
                    <a:pt x="0" y="23672"/>
                  </a:lnTo>
                  <a:arcTo wR="10143" hR="10143" stAng="10800000" swAng="-5400000"/>
                  <a:lnTo>
                    <a:pt x="11457" y="33815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55440" y="4799160"/>
              <a:ext cx="241560" cy="36504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65040"/>
                <a:gd name="textAreaBottom" fmla="*/ 335520 h 365040"/>
              </a:gdLst>
              <a:ahLst/>
              <a:rect l="textAreaLeft" t="textAreaTop" r="textAreaRight" b="textAreaBottom"/>
              <a:pathLst>
                <a:path w="21600" h="32625">
                  <a:moveTo>
                    <a:pt x="9098" y="0"/>
                  </a:moveTo>
                  <a:arcTo wR="9098" hR="9098" stAng="16200000" swAng="-5400000"/>
                  <a:lnTo>
                    <a:pt x="0" y="23527"/>
                  </a:lnTo>
                  <a:arcTo wR="9098" hR="9098" stAng="10800000" swAng="-5400000"/>
                  <a:lnTo>
                    <a:pt x="12502" y="32625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55440" y="4981680"/>
              <a:ext cx="216720" cy="182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55440" y="4981680"/>
              <a:ext cx="241560" cy="2095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55440" y="4799160"/>
              <a:ext cx="241560" cy="365040"/>
            </a:xfrm>
            <a:custGeom>
              <a:avLst/>
              <a:gdLst>
                <a:gd name="textAreaLeft" fmla="*/ 29520 w 241560"/>
                <a:gd name="textAreaRight" fmla="*/ 212040 w 241560"/>
                <a:gd name="textAreaTop" fmla="*/ 29520 h 365040"/>
                <a:gd name="textAreaBottom" fmla="*/ 335520 h 365040"/>
              </a:gdLst>
              <a:ahLst/>
              <a:rect l="textAreaLeft" t="textAreaTop" r="textAreaRight" b="textAreaBottom"/>
              <a:pathLst>
                <a:path w="21600" h="32625">
                  <a:moveTo>
                    <a:pt x="9098" y="0"/>
                  </a:moveTo>
                  <a:arcTo wR="9098" hR="9098" stAng="16200000" swAng="-5400000"/>
                  <a:lnTo>
                    <a:pt x="0" y="23527"/>
                  </a:lnTo>
                  <a:arcTo wR="9098" hR="9098" stAng="10800000" swAng="-5400000"/>
                  <a:lnTo>
                    <a:pt x="12502" y="32625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55440" y="4981680"/>
              <a:ext cx="21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32040" y="5268960"/>
              <a:ext cx="216360" cy="339840"/>
            </a:xfrm>
            <a:custGeom>
              <a:avLst/>
              <a:gdLst>
                <a:gd name="textAreaLeft" fmla="*/ 29520 w 216360"/>
                <a:gd name="textAreaRight" fmla="*/ 186840 w 216360"/>
                <a:gd name="textAreaTop" fmla="*/ 29520 h 339840"/>
                <a:gd name="textAreaBottom" fmla="*/ 310320 h 339840"/>
              </a:gdLst>
              <a:ahLst/>
              <a:rect l="textAreaLeft" t="textAreaTop" r="textAreaRight" b="textAreaBottom"/>
              <a:pathLst>
                <a:path w="21600" h="33907">
                  <a:moveTo>
                    <a:pt x="10143" y="0"/>
                  </a:moveTo>
                  <a:arcTo wR="10143" hR="10143" stAng="16200000" swAng="-5400000"/>
                  <a:lnTo>
                    <a:pt x="0" y="23764"/>
                  </a:lnTo>
                  <a:arcTo wR="10143" hR="10143" stAng="10800000" swAng="-5400000"/>
                  <a:lnTo>
                    <a:pt x="11457" y="33907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32040" y="5268960"/>
              <a:ext cx="240120" cy="365040"/>
            </a:xfrm>
            <a:custGeom>
              <a:avLst/>
              <a:gdLst>
                <a:gd name="textAreaLeft" fmla="*/ 29520 w 240120"/>
                <a:gd name="textAreaRight" fmla="*/ 210600 w 240120"/>
                <a:gd name="textAreaTop" fmla="*/ 29520 h 365040"/>
                <a:gd name="textAreaBottom" fmla="*/ 335520 h 365040"/>
              </a:gdLst>
              <a:ahLst/>
              <a:rect l="textAreaLeft" t="textAreaTop" r="textAreaRight" b="textAreaBottom"/>
              <a:pathLst>
                <a:path w="21600" h="32820">
                  <a:moveTo>
                    <a:pt x="9154" y="0"/>
                  </a:moveTo>
                  <a:arcTo wR="9154" hR="9154" stAng="16200000" swAng="-5400000"/>
                  <a:lnTo>
                    <a:pt x="0" y="23666"/>
                  </a:lnTo>
                  <a:arcTo wR="9154" hR="9154" stAng="10800000" swAng="-5400000"/>
                  <a:lnTo>
                    <a:pt x="12446" y="32820"/>
                  </a:lnTo>
                  <a:arcTo wR="9154" hR="9154" stAng="5400000" swAng="-5400000"/>
                  <a:lnTo>
                    <a:pt x="21600" y="9154"/>
                  </a:lnTo>
                  <a:arcTo wR="9154" hR="9154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2040" y="5451480"/>
              <a:ext cx="216360" cy="157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2040" y="5451480"/>
              <a:ext cx="240120" cy="1825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2040" y="5268960"/>
              <a:ext cx="240120" cy="365040"/>
            </a:xfrm>
            <a:custGeom>
              <a:avLst/>
              <a:gdLst>
                <a:gd name="textAreaLeft" fmla="*/ 29520 w 240120"/>
                <a:gd name="textAreaRight" fmla="*/ 210600 w 240120"/>
                <a:gd name="textAreaTop" fmla="*/ 29520 h 365040"/>
                <a:gd name="textAreaBottom" fmla="*/ 335520 h 365040"/>
              </a:gdLst>
              <a:ahLst/>
              <a:rect l="textAreaLeft" t="textAreaTop" r="textAreaRight" b="textAreaBottom"/>
              <a:pathLst>
                <a:path w="21600" h="32820">
                  <a:moveTo>
                    <a:pt x="9154" y="0"/>
                  </a:moveTo>
                  <a:arcTo wR="9154" hR="9154" stAng="16200000" swAng="-5400000"/>
                  <a:lnTo>
                    <a:pt x="0" y="23666"/>
                  </a:lnTo>
                  <a:arcTo wR="9154" hR="9154" stAng="10800000" swAng="-5400000"/>
                  <a:lnTo>
                    <a:pt x="12446" y="32820"/>
                  </a:lnTo>
                  <a:arcTo wR="9154" hR="9154" stAng="5400000" swAng="-5400000"/>
                  <a:lnTo>
                    <a:pt x="21600" y="9154"/>
                  </a:lnTo>
                  <a:arcTo wR="9154" hR="9154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32040" y="5451480"/>
              <a:ext cx="21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56160" y="2227320"/>
              <a:ext cx="141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a.withdraw(1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6880" y="4889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54080" y="4811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C Helvetica Condensed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07000" y="4889520"/>
              <a:ext cx="108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deposit(1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6160" y="3767040"/>
              <a:ext cx="141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b.withdraw(2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6880" y="5359320"/>
              <a:ext cx="126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d.deposit(2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06200" y="2058840"/>
              <a:ext cx="890640" cy="10702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13120" y="2201760"/>
              <a:ext cx="55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76200" y="22543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76200" y="37418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75120" y="49165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08000" y="22795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12040" y="242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28160" y="36892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6040" y="3836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28160" y="4863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66040" y="501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28160" y="54370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66040" y="558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74120" y="26272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75120" y="541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47720" y="226692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16" y="33"/>
                  </a:moveTo>
                  <a:lnTo>
                    <a:pt x="0" y="0"/>
                  </a:lnTo>
                  <a:lnTo>
                    <a:pt x="66" y="17"/>
                  </a:lnTo>
                  <a:lnTo>
                    <a:pt x="16" y="6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71120" y="3468600"/>
              <a:ext cx="9648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7" y="16"/>
                  </a:moveTo>
                  <a:lnTo>
                    <a:pt x="33" y="0"/>
                  </a:lnTo>
                  <a:lnTo>
                    <a:pt x="66" y="65"/>
                  </a:lnTo>
                  <a:lnTo>
                    <a:pt x="0" y="4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71120" y="464184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17"/>
                  </a:moveTo>
                  <a:lnTo>
                    <a:pt x="66" y="0"/>
                  </a:lnTo>
                  <a:lnTo>
                    <a:pt x="66" y="66"/>
                  </a:lnTo>
                  <a:lnTo>
                    <a:pt x="0" y="33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47720" y="5191200"/>
              <a:ext cx="9648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16"/>
                  </a:moveTo>
                  <a:lnTo>
                    <a:pt x="66" y="0"/>
                  </a:lnTo>
                  <a:lnTo>
                    <a:pt x="66" y="65"/>
                  </a:lnTo>
                  <a:lnTo>
                    <a:pt x="0" y="3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5200" y="2266920"/>
              <a:ext cx="96480" cy="13176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0" y="33"/>
                  </a:moveTo>
                  <a:lnTo>
                    <a:pt x="0" y="0"/>
                  </a:lnTo>
                  <a:lnTo>
                    <a:pt x="66" y="33"/>
                  </a:lnTo>
                  <a:lnTo>
                    <a:pt x="0" y="8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73400" y="2319480"/>
              <a:ext cx="36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5200" y="3728880"/>
              <a:ext cx="9648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33"/>
                  </a:moveTo>
                  <a:lnTo>
                    <a:pt x="0" y="0"/>
                  </a:lnTo>
                  <a:lnTo>
                    <a:pt x="66" y="33"/>
                  </a:lnTo>
                  <a:lnTo>
                    <a:pt x="0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73400" y="3781440"/>
              <a:ext cx="36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5200" y="4956120"/>
              <a:ext cx="71640" cy="1033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0" y="33"/>
                  </a:moveTo>
                  <a:lnTo>
                    <a:pt x="0" y="0"/>
                  </a:lnTo>
                  <a:lnTo>
                    <a:pt x="49" y="33"/>
                  </a:lnTo>
                  <a:lnTo>
                    <a:pt x="0" y="6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0000" y="5008680"/>
              <a:ext cx="36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11800" y="5398920"/>
              <a:ext cx="95040" cy="1051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3"/>
                  </a:moveTo>
                  <a:lnTo>
                    <a:pt x="0" y="0"/>
                  </a:lnTo>
                  <a:lnTo>
                    <a:pt x="65" y="33"/>
                  </a:lnTo>
                  <a:lnTo>
                    <a:pt x="0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50000" y="5451480"/>
              <a:ext cx="36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92120" y="1836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79160" y="3244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81320" y="4498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680" y="33386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2280" y="3338640"/>
              <a:ext cx="1613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5520" y="36702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6520" y="359424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C Helvetica Condensed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7280" y="36702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58840" y="390060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.withdraw(1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6960" y="5738760"/>
              <a:ext cx="1994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close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520" y="41814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6520" y="410544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C Helvetica Condensed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17280" y="41814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58840" y="441180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.withdraw(2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3000" y="4718160"/>
              <a:ext cx="229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59200" y="4948200"/>
              <a:ext cx="130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.deposit(1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3360" y="5203800"/>
              <a:ext cx="235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59920" y="5432400"/>
              <a:ext cx="1321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.deposit(2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stributed banking trans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45960" y="1371600"/>
            <a:ext cx="8431200" cy="4718880"/>
            <a:chOff x="345960" y="1371600"/>
            <a:chExt cx="8431200" cy="4718880"/>
          </a:xfrm>
        </p:grpSpPr>
        <p:sp>
          <p:nvSpPr>
            <p:cNvPr id="318" name=""/>
            <p:cNvSpPr/>
            <p:nvPr/>
          </p:nvSpPr>
          <p:spPr>
            <a:xfrm>
              <a:off x="2249640" y="2198520"/>
              <a:ext cx="1370160" cy="1652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08280" y="2897280"/>
              <a:ext cx="445680" cy="39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31040" y="1371600"/>
              <a:ext cx="224280" cy="33984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39840"/>
                <a:gd name="textAreaBottom" fmla="*/ 312120 h 339840"/>
              </a:gdLst>
              <a:ahLst/>
              <a:rect l="textAreaLeft" t="textAreaTop" r="textAreaRight" b="textAreaBottom"/>
              <a:pathLst>
                <a:path w="21600" h="32712">
                  <a:moveTo>
                    <a:pt x="9176" y="0"/>
                  </a:moveTo>
                  <a:arcTo wR="9176" hR="9176" stAng="16200000" swAng="-5400000"/>
                  <a:lnTo>
                    <a:pt x="0" y="23536"/>
                  </a:lnTo>
                  <a:arcTo wR="9176" hR="9176" stAng="10800000" swAng="-5400000"/>
                  <a:lnTo>
                    <a:pt x="12424" y="32712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31040" y="1371600"/>
              <a:ext cx="247320" cy="365040"/>
            </a:xfrm>
            <a:custGeom>
              <a:avLst/>
              <a:gdLst>
                <a:gd name="textAreaLeft" fmla="*/ 27720 w 247320"/>
                <a:gd name="textAreaRight" fmla="*/ 219600 w 247320"/>
                <a:gd name="textAreaTop" fmla="*/ 27720 h 365040"/>
                <a:gd name="textAreaBottom" fmla="*/ 337320 h 365040"/>
              </a:gdLst>
              <a:ahLst/>
              <a:rect l="textAreaLeft" t="textAreaTop" r="textAreaRight" b="textAreaBottom"/>
              <a:pathLst>
                <a:path w="21600" h="31866">
                  <a:moveTo>
                    <a:pt x="8308" y="0"/>
                  </a:moveTo>
                  <a:arcTo wR="8308" hR="8308" stAng="16200000" swAng="-5400000"/>
                  <a:lnTo>
                    <a:pt x="0" y="23558"/>
                  </a:lnTo>
                  <a:arcTo wR="8308" hR="8308" stAng="10800000" swAng="-5400000"/>
                  <a:lnTo>
                    <a:pt x="13292" y="31866"/>
                  </a:lnTo>
                  <a:arcTo wR="8308" hR="8308" stAng="5400000" swAng="-5400000"/>
                  <a:lnTo>
                    <a:pt x="21600" y="8308"/>
                  </a:lnTo>
                  <a:arcTo wR="8308" hR="8308" stAng="0" swAng="-5400000"/>
                  <a:close/>
                </a:path>
              </a:pathLst>
            </a:cu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53000" y="1371600"/>
              <a:ext cx="202320" cy="16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53000" y="1371600"/>
              <a:ext cx="225360" cy="1936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31040" y="1371600"/>
              <a:ext cx="247320" cy="365040"/>
            </a:xfrm>
            <a:custGeom>
              <a:avLst/>
              <a:gdLst>
                <a:gd name="textAreaLeft" fmla="*/ 27720 w 247320"/>
                <a:gd name="textAreaRight" fmla="*/ 219600 w 247320"/>
                <a:gd name="textAreaTop" fmla="*/ 27720 h 365040"/>
                <a:gd name="textAreaBottom" fmla="*/ 337320 h 365040"/>
              </a:gdLst>
              <a:ahLst/>
              <a:rect l="textAreaLeft" t="textAreaTop" r="textAreaRight" b="textAreaBottom"/>
              <a:pathLst>
                <a:path w="21600" h="31866">
                  <a:moveTo>
                    <a:pt x="8308" y="0"/>
                  </a:moveTo>
                  <a:arcTo wR="8308" hR="8308" stAng="16200000" swAng="-5400000"/>
                  <a:lnTo>
                    <a:pt x="0" y="23558"/>
                  </a:lnTo>
                  <a:arcTo wR="8308" hR="8308" stAng="10800000" swAng="-5400000"/>
                  <a:lnTo>
                    <a:pt x="13292" y="31866"/>
                  </a:lnTo>
                  <a:arcTo wR="8308" hR="8308" stAng="5400000" swAng="-5400000"/>
                  <a:lnTo>
                    <a:pt x="21600" y="8308"/>
                  </a:lnTo>
                  <a:arcTo wR="8308" hR="830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1040" y="1541520"/>
              <a:ext cx="224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98680" y="3024360"/>
              <a:ext cx="1368720" cy="143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98680" y="4629240"/>
              <a:ext cx="1368720" cy="143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98680" y="1468440"/>
              <a:ext cx="1368720" cy="1409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87960" y="1809720"/>
              <a:ext cx="202320" cy="31608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16080"/>
                <a:gd name="textAreaBottom" fmla="*/ 288360 h 316080"/>
              </a:gdLst>
              <a:ahLst/>
              <a:rect l="textAreaLeft" t="textAreaTop" r="textAreaRight" b="textAreaBottom"/>
              <a:pathLst>
                <a:path w="21600" h="33724">
                  <a:moveTo>
                    <a:pt x="10174" y="0"/>
                  </a:moveTo>
                  <a:arcTo wR="10174" hR="10174" stAng="16200000" swAng="-5400000"/>
                  <a:lnTo>
                    <a:pt x="0" y="23550"/>
                  </a:lnTo>
                  <a:arcTo wR="10174" hR="10174" stAng="10800000" swAng="-5400000"/>
                  <a:lnTo>
                    <a:pt x="11426" y="33724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87960" y="1809720"/>
              <a:ext cx="224280" cy="33984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39840"/>
                <a:gd name="textAreaBottom" fmla="*/ 312120 h 339840"/>
              </a:gdLst>
              <a:ahLst/>
              <a:rect l="textAreaLeft" t="textAreaTop" r="textAreaRight" b="textAreaBottom"/>
              <a:pathLst>
                <a:path w="21600" h="32712">
                  <a:moveTo>
                    <a:pt x="9176" y="0"/>
                  </a:moveTo>
                  <a:arcTo wR="9176" hR="9176" stAng="16200000" swAng="-5400000"/>
                  <a:lnTo>
                    <a:pt x="0" y="23536"/>
                  </a:lnTo>
                  <a:arcTo wR="9176" hR="9176" stAng="10800000" swAng="-5400000"/>
                  <a:lnTo>
                    <a:pt x="12424" y="32712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87960" y="1979640"/>
              <a:ext cx="202320" cy="169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7960" y="1979640"/>
              <a:ext cx="224280" cy="1936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1809720"/>
              <a:ext cx="224280" cy="33984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39840"/>
                <a:gd name="textAreaBottom" fmla="*/ 312120 h 339840"/>
              </a:gdLst>
              <a:ahLst/>
              <a:rect l="textAreaLeft" t="textAreaTop" r="textAreaRight" b="textAreaBottom"/>
              <a:pathLst>
                <a:path w="21600" h="32712">
                  <a:moveTo>
                    <a:pt x="9176" y="0"/>
                  </a:moveTo>
                  <a:arcTo wR="9176" hR="9176" stAng="16200000" swAng="-5400000"/>
                  <a:lnTo>
                    <a:pt x="0" y="23536"/>
                  </a:lnTo>
                  <a:arcTo wR="9176" hR="9176" stAng="10800000" swAng="-5400000"/>
                  <a:lnTo>
                    <a:pt x="12424" y="32712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87960" y="1979640"/>
              <a:ext cx="202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40800" y="1857240"/>
              <a:ext cx="202320" cy="31608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16080"/>
                <a:gd name="textAreaBottom" fmla="*/ 288360 h 316080"/>
              </a:gdLst>
              <a:ahLst/>
              <a:rect l="textAreaLeft" t="textAreaTop" r="textAreaRight" b="textAreaBottom"/>
              <a:pathLst>
                <a:path w="21600" h="33724">
                  <a:moveTo>
                    <a:pt x="10174" y="0"/>
                  </a:moveTo>
                  <a:arcTo wR="10174" hR="10174" stAng="16200000" swAng="-5400000"/>
                  <a:lnTo>
                    <a:pt x="0" y="23550"/>
                  </a:lnTo>
                  <a:arcTo wR="10174" hR="10174" stAng="10800000" swAng="-5400000"/>
                  <a:lnTo>
                    <a:pt x="11426" y="33724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40800" y="1857240"/>
              <a:ext cx="224280" cy="34128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280"/>
                <a:gd name="textAreaBottom" fmla="*/ 313560 h 341280"/>
              </a:gdLst>
              <a:ahLst/>
              <a:rect l="textAreaLeft" t="textAreaTop" r="textAreaRight" b="textAreaBottom"/>
              <a:pathLst>
                <a:path w="21600" h="32850">
                  <a:moveTo>
                    <a:pt x="9176" y="0"/>
                  </a:moveTo>
                  <a:arcTo wR="9176" hR="9176" stAng="16200000" swAng="-5400000"/>
                  <a:lnTo>
                    <a:pt x="0" y="23674"/>
                  </a:lnTo>
                  <a:arcTo wR="9176" hR="9176" stAng="10800000" swAng="-5400000"/>
                  <a:lnTo>
                    <a:pt x="12424" y="32850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40800" y="2027160"/>
              <a:ext cx="202320" cy="171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40800" y="2027160"/>
              <a:ext cx="224280" cy="1954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40800" y="1857240"/>
              <a:ext cx="224280" cy="34128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280"/>
                <a:gd name="textAreaBottom" fmla="*/ 313560 h 341280"/>
              </a:gdLst>
              <a:ahLst/>
              <a:rect l="textAreaLeft" t="textAreaTop" r="textAreaRight" b="textAreaBottom"/>
              <a:pathLst>
                <a:path w="21600" h="32850">
                  <a:moveTo>
                    <a:pt x="9176" y="0"/>
                  </a:moveTo>
                  <a:arcTo wR="9176" hR="9176" stAng="16200000" swAng="-5400000"/>
                  <a:lnTo>
                    <a:pt x="0" y="23674"/>
                  </a:lnTo>
                  <a:arcTo wR="9176" hR="9176" stAng="10800000" swAng="-5400000"/>
                  <a:lnTo>
                    <a:pt x="12424" y="32850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40800" y="2027160"/>
              <a:ext cx="20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87960" y="3340080"/>
              <a:ext cx="202320" cy="31752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17520"/>
                <a:gd name="textAreaBottom" fmla="*/ 289800 h 317520"/>
              </a:gdLst>
              <a:ahLst/>
              <a:rect l="textAreaLeft" t="textAreaTop" r="textAreaRight" b="textAreaBottom"/>
              <a:pathLst>
                <a:path w="21600" h="33877">
                  <a:moveTo>
                    <a:pt x="10174" y="0"/>
                  </a:moveTo>
                  <a:arcTo wR="10174" hR="10174" stAng="16200000" swAng="-5400000"/>
                  <a:lnTo>
                    <a:pt x="0" y="23703"/>
                  </a:lnTo>
                  <a:arcTo wR="10174" hR="10174" stAng="10800000" swAng="-5400000"/>
                  <a:lnTo>
                    <a:pt x="11426" y="33877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87960" y="3340080"/>
              <a:ext cx="224280" cy="34128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280"/>
                <a:gd name="textAreaBottom" fmla="*/ 313560 h 341280"/>
              </a:gdLst>
              <a:ahLst/>
              <a:rect l="textAreaLeft" t="textAreaTop" r="textAreaRight" b="textAreaBottom"/>
              <a:pathLst>
                <a:path w="21600" h="32850">
                  <a:moveTo>
                    <a:pt x="9176" y="0"/>
                  </a:moveTo>
                  <a:arcTo wR="9176" hR="9176" stAng="16200000" swAng="-5400000"/>
                  <a:lnTo>
                    <a:pt x="0" y="23674"/>
                  </a:lnTo>
                  <a:arcTo wR="9176" hR="9176" stAng="10800000" swAng="-5400000"/>
                  <a:lnTo>
                    <a:pt x="12424" y="32850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87960" y="3511440"/>
              <a:ext cx="20232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87960" y="3511440"/>
              <a:ext cx="224280" cy="1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87960" y="3340080"/>
              <a:ext cx="224280" cy="34128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280"/>
                <a:gd name="textAreaBottom" fmla="*/ 313560 h 341280"/>
              </a:gdLst>
              <a:ahLst/>
              <a:rect l="textAreaLeft" t="textAreaTop" r="textAreaRight" b="textAreaBottom"/>
              <a:pathLst>
                <a:path w="21600" h="32850">
                  <a:moveTo>
                    <a:pt x="9176" y="0"/>
                  </a:moveTo>
                  <a:arcTo wR="9176" hR="9176" stAng="16200000" swAng="-5400000"/>
                  <a:lnTo>
                    <a:pt x="0" y="23674"/>
                  </a:lnTo>
                  <a:arcTo wR="9176" hR="9176" stAng="10800000" swAng="-5400000"/>
                  <a:lnTo>
                    <a:pt x="12424" y="32850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87960" y="3486240"/>
              <a:ext cx="202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64560" y="3535200"/>
              <a:ext cx="200520" cy="339840"/>
            </a:xfrm>
            <a:custGeom>
              <a:avLst/>
              <a:gdLst>
                <a:gd name="textAreaLeft" fmla="*/ 27720 w 200520"/>
                <a:gd name="textAreaRight" fmla="*/ 172800 w 200520"/>
                <a:gd name="textAreaTop" fmla="*/ 27720 h 339840"/>
                <a:gd name="textAreaBottom" fmla="*/ 312120 h 339840"/>
              </a:gdLst>
              <a:ahLst/>
              <a:rect l="textAreaLeft" t="textAreaTop" r="textAreaRight" b="textAreaBottom"/>
              <a:pathLst>
                <a:path w="21600" h="36581">
                  <a:moveTo>
                    <a:pt x="10248" y="0"/>
                  </a:moveTo>
                  <a:arcTo wR="10248" hR="10248" stAng="16200000" swAng="-5400000"/>
                  <a:lnTo>
                    <a:pt x="0" y="26333"/>
                  </a:lnTo>
                  <a:arcTo wR="10248" hR="10248" stAng="10800000" swAng="-5400000"/>
                  <a:lnTo>
                    <a:pt x="11352" y="36581"/>
                  </a:lnTo>
                  <a:arcTo wR="10248" hR="10248" stAng="5400000" swAng="-5400000"/>
                  <a:lnTo>
                    <a:pt x="21600" y="10248"/>
                  </a:lnTo>
                  <a:arcTo wR="10248" hR="102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64560" y="3535200"/>
              <a:ext cx="224280" cy="3654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5400"/>
                <a:gd name="textAreaBottom" fmla="*/ 337680 h 365400"/>
              </a:gdLst>
              <a:ahLst/>
              <a:rect l="textAreaLeft" t="textAreaTop" r="textAreaRight" b="textAreaBottom"/>
              <a:pathLst>
                <a:path w="21600" h="35169">
                  <a:moveTo>
                    <a:pt x="9176" y="0"/>
                  </a:moveTo>
                  <a:arcTo wR="9176" hR="9176" stAng="16200000" swAng="-5400000"/>
                  <a:lnTo>
                    <a:pt x="0" y="25993"/>
                  </a:lnTo>
                  <a:arcTo wR="9176" hR="9176" stAng="10800000" swAng="-5400000"/>
                  <a:lnTo>
                    <a:pt x="12424" y="35169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64560" y="3728880"/>
              <a:ext cx="20052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64560" y="3728880"/>
              <a:ext cx="224280" cy="1717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64560" y="3535200"/>
              <a:ext cx="224280" cy="3654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5400"/>
                <a:gd name="textAreaBottom" fmla="*/ 337680 h 365400"/>
              </a:gdLst>
              <a:ahLst/>
              <a:rect l="textAreaLeft" t="textAreaTop" r="textAreaRight" b="textAreaBottom"/>
              <a:pathLst>
                <a:path w="21600" h="35169">
                  <a:moveTo>
                    <a:pt x="9176" y="0"/>
                  </a:moveTo>
                  <a:arcTo wR="9176" hR="9176" stAng="16200000" swAng="-5400000"/>
                  <a:lnTo>
                    <a:pt x="0" y="25993"/>
                  </a:lnTo>
                  <a:arcTo wR="9176" hR="9176" stAng="10800000" swAng="-5400000"/>
                  <a:lnTo>
                    <a:pt x="12424" y="35169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64560" y="3705120"/>
              <a:ext cx="200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87960" y="4871880"/>
              <a:ext cx="202320" cy="31608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16080"/>
                <a:gd name="textAreaBottom" fmla="*/ 288360 h 316080"/>
              </a:gdLst>
              <a:ahLst/>
              <a:rect l="textAreaLeft" t="textAreaTop" r="textAreaRight" b="textAreaBottom"/>
              <a:pathLst>
                <a:path w="21600" h="33724">
                  <a:moveTo>
                    <a:pt x="10174" y="0"/>
                  </a:moveTo>
                  <a:arcTo wR="10174" hR="10174" stAng="16200000" swAng="-5400000"/>
                  <a:lnTo>
                    <a:pt x="0" y="23550"/>
                  </a:lnTo>
                  <a:arcTo wR="10174" hR="10174" stAng="10800000" swAng="-5400000"/>
                  <a:lnTo>
                    <a:pt x="11426" y="33724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87960" y="4871880"/>
              <a:ext cx="224280" cy="34164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640"/>
                <a:gd name="textAreaBottom" fmla="*/ 313920 h 341640"/>
              </a:gdLst>
              <a:ahLst/>
              <a:rect l="textAreaLeft" t="textAreaTop" r="textAreaRight" b="textAreaBottom"/>
              <a:pathLst>
                <a:path w="21600" h="32885">
                  <a:moveTo>
                    <a:pt x="9176" y="0"/>
                  </a:moveTo>
                  <a:arcTo wR="9176" hR="9176" stAng="16200000" swAng="-5400000"/>
                  <a:lnTo>
                    <a:pt x="0" y="23709"/>
                  </a:lnTo>
                  <a:arcTo wR="9176" hR="9176" stAng="10800000" swAng="-5400000"/>
                  <a:lnTo>
                    <a:pt x="12424" y="32885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87960" y="5041800"/>
              <a:ext cx="20232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87960" y="5041800"/>
              <a:ext cx="224280" cy="1717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87960" y="4871880"/>
              <a:ext cx="224280" cy="34164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41640"/>
                <a:gd name="textAreaBottom" fmla="*/ 313920 h 341640"/>
              </a:gdLst>
              <a:ahLst/>
              <a:rect l="textAreaLeft" t="textAreaTop" r="textAreaRight" b="textAreaBottom"/>
              <a:pathLst>
                <a:path w="21600" h="32885">
                  <a:moveTo>
                    <a:pt x="9176" y="0"/>
                  </a:moveTo>
                  <a:arcTo wR="9176" hR="9176" stAng="16200000" swAng="-5400000"/>
                  <a:lnTo>
                    <a:pt x="0" y="23709"/>
                  </a:lnTo>
                  <a:arcTo wR="9176" hR="9176" stAng="10800000" swAng="-5400000"/>
                  <a:lnTo>
                    <a:pt x="12424" y="32885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87960" y="5018040"/>
              <a:ext cx="20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40800" y="4871880"/>
              <a:ext cx="202320" cy="34164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41640"/>
                <a:gd name="textAreaBottom" fmla="*/ 313920 h 341640"/>
              </a:gdLst>
              <a:ahLst/>
              <a:rect l="textAreaLeft" t="textAreaTop" r="textAreaRight" b="textAreaBottom"/>
              <a:pathLst>
                <a:path w="21600" h="36448">
                  <a:moveTo>
                    <a:pt x="10174" y="0"/>
                  </a:moveTo>
                  <a:arcTo wR="10174" hR="10174" stAng="16200000" swAng="-5400000"/>
                  <a:lnTo>
                    <a:pt x="0" y="26274"/>
                  </a:lnTo>
                  <a:arcTo wR="10174" hR="10174" stAng="10800000" swAng="-5400000"/>
                  <a:lnTo>
                    <a:pt x="11426" y="36448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40800" y="4871880"/>
              <a:ext cx="224280" cy="3654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5400"/>
                <a:gd name="textAreaBottom" fmla="*/ 337680 h 365400"/>
              </a:gdLst>
              <a:ahLst/>
              <a:rect l="textAreaLeft" t="textAreaTop" r="textAreaRight" b="textAreaBottom"/>
              <a:pathLst>
                <a:path w="21600" h="35169">
                  <a:moveTo>
                    <a:pt x="9176" y="0"/>
                  </a:moveTo>
                  <a:arcTo wR="9176" hR="9176" stAng="16200000" swAng="-5400000"/>
                  <a:lnTo>
                    <a:pt x="0" y="25993"/>
                  </a:lnTo>
                  <a:arcTo wR="9176" hR="9176" stAng="10800000" swAng="-5400000"/>
                  <a:lnTo>
                    <a:pt x="12424" y="35169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40800" y="5067360"/>
              <a:ext cx="20232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40800" y="5067360"/>
              <a:ext cx="224280" cy="1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0800" y="4871880"/>
              <a:ext cx="224280" cy="3654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5400"/>
                <a:gd name="textAreaBottom" fmla="*/ 337680 h 365400"/>
              </a:gdLst>
              <a:ahLst/>
              <a:rect l="textAreaLeft" t="textAreaTop" r="textAreaRight" b="textAreaBottom"/>
              <a:pathLst>
                <a:path w="21600" h="35169">
                  <a:moveTo>
                    <a:pt x="9176" y="0"/>
                  </a:moveTo>
                  <a:arcTo wR="9176" hR="9176" stAng="16200000" swAng="-5400000"/>
                  <a:lnTo>
                    <a:pt x="0" y="25993"/>
                  </a:lnTo>
                  <a:arcTo wR="9176" hR="9176" stAng="10800000" swAng="-5400000"/>
                  <a:lnTo>
                    <a:pt x="12424" y="35169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40800" y="5041800"/>
              <a:ext cx="20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18840" y="5359320"/>
              <a:ext cx="202320" cy="339840"/>
            </a:xfrm>
            <a:custGeom>
              <a:avLst/>
              <a:gdLst>
                <a:gd name="textAreaLeft" fmla="*/ 27720 w 202320"/>
                <a:gd name="textAreaRight" fmla="*/ 174600 w 202320"/>
                <a:gd name="textAreaTop" fmla="*/ 27720 h 339840"/>
                <a:gd name="textAreaBottom" fmla="*/ 312120 h 339840"/>
              </a:gdLst>
              <a:ahLst/>
              <a:rect l="textAreaLeft" t="textAreaTop" r="textAreaRight" b="textAreaBottom"/>
              <a:pathLst>
                <a:path w="21600" h="36256">
                  <a:moveTo>
                    <a:pt x="10174" y="0"/>
                  </a:moveTo>
                  <a:arcTo wR="10174" hR="10174" stAng="16200000" swAng="-5400000"/>
                  <a:lnTo>
                    <a:pt x="0" y="26082"/>
                  </a:lnTo>
                  <a:arcTo wR="10174" hR="10174" stAng="10800000" swAng="-5400000"/>
                  <a:lnTo>
                    <a:pt x="11426" y="36256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18840" y="5359320"/>
              <a:ext cx="224280" cy="3636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3600"/>
                <a:gd name="textAreaBottom" fmla="*/ 335880 h 363600"/>
              </a:gdLst>
              <a:ahLst/>
              <a:rect l="textAreaLeft" t="textAreaTop" r="textAreaRight" b="textAreaBottom"/>
              <a:pathLst>
                <a:path w="21600" h="34996">
                  <a:moveTo>
                    <a:pt x="9176" y="0"/>
                  </a:moveTo>
                  <a:arcTo wR="9176" hR="9176" stAng="16200000" swAng="-5400000"/>
                  <a:lnTo>
                    <a:pt x="0" y="25820"/>
                  </a:lnTo>
                  <a:arcTo wR="9176" hR="9176" stAng="10800000" swAng="-5400000"/>
                  <a:lnTo>
                    <a:pt x="12424" y="34996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40800" y="5553000"/>
              <a:ext cx="18036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40800" y="5553000"/>
              <a:ext cx="202320" cy="169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18840" y="5359320"/>
              <a:ext cx="224280" cy="363600"/>
            </a:xfrm>
            <a:custGeom>
              <a:avLst/>
              <a:gdLst>
                <a:gd name="textAreaLeft" fmla="*/ 27720 w 224280"/>
                <a:gd name="textAreaRight" fmla="*/ 196560 w 224280"/>
                <a:gd name="textAreaTop" fmla="*/ 27720 h 363600"/>
                <a:gd name="textAreaBottom" fmla="*/ 335880 h 363600"/>
              </a:gdLst>
              <a:ahLst/>
              <a:rect l="textAreaLeft" t="textAreaTop" r="textAreaRight" b="textAreaBottom"/>
              <a:pathLst>
                <a:path w="21600" h="34996">
                  <a:moveTo>
                    <a:pt x="9176" y="0"/>
                  </a:moveTo>
                  <a:arcTo wR="9176" hR="9176" stAng="16200000" swAng="-5400000"/>
                  <a:lnTo>
                    <a:pt x="0" y="25820"/>
                  </a:lnTo>
                  <a:arcTo wR="9176" hR="9176" stAng="10800000" swAng="-5400000"/>
                  <a:lnTo>
                    <a:pt x="12424" y="34996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18840" y="5529240"/>
              <a:ext cx="202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09960" y="2112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9960" y="2112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17080" y="583236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ranc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93680" y="262260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ranch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3120" y="311004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27840" y="46656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05640" y="510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05640" y="5467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01200" y="36194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93680" y="420372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ranc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04560" y="3668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04560" y="1990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19560" y="15778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55680" y="1494000"/>
              <a:ext cx="9072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30"/>
                  </a:moveTo>
                  <a:lnTo>
                    <a:pt x="46" y="61"/>
                  </a:lnTo>
                  <a:lnTo>
                    <a:pt x="0" y="15"/>
                  </a:lnTo>
                  <a:lnTo>
                    <a:pt x="6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4046040" y="1541520"/>
              <a:ext cx="2041560" cy="41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55680" y="1663560"/>
              <a:ext cx="9072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46" y="30"/>
                  </a:moveTo>
                  <a:lnTo>
                    <a:pt x="16" y="61"/>
                  </a:lnTo>
                  <a:lnTo>
                    <a:pt x="0" y="0"/>
                  </a:lnTo>
                  <a:lnTo>
                    <a:pt x="62" y="0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4023000" y="1711440"/>
              <a:ext cx="2064960" cy="180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6040" y="1711440"/>
              <a:ext cx="8928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1" y="46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61" y="31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911760" y="1784520"/>
              <a:ext cx="2154240" cy="32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22200" y="1504800"/>
              <a:ext cx="54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09960" y="2324160"/>
              <a:ext cx="54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83920" y="4300560"/>
              <a:ext cx="54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83960" y="29876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65440" y="1990800"/>
              <a:ext cx="161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.withdraw(4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12240" y="5005440"/>
              <a:ext cx="145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.deposit(4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5440" y="3668760"/>
              <a:ext cx="161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.withdraw(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47440" y="5491080"/>
              <a:ext cx="146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.deposit(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5680" y="3267000"/>
              <a:ext cx="111240" cy="9864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15" y="31"/>
                  </a:moveTo>
                  <a:lnTo>
                    <a:pt x="15" y="0"/>
                  </a:lnTo>
                  <a:lnTo>
                    <a:pt x="76" y="46"/>
                  </a:lnTo>
                  <a:lnTo>
                    <a:pt x="0" y="6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93560" y="3073320"/>
              <a:ext cx="942120" cy="2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41760" y="1565280"/>
              <a:ext cx="8928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0" y="46"/>
                  </a:moveTo>
                  <a:lnTo>
                    <a:pt x="0" y="16"/>
                  </a:lnTo>
                  <a:lnTo>
                    <a:pt x="61" y="0"/>
                  </a:lnTo>
                  <a:lnTo>
                    <a:pt x="46" y="62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923560" y="1638360"/>
              <a:ext cx="740160" cy="11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2960" y="152388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69960" y="3473280"/>
              <a:ext cx="184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.withdraw(T, 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95760" y="1728720"/>
              <a:ext cx="171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close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8520" y="4114800"/>
              <a:ext cx="33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1640" y="4114800"/>
              <a:ext cx="142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Arial"/>
                </a:rPr>
                <a:t>open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8640" y="4352760"/>
              <a:ext cx="152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a.withdraw(4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6840" y="4613400"/>
              <a:ext cx="137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c.deposit(4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8640" y="4826160"/>
              <a:ext cx="152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b.withdraw(3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7920" y="504036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d.deposit(3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6680" y="5276880"/>
              <a:ext cx="177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Arial"/>
                </a:rPr>
                <a:t>close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5960" y="5630760"/>
              <a:ext cx="55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te: the coordinator is in one of the servers, e.g. Branch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for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2720" y="1353960"/>
            <a:ext cx="779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nCommit?(trans)-&gt; Yes /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coordinator to participant to ask whether it can commit a transaction. Participant replies with its vo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Commit(trans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coordinator to participant to tell participant to commit its part of a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Abort(trans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coordinator to participant to tell participant to abort its part of a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aveCommitted(trans, participan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participant to coordinator to confirm that it has committed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etDecision(trans) -&gt; Yes /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participant to coordinator to ask for the decision on a transaction after it has vot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ut has still had no reply after some delay. Used to recover from server crash or delayed mess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5640" y="1322280"/>
            <a:ext cx="804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hase 1 (voting phase)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ordinator send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n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 request to each of the participants in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en a participant receive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n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 request it replies with its vote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to the coordinator. Before vot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it prepares to commit by saving objects in permanent storage. If the vote i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 participant aborts immediate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hase 2 (completion according to outcome of vot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ordinator collects the votes (including its ow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6480" indent="-369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there are no failures and all the votes ar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 coordinator decides to commit the transaction and send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quest to each of the particip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6480" indent="-369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wise the coordinator decides to abort the transaction and send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Abor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quests to all participants that vot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.  Participants that vot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re waiting for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Abor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quest from the coordinator. When a participant receives one of these messages it acts accordingly and in the case of commit, make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aveCommitt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all as confirmation to the coordin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unication in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1720" y="2360520"/>
            <a:ext cx="7883280" cy="2590920"/>
            <a:chOff x="531720" y="2360520"/>
            <a:chExt cx="7883280" cy="2590920"/>
          </a:xfrm>
        </p:grpSpPr>
        <p:sp>
          <p:nvSpPr>
            <p:cNvPr id="419" name=""/>
            <p:cNvSpPr/>
            <p:nvPr/>
          </p:nvSpPr>
          <p:spPr>
            <a:xfrm>
              <a:off x="543240" y="2373480"/>
              <a:ext cx="2675520" cy="2568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1720" y="2360520"/>
              <a:ext cx="2694600" cy="2590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6600" y="2505240"/>
              <a:ext cx="2207880" cy="22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6600" y="2505240"/>
              <a:ext cx="2228760" cy="2304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32280" y="2373480"/>
              <a:ext cx="2674080" cy="2568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20400" y="2360520"/>
              <a:ext cx="2694600" cy="25909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94840" y="327492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canCommi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53040" y="364320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11840" y="3973680"/>
              <a:ext cx="81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doCom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74240" y="429912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have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35880" y="4635360"/>
              <a:ext cx="100800" cy="6516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9" y="13"/>
                  </a:moveTo>
                  <a:lnTo>
                    <a:pt x="69" y="41"/>
                  </a:lnTo>
                  <a:lnTo>
                    <a:pt x="0" y="27"/>
                  </a:lnTo>
                  <a:lnTo>
                    <a:pt x="69" y="0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136680" y="4437000"/>
              <a:ext cx="2999520" cy="21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35880" y="3932280"/>
              <a:ext cx="100800" cy="6516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9" y="28"/>
                  </a:moveTo>
                  <a:lnTo>
                    <a:pt x="69" y="41"/>
                  </a:lnTo>
                  <a:lnTo>
                    <a:pt x="0" y="28"/>
                  </a:lnTo>
                  <a:lnTo>
                    <a:pt x="69" y="0"/>
                  </a:lnTo>
                  <a:lnTo>
                    <a:pt x="69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136680" y="3733920"/>
              <a:ext cx="2999520" cy="2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92400" y="3646440"/>
              <a:ext cx="100800" cy="6660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0" y="14"/>
                  </a:moveTo>
                  <a:lnTo>
                    <a:pt x="14" y="0"/>
                  </a:lnTo>
                  <a:lnTo>
                    <a:pt x="69" y="28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52920" y="3449520"/>
              <a:ext cx="3039120" cy="21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2400" y="4282920"/>
              <a:ext cx="100800" cy="66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0" y="28"/>
                  </a:moveTo>
                  <a:lnTo>
                    <a:pt x="14" y="0"/>
                  </a:lnTo>
                  <a:lnTo>
                    <a:pt x="69" y="28"/>
                  </a:lnTo>
                  <a:lnTo>
                    <a:pt x="0" y="4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52920" y="4108320"/>
              <a:ext cx="3039120" cy="21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5360" y="266868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6080" y="3414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56080" y="4030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78000" y="3656160"/>
              <a:ext cx="141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waiting for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80880" y="4030560"/>
              <a:ext cx="82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81240" y="457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79080" y="3392640"/>
              <a:ext cx="153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repared to com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5200" y="3051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6600" y="3273480"/>
              <a:ext cx="2207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34240" y="2505240"/>
              <a:ext cx="2208240" cy="22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34240" y="2505240"/>
              <a:ext cx="2229120" cy="2304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03000" y="266868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04800" y="36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04800" y="4314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89000" y="396396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uncerta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87560" y="3700440"/>
              <a:ext cx="153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repared to com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9720" y="4314960"/>
              <a:ext cx="82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89000" y="3051000"/>
              <a:ext cx="47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03720" y="3051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54760" y="3295800"/>
              <a:ext cx="2183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79800" y="3051000"/>
              <a:ext cx="47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4.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Operations in coordinator for 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2640" y="201600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penSubTransaction(trans) -&gt; subTr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ns a new subtransaction whose parent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returns a unique subtransaction identif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tStatus(trans)-&gt; committed, aborted, 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s the coordinator to report on the status of the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Returns values representing one of the following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ovis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decides whether to commi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9280" y="1631880"/>
            <a:ext cx="8245080" cy="3200400"/>
            <a:chOff x="539280" y="1631880"/>
            <a:chExt cx="8245080" cy="3200400"/>
          </a:xfrm>
        </p:grpSpPr>
        <p:sp>
          <p:nvSpPr>
            <p:cNvPr id="462" name=""/>
            <p:cNvSpPr/>
            <p:nvPr/>
          </p:nvSpPr>
          <p:spPr>
            <a:xfrm>
              <a:off x="2829600" y="228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58360" y="4330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54000" y="16318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86120" y="1822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54000" y="29512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86120" y="3141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37000" y="2317320"/>
              <a:ext cx="1852200" cy="7174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7000" y="3178080"/>
              <a:ext cx="1349280" cy="10620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086280" y="1773000"/>
              <a:ext cx="2275560" cy="4870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86280" y="2376360"/>
              <a:ext cx="2303280" cy="7160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54000" y="44132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6120" y="4603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54000" y="35812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86120" y="37450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610000" y="3723840"/>
              <a:ext cx="2779560" cy="544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10000" y="4383000"/>
              <a:ext cx="2751480" cy="200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42680" y="1631880"/>
              <a:ext cx="1248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bort (at M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16760" y="2951280"/>
              <a:ext cx="2667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N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76520" y="2165400"/>
              <a:ext cx="2653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X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94440" y="4097160"/>
              <a:ext cx="1476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borted (at Y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64200" y="3552840"/>
              <a:ext cx="2667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N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37560" y="4413240"/>
              <a:ext cx="2653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P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11880" y="21528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21200" y="4138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9280" y="29224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1T12:50:14Z</dcterms:modified>
  <cp:revision>100</cp:revision>
  <dc:subject/>
  <dc:title>Figure 15.1 A distributed multimedia system</dc:title>
</cp:coreProperties>
</file>