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52F-681C-406F-8E96-0D6D4B44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F96-170A-499E-88AC-24B499C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DD1-D78E-4369-9A8E-F5B3BAD4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D48-F2F0-4515-8A3E-B66B076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9657-C164-45E5-BB58-A16BA87E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FC6A-C726-4999-8C61-C6B37F2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973-01B3-4495-BC68-A72253D6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A97-9F02-4B9F-8E59-D972CA8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89AE-1DC9-465A-BDC3-E9915654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A58-97CC-47CF-9E5E-164DAB4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D05B-F8E0-4322-9B60-28F9036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5E3-5793-46D5-BB41-3F92569E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A2BE-E33E-427D-B1AD-179E749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DF7A-2AEA-40E7-966F-5CB8BF5A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343F-85A7-441F-A04C-A26D3C2C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9A2B-CE99-4617-8A10-9C3FBB43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361A-A1C1-4121-83F7-7B300B8A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4A7-66EE-48C2-AA2C-A0E548D9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A52-5EA5-4880-B819-4475E579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9F8-D73E-40C8-9DF3-4EE6587C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B19-267E-4C99-99C5-CD9FC977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D46-26B9-48FC-8070-CA1D060B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647-A64C-4F5A-B20B-62BEE52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040-8CF8-49EB-B10F-AA1DFDF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4DDC-4949-4DEB-8769-4FF7331157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A12-938C-47E1-9F39-CD36221D64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image" Target="../media/image2.pct"/><Relationship Id="rId14" Type="http://schemas.openxmlformats.org/officeDocument/2006/relationships/image" Target="../media/image2.pct"/><Relationship Id="rId15" Type="http://schemas.openxmlformats.org/officeDocument/2006/relationships/image" Target="../media/image2.pct"/><Relationship Id="rId16" Type="http://schemas.openxmlformats.org/officeDocument/2006/relationships/image" Target="../media/image2.pct"/><Relationship Id="rId17" Type="http://schemas.openxmlformats.org/officeDocument/2006/relationships/image" Target="../media/image2.pct"/><Relationship Id="rId18" Type="http://schemas.openxmlformats.org/officeDocument/2006/relationships/image" Target="../media/image2.pct"/><Relationship Id="rId19" Type="http://schemas.openxmlformats.org/officeDocument/2006/relationships/image" Target="../media/image2.pct"/><Relationship Id="rId20" Type="http://schemas.openxmlformats.org/officeDocument/2006/relationships/image" Target="../media/image2.pct"/><Relationship Id="rId21" Type="http://schemas.openxmlformats.org/officeDocument/2006/relationships/image" Target="../media/image2.pct"/><Relationship Id="rId22" Type="http://schemas.openxmlformats.org/officeDocument/2006/relationships/image" Target="../media/image2.pct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haracterization of Distributed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8200" y="3070080"/>
            <a:ext cx="20527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01640" y="1405080"/>
            <a:ext cx="8323200" cy="4314600"/>
            <a:chOff x="701640" y="1405080"/>
            <a:chExt cx="8323200" cy="4314600"/>
          </a:xfrm>
        </p:grpSpPr>
        <p:grpSp>
          <p:nvGrpSpPr>
            <p:cNvPr id="88" name=""/>
            <p:cNvGrpSpPr/>
            <p:nvPr/>
          </p:nvGrpSpPr>
          <p:grpSpPr>
            <a:xfrm>
              <a:off x="701640" y="1405080"/>
              <a:ext cx="8323200" cy="4008240"/>
              <a:chOff x="701640" y="1405080"/>
              <a:chExt cx="8323200" cy="4008240"/>
            </a:xfrm>
          </p:grpSpPr>
          <p:sp>
            <p:nvSpPr>
              <p:cNvPr id="89" name=""/>
              <p:cNvSpPr/>
              <p:nvPr/>
            </p:nvSpPr>
            <p:spPr>
              <a:xfrm>
                <a:off x="746280" y="2478240"/>
                <a:ext cx="569880" cy="328320"/>
              </a:xfrm>
              <a:custGeom>
                <a:avLst/>
                <a:gdLst/>
                <a:ahLst/>
                <a:rect l="l" t="t" r="r" b="b"/>
                <a:pathLst>
                  <a:path w="359" h="207">
                    <a:moveTo>
                      <a:pt x="359" y="0"/>
                    </a:moveTo>
                    <a:lnTo>
                      <a:pt x="345" y="41"/>
                    </a:lnTo>
                    <a:lnTo>
                      <a:pt x="290" y="83"/>
                    </a:lnTo>
                    <a:lnTo>
                      <a:pt x="165" y="138"/>
                    </a:lnTo>
                    <a:lnTo>
                      <a:pt x="69" y="193"/>
                    </a:lnTo>
                    <a:lnTo>
                      <a:pt x="0" y="207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08000" y="2565360"/>
                <a:ext cx="372960" cy="701640"/>
              </a:xfrm>
              <a:custGeom>
                <a:avLst/>
                <a:gdLst/>
                <a:ahLst/>
                <a:rect l="l" t="t" r="r" b="b"/>
                <a:pathLst>
                  <a:path w="235" h="442">
                    <a:moveTo>
                      <a:pt x="235" y="0"/>
                    </a:moveTo>
                    <a:lnTo>
                      <a:pt x="194" y="166"/>
                    </a:lnTo>
                    <a:lnTo>
                      <a:pt x="111" y="290"/>
                    </a:lnTo>
                    <a:lnTo>
                      <a:pt x="42" y="400"/>
                    </a:lnTo>
                    <a:lnTo>
                      <a:pt x="28" y="442"/>
                    </a:lnTo>
                    <a:lnTo>
                      <a:pt x="0" y="41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31960" y="2413080"/>
                <a:ext cx="109440" cy="787320"/>
              </a:xfrm>
              <a:custGeom>
                <a:avLst/>
                <a:gdLst/>
                <a:ahLst/>
                <a:rect l="l" t="t" r="r" b="b"/>
                <a:pathLst>
                  <a:path w="69" h="496">
                    <a:moveTo>
                      <a:pt x="0" y="0"/>
                    </a:moveTo>
                    <a:lnTo>
                      <a:pt x="13" y="193"/>
                    </a:lnTo>
                    <a:lnTo>
                      <a:pt x="41" y="331"/>
                    </a:lnTo>
                    <a:lnTo>
                      <a:pt x="55" y="455"/>
                    </a:lnTo>
                    <a:lnTo>
                      <a:pt x="69" y="496"/>
                    </a:lnTo>
                    <a:lnTo>
                      <a:pt x="69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46120" y="2521080"/>
                <a:ext cx="154080" cy="766800"/>
              </a:xfrm>
              <a:custGeom>
                <a:avLst/>
                <a:gdLst/>
                <a:ahLst/>
                <a:rect l="l" t="t" r="r" b="b"/>
                <a:pathLst>
                  <a:path w="97" h="483">
                    <a:moveTo>
                      <a:pt x="97" y="0"/>
                    </a:moveTo>
                    <a:lnTo>
                      <a:pt x="69" y="180"/>
                    </a:lnTo>
                    <a:lnTo>
                      <a:pt x="42" y="318"/>
                    </a:lnTo>
                    <a:lnTo>
                      <a:pt x="14" y="442"/>
                    </a:lnTo>
                    <a:lnTo>
                      <a:pt x="14" y="483"/>
                    </a:lnTo>
                    <a:lnTo>
                      <a:pt x="0" y="456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94240" y="1974960"/>
                <a:ext cx="261720" cy="787320"/>
              </a:xfrm>
              <a:custGeom>
                <a:avLst/>
                <a:gdLst/>
                <a:ahLst/>
                <a:rect l="l" t="t" r="r" b="b"/>
                <a:pathLst>
                  <a:path w="165" h="496">
                    <a:moveTo>
                      <a:pt x="165" y="0"/>
                    </a:moveTo>
                    <a:lnTo>
                      <a:pt x="137" y="193"/>
                    </a:lnTo>
                    <a:lnTo>
                      <a:pt x="82" y="331"/>
                    </a:lnTo>
                    <a:lnTo>
                      <a:pt x="27" y="455"/>
                    </a:lnTo>
                    <a:lnTo>
                      <a:pt x="13" y="496"/>
                    </a:lnTo>
                    <a:lnTo>
                      <a:pt x="0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19480" y="1995480"/>
                <a:ext cx="262080" cy="789120"/>
              </a:xfrm>
              <a:custGeom>
                <a:avLst/>
                <a:gdLst/>
                <a:ahLst/>
                <a:rect l="l" t="t" r="r" b="b"/>
                <a:pathLst>
                  <a:path w="165" h="497">
                    <a:moveTo>
                      <a:pt x="165" y="0"/>
                    </a:moveTo>
                    <a:lnTo>
                      <a:pt x="138" y="194"/>
                    </a:lnTo>
                    <a:lnTo>
                      <a:pt x="82" y="345"/>
                    </a:lnTo>
                    <a:lnTo>
                      <a:pt x="27" y="469"/>
                    </a:lnTo>
                    <a:lnTo>
                      <a:pt x="13" y="497"/>
                    </a:lnTo>
                    <a:lnTo>
                      <a:pt x="0" y="48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48600" y="3463920"/>
                <a:ext cx="592200" cy="109440"/>
              </a:xfrm>
              <a:custGeom>
                <a:avLst/>
                <a:gdLst/>
                <a:ahLst/>
                <a:rect l="l" t="t" r="r" b="b"/>
                <a:pathLst>
                  <a:path w="373" h="69">
                    <a:moveTo>
                      <a:pt x="373" y="0"/>
                    </a:moveTo>
                    <a:lnTo>
                      <a:pt x="290" y="27"/>
                    </a:lnTo>
                    <a:lnTo>
                      <a:pt x="152" y="55"/>
                    </a:lnTo>
                    <a:lnTo>
                      <a:pt x="56" y="69"/>
                    </a:lnTo>
                    <a:lnTo>
                      <a:pt x="0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148600" y="2959200"/>
                <a:ext cx="592200" cy="504720"/>
              </a:xfrm>
              <a:custGeom>
                <a:avLst/>
                <a:gdLst/>
                <a:ahLst/>
                <a:rect l="l" t="t" r="r" b="b"/>
                <a:pathLst>
                  <a:path w="373" h="318">
                    <a:moveTo>
                      <a:pt x="373" y="0"/>
                    </a:moveTo>
                    <a:lnTo>
                      <a:pt x="345" y="56"/>
                    </a:lnTo>
                    <a:lnTo>
                      <a:pt x="304" y="125"/>
                    </a:lnTo>
                    <a:lnTo>
                      <a:pt x="166" y="207"/>
                    </a:lnTo>
                    <a:lnTo>
                      <a:pt x="69" y="290"/>
                    </a:lnTo>
                    <a:lnTo>
                      <a:pt x="28" y="318"/>
                    </a:lnTo>
                    <a:lnTo>
                      <a:pt x="0" y="30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86880" y="2806560"/>
                <a:ext cx="261720" cy="789120"/>
              </a:xfrm>
              <a:custGeom>
                <a:avLst/>
                <a:gdLst/>
                <a:ahLst/>
                <a:rect l="l" t="t" r="r" b="b"/>
                <a:pathLst>
                  <a:path w="165" h="497">
                    <a:moveTo>
                      <a:pt x="165" y="0"/>
                    </a:moveTo>
                    <a:lnTo>
                      <a:pt x="138" y="193"/>
                    </a:lnTo>
                    <a:lnTo>
                      <a:pt x="83" y="331"/>
                    </a:lnTo>
                    <a:lnTo>
                      <a:pt x="28" y="455"/>
                    </a:lnTo>
                    <a:lnTo>
                      <a:pt x="14" y="497"/>
                    </a:lnTo>
                    <a:lnTo>
                      <a:pt x="0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22360" y="1601640"/>
                <a:ext cx="1052640" cy="854280"/>
              </a:xfrm>
              <a:custGeom>
                <a:avLst/>
                <a:gdLst/>
                <a:ahLst/>
                <a:rect l="l" t="t" r="r" b="b"/>
                <a:pathLst>
                  <a:path w="663" h="538">
                    <a:moveTo>
                      <a:pt x="28" y="124"/>
                    </a:moveTo>
                    <a:lnTo>
                      <a:pt x="28" y="97"/>
                    </a:lnTo>
                    <a:lnTo>
                      <a:pt x="69" y="55"/>
                    </a:lnTo>
                    <a:lnTo>
                      <a:pt x="111" y="28"/>
                    </a:lnTo>
                    <a:lnTo>
                      <a:pt x="138" y="41"/>
                    </a:lnTo>
                    <a:lnTo>
                      <a:pt x="152" y="28"/>
                    </a:lnTo>
                    <a:lnTo>
                      <a:pt x="193" y="28"/>
                    </a:lnTo>
                    <a:lnTo>
                      <a:pt x="249" y="41"/>
                    </a:lnTo>
                    <a:lnTo>
                      <a:pt x="304" y="41"/>
                    </a:lnTo>
                    <a:lnTo>
                      <a:pt x="345" y="55"/>
                    </a:lnTo>
                    <a:lnTo>
                      <a:pt x="373" y="28"/>
                    </a:lnTo>
                    <a:lnTo>
                      <a:pt x="400" y="0"/>
                    </a:lnTo>
                    <a:lnTo>
                      <a:pt x="442" y="0"/>
                    </a:lnTo>
                    <a:lnTo>
                      <a:pt x="469" y="0"/>
                    </a:lnTo>
                    <a:lnTo>
                      <a:pt x="511" y="0"/>
                    </a:lnTo>
                    <a:lnTo>
                      <a:pt x="538" y="14"/>
                    </a:lnTo>
                    <a:lnTo>
                      <a:pt x="552" y="28"/>
                    </a:lnTo>
                    <a:lnTo>
                      <a:pt x="580" y="41"/>
                    </a:lnTo>
                    <a:lnTo>
                      <a:pt x="607" y="97"/>
                    </a:lnTo>
                    <a:lnTo>
                      <a:pt x="649" y="166"/>
                    </a:lnTo>
                    <a:lnTo>
                      <a:pt x="663" y="262"/>
                    </a:lnTo>
                    <a:lnTo>
                      <a:pt x="663" y="331"/>
                    </a:lnTo>
                    <a:lnTo>
                      <a:pt x="649" y="386"/>
                    </a:lnTo>
                    <a:lnTo>
                      <a:pt x="635" y="469"/>
                    </a:lnTo>
                    <a:lnTo>
                      <a:pt x="607" y="524"/>
                    </a:lnTo>
                    <a:lnTo>
                      <a:pt x="552" y="538"/>
                    </a:lnTo>
                    <a:lnTo>
                      <a:pt x="511" y="538"/>
                    </a:lnTo>
                    <a:lnTo>
                      <a:pt x="456" y="524"/>
                    </a:lnTo>
                    <a:lnTo>
                      <a:pt x="414" y="511"/>
                    </a:lnTo>
                    <a:lnTo>
                      <a:pt x="373" y="497"/>
                    </a:lnTo>
                    <a:lnTo>
                      <a:pt x="331" y="497"/>
                    </a:lnTo>
                    <a:lnTo>
                      <a:pt x="290" y="497"/>
                    </a:lnTo>
                    <a:lnTo>
                      <a:pt x="262" y="511"/>
                    </a:lnTo>
                    <a:lnTo>
                      <a:pt x="221" y="511"/>
                    </a:lnTo>
                    <a:lnTo>
                      <a:pt x="193" y="524"/>
                    </a:lnTo>
                    <a:lnTo>
                      <a:pt x="166" y="524"/>
                    </a:lnTo>
                    <a:lnTo>
                      <a:pt x="124" y="524"/>
                    </a:lnTo>
                    <a:lnTo>
                      <a:pt x="97" y="524"/>
                    </a:lnTo>
                    <a:lnTo>
                      <a:pt x="83" y="511"/>
                    </a:lnTo>
                    <a:lnTo>
                      <a:pt x="55" y="497"/>
                    </a:lnTo>
                    <a:lnTo>
                      <a:pt x="55" y="483"/>
                    </a:lnTo>
                    <a:lnTo>
                      <a:pt x="42" y="469"/>
                    </a:lnTo>
                    <a:lnTo>
                      <a:pt x="28" y="428"/>
                    </a:lnTo>
                    <a:lnTo>
                      <a:pt x="14" y="359"/>
                    </a:lnTo>
                    <a:lnTo>
                      <a:pt x="0" y="317"/>
                    </a:lnTo>
                    <a:lnTo>
                      <a:pt x="0" y="262"/>
                    </a:lnTo>
                    <a:lnTo>
                      <a:pt x="14" y="207"/>
                    </a:lnTo>
                    <a:lnTo>
                      <a:pt x="14" y="152"/>
                    </a:lnTo>
                    <a:lnTo>
                      <a:pt x="28" y="124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49880" y="204948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ra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86080" y="2193840"/>
                <a:ext cx="569880" cy="568440"/>
              </a:xfrm>
              <a:custGeom>
                <a:avLst/>
                <a:gdLst/>
                <a:ahLst/>
                <a:rect l="l" t="t" r="r" b="b"/>
                <a:pathLst>
                  <a:path w="359" h="358">
                    <a:moveTo>
                      <a:pt x="359" y="331"/>
                    </a:moveTo>
                    <a:lnTo>
                      <a:pt x="331" y="358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359" y="331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38720" y="2062080"/>
                <a:ext cx="3919320" cy="3306960"/>
              </a:xfrm>
              <a:custGeom>
                <a:avLst/>
                <a:gdLst/>
                <a:ahLst/>
                <a:rect l="l" t="t" r="r" b="b"/>
                <a:pathLst>
                  <a:path w="2469" h="2083">
                    <a:moveTo>
                      <a:pt x="2428" y="0"/>
                    </a:moveTo>
                    <a:lnTo>
                      <a:pt x="2469" y="55"/>
                    </a:lnTo>
                    <a:lnTo>
                      <a:pt x="41" y="2083"/>
                    </a:lnTo>
                    <a:lnTo>
                      <a:pt x="0" y="2042"/>
                    </a:lnTo>
                    <a:lnTo>
                      <a:pt x="2428" y="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97560" y="1405080"/>
                <a:ext cx="1357200" cy="809640"/>
              </a:xfrm>
              <a:custGeom>
                <a:avLst/>
                <a:gdLst/>
                <a:ahLst/>
                <a:rect l="l" t="t" r="r" b="b"/>
                <a:pathLst>
                  <a:path w="855" h="510">
                    <a:moveTo>
                      <a:pt x="27" y="124"/>
                    </a:moveTo>
                    <a:lnTo>
                      <a:pt x="41" y="83"/>
                    </a:lnTo>
                    <a:lnTo>
                      <a:pt x="82" y="55"/>
                    </a:lnTo>
                    <a:lnTo>
                      <a:pt x="138" y="27"/>
                    </a:lnTo>
                    <a:lnTo>
                      <a:pt x="179" y="41"/>
                    </a:lnTo>
                    <a:lnTo>
                      <a:pt x="207" y="27"/>
                    </a:lnTo>
                    <a:lnTo>
                      <a:pt x="262" y="27"/>
                    </a:lnTo>
                    <a:lnTo>
                      <a:pt x="317" y="41"/>
                    </a:lnTo>
                    <a:lnTo>
                      <a:pt x="386" y="41"/>
                    </a:lnTo>
                    <a:lnTo>
                      <a:pt x="455" y="41"/>
                    </a:lnTo>
                    <a:lnTo>
                      <a:pt x="483" y="27"/>
                    </a:lnTo>
                    <a:lnTo>
                      <a:pt x="510" y="14"/>
                    </a:lnTo>
                    <a:lnTo>
                      <a:pt x="565" y="0"/>
                    </a:lnTo>
                    <a:lnTo>
                      <a:pt x="607" y="0"/>
                    </a:lnTo>
                    <a:lnTo>
                      <a:pt x="648" y="0"/>
                    </a:lnTo>
                    <a:lnTo>
                      <a:pt x="690" y="14"/>
                    </a:lnTo>
                    <a:lnTo>
                      <a:pt x="703" y="27"/>
                    </a:lnTo>
                    <a:lnTo>
                      <a:pt x="745" y="41"/>
                    </a:lnTo>
                    <a:lnTo>
                      <a:pt x="786" y="83"/>
                    </a:lnTo>
                    <a:lnTo>
                      <a:pt x="841" y="165"/>
                    </a:lnTo>
                    <a:lnTo>
                      <a:pt x="855" y="248"/>
                    </a:lnTo>
                    <a:lnTo>
                      <a:pt x="855" y="317"/>
                    </a:lnTo>
                    <a:lnTo>
                      <a:pt x="841" y="359"/>
                    </a:lnTo>
                    <a:lnTo>
                      <a:pt x="828" y="455"/>
                    </a:lnTo>
                    <a:lnTo>
                      <a:pt x="772" y="497"/>
                    </a:lnTo>
                    <a:lnTo>
                      <a:pt x="717" y="510"/>
                    </a:lnTo>
                    <a:lnTo>
                      <a:pt x="662" y="497"/>
                    </a:lnTo>
                    <a:lnTo>
                      <a:pt x="593" y="497"/>
                    </a:lnTo>
                    <a:lnTo>
                      <a:pt x="538" y="483"/>
                    </a:lnTo>
                    <a:lnTo>
                      <a:pt x="483" y="469"/>
                    </a:lnTo>
                    <a:lnTo>
                      <a:pt x="427" y="469"/>
                    </a:lnTo>
                    <a:lnTo>
                      <a:pt x="372" y="469"/>
                    </a:lnTo>
                    <a:lnTo>
                      <a:pt x="331" y="483"/>
                    </a:lnTo>
                    <a:lnTo>
                      <a:pt x="289" y="483"/>
                    </a:lnTo>
                    <a:lnTo>
                      <a:pt x="248" y="497"/>
                    </a:lnTo>
                    <a:lnTo>
                      <a:pt x="207" y="497"/>
                    </a:lnTo>
                    <a:lnTo>
                      <a:pt x="165" y="497"/>
                    </a:lnTo>
                    <a:lnTo>
                      <a:pt x="138" y="497"/>
                    </a:lnTo>
                    <a:lnTo>
                      <a:pt x="96" y="483"/>
                    </a:lnTo>
                    <a:lnTo>
                      <a:pt x="82" y="469"/>
                    </a:lnTo>
                    <a:lnTo>
                      <a:pt x="69" y="455"/>
                    </a:lnTo>
                    <a:lnTo>
                      <a:pt x="55" y="441"/>
                    </a:lnTo>
                    <a:lnTo>
                      <a:pt x="41" y="400"/>
                    </a:lnTo>
                    <a:lnTo>
                      <a:pt x="13" y="345"/>
                    </a:lnTo>
                    <a:lnTo>
                      <a:pt x="13" y="290"/>
                    </a:lnTo>
                    <a:lnTo>
                      <a:pt x="0" y="248"/>
                    </a:lnTo>
                    <a:lnTo>
                      <a:pt x="13" y="193"/>
                    </a:lnTo>
                    <a:lnTo>
                      <a:pt x="13" y="152"/>
                    </a:lnTo>
                    <a:lnTo>
                      <a:pt x="27" y="124"/>
                    </a:lnTo>
                    <a:lnTo>
                      <a:pt x="27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52680" y="2478240"/>
                <a:ext cx="1051200" cy="634680"/>
              </a:xfrm>
              <a:custGeom>
                <a:avLst/>
                <a:gdLst/>
                <a:ahLst/>
                <a:rect l="l" t="t" r="r" b="b"/>
                <a:pathLst>
                  <a:path w="662" h="400">
                    <a:moveTo>
                      <a:pt x="27" y="96"/>
                    </a:moveTo>
                    <a:lnTo>
                      <a:pt x="41" y="69"/>
                    </a:lnTo>
                    <a:lnTo>
                      <a:pt x="69" y="41"/>
                    </a:lnTo>
                    <a:lnTo>
                      <a:pt x="110" y="27"/>
                    </a:lnTo>
                    <a:lnTo>
                      <a:pt x="138" y="27"/>
                    </a:lnTo>
                    <a:lnTo>
                      <a:pt x="165" y="27"/>
                    </a:lnTo>
                    <a:lnTo>
                      <a:pt x="193" y="27"/>
                    </a:lnTo>
                    <a:lnTo>
                      <a:pt x="248" y="41"/>
                    </a:lnTo>
                    <a:lnTo>
                      <a:pt x="303" y="41"/>
                    </a:lnTo>
                    <a:lnTo>
                      <a:pt x="345" y="41"/>
                    </a:lnTo>
                    <a:lnTo>
                      <a:pt x="372" y="27"/>
                    </a:lnTo>
                    <a:lnTo>
                      <a:pt x="400" y="14"/>
                    </a:lnTo>
                    <a:lnTo>
                      <a:pt x="441" y="0"/>
                    </a:lnTo>
                    <a:lnTo>
                      <a:pt x="483" y="0"/>
                    </a:lnTo>
                    <a:lnTo>
                      <a:pt x="510" y="14"/>
                    </a:lnTo>
                    <a:lnTo>
                      <a:pt x="538" y="14"/>
                    </a:lnTo>
                    <a:lnTo>
                      <a:pt x="552" y="27"/>
                    </a:lnTo>
                    <a:lnTo>
                      <a:pt x="579" y="41"/>
                    </a:lnTo>
                    <a:lnTo>
                      <a:pt x="621" y="69"/>
                    </a:lnTo>
                    <a:lnTo>
                      <a:pt x="648" y="124"/>
                    </a:lnTo>
                    <a:lnTo>
                      <a:pt x="662" y="207"/>
                    </a:lnTo>
                    <a:lnTo>
                      <a:pt x="662" y="248"/>
                    </a:lnTo>
                    <a:lnTo>
                      <a:pt x="662" y="290"/>
                    </a:lnTo>
                    <a:lnTo>
                      <a:pt x="634" y="359"/>
                    </a:lnTo>
                    <a:lnTo>
                      <a:pt x="607" y="386"/>
                    </a:lnTo>
                    <a:lnTo>
                      <a:pt x="565" y="400"/>
                    </a:lnTo>
                    <a:lnTo>
                      <a:pt x="510" y="400"/>
                    </a:lnTo>
                    <a:lnTo>
                      <a:pt x="469" y="386"/>
                    </a:lnTo>
                    <a:lnTo>
                      <a:pt x="414" y="386"/>
                    </a:lnTo>
                    <a:lnTo>
                      <a:pt x="372" y="372"/>
                    </a:lnTo>
                    <a:lnTo>
                      <a:pt x="331" y="372"/>
                    </a:lnTo>
                    <a:lnTo>
                      <a:pt x="289" y="372"/>
                    </a:lnTo>
                    <a:lnTo>
                      <a:pt x="262" y="372"/>
                    </a:lnTo>
                    <a:lnTo>
                      <a:pt x="221" y="386"/>
                    </a:lnTo>
                    <a:lnTo>
                      <a:pt x="193" y="386"/>
                    </a:lnTo>
                    <a:lnTo>
                      <a:pt x="165" y="386"/>
                    </a:lnTo>
                    <a:lnTo>
                      <a:pt x="138" y="386"/>
                    </a:lnTo>
                    <a:lnTo>
                      <a:pt x="110" y="386"/>
                    </a:lnTo>
                    <a:lnTo>
                      <a:pt x="83" y="386"/>
                    </a:lnTo>
                    <a:lnTo>
                      <a:pt x="55" y="372"/>
                    </a:lnTo>
                    <a:lnTo>
                      <a:pt x="55" y="359"/>
                    </a:lnTo>
                    <a:lnTo>
                      <a:pt x="41" y="345"/>
                    </a:lnTo>
                    <a:lnTo>
                      <a:pt x="27" y="317"/>
                    </a:lnTo>
                    <a:lnTo>
                      <a:pt x="14" y="276"/>
                    </a:lnTo>
                    <a:lnTo>
                      <a:pt x="14" y="234"/>
                    </a:lnTo>
                    <a:lnTo>
                      <a:pt x="0" y="193"/>
                    </a:lnTo>
                    <a:lnTo>
                      <a:pt x="14" y="165"/>
                    </a:lnTo>
                    <a:lnTo>
                      <a:pt x="14" y="124"/>
                    </a:lnTo>
                    <a:lnTo>
                      <a:pt x="27" y="96"/>
                    </a:lnTo>
                    <a:lnTo>
                      <a:pt x="27" y="96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22360" y="3178080"/>
                <a:ext cx="1030320" cy="636840"/>
              </a:xfrm>
              <a:custGeom>
                <a:avLst/>
                <a:gdLst/>
                <a:ahLst/>
                <a:rect l="l" t="t" r="r" b="b"/>
                <a:pathLst>
                  <a:path w="649" h="401">
                    <a:moveTo>
                      <a:pt x="14" y="97"/>
                    </a:moveTo>
                    <a:lnTo>
                      <a:pt x="28" y="69"/>
                    </a:lnTo>
                    <a:lnTo>
                      <a:pt x="55" y="42"/>
                    </a:lnTo>
                    <a:lnTo>
                      <a:pt x="97" y="28"/>
                    </a:lnTo>
                    <a:lnTo>
                      <a:pt x="124" y="28"/>
                    </a:lnTo>
                    <a:lnTo>
                      <a:pt x="152" y="28"/>
                    </a:lnTo>
                    <a:lnTo>
                      <a:pt x="193" y="28"/>
                    </a:lnTo>
                    <a:lnTo>
                      <a:pt x="235" y="28"/>
                    </a:lnTo>
                    <a:lnTo>
                      <a:pt x="290" y="42"/>
                    </a:lnTo>
                    <a:lnTo>
                      <a:pt x="345" y="42"/>
                    </a:lnTo>
                    <a:lnTo>
                      <a:pt x="373" y="28"/>
                    </a:lnTo>
                    <a:lnTo>
                      <a:pt x="387" y="0"/>
                    </a:lnTo>
                    <a:lnTo>
                      <a:pt x="428" y="0"/>
                    </a:lnTo>
                    <a:lnTo>
                      <a:pt x="469" y="0"/>
                    </a:lnTo>
                    <a:lnTo>
                      <a:pt x="497" y="0"/>
                    </a:lnTo>
                    <a:lnTo>
                      <a:pt x="525" y="14"/>
                    </a:lnTo>
                    <a:lnTo>
                      <a:pt x="538" y="28"/>
                    </a:lnTo>
                    <a:lnTo>
                      <a:pt x="566" y="42"/>
                    </a:lnTo>
                    <a:lnTo>
                      <a:pt x="607" y="69"/>
                    </a:lnTo>
                    <a:lnTo>
                      <a:pt x="635" y="125"/>
                    </a:lnTo>
                    <a:lnTo>
                      <a:pt x="649" y="194"/>
                    </a:lnTo>
                    <a:lnTo>
                      <a:pt x="649" y="249"/>
                    </a:lnTo>
                    <a:lnTo>
                      <a:pt x="649" y="276"/>
                    </a:lnTo>
                    <a:lnTo>
                      <a:pt x="635" y="345"/>
                    </a:lnTo>
                    <a:lnTo>
                      <a:pt x="594" y="387"/>
                    </a:lnTo>
                    <a:lnTo>
                      <a:pt x="552" y="401"/>
                    </a:lnTo>
                    <a:lnTo>
                      <a:pt x="497" y="387"/>
                    </a:lnTo>
                    <a:lnTo>
                      <a:pt x="456" y="387"/>
                    </a:lnTo>
                    <a:lnTo>
                      <a:pt x="414" y="373"/>
                    </a:lnTo>
                    <a:lnTo>
                      <a:pt x="373" y="373"/>
                    </a:lnTo>
                    <a:lnTo>
                      <a:pt x="318" y="373"/>
                    </a:lnTo>
                    <a:lnTo>
                      <a:pt x="276" y="373"/>
                    </a:lnTo>
                    <a:lnTo>
                      <a:pt x="249" y="373"/>
                    </a:lnTo>
                    <a:lnTo>
                      <a:pt x="221" y="373"/>
                    </a:lnTo>
                    <a:lnTo>
                      <a:pt x="180" y="387"/>
                    </a:lnTo>
                    <a:lnTo>
                      <a:pt x="152" y="387"/>
                    </a:lnTo>
                    <a:lnTo>
                      <a:pt x="124" y="387"/>
                    </a:lnTo>
                    <a:lnTo>
                      <a:pt x="97" y="387"/>
                    </a:lnTo>
                    <a:lnTo>
                      <a:pt x="69" y="373"/>
                    </a:lnTo>
                    <a:lnTo>
                      <a:pt x="55" y="373"/>
                    </a:lnTo>
                    <a:lnTo>
                      <a:pt x="42" y="359"/>
                    </a:lnTo>
                    <a:lnTo>
                      <a:pt x="42" y="345"/>
                    </a:lnTo>
                    <a:lnTo>
                      <a:pt x="28" y="318"/>
                    </a:lnTo>
                    <a:lnTo>
                      <a:pt x="0" y="263"/>
                    </a:lnTo>
                    <a:lnTo>
                      <a:pt x="0" y="235"/>
                    </a:lnTo>
                    <a:lnTo>
                      <a:pt x="0" y="194"/>
                    </a:lnTo>
                    <a:lnTo>
                      <a:pt x="0" y="152"/>
                    </a:lnTo>
                    <a:lnTo>
                      <a:pt x="0" y="111"/>
                    </a:lnTo>
                    <a:lnTo>
                      <a:pt x="14" y="97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67640" y="4208400"/>
                <a:ext cx="1357200" cy="831960"/>
              </a:xfrm>
              <a:custGeom>
                <a:avLst/>
                <a:gdLst/>
                <a:ahLst/>
                <a:rect l="l" t="t" r="r" b="b"/>
                <a:pathLst>
                  <a:path w="855" h="524">
                    <a:moveTo>
                      <a:pt x="28" y="124"/>
                    </a:moveTo>
                    <a:lnTo>
                      <a:pt x="41" y="97"/>
                    </a:lnTo>
                    <a:lnTo>
                      <a:pt x="97" y="55"/>
                    </a:lnTo>
                    <a:lnTo>
                      <a:pt x="138" y="41"/>
                    </a:lnTo>
                    <a:lnTo>
                      <a:pt x="179" y="41"/>
                    </a:lnTo>
                    <a:lnTo>
                      <a:pt x="207" y="41"/>
                    </a:lnTo>
                    <a:lnTo>
                      <a:pt x="262" y="41"/>
                    </a:lnTo>
                    <a:lnTo>
                      <a:pt x="317" y="41"/>
                    </a:lnTo>
                    <a:lnTo>
                      <a:pt x="386" y="55"/>
                    </a:lnTo>
                    <a:lnTo>
                      <a:pt x="455" y="55"/>
                    </a:lnTo>
                    <a:lnTo>
                      <a:pt x="483" y="28"/>
                    </a:lnTo>
                    <a:lnTo>
                      <a:pt x="510" y="14"/>
                    </a:lnTo>
                    <a:lnTo>
                      <a:pt x="566" y="0"/>
                    </a:lnTo>
                    <a:lnTo>
                      <a:pt x="621" y="0"/>
                    </a:lnTo>
                    <a:lnTo>
                      <a:pt x="648" y="14"/>
                    </a:lnTo>
                    <a:lnTo>
                      <a:pt x="690" y="28"/>
                    </a:lnTo>
                    <a:lnTo>
                      <a:pt x="704" y="41"/>
                    </a:lnTo>
                    <a:lnTo>
                      <a:pt x="745" y="55"/>
                    </a:lnTo>
                    <a:lnTo>
                      <a:pt x="786" y="97"/>
                    </a:lnTo>
                    <a:lnTo>
                      <a:pt x="842" y="166"/>
                    </a:lnTo>
                    <a:lnTo>
                      <a:pt x="855" y="262"/>
                    </a:lnTo>
                    <a:lnTo>
                      <a:pt x="855" y="317"/>
                    </a:lnTo>
                    <a:lnTo>
                      <a:pt x="842" y="372"/>
                    </a:lnTo>
                    <a:lnTo>
                      <a:pt x="828" y="455"/>
                    </a:lnTo>
                    <a:lnTo>
                      <a:pt x="773" y="497"/>
                    </a:lnTo>
                    <a:lnTo>
                      <a:pt x="717" y="524"/>
                    </a:lnTo>
                    <a:lnTo>
                      <a:pt x="662" y="510"/>
                    </a:lnTo>
                    <a:lnTo>
                      <a:pt x="593" y="497"/>
                    </a:lnTo>
                    <a:lnTo>
                      <a:pt x="538" y="483"/>
                    </a:lnTo>
                    <a:lnTo>
                      <a:pt x="483" y="483"/>
                    </a:lnTo>
                    <a:lnTo>
                      <a:pt x="428" y="483"/>
                    </a:lnTo>
                    <a:lnTo>
                      <a:pt x="372" y="483"/>
                    </a:lnTo>
                    <a:lnTo>
                      <a:pt x="331" y="483"/>
                    </a:lnTo>
                    <a:lnTo>
                      <a:pt x="290" y="497"/>
                    </a:lnTo>
                    <a:lnTo>
                      <a:pt x="248" y="497"/>
                    </a:lnTo>
                    <a:lnTo>
                      <a:pt x="207" y="510"/>
                    </a:lnTo>
                    <a:lnTo>
                      <a:pt x="166" y="510"/>
                    </a:lnTo>
                    <a:lnTo>
                      <a:pt x="138" y="497"/>
                    </a:lnTo>
                    <a:lnTo>
                      <a:pt x="110" y="497"/>
                    </a:lnTo>
                    <a:lnTo>
                      <a:pt x="83" y="469"/>
                    </a:lnTo>
                    <a:lnTo>
                      <a:pt x="69" y="469"/>
                    </a:lnTo>
                    <a:lnTo>
                      <a:pt x="55" y="455"/>
                    </a:lnTo>
                    <a:lnTo>
                      <a:pt x="41" y="400"/>
                    </a:lnTo>
                    <a:lnTo>
                      <a:pt x="14" y="345"/>
                    </a:lnTo>
                    <a:lnTo>
                      <a:pt x="14" y="303"/>
                    </a:lnTo>
                    <a:lnTo>
                      <a:pt x="0" y="262"/>
                    </a:lnTo>
                    <a:lnTo>
                      <a:pt x="14" y="207"/>
                    </a:lnTo>
                    <a:lnTo>
                      <a:pt x="14" y="152"/>
                    </a:lnTo>
                    <a:lnTo>
                      <a:pt x="28" y="124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02480" y="3267000"/>
                <a:ext cx="787320" cy="677880"/>
              </a:xfrm>
              <a:custGeom>
                <a:avLst/>
                <a:gdLst/>
                <a:ahLst/>
                <a:rect l="l" t="t" r="r" b="b"/>
                <a:pathLst>
                  <a:path w="496" h="427">
                    <a:moveTo>
                      <a:pt x="13" y="96"/>
                    </a:moveTo>
                    <a:lnTo>
                      <a:pt x="13" y="82"/>
                    </a:lnTo>
                    <a:lnTo>
                      <a:pt x="41" y="41"/>
                    </a:lnTo>
                    <a:lnTo>
                      <a:pt x="69" y="27"/>
                    </a:lnTo>
                    <a:lnTo>
                      <a:pt x="96" y="27"/>
                    </a:lnTo>
                    <a:lnTo>
                      <a:pt x="110" y="27"/>
                    </a:lnTo>
                    <a:lnTo>
                      <a:pt x="138" y="27"/>
                    </a:lnTo>
                    <a:lnTo>
                      <a:pt x="179" y="41"/>
                    </a:lnTo>
                    <a:lnTo>
                      <a:pt x="220" y="41"/>
                    </a:lnTo>
                    <a:lnTo>
                      <a:pt x="248" y="41"/>
                    </a:lnTo>
                    <a:lnTo>
                      <a:pt x="275" y="27"/>
                    </a:lnTo>
                    <a:lnTo>
                      <a:pt x="289" y="13"/>
                    </a:lnTo>
                    <a:lnTo>
                      <a:pt x="317" y="0"/>
                    </a:lnTo>
                    <a:lnTo>
                      <a:pt x="344" y="0"/>
                    </a:lnTo>
                    <a:lnTo>
                      <a:pt x="372" y="0"/>
                    </a:lnTo>
                    <a:lnTo>
                      <a:pt x="400" y="13"/>
                    </a:lnTo>
                    <a:lnTo>
                      <a:pt x="413" y="27"/>
                    </a:lnTo>
                    <a:lnTo>
                      <a:pt x="427" y="41"/>
                    </a:lnTo>
                    <a:lnTo>
                      <a:pt x="455" y="82"/>
                    </a:lnTo>
                    <a:lnTo>
                      <a:pt x="482" y="138"/>
                    </a:lnTo>
                    <a:lnTo>
                      <a:pt x="482" y="220"/>
                    </a:lnTo>
                    <a:lnTo>
                      <a:pt x="496" y="262"/>
                    </a:lnTo>
                    <a:lnTo>
                      <a:pt x="482" y="303"/>
                    </a:lnTo>
                    <a:lnTo>
                      <a:pt x="469" y="372"/>
                    </a:lnTo>
                    <a:lnTo>
                      <a:pt x="441" y="414"/>
                    </a:lnTo>
                    <a:lnTo>
                      <a:pt x="413" y="427"/>
                    </a:lnTo>
                    <a:lnTo>
                      <a:pt x="372" y="427"/>
                    </a:lnTo>
                    <a:lnTo>
                      <a:pt x="344" y="414"/>
                    </a:lnTo>
                    <a:lnTo>
                      <a:pt x="303" y="400"/>
                    </a:lnTo>
                    <a:lnTo>
                      <a:pt x="275" y="400"/>
                    </a:lnTo>
                    <a:lnTo>
                      <a:pt x="248" y="400"/>
                    </a:lnTo>
                    <a:lnTo>
                      <a:pt x="207" y="400"/>
                    </a:lnTo>
                    <a:lnTo>
                      <a:pt x="179" y="400"/>
                    </a:lnTo>
                    <a:lnTo>
                      <a:pt x="165" y="414"/>
                    </a:lnTo>
                    <a:lnTo>
                      <a:pt x="138" y="414"/>
                    </a:lnTo>
                    <a:lnTo>
                      <a:pt x="110" y="414"/>
                    </a:lnTo>
                    <a:lnTo>
                      <a:pt x="96" y="414"/>
                    </a:lnTo>
                    <a:lnTo>
                      <a:pt x="69" y="414"/>
                    </a:lnTo>
                    <a:lnTo>
                      <a:pt x="55" y="414"/>
                    </a:lnTo>
                    <a:lnTo>
                      <a:pt x="41" y="400"/>
                    </a:lnTo>
                    <a:lnTo>
                      <a:pt x="27" y="386"/>
                    </a:lnTo>
                    <a:lnTo>
                      <a:pt x="27" y="372"/>
                    </a:lnTo>
                    <a:lnTo>
                      <a:pt x="13" y="345"/>
                    </a:lnTo>
                    <a:lnTo>
                      <a:pt x="0" y="289"/>
                    </a:lnTo>
                    <a:lnTo>
                      <a:pt x="0" y="248"/>
                    </a:lnTo>
                    <a:lnTo>
                      <a:pt x="0" y="207"/>
                    </a:lnTo>
                    <a:lnTo>
                      <a:pt x="0" y="165"/>
                    </a:lnTo>
                    <a:lnTo>
                      <a:pt x="0" y="124"/>
                    </a:lnTo>
                    <a:lnTo>
                      <a:pt x="13" y="96"/>
                    </a:lnTo>
                    <a:lnTo>
                      <a:pt x="13" y="96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49200" y="2171880"/>
                <a:ext cx="613080" cy="525240"/>
              </a:xfrm>
              <a:custGeom>
                <a:avLst/>
                <a:gdLst/>
                <a:ahLst/>
                <a:rect l="l" t="t" r="r" b="b"/>
                <a:pathLst>
                  <a:path w="386" h="331">
                    <a:moveTo>
                      <a:pt x="0" y="83"/>
                    </a:moveTo>
                    <a:lnTo>
                      <a:pt x="14" y="55"/>
                    </a:lnTo>
                    <a:lnTo>
                      <a:pt x="28" y="27"/>
                    </a:lnTo>
                    <a:lnTo>
                      <a:pt x="55" y="27"/>
                    </a:lnTo>
                    <a:lnTo>
                      <a:pt x="69" y="27"/>
                    </a:lnTo>
                    <a:lnTo>
                      <a:pt x="83" y="27"/>
                    </a:lnTo>
                    <a:lnTo>
                      <a:pt x="111" y="27"/>
                    </a:lnTo>
                    <a:lnTo>
                      <a:pt x="138" y="27"/>
                    </a:lnTo>
                    <a:lnTo>
                      <a:pt x="166" y="27"/>
                    </a:lnTo>
                    <a:lnTo>
                      <a:pt x="193" y="27"/>
                    </a:lnTo>
                    <a:lnTo>
                      <a:pt x="207" y="14"/>
                    </a:lnTo>
                    <a:lnTo>
                      <a:pt x="221" y="0"/>
                    </a:lnTo>
                    <a:lnTo>
                      <a:pt x="249" y="0"/>
                    </a:lnTo>
                    <a:lnTo>
                      <a:pt x="276" y="0"/>
                    </a:lnTo>
                    <a:lnTo>
                      <a:pt x="290" y="0"/>
                    </a:lnTo>
                    <a:lnTo>
                      <a:pt x="304" y="14"/>
                    </a:lnTo>
                    <a:lnTo>
                      <a:pt x="317" y="14"/>
                    </a:lnTo>
                    <a:lnTo>
                      <a:pt x="331" y="27"/>
                    </a:lnTo>
                    <a:lnTo>
                      <a:pt x="359" y="55"/>
                    </a:lnTo>
                    <a:lnTo>
                      <a:pt x="373" y="110"/>
                    </a:lnTo>
                    <a:lnTo>
                      <a:pt x="386" y="165"/>
                    </a:lnTo>
                    <a:lnTo>
                      <a:pt x="386" y="207"/>
                    </a:lnTo>
                    <a:lnTo>
                      <a:pt x="373" y="234"/>
                    </a:lnTo>
                    <a:lnTo>
                      <a:pt x="373" y="289"/>
                    </a:lnTo>
                    <a:lnTo>
                      <a:pt x="345" y="317"/>
                    </a:lnTo>
                    <a:lnTo>
                      <a:pt x="317" y="331"/>
                    </a:lnTo>
                    <a:lnTo>
                      <a:pt x="290" y="331"/>
                    </a:lnTo>
                    <a:lnTo>
                      <a:pt x="262" y="317"/>
                    </a:lnTo>
                    <a:lnTo>
                      <a:pt x="235" y="317"/>
                    </a:lnTo>
                    <a:lnTo>
                      <a:pt x="207" y="303"/>
                    </a:lnTo>
                    <a:lnTo>
                      <a:pt x="193" y="303"/>
                    </a:lnTo>
                    <a:lnTo>
                      <a:pt x="166" y="303"/>
                    </a:lnTo>
                    <a:lnTo>
                      <a:pt x="138" y="317"/>
                    </a:lnTo>
                    <a:lnTo>
                      <a:pt x="124" y="317"/>
                    </a:lnTo>
                    <a:lnTo>
                      <a:pt x="111" y="317"/>
                    </a:lnTo>
                    <a:lnTo>
                      <a:pt x="83" y="317"/>
                    </a:lnTo>
                    <a:lnTo>
                      <a:pt x="69" y="331"/>
                    </a:lnTo>
                    <a:lnTo>
                      <a:pt x="55" y="317"/>
                    </a:lnTo>
                    <a:lnTo>
                      <a:pt x="42" y="317"/>
                    </a:lnTo>
                    <a:lnTo>
                      <a:pt x="28" y="303"/>
                    </a:lnTo>
                    <a:lnTo>
                      <a:pt x="28" y="303"/>
                    </a:lnTo>
                    <a:lnTo>
                      <a:pt x="14" y="289"/>
                    </a:lnTo>
                    <a:lnTo>
                      <a:pt x="14" y="262"/>
                    </a:lnTo>
                    <a:lnTo>
                      <a:pt x="0" y="220"/>
                    </a:lnTo>
                    <a:lnTo>
                      <a:pt x="0" y="193"/>
                    </a:lnTo>
                    <a:lnTo>
                      <a:pt x="0" y="165"/>
                    </a:lnTo>
                    <a:lnTo>
                      <a:pt x="0" y="124"/>
                    </a:lnTo>
                    <a:lnTo>
                      <a:pt x="0" y="96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26680" y="2378160"/>
                <a:ext cx="28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38520" y="2433600"/>
                <a:ext cx="44280" cy="942840"/>
              </a:xfrm>
              <a:prstGeom prst="rect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38520" y="2433600"/>
                <a:ext cx="66600" cy="963720"/>
              </a:xfrm>
              <a:prstGeom prst="rect">
                <a:avLst/>
              </a:prstGeom>
              <a:noFill/>
              <a:ln w="3168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68880" y="3902040"/>
                <a:ext cx="1621080" cy="787320"/>
              </a:xfrm>
              <a:custGeom>
                <a:avLst/>
                <a:gdLst/>
                <a:ahLst/>
                <a:rect l="l" t="t" r="r" b="b"/>
                <a:pathLst>
                  <a:path w="1021" h="496">
                    <a:moveTo>
                      <a:pt x="1021" y="469"/>
                    </a:moveTo>
                    <a:lnTo>
                      <a:pt x="1007" y="496"/>
                    </a:lnTo>
                    <a:lnTo>
                      <a:pt x="0" y="27"/>
                    </a:lnTo>
                    <a:lnTo>
                      <a:pt x="13" y="0"/>
                    </a:lnTo>
                    <a:lnTo>
                      <a:pt x="1021" y="469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46760" y="3244680"/>
                <a:ext cx="1052640" cy="503280"/>
              </a:xfrm>
              <a:custGeom>
                <a:avLst/>
                <a:gdLst/>
                <a:ahLst/>
                <a:rect l="l" t="t" r="r" b="b"/>
                <a:pathLst>
                  <a:path w="663" h="317">
                    <a:moveTo>
                      <a:pt x="663" y="290"/>
                    </a:moveTo>
                    <a:lnTo>
                      <a:pt x="649" y="31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663" y="29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02040" y="3529080"/>
                <a:ext cx="788760" cy="415800"/>
              </a:xfrm>
              <a:custGeom>
                <a:avLst/>
                <a:gdLst/>
                <a:ahLst/>
                <a:rect l="l" t="t" r="r" b="b"/>
                <a:pathLst>
                  <a:path w="497" h="262">
                    <a:moveTo>
                      <a:pt x="497" y="235"/>
                    </a:moveTo>
                    <a:lnTo>
                      <a:pt x="483" y="262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497" y="235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74800" y="2433600"/>
                <a:ext cx="986040" cy="504720"/>
              </a:xfrm>
              <a:custGeom>
                <a:avLst/>
                <a:gdLst/>
                <a:ahLst/>
                <a:rect l="l" t="t" r="r" b="b"/>
                <a:pathLst>
                  <a:path w="621" h="318">
                    <a:moveTo>
                      <a:pt x="621" y="290"/>
                    </a:moveTo>
                    <a:lnTo>
                      <a:pt x="621" y="318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621" y="29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35680" y="2017800"/>
                <a:ext cx="393840" cy="941400"/>
              </a:xfrm>
              <a:custGeom>
                <a:avLst/>
                <a:gdLst/>
                <a:ahLst/>
                <a:rect l="l" t="t" r="r" b="b"/>
                <a:pathLst>
                  <a:path w="248" h="593">
                    <a:moveTo>
                      <a:pt x="248" y="580"/>
                    </a:moveTo>
                    <a:lnTo>
                      <a:pt x="220" y="593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48" y="58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76600" y="4875120"/>
                <a:ext cx="1471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ktop computer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8040" y="2828880"/>
                <a:ext cx="64800" cy="10944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0" y="0"/>
                    </a:moveTo>
                    <a:lnTo>
                      <a:pt x="41" y="13"/>
                    </a:lnTo>
                    <a:lnTo>
                      <a:pt x="41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3960" y="267480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1640" y="2652840"/>
                <a:ext cx="219240" cy="17604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6280" y="2719440"/>
                <a:ext cx="1317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6280" y="271944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0880" y="291636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6280" y="2719440"/>
                <a:ext cx="13176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942840" y="2938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65160" y="2938320"/>
                <a:ext cx="18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3960" y="2806560"/>
                <a:ext cx="154080" cy="4284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84940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3960" y="2871720"/>
                <a:ext cx="442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6280" y="2849400"/>
                <a:ext cx="1317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3960" y="284940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8240" y="2871720"/>
                <a:ext cx="874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55720" y="284940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8040" y="2871720"/>
                <a:ext cx="205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9120" y="2697120"/>
                <a:ext cx="6660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120" y="2697120"/>
                <a:ext cx="8892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3240" y="2062080"/>
                <a:ext cx="2759040" cy="2343240"/>
              </a:xfrm>
              <a:custGeom>
                <a:avLst/>
                <a:gdLst/>
                <a:ahLst/>
                <a:rect l="l" t="t" r="r" b="b"/>
                <a:pathLst>
                  <a:path w="1738" h="1476">
                    <a:moveTo>
                      <a:pt x="1683" y="0"/>
                    </a:moveTo>
                    <a:lnTo>
                      <a:pt x="1738" y="55"/>
                    </a:lnTo>
                    <a:lnTo>
                      <a:pt x="41" y="1476"/>
                    </a:lnTo>
                    <a:lnTo>
                      <a:pt x="0" y="1421"/>
                    </a:lnTo>
                    <a:lnTo>
                      <a:pt x="1683" y="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40360" y="3551400"/>
                <a:ext cx="1029960" cy="1204920"/>
              </a:xfrm>
              <a:custGeom>
                <a:avLst/>
                <a:gdLst/>
                <a:ahLst/>
                <a:rect l="l" t="t" r="r" b="b"/>
                <a:pathLst>
                  <a:path w="649" h="759">
                    <a:moveTo>
                      <a:pt x="649" y="717"/>
                    </a:moveTo>
                    <a:lnTo>
                      <a:pt x="594" y="759"/>
                    </a:lnTo>
                    <a:lnTo>
                      <a:pt x="0" y="41"/>
                    </a:lnTo>
                    <a:lnTo>
                      <a:pt x="42" y="0"/>
                    </a:lnTo>
                    <a:lnTo>
                      <a:pt x="649" y="71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06800" y="4843440"/>
                <a:ext cx="1117800" cy="569880"/>
              </a:xfrm>
              <a:custGeom>
                <a:avLst/>
                <a:gdLst/>
                <a:ahLst/>
                <a:rect l="l" t="t" r="r" b="b"/>
                <a:pathLst>
                  <a:path w="704" h="359">
                    <a:moveTo>
                      <a:pt x="704" y="317"/>
                    </a:moveTo>
                    <a:lnTo>
                      <a:pt x="690" y="359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704" y="31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52880" y="2697120"/>
                <a:ext cx="569880" cy="569880"/>
              </a:xfrm>
              <a:custGeom>
                <a:avLst/>
                <a:gdLst/>
                <a:ahLst/>
                <a:rect l="l" t="t" r="r" b="b"/>
                <a:pathLst>
                  <a:path w="359" h="359">
                    <a:moveTo>
                      <a:pt x="359" y="331"/>
                    </a:moveTo>
                    <a:lnTo>
                      <a:pt x="331" y="359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359" y="331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7440" y="320040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4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42840" y="306864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20880" y="3048120"/>
                <a:ext cx="21888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65160" y="3090960"/>
                <a:ext cx="131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65160" y="309096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62080" y="328788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112920"/>
                <a:ext cx="109440" cy="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116208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8440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8440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65160" y="3200400"/>
                <a:ext cx="15228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42840" y="322272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4" y="28"/>
                    </a:lnTo>
                    <a:lnTo>
                      <a:pt x="11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65160" y="3244680"/>
                <a:ext cx="22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65160" y="3222720"/>
                <a:ext cx="152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65160" y="3244680"/>
                <a:ext cx="874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08000" y="3244680"/>
                <a:ext cx="889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74600" y="32446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6920" y="32446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30320" y="306864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30320" y="3068640"/>
                <a:ext cx="6660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94040" y="315756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3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19440" y="302580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97120" y="3003480"/>
                <a:ext cx="21888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41400" y="3048120"/>
                <a:ext cx="1303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41400" y="304812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8320" y="3244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4" y="0"/>
                    </a:moveTo>
                    <a:lnTo>
                      <a:pt x="14" y="0"/>
                    </a:lnTo>
                    <a:lnTo>
                      <a:pt x="27" y="14"/>
                    </a:lnTo>
                    <a:lnTo>
                      <a:pt x="27" y="27"/>
                    </a:lnTo>
                    <a:lnTo>
                      <a:pt x="14" y="41"/>
                    </a:lnTo>
                    <a:lnTo>
                      <a:pt x="14" y="41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2280" y="30686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203832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6064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6064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41400" y="3157560"/>
                <a:ext cx="152640" cy="205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9440" y="3178080"/>
                <a:ext cx="196560" cy="4464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4" y="28"/>
                    </a:lnTo>
                    <a:lnTo>
                      <a:pt x="11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41400" y="3200400"/>
                <a:ext cx="20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41400" y="3178080"/>
                <a:ext cx="1526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41400" y="32004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84240" y="32004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51200" y="32004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71720" y="3200400"/>
                <a:ext cx="44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06560" y="3025800"/>
                <a:ext cx="446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06560" y="302580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5920" y="3287880"/>
                <a:ext cx="8856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0" y="0"/>
                    </a:moveTo>
                    <a:lnTo>
                      <a:pt x="42" y="14"/>
                    </a:lnTo>
                    <a:lnTo>
                      <a:pt x="56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3280" y="3157560"/>
                <a:ext cx="174600" cy="130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80960" y="313524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25600" y="3178080"/>
                <a:ext cx="13032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25600" y="3178080"/>
                <a:ext cx="15228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22520" y="337644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0"/>
                    </a:moveTo>
                    <a:lnTo>
                      <a:pt x="14" y="0"/>
                    </a:lnTo>
                    <a:lnTo>
                      <a:pt x="14" y="13"/>
                    </a:lnTo>
                    <a:lnTo>
                      <a:pt x="14" y="27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6120" y="3200400"/>
                <a:ext cx="10980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622520" y="339732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22520" y="339732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44480" y="3397320"/>
                <a:ext cx="180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03280" y="3287880"/>
                <a:ext cx="17460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80960" y="3309840"/>
                <a:ext cx="219240" cy="44640"/>
              </a:xfrm>
              <a:custGeom>
                <a:avLst/>
                <a:gdLst/>
                <a:ahLst/>
                <a:rect l="l" t="t" r="r" b="b"/>
                <a:pathLst>
                  <a:path w="138" h="28">
                    <a:moveTo>
                      <a:pt x="14" y="0"/>
                    </a:moveTo>
                    <a:lnTo>
                      <a:pt x="0" y="28"/>
                    </a:lnTo>
                    <a:lnTo>
                      <a:pt x="138" y="28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03280" y="333216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25600" y="3309840"/>
                <a:ext cx="130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3280" y="3332160"/>
                <a:ext cx="109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68440" y="333216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69" h="0">
                    <a:moveTo>
                      <a:pt x="0" y="0"/>
                    </a:moveTo>
                    <a:lnTo>
                      <a:pt x="42" y="0"/>
                    </a:lnTo>
                    <a:lnTo>
                      <a:pt x="69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55920" y="333216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90760" y="3157560"/>
                <a:ext cx="4428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90760" y="315756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43440" y="197496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42" y="0"/>
                    </a:lnTo>
                    <a:lnTo>
                      <a:pt x="42" y="5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90800" y="182088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68840" y="1798560"/>
                <a:ext cx="218880" cy="17640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11680" y="1865160"/>
                <a:ext cx="1317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11680" y="1865160"/>
                <a:ext cx="15372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87720" y="20620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0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1680" y="1865160"/>
                <a:ext cx="131760" cy="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010040" y="206208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10040" y="206208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30560" y="2062080"/>
                <a:ext cx="180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0800" y="1952640"/>
                <a:ext cx="15264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68840" y="1974960"/>
                <a:ext cx="218880" cy="42840"/>
              </a:xfrm>
              <a:custGeom>
                <a:avLst/>
                <a:gdLst/>
                <a:ahLst/>
                <a:rect l="l" t="t" r="r" b="b"/>
                <a:pathLst>
                  <a:path w="138" h="27">
                    <a:moveTo>
                      <a:pt x="14" y="0"/>
                    </a:moveTo>
                    <a:lnTo>
                      <a:pt x="0" y="27"/>
                    </a:lnTo>
                    <a:lnTo>
                      <a:pt x="138" y="27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90800" y="20178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11680" y="1995480"/>
                <a:ext cx="1317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90800" y="1995480"/>
                <a:ext cx="109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33640" y="1995480"/>
                <a:ext cx="131760" cy="1440"/>
              </a:xfrm>
              <a:custGeom>
                <a:avLst/>
                <a:gdLst/>
                <a:ahLst/>
                <a:rect l="l" t="t" r="r" b="b"/>
                <a:pathLst>
                  <a:path w="83" h="0">
                    <a:moveTo>
                      <a:pt x="0" y="0"/>
                    </a:moveTo>
                    <a:lnTo>
                      <a:pt x="55" y="0"/>
                    </a:lnTo>
                    <a:lnTo>
                      <a:pt x="83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43440" y="199548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55960" y="1843200"/>
                <a:ext cx="651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55960" y="1843200"/>
                <a:ext cx="87480" cy="6480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68680" y="208440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3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16400" y="193032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94080" y="1908000"/>
                <a:ext cx="219240" cy="17640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38720" y="197496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38720" y="197496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13320" y="21718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38720" y="1974960"/>
                <a:ext cx="1299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535640" y="2193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57600" y="2193840"/>
                <a:ext cx="18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16400" y="2062080"/>
                <a:ext cx="152280" cy="4284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94080" y="210492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16400" y="212724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38720" y="2104920"/>
                <a:ext cx="1299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16400" y="210492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59240" y="2127240"/>
                <a:ext cx="889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48160" y="210492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8680" y="212724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81560" y="1952640"/>
                <a:ext cx="6660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81560" y="1952640"/>
                <a:ext cx="8712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03640" y="3538440"/>
                <a:ext cx="77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47960" y="4459320"/>
                <a:ext cx="925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tellite li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94240" y="2652840"/>
                <a:ext cx="129960" cy="10944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94240" y="2652840"/>
                <a:ext cx="1522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5200" y="2849400"/>
                <a:ext cx="131760" cy="13176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75200" y="2849400"/>
                <a:ext cx="154080" cy="15408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81360" y="2849400"/>
                <a:ext cx="130320" cy="13176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81360" y="2849400"/>
                <a:ext cx="152280" cy="15408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19280" y="2236680"/>
                <a:ext cx="131760" cy="1098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19280" y="2236680"/>
                <a:ext cx="1540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24360" y="2236680"/>
                <a:ext cx="131760" cy="1098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24360" y="2236680"/>
                <a:ext cx="1522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58040" y="2784600"/>
                <a:ext cx="8892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0" y="0"/>
                    </a:moveTo>
                    <a:lnTo>
                      <a:pt x="42" y="14"/>
                    </a:lnTo>
                    <a:lnTo>
                      <a:pt x="56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05760" y="263052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83440" y="261000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28080" y="2674800"/>
                <a:ext cx="1299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28080" y="2674800"/>
                <a:ext cx="15228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5000" y="287172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148600" y="2674800"/>
                <a:ext cx="10944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8325000" y="2894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46960" y="2894040"/>
                <a:ext cx="1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5760" y="2762280"/>
                <a:ext cx="174600" cy="442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83440" y="280656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105760" y="28288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28080" y="2806560"/>
                <a:ext cx="1299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05760" y="280656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70920" y="2828880"/>
                <a:ext cx="666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37520" y="280656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258040" y="2828880"/>
                <a:ext cx="22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193240" y="265284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193240" y="2652840"/>
                <a:ext cx="6480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72560" y="2981160"/>
                <a:ext cx="65160" cy="1098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0" y="0"/>
                    </a:moveTo>
                    <a:lnTo>
                      <a:pt x="41" y="14"/>
                    </a:lnTo>
                    <a:lnTo>
                      <a:pt x="41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96160" y="2849400"/>
                <a:ext cx="1764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675640" y="282888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18480" y="2871720"/>
                <a:ext cx="131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718480" y="2871720"/>
                <a:ext cx="15408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15400" y="30686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40800" y="28940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891540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3772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3772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18480" y="2981160"/>
                <a:ext cx="15408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96160" y="3003480"/>
                <a:ext cx="19872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5" y="28"/>
                    </a:lnTo>
                    <a:lnTo>
                      <a:pt x="111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18480" y="302580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18480" y="3003480"/>
                <a:ext cx="1540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18480" y="30258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63120" y="3025800"/>
                <a:ext cx="871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827920" y="302580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50240" y="302580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85080" y="2849400"/>
                <a:ext cx="42840" cy="6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85080" y="2849400"/>
                <a:ext cx="6516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05960" y="355140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42" y="0"/>
                    </a:lnTo>
                    <a:lnTo>
                      <a:pt x="42" y="5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653320" y="3397320"/>
              <a:ext cx="174600" cy="131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31360" y="3376440"/>
              <a:ext cx="218880" cy="17496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75640" y="3441600"/>
              <a:ext cx="130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75640" y="3441600"/>
              <a:ext cx="15228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50240" y="363852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9"/>
            <a:stretch/>
          </p:blipFill>
          <p:spPr>
            <a:xfrm>
              <a:off x="8675640" y="3441600"/>
              <a:ext cx="130320" cy="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87256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7256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89488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53320" y="3529080"/>
              <a:ext cx="152640" cy="2232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31360" y="3551400"/>
              <a:ext cx="218880" cy="44280"/>
            </a:xfrm>
            <a:custGeom>
              <a:avLst/>
              <a:gdLst/>
              <a:ahLst/>
              <a:rect l="l" t="t" r="r" b="b"/>
              <a:pathLst>
                <a:path w="138" h="28">
                  <a:moveTo>
                    <a:pt x="14" y="0"/>
                  </a:moveTo>
                  <a:lnTo>
                    <a:pt x="0" y="28"/>
                  </a:lnTo>
                  <a:lnTo>
                    <a:pt x="138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53320" y="359568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75640" y="3573360"/>
              <a:ext cx="130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3320" y="357336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96160" y="3573360"/>
              <a:ext cx="131760" cy="180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56" y="0"/>
                  </a:lnTo>
                  <a:lnTo>
                    <a:pt x="83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805960" y="3573360"/>
              <a:ext cx="21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18480" y="3419640"/>
              <a:ext cx="666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8480" y="3419640"/>
              <a:ext cx="8748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59640" y="188604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59640" y="18860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8320" y="193032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88320" y="1930320"/>
              <a:ext cx="15372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6640" y="195264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6640" y="1952640"/>
              <a:ext cx="15408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7080" y="359568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77080" y="3595680"/>
              <a:ext cx="154080" cy="1303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39160" y="3595680"/>
              <a:ext cx="131760" cy="1303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39160" y="3595680"/>
              <a:ext cx="15408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9800" y="477828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9800" y="4778280"/>
              <a:ext cx="154080" cy="1303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51680" y="47340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51680" y="47340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70920" y="468936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0920" y="4689360"/>
              <a:ext cx="15408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96160" y="47340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6160" y="47340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85240" y="515952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40160" y="495288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86080" y="4821120"/>
              <a:ext cx="176400" cy="131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65560" y="4799160"/>
              <a:ext cx="218880" cy="176040"/>
            </a:xfrm>
            <a:prstGeom prst="roundRect">
              <a:avLst>
                <a:gd name="adj" fmla="val 40088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08400" y="484344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4843440"/>
              <a:ext cx="15408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84440" y="50626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0"/>
            <a:stretch/>
          </p:blipFill>
          <p:spPr>
            <a:xfrm>
              <a:off x="3308400" y="4865760"/>
              <a:ext cx="13176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505320" y="506268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5320" y="506268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27280" y="506268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86080" y="4952880"/>
              <a:ext cx="154080" cy="2232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65560" y="4975200"/>
              <a:ext cx="218880" cy="42840"/>
            </a:xfrm>
            <a:custGeom>
              <a:avLst/>
              <a:gdLst/>
              <a:ahLst/>
              <a:rect l="l" t="t" r="r" b="b"/>
              <a:pathLst>
                <a:path w="138" h="27">
                  <a:moveTo>
                    <a:pt x="13" y="0"/>
                  </a:moveTo>
                  <a:lnTo>
                    <a:pt x="0" y="27"/>
                  </a:lnTo>
                  <a:lnTo>
                    <a:pt x="138" y="27"/>
                  </a:lnTo>
                  <a:lnTo>
                    <a:pt x="12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86080" y="499752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8400" y="497520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86080" y="49975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30720" y="4997520"/>
              <a:ext cx="13176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55" y="0"/>
                  </a:lnTo>
                  <a:lnTo>
                    <a:pt x="83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0160" y="49975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5000" y="4821120"/>
              <a:ext cx="42840" cy="6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75000" y="482112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3595680"/>
              <a:ext cx="130320" cy="1303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6320" y="3595680"/>
              <a:ext cx="15264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361620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76440" y="3616200"/>
              <a:ext cx="15264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86080" y="51498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86080" y="51498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6600" y="22478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44480" y="4756320"/>
              <a:ext cx="2167200" cy="963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06960" y="2719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41" y="13"/>
                  </a:lnTo>
                  <a:lnTo>
                    <a:pt x="55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52880" y="2565360"/>
              <a:ext cx="17640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30560" y="2543040"/>
              <a:ext cx="219240" cy="176400"/>
            </a:xfrm>
            <a:prstGeom prst="roundRect">
              <a:avLst>
                <a:gd name="adj" fmla="val 40088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26100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75200" y="2610000"/>
              <a:ext cx="1540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72120" y="28065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1"/>
            <a:stretch/>
          </p:blipFill>
          <p:spPr>
            <a:xfrm>
              <a:off x="4097160" y="2610000"/>
              <a:ext cx="10980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272120" y="280656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72120" y="280656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94080" y="280656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52880" y="2697120"/>
              <a:ext cx="176400" cy="223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0560" y="2739960"/>
              <a:ext cx="219240" cy="2232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14" y="0"/>
                  </a:moveTo>
                  <a:lnTo>
                    <a:pt x="0" y="14"/>
                  </a:lnTo>
                  <a:lnTo>
                    <a:pt x="138" y="14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52880" y="276228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75200" y="27399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52880" y="273996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9480" y="2762280"/>
              <a:ext cx="6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84640" y="2739960"/>
              <a:ext cx="446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6960" y="27622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0360" y="2587680"/>
              <a:ext cx="442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40360" y="2587680"/>
              <a:ext cx="66600" cy="651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9080" y="18651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3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54120" y="1733400"/>
              <a:ext cx="19692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32160" y="1711440"/>
              <a:ext cx="24120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98760" y="1755720"/>
              <a:ext cx="130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98760" y="1755720"/>
              <a:ext cx="1522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73360" y="19526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12"/>
            <a:stretch/>
          </p:blipFill>
          <p:spPr>
            <a:xfrm>
              <a:off x="2498760" y="1755720"/>
              <a:ext cx="10944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673360" y="1974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9568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76440" y="1843200"/>
              <a:ext cx="15264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54120" y="1886040"/>
              <a:ext cx="19692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76440" y="1908000"/>
              <a:ext cx="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8760" y="1886040"/>
              <a:ext cx="13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76440" y="190800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9280" y="1908000"/>
              <a:ext cx="88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85880" y="1908000"/>
              <a:ext cx="6516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41600" y="173340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1600" y="1733400"/>
              <a:ext cx="6660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14560" y="186516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3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8520" y="1733400"/>
              <a:ext cx="19836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17640" y="1711440"/>
              <a:ext cx="23976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82800" y="175572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82800" y="175572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57400" y="1952640"/>
              <a:ext cx="4464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13"/>
            <a:stretch/>
          </p:blipFill>
          <p:spPr>
            <a:xfrm>
              <a:off x="2782800" y="1755720"/>
              <a:ext cx="10980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57400" y="197496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972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60840" y="1843200"/>
              <a:ext cx="15372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8520" y="1886040"/>
              <a:ext cx="198360" cy="4428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14" y="0"/>
                  </a:moveTo>
                  <a:lnTo>
                    <a:pt x="0" y="28"/>
                  </a:lnTo>
                  <a:lnTo>
                    <a:pt x="125" y="28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1908000"/>
              <a:ext cx="21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82800" y="18860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60840" y="190800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05120" y="19080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0280" y="1908000"/>
              <a:ext cx="6660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28" y="0"/>
                  </a:lnTo>
                  <a:lnTo>
                    <a:pt x="4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27440" y="1733400"/>
              <a:ext cx="428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7440" y="173340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98960" y="18651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3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24360" y="1733400"/>
              <a:ext cx="19656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02040" y="1711440"/>
              <a:ext cx="24120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67200" y="175572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200" y="1755720"/>
              <a:ext cx="15372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3240" y="195264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4" y="0"/>
                  </a:moveTo>
                  <a:lnTo>
                    <a:pt x="14" y="0"/>
                  </a:lnTo>
                  <a:lnTo>
                    <a:pt x="27" y="14"/>
                  </a:lnTo>
                  <a:lnTo>
                    <a:pt x="27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3067200" y="1755720"/>
              <a:ext cx="10944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243240" y="1974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556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46320" y="1843200"/>
              <a:ext cx="15264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24360" y="18860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6320" y="1908000"/>
              <a:ext cx="20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7200" y="18860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6320" y="19080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9160" y="19080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6120" y="19080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11480" y="1733400"/>
              <a:ext cx="446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11480" y="173340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5880" y="3441600"/>
              <a:ext cx="6516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0"/>
                  </a:moveTo>
                  <a:lnTo>
                    <a:pt x="41" y="14"/>
                  </a:lnTo>
                  <a:lnTo>
                    <a:pt x="41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09840" y="3287880"/>
              <a:ext cx="19836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89320" y="3267000"/>
              <a:ext cx="23976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5412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54120" y="333216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9080" y="35290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2454120" y="333216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6290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5104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5104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2160" y="341964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9840" y="3463920"/>
              <a:ext cx="198360" cy="22320"/>
            </a:xfrm>
            <a:custGeom>
              <a:avLst/>
              <a:gdLst/>
              <a:ahLst/>
              <a:rect l="l" t="t" r="r" b="b"/>
              <a:pathLst>
                <a:path w="125" h="14">
                  <a:moveTo>
                    <a:pt x="14" y="0"/>
                  </a:moveTo>
                  <a:lnTo>
                    <a:pt x="0" y="14"/>
                  </a:lnTo>
                  <a:lnTo>
                    <a:pt x="125" y="14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2160" y="348624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5412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2160" y="34639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76440" y="348624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1600" y="346392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8588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98760" y="330984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98760" y="3309840"/>
              <a:ext cx="6516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0280" y="344160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0"/>
                  </a:moveTo>
                  <a:lnTo>
                    <a:pt x="42" y="14"/>
                  </a:lnTo>
                  <a:lnTo>
                    <a:pt x="42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95680" y="3287880"/>
              <a:ext cx="19692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3360" y="3267000"/>
              <a:ext cx="24120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3852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38520" y="333216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14560" y="35290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16"/>
            <a:stretch/>
          </p:blipFill>
          <p:spPr>
            <a:xfrm>
              <a:off x="2738520" y="333216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91456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368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368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17640" y="3419640"/>
              <a:ext cx="15264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95680" y="3463920"/>
              <a:ext cx="196920" cy="22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14" y="0"/>
                  </a:moveTo>
                  <a:lnTo>
                    <a:pt x="0" y="14"/>
                  </a:lnTo>
                  <a:lnTo>
                    <a:pt x="124" y="14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17640" y="348624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3852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17640" y="346392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60840" y="348624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7440" y="346392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7028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82800" y="3309840"/>
              <a:ext cx="446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82800" y="3309840"/>
              <a:ext cx="6516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56120" y="344160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0"/>
                  </a:moveTo>
                  <a:lnTo>
                    <a:pt x="41" y="14"/>
                  </a:lnTo>
                  <a:lnTo>
                    <a:pt x="41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79720" y="3287880"/>
              <a:ext cx="19692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57400" y="3267000"/>
              <a:ext cx="24156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436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24360" y="3332160"/>
              <a:ext cx="1522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8960" y="35290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17"/>
            <a:stretch/>
          </p:blipFill>
          <p:spPr>
            <a:xfrm>
              <a:off x="3024360" y="333216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319896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092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2092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02040" y="3419640"/>
              <a:ext cx="15408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720" y="3463920"/>
              <a:ext cx="196920" cy="22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14" y="0"/>
                  </a:moveTo>
                  <a:lnTo>
                    <a:pt x="0" y="14"/>
                  </a:lnTo>
                  <a:lnTo>
                    <a:pt x="124" y="14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0204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2436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02040" y="34639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6320" y="348624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11480" y="346392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56120" y="3486240"/>
              <a:ext cx="205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67200" y="3309840"/>
              <a:ext cx="4428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67200" y="3309840"/>
              <a:ext cx="6660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28080" y="44928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5168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1160" y="4340160"/>
              <a:ext cx="23976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96320" y="438300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96320" y="4383000"/>
              <a:ext cx="1522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70920" y="458136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3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8"/>
            <a:stretch/>
          </p:blipFill>
          <p:spPr>
            <a:xfrm>
              <a:off x="799632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817092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9324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4000" y="4471920"/>
              <a:ext cx="1540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168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400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96320" y="45147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74000" y="453708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18640" y="453708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3440" y="4537080"/>
              <a:ext cx="6516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39160" y="436248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9160" y="436248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12120" y="44928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3752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15200" y="4340160"/>
              <a:ext cx="24156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80360" y="438300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80360" y="4383000"/>
              <a:ext cx="1540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56760" y="458136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3" y="0"/>
                  </a:moveTo>
                  <a:lnTo>
                    <a:pt x="13" y="0"/>
                  </a:lnTo>
                  <a:lnTo>
                    <a:pt x="27" y="13"/>
                  </a:lnTo>
                  <a:lnTo>
                    <a:pt x="27" y="27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9"/>
            <a:stretch/>
          </p:blipFill>
          <p:spPr>
            <a:xfrm>
              <a:off x="828036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45676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58040" y="4471920"/>
              <a:ext cx="1540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3752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3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5804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80360" y="45147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58040" y="453708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02680" y="453708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67840" y="4537080"/>
              <a:ext cx="6660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28" y="0"/>
                  </a:lnTo>
                  <a:lnTo>
                    <a:pt x="4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25000" y="4362480"/>
              <a:ext cx="428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25000" y="4362480"/>
              <a:ext cx="648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96160" y="4492800"/>
              <a:ext cx="6696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2156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99600" y="4340160"/>
              <a:ext cx="24120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66200" y="4383000"/>
              <a:ext cx="1299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66200" y="4383000"/>
              <a:ext cx="1522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740800" y="458136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3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0"/>
            <a:stretch/>
          </p:blipFill>
          <p:spPr>
            <a:xfrm>
              <a:off x="856620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74080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76312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43880" y="4471920"/>
              <a:ext cx="1522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2156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4388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66200" y="4514760"/>
              <a:ext cx="129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43880" y="453708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86720" y="4537080"/>
              <a:ext cx="8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53320" y="4537080"/>
              <a:ext cx="6516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609040" y="436248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09040" y="436248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6560" y="1689120"/>
              <a:ext cx="666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81960" y="155736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59640" y="1536840"/>
              <a:ext cx="241200" cy="15228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26240" y="1579680"/>
              <a:ext cx="13032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26240" y="1579680"/>
              <a:ext cx="1522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00840" y="1776240"/>
              <a:ext cx="44640" cy="669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" descr=""/>
            <p:cNvPicPr/>
            <p:nvPr/>
          </p:nvPicPr>
          <p:blipFill>
            <a:blip r:embed="rId21"/>
            <a:stretch/>
          </p:blipFill>
          <p:spPr>
            <a:xfrm>
              <a:off x="6726240" y="157968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6900840" y="179856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23160" y="179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03920" y="1666800"/>
              <a:ext cx="152640" cy="446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81960" y="17114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3920" y="1733400"/>
              <a:ext cx="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26240" y="1711440"/>
              <a:ext cx="13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3920" y="17334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46760" y="1733400"/>
              <a:ext cx="88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13720" y="17334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69080" y="155736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69080" y="1557360"/>
              <a:ext cx="66600" cy="889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26440" y="1689120"/>
              <a:ext cx="666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51840" y="155736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29520" y="1536840"/>
              <a:ext cx="241200" cy="15228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94680" y="157968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94680" y="157968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70720" y="177624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4" y="0"/>
                  </a:moveTo>
                  <a:lnTo>
                    <a:pt x="14" y="0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22"/>
            <a:stretch/>
          </p:blipFill>
          <p:spPr>
            <a:xfrm>
              <a:off x="7294680" y="157968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470720" y="179856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93040" y="179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73800" y="1666800"/>
              <a:ext cx="152640" cy="446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51840" y="17114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73800" y="1733400"/>
              <a:ext cx="20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94680" y="17114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73800" y="17334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16640" y="17334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83600" y="17334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38960" y="155736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38960" y="1557360"/>
              <a:ext cx="65160" cy="889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46040" y="542304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work lin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86080" y="5478480"/>
              <a:ext cx="395280" cy="44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86080" y="5478480"/>
              <a:ext cx="417600" cy="6660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0880" y="291636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28" y="69"/>
                  </a:moveTo>
                  <a:lnTo>
                    <a:pt x="0" y="83"/>
                  </a:lnTo>
                  <a:lnTo>
                    <a:pt x="0" y="0"/>
                  </a:lnTo>
                  <a:lnTo>
                    <a:pt x="69" y="55"/>
                  </a:lnTo>
                  <a:lnTo>
                    <a:pt x="28" y="69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5105160" y="3025440"/>
              <a:ext cx="174600" cy="41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86480" y="401148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42" y="27"/>
                  </a:moveTo>
                  <a:lnTo>
                    <a:pt x="69" y="0"/>
                  </a:lnTo>
                  <a:lnTo>
                    <a:pt x="69" y="83"/>
                  </a:lnTo>
                  <a:lnTo>
                    <a:pt x="0" y="41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33840" y="3747960"/>
              <a:ext cx="19692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87920" y="39448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42" y="28"/>
                  </a:moveTo>
                  <a:lnTo>
                    <a:pt x="69" y="56"/>
                  </a:lnTo>
                  <a:lnTo>
                    <a:pt x="0" y="69"/>
                  </a:lnTo>
                  <a:lnTo>
                    <a:pt x="28" y="0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776480" y="3726000"/>
              <a:ext cx="284040" cy="24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59240" y="398952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42" y="55"/>
                  </a:moveTo>
                  <a:lnTo>
                    <a:pt x="0" y="41"/>
                  </a:lnTo>
                  <a:lnTo>
                    <a:pt x="69" y="0"/>
                  </a:lnTo>
                  <a:lnTo>
                    <a:pt x="69" y="83"/>
                  </a:lnTo>
                  <a:lnTo>
                    <a:pt x="42" y="55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229280" y="4098960"/>
              <a:ext cx="1746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99280" y="211608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4960" y="27846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10080" y="24354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portion of the Inter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intra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76360" y="1287360"/>
            <a:ext cx="864072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rtable and handheld device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47560" y="1353960"/>
            <a:ext cx="86997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ers and web brows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82120" y="1758960"/>
            <a:ext cx="8539200" cy="3589920"/>
            <a:chOff x="582120" y="1758960"/>
            <a:chExt cx="8539200" cy="3589920"/>
          </a:xfrm>
        </p:grpSpPr>
        <p:sp>
          <p:nvSpPr>
            <p:cNvPr id="598" name=""/>
            <p:cNvSpPr/>
            <p:nvPr/>
          </p:nvSpPr>
          <p:spPr>
            <a:xfrm>
              <a:off x="2909880" y="3635280"/>
              <a:ext cx="387360" cy="409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48080" y="2968560"/>
              <a:ext cx="387360" cy="409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670800" y="2163600"/>
              <a:ext cx="2347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6982920" y="2996640"/>
              <a:ext cx="3906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6748560" y="3725640"/>
              <a:ext cx="44280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3184560" y="2085480"/>
              <a:ext cx="7286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819160" y="3127320"/>
              <a:ext cx="78084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131640" y="3751200"/>
              <a:ext cx="754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00360" y="2008080"/>
              <a:ext cx="3382920" cy="1951200"/>
            </a:xfrm>
            <a:custGeom>
              <a:avLst/>
              <a:gdLst/>
              <a:ahLst/>
              <a:rect l="l" t="t" r="r" b="b"/>
              <a:pathLst>
                <a:path w="2131" h="1229">
                  <a:moveTo>
                    <a:pt x="49" y="278"/>
                  </a:moveTo>
                  <a:lnTo>
                    <a:pt x="98" y="213"/>
                  </a:lnTo>
                  <a:lnTo>
                    <a:pt x="213" y="131"/>
                  </a:lnTo>
                  <a:lnTo>
                    <a:pt x="328" y="82"/>
                  </a:lnTo>
                  <a:lnTo>
                    <a:pt x="426" y="82"/>
                  </a:lnTo>
                  <a:lnTo>
                    <a:pt x="492" y="82"/>
                  </a:lnTo>
                  <a:lnTo>
                    <a:pt x="623" y="82"/>
                  </a:lnTo>
                  <a:lnTo>
                    <a:pt x="787" y="98"/>
                  </a:lnTo>
                  <a:lnTo>
                    <a:pt x="951" y="114"/>
                  </a:lnTo>
                  <a:lnTo>
                    <a:pt x="1114" y="114"/>
                  </a:lnTo>
                  <a:lnTo>
                    <a:pt x="1196" y="65"/>
                  </a:lnTo>
                  <a:lnTo>
                    <a:pt x="1278" y="16"/>
                  </a:lnTo>
                  <a:lnTo>
                    <a:pt x="1393" y="0"/>
                  </a:lnTo>
                  <a:lnTo>
                    <a:pt x="1524" y="0"/>
                  </a:lnTo>
                  <a:lnTo>
                    <a:pt x="1623" y="16"/>
                  </a:lnTo>
                  <a:lnTo>
                    <a:pt x="1705" y="49"/>
                  </a:lnTo>
                  <a:lnTo>
                    <a:pt x="1770" y="82"/>
                  </a:lnTo>
                  <a:lnTo>
                    <a:pt x="1852" y="114"/>
                  </a:lnTo>
                  <a:lnTo>
                    <a:pt x="1967" y="213"/>
                  </a:lnTo>
                  <a:lnTo>
                    <a:pt x="2032" y="295"/>
                  </a:lnTo>
                  <a:lnTo>
                    <a:pt x="2082" y="393"/>
                  </a:lnTo>
                  <a:lnTo>
                    <a:pt x="2114" y="606"/>
                  </a:lnTo>
                  <a:lnTo>
                    <a:pt x="2131" y="737"/>
                  </a:lnTo>
                  <a:lnTo>
                    <a:pt x="2098" y="868"/>
                  </a:lnTo>
                  <a:lnTo>
                    <a:pt x="2049" y="1065"/>
                  </a:lnTo>
                  <a:lnTo>
                    <a:pt x="1934" y="1164"/>
                  </a:lnTo>
                  <a:lnTo>
                    <a:pt x="1786" y="1229"/>
                  </a:lnTo>
                  <a:lnTo>
                    <a:pt x="1623" y="1196"/>
                  </a:lnTo>
                  <a:lnTo>
                    <a:pt x="1475" y="1180"/>
                  </a:lnTo>
                  <a:lnTo>
                    <a:pt x="1344" y="1147"/>
                  </a:lnTo>
                  <a:lnTo>
                    <a:pt x="1196" y="1131"/>
                  </a:lnTo>
                  <a:lnTo>
                    <a:pt x="1065" y="1131"/>
                  </a:lnTo>
                  <a:lnTo>
                    <a:pt x="918" y="1131"/>
                  </a:lnTo>
                  <a:lnTo>
                    <a:pt x="819" y="1147"/>
                  </a:lnTo>
                  <a:lnTo>
                    <a:pt x="705" y="1164"/>
                  </a:lnTo>
                  <a:lnTo>
                    <a:pt x="606" y="1180"/>
                  </a:lnTo>
                  <a:lnTo>
                    <a:pt x="508" y="1196"/>
                  </a:lnTo>
                  <a:lnTo>
                    <a:pt x="410" y="1196"/>
                  </a:lnTo>
                  <a:lnTo>
                    <a:pt x="311" y="1180"/>
                  </a:lnTo>
                  <a:lnTo>
                    <a:pt x="246" y="1164"/>
                  </a:lnTo>
                  <a:lnTo>
                    <a:pt x="180" y="1114"/>
                  </a:lnTo>
                  <a:lnTo>
                    <a:pt x="147" y="1098"/>
                  </a:lnTo>
                  <a:lnTo>
                    <a:pt x="131" y="1065"/>
                  </a:lnTo>
                  <a:lnTo>
                    <a:pt x="82" y="950"/>
                  </a:lnTo>
                  <a:lnTo>
                    <a:pt x="33" y="819"/>
                  </a:lnTo>
                  <a:lnTo>
                    <a:pt x="16" y="705"/>
                  </a:lnTo>
                  <a:lnTo>
                    <a:pt x="0" y="606"/>
                  </a:lnTo>
                  <a:lnTo>
                    <a:pt x="16" y="475"/>
                  </a:lnTo>
                  <a:lnTo>
                    <a:pt x="33" y="360"/>
                  </a:lnTo>
                  <a:lnTo>
                    <a:pt x="49" y="278"/>
                  </a:lnTo>
                  <a:lnTo>
                    <a:pt x="49" y="278"/>
                  </a:lnTo>
                  <a:close/>
                </a:path>
              </a:pathLst>
            </a:custGeom>
            <a:solidFill>
              <a:srgbClr val="ffdc99"/>
            </a:solidFill>
            <a:ln w="2556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40280" y="2982960"/>
              <a:ext cx="73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8320" y="240984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rows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59200" y="1834920"/>
              <a:ext cx="387360" cy="409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73680" y="2514600"/>
              <a:ext cx="121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b serv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18320" y="1915920"/>
              <a:ext cx="164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www.google.c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52720" y="306072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cdk3.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55200" y="3762360"/>
              <a:ext cx="128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w3c.o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002040" y="4089240"/>
              <a:ext cx="77760" cy="39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560" y="449100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toco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506320" y="4687920"/>
              <a:ext cx="46836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49320" y="5089320"/>
              <a:ext cx="115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ctivity.ht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31360" y="4257720"/>
              <a:ext cx="400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ttp://www.w3c.org/Protocols/Activity.ht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37840" y="1758960"/>
              <a:ext cx="408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http://www.google.comlsearch?q=kindbe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79760" y="3243240"/>
              <a:ext cx="19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ttp://www.cdk3.net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79800" y="406404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2949480" y="4141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844360" y="421956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715840" y="4297320"/>
              <a:ext cx="25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585520" y="440208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455920" y="447984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325240" y="455760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195280" y="4635360"/>
              <a:ext cx="507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064960" y="4740120"/>
              <a:ext cx="507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960200" y="481788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829880" y="4895640"/>
              <a:ext cx="270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699920" y="5000400"/>
              <a:ext cx="2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69600" y="507816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439640" y="515628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309680" y="5234040"/>
              <a:ext cx="52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06360" y="53388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3668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9220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4772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0504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6056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1608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7340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2892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5888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716200" y="533880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172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2724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4560" y="533880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40080" y="5338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95600" y="533880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5292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8440" y="533880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38760" y="533880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94280" y="533880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51240" y="533880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06760" y="533880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62640" y="533880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19600" y="5338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5120" y="5338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30640" y="533880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4900320" y="5233680"/>
              <a:ext cx="270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4770000" y="515628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4640040" y="507780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511160" y="5000400"/>
              <a:ext cx="25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4381560" y="4895280"/>
              <a:ext cx="252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4250880" y="481752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4121280" y="473976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990600" y="4635000"/>
              <a:ext cx="25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3860280" y="455724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730680" y="447948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3600000" y="440208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470400" y="4296960"/>
              <a:ext cx="252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339720" y="4219560"/>
              <a:ext cx="2556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209400" y="414180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3200" y="433548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ile system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2120" y="4570200"/>
              <a:ext cx="128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w3c.o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02040" y="1903320"/>
              <a:ext cx="285840" cy="26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11440" y="3022560"/>
              <a:ext cx="28584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75040" y="3698640"/>
              <a:ext cx="2602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26320" y="1981080"/>
              <a:ext cx="28728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21680" y="289224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39160" y="3881520"/>
              <a:ext cx="285480" cy="285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uters in the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01960" y="313704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24360" y="3137040"/>
            <a:ext cx="28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895400" y="2457360"/>
            <a:ext cx="5981400" cy="2261880"/>
            <a:chOff x="1895400" y="2457360"/>
            <a:chExt cx="5981400" cy="2261880"/>
          </a:xfrm>
        </p:grpSpPr>
        <p:sp>
          <p:nvSpPr>
            <p:cNvPr id="688" name=""/>
            <p:cNvSpPr/>
            <p:nvPr/>
          </p:nvSpPr>
          <p:spPr>
            <a:xfrm>
              <a:off x="1982880" y="2498760"/>
              <a:ext cx="543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97040" y="2490840"/>
              <a:ext cx="12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ompu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23400" y="2498760"/>
              <a:ext cx="136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eb serv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4440" y="2457360"/>
              <a:ext cx="1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76840" y="245736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54440" y="2486160"/>
              <a:ext cx="2700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76840" y="2486160"/>
              <a:ext cx="2880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81800" y="3111480"/>
              <a:ext cx="122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79, Dec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71120" y="3027240"/>
              <a:ext cx="42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7520" y="3027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54440" y="2903400"/>
              <a:ext cx="1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76840" y="290340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54440" y="2930400"/>
              <a:ext cx="27000" cy="4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76840" y="2930400"/>
              <a:ext cx="28800" cy="47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0720" y="3502080"/>
              <a:ext cx="116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89, Ju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68560" y="3502080"/>
              <a:ext cx="91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30,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97520" y="3502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54440" y="3405240"/>
              <a:ext cx="2700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76840" y="3405240"/>
              <a:ext cx="2880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80720" y="3892680"/>
              <a:ext cx="116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99, Ju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06040" y="3892680"/>
              <a:ext cx="126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6,218,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92040" y="3892680"/>
              <a:ext cx="112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,560,86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54440" y="3795840"/>
              <a:ext cx="270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54440" y="4235400"/>
              <a:ext cx="1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76840" y="3795840"/>
              <a:ext cx="288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76840" y="423540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895400" y="2457360"/>
              <a:ext cx="5981400" cy="2261880"/>
              <a:chOff x="1895400" y="2457360"/>
              <a:chExt cx="5981400" cy="2261880"/>
            </a:xfrm>
          </p:grpSpPr>
          <p:sp>
            <p:nvSpPr>
              <p:cNvPr id="715" name=""/>
              <p:cNvSpPr/>
              <p:nvPr/>
            </p:nvSpPr>
            <p:spPr>
              <a:xfrm>
                <a:off x="1895400" y="2457360"/>
                <a:ext cx="598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95400" y="2903400"/>
                <a:ext cx="598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95400" y="4717800"/>
                <a:ext cx="5981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987920" y="4286160"/>
              <a:ext cx="114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003, J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53040" y="4286160"/>
              <a:ext cx="1402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71,638,29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58480" y="4286160"/>
              <a:ext cx="126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5,424,95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omputers vs. Web servers in the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57040" y="2243160"/>
            <a:ext cx="56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25960" y="224316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39800" y="2243160"/>
            <a:ext cx="1439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490880" y="2243160"/>
            <a:ext cx="1331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90920" y="285588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3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35560" y="27687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,776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43000" y="2768760"/>
            <a:ext cx="43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82600" y="2768760"/>
            <a:ext cx="65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.00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90920" y="326556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5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35560" y="326556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,642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163200" y="3265560"/>
            <a:ext cx="805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3,5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674920" y="3265560"/>
            <a:ext cx="36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0920" y="367344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7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89400" y="367344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,540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83760" y="367344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,203,09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908560" y="3673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90920" y="408312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999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89400" y="408312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6,218,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83760" y="408312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,598,6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762400" y="408312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6560" y="218448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6560" y="263052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6560" y="5334120"/>
            <a:ext cx="837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84800" y="4476600"/>
            <a:ext cx="1220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01, Ju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37120" y="4476600"/>
            <a:ext cx="146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25,888,19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1120" y="447660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1,299,59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755920" y="447660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54880" y="4886280"/>
            <a:ext cx="13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2,298,37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tion 1.4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parenc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1560" y="1319040"/>
            <a:ext cx="8690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ess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local and remote resources to be accessed using identical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resources to be accessed without knowledge of their physical or network location (for example, which building or IP addre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urrenc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several processes to operate concurrently using shared resources without interference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multiple instances of resources to be used to increase reliability and performance without knowledge of the replicas by users or application program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ilur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the concealment of faults, allowing users and application programs to complete their tasks despite the failure of hardware or software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obilit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movement of resources and clients within a system without affecting the operation of users or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formanc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system to be reconfigured to improve performance as loads v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caling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system and applications to expand in scale without change to the system structure or the application algorith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0T10:57:58Z</dcterms:modified>
  <cp:revision>47</cp:revision>
  <dc:subject/>
  <dc:title>Figure 15.1 A distributed multimedia system</dc:title>
</cp:coreProperties>
</file>